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0AD-AA12-45BD-AD1D-06AEC983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280-8F4F-4AE8-8521-38AF741A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183-A0F2-4353-B329-BD0097C6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BBA-3F72-481C-B9E5-C9210871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A6FC-7B8E-485C-A151-B7644D84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77FC-F65F-4B14-B065-0C521558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C011-1277-4705-A197-2FC8743E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C3D7-B219-45BC-98E8-2F1A3BF6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9BC4-8CD9-4CE3-8E81-848ED422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E2D9-C123-4A72-A4BD-C163D2F5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E0F8-F8BA-45A4-A65C-B6A6607D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97C-4238-49DF-AD0B-31F8B0F4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F493-4CE8-4BCA-A010-79F3A262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E412-124C-4055-87F5-762F4E58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71D5-53A7-4927-88BD-A7298B10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118B-EF35-4006-8835-74DA5D98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C764-7FD9-4E73-B563-92CA71C0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A51-CC41-4E49-A9FC-AE20D161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76A-7C04-4F14-A2D7-1CEBFA46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C45-84C2-4A56-BCC6-6EA00B78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091-8606-4222-9A44-53D07E23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A31-0076-42A2-847F-26335D52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66C-727D-4E98-8B51-28B7C7FB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9BB7-5357-41A7-A77A-BBD36026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3366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3366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6CCC-EDB7-4E00-BC62-50BBEAC64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3366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3366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5A64-337E-4705-A843-409F2C155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195640" y="2276640"/>
            <a:ext cx="576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Tahoma"/>
              </a:rPr>
              <a:t>CONTROLLO DELLA DISFAGIA CON LA BRACHITERAPIA 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Tahoma"/>
              </a:rPr>
              <a:t>AD ALTO DOSE-RATE NEL CANCRO ESOFAGEO: AGGIORNAMENTO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85" name="Picture 28" descr="cherub_silver_to_gold1"/>
          <p:cNvPicPr/>
          <p:nvPr/>
        </p:nvPicPr>
        <p:blipFill>
          <a:blip r:embed="rId1"/>
          <a:stretch/>
        </p:blipFill>
        <p:spPr>
          <a:xfrm>
            <a:off x="3492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0"/>
          <p:cNvSpPr/>
          <p:nvPr/>
        </p:nvSpPr>
        <p:spPr>
          <a:xfrm>
            <a:off x="947880" y="123840"/>
            <a:ext cx="43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MARIANNA COPPOLA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U.O. Radioterapia - Università di Pisa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5003640" y="636732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6699"/>
                </a:solidFill>
                <a:latin typeface="Tahoma"/>
              </a:rPr>
              <a:t>XX CONGRESSO NAZIONALE AIRO</a:t>
            </a:r>
            <a:endParaRPr b="0" lang="en-US" sz="1400" spc="-1" strike="noStrike">
              <a:solidFill>
                <a:srgbClr val="336699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6699"/>
                </a:solidFill>
                <a:latin typeface="Tahoma"/>
              </a:rPr>
              <a:t>Napoli 13/16 Novembre 2010</a:t>
            </a:r>
            <a:endParaRPr b="0" lang="en-US" sz="1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8" descr="cherub_silver_to_gold1"/>
          <p:cNvPicPr/>
          <p:nvPr/>
        </p:nvPicPr>
        <p:blipFill>
          <a:blip r:embed="rId1"/>
          <a:stretch/>
        </p:blipFill>
        <p:spPr>
          <a:xfrm>
            <a:off x="3492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5003640" y="6524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6699"/>
                </a:solidFill>
                <a:latin typeface="Tahoma"/>
              </a:rPr>
              <a:t>XX CONGRESSO NAZIONALE AIRO</a:t>
            </a:r>
            <a:endParaRPr b="0" lang="en-US" sz="1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1" name="Freeform 7"/>
          <p:cNvSpPr/>
          <p:nvPr/>
        </p:nvSpPr>
        <p:spPr>
          <a:xfrm>
            <a:off x="2367000" y="189000"/>
            <a:ext cx="4492440" cy="909720"/>
          </a:xfrm>
          <a:custGeom>
            <a:avLst/>
            <a:gdLst>
              <a:gd name="textAreaLeft" fmla="*/ 0 w 4492440"/>
              <a:gd name="textAreaRight" fmla="*/ 4492800 w 449244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2830" h="573">
                <a:moveTo>
                  <a:pt x="0" y="355"/>
                </a:moveTo>
                <a:cubicBezTo>
                  <a:pt x="28" y="333"/>
                  <a:pt x="114" y="217"/>
                  <a:pt x="160" y="220"/>
                </a:cubicBezTo>
                <a:cubicBezTo>
                  <a:pt x="206" y="223"/>
                  <a:pt x="216" y="342"/>
                  <a:pt x="275" y="374"/>
                </a:cubicBezTo>
                <a:cubicBezTo>
                  <a:pt x="334" y="406"/>
                  <a:pt x="439" y="429"/>
                  <a:pt x="512" y="412"/>
                </a:cubicBezTo>
                <a:cubicBezTo>
                  <a:pt x="585" y="395"/>
                  <a:pt x="630" y="285"/>
                  <a:pt x="711" y="271"/>
                </a:cubicBezTo>
                <a:cubicBezTo>
                  <a:pt x="792" y="257"/>
                  <a:pt x="887" y="304"/>
                  <a:pt x="999" y="329"/>
                </a:cubicBezTo>
                <a:cubicBezTo>
                  <a:pt x="1111" y="354"/>
                  <a:pt x="1285" y="431"/>
                  <a:pt x="1383" y="422"/>
                </a:cubicBezTo>
                <a:cubicBezTo>
                  <a:pt x="1481" y="413"/>
                  <a:pt x="1496" y="297"/>
                  <a:pt x="1587" y="278"/>
                </a:cubicBezTo>
                <a:cubicBezTo>
                  <a:pt x="1678" y="259"/>
                  <a:pt x="1754" y="282"/>
                  <a:pt x="1927" y="310"/>
                </a:cubicBezTo>
                <a:cubicBezTo>
                  <a:pt x="2100" y="338"/>
                  <a:pt x="2491" y="435"/>
                  <a:pt x="2624" y="448"/>
                </a:cubicBezTo>
                <a:cubicBezTo>
                  <a:pt x="2757" y="461"/>
                  <a:pt x="2723" y="410"/>
                  <a:pt x="2727" y="391"/>
                </a:cubicBezTo>
                <a:cubicBezTo>
                  <a:pt x="2731" y="372"/>
                  <a:pt x="2676" y="334"/>
                  <a:pt x="2650" y="333"/>
                </a:cubicBezTo>
                <a:cubicBezTo>
                  <a:pt x="2624" y="332"/>
                  <a:pt x="2564" y="354"/>
                  <a:pt x="2573" y="384"/>
                </a:cubicBezTo>
                <a:cubicBezTo>
                  <a:pt x="2582" y="414"/>
                  <a:pt x="2666" y="498"/>
                  <a:pt x="2707" y="515"/>
                </a:cubicBezTo>
                <a:cubicBezTo>
                  <a:pt x="2748" y="532"/>
                  <a:pt x="2830" y="573"/>
                  <a:pt x="2816" y="487"/>
                </a:cubicBezTo>
                <a:cubicBezTo>
                  <a:pt x="2802" y="401"/>
                  <a:pt x="2664" y="101"/>
                  <a:pt x="2624" y="0"/>
                </a:cubicBezTo>
              </a:path>
            </a:pathLst>
          </a:custGeom>
          <a:noFill/>
          <a:ln w="255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739680" y="20160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Tahoma"/>
              </a:rPr>
              <a:t>RISULTATI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grpSp>
        <p:nvGrpSpPr>
          <p:cNvPr id="183" name="CasellaDiTesto 6"/>
          <p:cNvGrpSpPr/>
          <p:nvPr/>
        </p:nvGrpSpPr>
        <p:grpSpPr>
          <a:xfrm>
            <a:off x="493560" y="1335240"/>
            <a:ext cx="5430960" cy="1188720"/>
            <a:chOff x="493560" y="1335240"/>
            <a:chExt cx="5430960" cy="1188720"/>
          </a:xfrm>
        </p:grpSpPr>
        <p:pic>
          <p:nvPicPr>
            <p:cNvPr id="184" name="CasellaDiTesto 6" descr=""/>
            <p:cNvPicPr/>
            <p:nvPr/>
          </p:nvPicPr>
          <p:blipFill>
            <a:blip r:embed="rId2"/>
            <a:stretch/>
          </p:blipFill>
          <p:spPr>
            <a:xfrm>
              <a:off x="493560" y="1335240"/>
              <a:ext cx="543096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09480" y="1405080"/>
              <a:ext cx="5257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6699"/>
                  </a:solidFill>
                  <a:latin typeface="Tahoma"/>
                </a:rPr>
                <a:t>Sopravvivenza globale mediana: 19,1 mesi</a:t>
              </a: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6699"/>
                  </a:solidFill>
                  <a:latin typeface="Tahoma"/>
                </a:rPr>
                <a:t>Sopravvivenza a 2 e 5 anni: 40% e 15.5%</a:t>
              </a: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grpSp>
        <p:nvGrpSpPr>
          <p:cNvPr id="186" name="Freccia destra 7"/>
          <p:cNvGrpSpPr/>
          <p:nvPr/>
        </p:nvGrpSpPr>
        <p:grpSpPr>
          <a:xfrm>
            <a:off x="3279600" y="4187880"/>
            <a:ext cx="1316160" cy="603360"/>
            <a:chOff x="3279600" y="4187880"/>
            <a:chExt cx="1316160" cy="603360"/>
          </a:xfrm>
        </p:grpSpPr>
        <p:pic>
          <p:nvPicPr>
            <p:cNvPr id="187" name="Freccia destra 7" descr=""/>
            <p:cNvPicPr/>
            <p:nvPr/>
          </p:nvPicPr>
          <p:blipFill>
            <a:blip r:embed="rId3"/>
            <a:stretch/>
          </p:blipFill>
          <p:spPr>
            <a:xfrm>
              <a:off x="3279600" y="4187880"/>
              <a:ext cx="131616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328920" y="4348080"/>
              <a:ext cx="1096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grpSp>
        <p:nvGrpSpPr>
          <p:cNvPr id="189" name="Freccia circolare a destra 8"/>
          <p:cNvGrpSpPr/>
          <p:nvPr/>
        </p:nvGrpSpPr>
        <p:grpSpPr>
          <a:xfrm>
            <a:off x="536400" y="4419720"/>
            <a:ext cx="1011240" cy="1773000"/>
            <a:chOff x="536400" y="4419720"/>
            <a:chExt cx="1011240" cy="1773000"/>
          </a:xfrm>
        </p:grpSpPr>
        <p:pic>
          <p:nvPicPr>
            <p:cNvPr id="190" name="Freccia circolare a destra 8" descr=""/>
            <p:cNvPicPr/>
            <p:nvPr/>
          </p:nvPicPr>
          <p:blipFill>
            <a:blip r:embed="rId4"/>
            <a:stretch/>
          </p:blipFill>
          <p:spPr>
            <a:xfrm>
              <a:off x="536400" y="4419720"/>
              <a:ext cx="1011240" cy="17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85720" y="4444920"/>
              <a:ext cx="91440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sp>
        <p:nvSpPr>
          <p:cNvPr id="192" name="CasellaDiTesto 9"/>
          <p:cNvSpPr/>
          <p:nvPr/>
        </p:nvSpPr>
        <p:spPr>
          <a:xfrm>
            <a:off x="1424160" y="567216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Tahoma"/>
              </a:rPr>
              <a:t>3 FISTOLE ESOFAGO TRACHEALI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grpSp>
        <p:nvGrpSpPr>
          <p:cNvPr id="193" name="CasellaDiTesto 10"/>
          <p:cNvGrpSpPr/>
          <p:nvPr/>
        </p:nvGrpSpPr>
        <p:grpSpPr>
          <a:xfrm>
            <a:off x="1573200" y="4224240"/>
            <a:ext cx="1687680" cy="414360"/>
            <a:chOff x="1573200" y="4224240"/>
            <a:chExt cx="1687680" cy="414360"/>
          </a:xfrm>
        </p:grpSpPr>
        <p:pic>
          <p:nvPicPr>
            <p:cNvPr id="194" name="CasellaDiTesto 10" descr=""/>
            <p:cNvPicPr/>
            <p:nvPr/>
          </p:nvPicPr>
          <p:blipFill>
            <a:blip r:embed="rId5"/>
            <a:stretch/>
          </p:blipFill>
          <p:spPr>
            <a:xfrm>
              <a:off x="1573200" y="4224240"/>
              <a:ext cx="16876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1576440" y="42307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6699"/>
                  </a:solidFill>
                  <a:latin typeface="Tahoma"/>
                </a:rPr>
                <a:t>TOSSICITA’</a:t>
              </a:r>
              <a:endParaRPr b="0" lang="en-US" sz="20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sp>
        <p:nvSpPr>
          <p:cNvPr id="196" name="CasellaDiTesto 11"/>
          <p:cNvSpPr/>
          <p:nvPr/>
        </p:nvSpPr>
        <p:spPr>
          <a:xfrm>
            <a:off x="4544280" y="4227480"/>
            <a:ext cx="17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G2: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Esofagite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Febbre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Dolore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Ulcera acuta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grpSp>
        <p:nvGrpSpPr>
          <p:cNvPr id="197" name="CasellaDiTesto 6"/>
          <p:cNvGrpSpPr/>
          <p:nvPr/>
        </p:nvGrpSpPr>
        <p:grpSpPr>
          <a:xfrm>
            <a:off x="3833640" y="2828880"/>
            <a:ext cx="5127840" cy="1182600"/>
            <a:chOff x="3833640" y="2828880"/>
            <a:chExt cx="5127840" cy="1182600"/>
          </a:xfrm>
        </p:grpSpPr>
        <p:pic>
          <p:nvPicPr>
            <p:cNvPr id="198" name="CasellaDiTesto 6" descr=""/>
            <p:cNvPicPr/>
            <p:nvPr/>
          </p:nvPicPr>
          <p:blipFill>
            <a:blip r:embed="rId6"/>
            <a:stretch/>
          </p:blipFill>
          <p:spPr>
            <a:xfrm>
              <a:off x="3833640" y="2828880"/>
              <a:ext cx="51278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886200" y="2895480"/>
              <a:ext cx="5018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6699"/>
                  </a:solidFill>
                  <a:latin typeface="Tahoma"/>
                  <a:ea typeface="ＭＳ Ｐゴシック"/>
                </a:rPr>
                <a:t>Interessamento linfonodale: fattore prognostico negativo anche per il controllo della disfagia</a:t>
              </a: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8" descr="cherub_silver_to_gold1"/>
          <p:cNvPicPr/>
          <p:nvPr/>
        </p:nvPicPr>
        <p:blipFill>
          <a:blip r:embed="rId1"/>
          <a:stretch/>
        </p:blipFill>
        <p:spPr>
          <a:xfrm>
            <a:off x="3492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5003640" y="6524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6699"/>
                </a:solidFill>
                <a:latin typeface="Tahoma"/>
              </a:rPr>
              <a:t>XX CONGRESSO NAZIONALE AIRO</a:t>
            </a:r>
            <a:endParaRPr b="0" lang="en-US" sz="1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2" name="Freeform 7"/>
          <p:cNvSpPr/>
          <p:nvPr/>
        </p:nvSpPr>
        <p:spPr>
          <a:xfrm>
            <a:off x="2367000" y="189000"/>
            <a:ext cx="4492440" cy="909720"/>
          </a:xfrm>
          <a:custGeom>
            <a:avLst/>
            <a:gdLst>
              <a:gd name="textAreaLeft" fmla="*/ 0 w 4492440"/>
              <a:gd name="textAreaRight" fmla="*/ 4492800 w 449244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2830" h="573">
                <a:moveTo>
                  <a:pt x="0" y="355"/>
                </a:moveTo>
                <a:cubicBezTo>
                  <a:pt x="28" y="333"/>
                  <a:pt x="114" y="217"/>
                  <a:pt x="160" y="220"/>
                </a:cubicBezTo>
                <a:cubicBezTo>
                  <a:pt x="206" y="223"/>
                  <a:pt x="216" y="342"/>
                  <a:pt x="275" y="374"/>
                </a:cubicBezTo>
                <a:cubicBezTo>
                  <a:pt x="334" y="406"/>
                  <a:pt x="439" y="429"/>
                  <a:pt x="512" y="412"/>
                </a:cubicBezTo>
                <a:cubicBezTo>
                  <a:pt x="585" y="395"/>
                  <a:pt x="630" y="285"/>
                  <a:pt x="711" y="271"/>
                </a:cubicBezTo>
                <a:cubicBezTo>
                  <a:pt x="792" y="257"/>
                  <a:pt x="887" y="304"/>
                  <a:pt x="999" y="329"/>
                </a:cubicBezTo>
                <a:cubicBezTo>
                  <a:pt x="1111" y="354"/>
                  <a:pt x="1285" y="431"/>
                  <a:pt x="1383" y="422"/>
                </a:cubicBezTo>
                <a:cubicBezTo>
                  <a:pt x="1481" y="413"/>
                  <a:pt x="1496" y="297"/>
                  <a:pt x="1587" y="278"/>
                </a:cubicBezTo>
                <a:cubicBezTo>
                  <a:pt x="1678" y="259"/>
                  <a:pt x="1754" y="282"/>
                  <a:pt x="1927" y="310"/>
                </a:cubicBezTo>
                <a:cubicBezTo>
                  <a:pt x="2100" y="338"/>
                  <a:pt x="2491" y="435"/>
                  <a:pt x="2624" y="448"/>
                </a:cubicBezTo>
                <a:cubicBezTo>
                  <a:pt x="2757" y="461"/>
                  <a:pt x="2723" y="410"/>
                  <a:pt x="2727" y="391"/>
                </a:cubicBezTo>
                <a:cubicBezTo>
                  <a:pt x="2731" y="372"/>
                  <a:pt x="2676" y="334"/>
                  <a:pt x="2650" y="333"/>
                </a:cubicBezTo>
                <a:cubicBezTo>
                  <a:pt x="2624" y="332"/>
                  <a:pt x="2564" y="354"/>
                  <a:pt x="2573" y="384"/>
                </a:cubicBezTo>
                <a:cubicBezTo>
                  <a:pt x="2582" y="414"/>
                  <a:pt x="2666" y="498"/>
                  <a:pt x="2707" y="515"/>
                </a:cubicBezTo>
                <a:cubicBezTo>
                  <a:pt x="2748" y="532"/>
                  <a:pt x="2830" y="573"/>
                  <a:pt x="2816" y="487"/>
                </a:cubicBezTo>
                <a:cubicBezTo>
                  <a:pt x="2802" y="401"/>
                  <a:pt x="2664" y="101"/>
                  <a:pt x="2624" y="0"/>
                </a:cubicBezTo>
              </a:path>
            </a:pathLst>
          </a:custGeom>
          <a:noFill/>
          <a:ln w="255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394080" y="20160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Tahoma"/>
              </a:rPr>
              <a:t>CONCLUSIONI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0" y="137160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Tahoma"/>
              </a:rPr>
              <a:t>La BT riveste un ruolo importante 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Tahoma"/>
              </a:rPr>
              <a:t>nella gestione del tumore esofageo 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Tahoma"/>
              </a:rPr>
              <a:t>e nel controllo della disfagia,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336699"/>
                </a:solidFill>
                <a:latin typeface="Tahoma"/>
              </a:rPr>
              <a:t>mantenendo  un accettabile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336699"/>
                </a:solidFill>
                <a:latin typeface="Tahoma"/>
              </a:rPr>
              <a:t>tasso di tossicità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Immagin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Rettangolo 6" descr=""/>
          <p:cNvPicPr/>
          <p:nvPr/>
        </p:nvPicPr>
        <p:blipFill>
          <a:blip r:embed="rId2"/>
          <a:stretch/>
        </p:blipFill>
        <p:spPr>
          <a:xfrm>
            <a:off x="324000" y="2487600"/>
            <a:ext cx="8648640" cy="22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8" descr="cherub_silver_to_gold1"/>
          <p:cNvPicPr/>
          <p:nvPr/>
        </p:nvPicPr>
        <p:blipFill>
          <a:blip r:embed="rId1"/>
          <a:stretch/>
        </p:blipFill>
        <p:spPr>
          <a:xfrm>
            <a:off x="3492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003640" y="6524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6699"/>
                </a:solidFill>
                <a:latin typeface="Tahoma"/>
              </a:rPr>
              <a:t>XX CONGRESSO NAZIONALE AIRO</a:t>
            </a:r>
            <a:endParaRPr b="0" lang="en-US" sz="1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2367000" y="189000"/>
            <a:ext cx="4492440" cy="909720"/>
          </a:xfrm>
          <a:custGeom>
            <a:avLst/>
            <a:gdLst>
              <a:gd name="textAreaLeft" fmla="*/ 0 w 4492440"/>
              <a:gd name="textAreaRight" fmla="*/ 4492800 w 449244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2830" h="573">
                <a:moveTo>
                  <a:pt x="0" y="355"/>
                </a:moveTo>
                <a:cubicBezTo>
                  <a:pt x="28" y="333"/>
                  <a:pt x="114" y="217"/>
                  <a:pt x="160" y="220"/>
                </a:cubicBezTo>
                <a:cubicBezTo>
                  <a:pt x="206" y="223"/>
                  <a:pt x="216" y="342"/>
                  <a:pt x="275" y="374"/>
                </a:cubicBezTo>
                <a:cubicBezTo>
                  <a:pt x="334" y="406"/>
                  <a:pt x="439" y="429"/>
                  <a:pt x="512" y="412"/>
                </a:cubicBezTo>
                <a:cubicBezTo>
                  <a:pt x="585" y="395"/>
                  <a:pt x="630" y="285"/>
                  <a:pt x="711" y="271"/>
                </a:cubicBezTo>
                <a:cubicBezTo>
                  <a:pt x="792" y="257"/>
                  <a:pt x="887" y="304"/>
                  <a:pt x="999" y="329"/>
                </a:cubicBezTo>
                <a:cubicBezTo>
                  <a:pt x="1111" y="354"/>
                  <a:pt x="1285" y="431"/>
                  <a:pt x="1383" y="422"/>
                </a:cubicBezTo>
                <a:cubicBezTo>
                  <a:pt x="1481" y="413"/>
                  <a:pt x="1496" y="297"/>
                  <a:pt x="1587" y="278"/>
                </a:cubicBezTo>
                <a:cubicBezTo>
                  <a:pt x="1678" y="259"/>
                  <a:pt x="1754" y="282"/>
                  <a:pt x="1927" y="310"/>
                </a:cubicBezTo>
                <a:cubicBezTo>
                  <a:pt x="2100" y="338"/>
                  <a:pt x="2491" y="435"/>
                  <a:pt x="2624" y="448"/>
                </a:cubicBezTo>
                <a:cubicBezTo>
                  <a:pt x="2757" y="461"/>
                  <a:pt x="2723" y="410"/>
                  <a:pt x="2727" y="391"/>
                </a:cubicBezTo>
                <a:cubicBezTo>
                  <a:pt x="2731" y="372"/>
                  <a:pt x="2676" y="334"/>
                  <a:pt x="2650" y="333"/>
                </a:cubicBezTo>
                <a:cubicBezTo>
                  <a:pt x="2624" y="332"/>
                  <a:pt x="2564" y="354"/>
                  <a:pt x="2573" y="384"/>
                </a:cubicBezTo>
                <a:cubicBezTo>
                  <a:pt x="2582" y="414"/>
                  <a:pt x="2666" y="498"/>
                  <a:pt x="2707" y="515"/>
                </a:cubicBezTo>
                <a:cubicBezTo>
                  <a:pt x="2748" y="532"/>
                  <a:pt x="2830" y="573"/>
                  <a:pt x="2816" y="487"/>
                </a:cubicBezTo>
                <a:cubicBezTo>
                  <a:pt x="2802" y="401"/>
                  <a:pt x="2664" y="101"/>
                  <a:pt x="2624" y="0"/>
                </a:cubicBezTo>
              </a:path>
            </a:pathLst>
          </a:custGeom>
          <a:noFill/>
          <a:ln w="255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870640" y="2016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Tahoma"/>
              </a:rPr>
              <a:t>MATERIALI E METODI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41440" y="1316160"/>
            <a:ext cx="224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Tahoma"/>
              </a:rPr>
              <a:t>122 PAZIENTI: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101 uomini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21 donne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3" name="CasellaDiTesto 9"/>
          <p:cNvSpPr/>
          <p:nvPr/>
        </p:nvSpPr>
        <p:spPr>
          <a:xfrm>
            <a:off x="4654080" y="1752480"/>
            <a:ext cx="384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Tahoma"/>
              </a:rPr>
              <a:t>Età media 72 anni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>
              <a:buClr>
                <a:srgbClr val="ff99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Tahoma"/>
              </a:rPr>
              <a:t>Karnofsky PS medio = 60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>
              <a:buClr>
                <a:srgbClr val="ff99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Tahoma"/>
              </a:rPr>
              <a:t>Follow up mediano 18 mesi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4" name="CasellaDiTesto 21"/>
          <p:cNvSpPr/>
          <p:nvPr/>
        </p:nvSpPr>
        <p:spPr>
          <a:xfrm>
            <a:off x="2308680" y="3200400"/>
            <a:ext cx="41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Carcinoma a cellule squamose 61%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grpSp>
        <p:nvGrpSpPr>
          <p:cNvPr id="95" name="Gruppo 22"/>
          <p:cNvGrpSpPr/>
          <p:nvPr/>
        </p:nvGrpSpPr>
        <p:grpSpPr>
          <a:xfrm>
            <a:off x="1752480" y="4191120"/>
            <a:ext cx="2568600" cy="1154160"/>
            <a:chOff x="1752480" y="4191120"/>
            <a:chExt cx="2568600" cy="1154160"/>
          </a:xfrm>
        </p:grpSpPr>
        <p:sp>
          <p:nvSpPr>
            <p:cNvPr id="96" name="Rettangolo arrotondato 27"/>
            <p:cNvSpPr/>
            <p:nvPr/>
          </p:nvSpPr>
          <p:spPr>
            <a:xfrm>
              <a:off x="1752480" y="4191120"/>
              <a:ext cx="2568600" cy="115416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9360">
              <a:solidFill>
                <a:srgbClr val="427e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sp>
          <p:nvSpPr>
            <p:cNvPr id="97" name="Rettangolo 28"/>
            <p:cNvSpPr/>
            <p:nvPr/>
          </p:nvSpPr>
          <p:spPr>
            <a:xfrm>
              <a:off x="1785600" y="4224240"/>
              <a:ext cx="2502000" cy="10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it-IT" sz="2000" spc="-1" strike="noStrike">
                  <a:solidFill>
                    <a:srgbClr val="336699"/>
                  </a:solidFill>
                  <a:latin typeface="Tahoma"/>
                </a:rPr>
                <a:t>Trattamento Esclusivo</a:t>
              </a:r>
              <a:endParaRPr b="0" lang="en-US" sz="2000" spc="-1" strike="noStrike">
                <a:solidFill>
                  <a:srgbClr val="336699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it-IT" sz="2000" spc="-1" strike="noStrike">
                  <a:solidFill>
                    <a:srgbClr val="336699"/>
                  </a:solidFill>
                  <a:latin typeface="Tahoma"/>
                </a:rPr>
                <a:t>63 pazienti</a:t>
              </a:r>
              <a:endParaRPr b="0" lang="en-US" sz="20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grpSp>
        <p:nvGrpSpPr>
          <p:cNvPr id="98" name="Gruppo 24"/>
          <p:cNvGrpSpPr/>
          <p:nvPr/>
        </p:nvGrpSpPr>
        <p:grpSpPr>
          <a:xfrm>
            <a:off x="4892760" y="4191120"/>
            <a:ext cx="2568600" cy="1154160"/>
            <a:chOff x="4892760" y="4191120"/>
            <a:chExt cx="2568600" cy="1154160"/>
          </a:xfrm>
        </p:grpSpPr>
        <p:sp>
          <p:nvSpPr>
            <p:cNvPr id="99" name="Rettangolo arrotondato 25"/>
            <p:cNvSpPr/>
            <p:nvPr/>
          </p:nvSpPr>
          <p:spPr>
            <a:xfrm>
              <a:off x="4892760" y="4191120"/>
              <a:ext cx="2568600" cy="115416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9360">
              <a:solidFill>
                <a:srgbClr val="427e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sp>
          <p:nvSpPr>
            <p:cNvPr id="100" name="Rettangolo 26"/>
            <p:cNvSpPr/>
            <p:nvPr/>
          </p:nvSpPr>
          <p:spPr>
            <a:xfrm>
              <a:off x="4925880" y="4224240"/>
              <a:ext cx="2502000" cy="10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it-IT" sz="2000" spc="-1" strike="noStrike">
                  <a:solidFill>
                    <a:srgbClr val="336699"/>
                  </a:solidFill>
                  <a:latin typeface="Tahoma"/>
                </a:rPr>
                <a:t>Parte di approccio multimodale</a:t>
              </a:r>
              <a:endParaRPr b="0" lang="en-US" sz="2000" spc="-1" strike="noStrike">
                <a:solidFill>
                  <a:srgbClr val="336699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it-IT" sz="2000" spc="-1" strike="noStrike">
                  <a:solidFill>
                    <a:srgbClr val="336699"/>
                  </a:solidFill>
                  <a:latin typeface="Tahoma"/>
                </a:rPr>
                <a:t>59 pazienti</a:t>
              </a:r>
              <a:endParaRPr b="0" lang="en-US" sz="20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8" descr="cherub_silver_to_gold1"/>
          <p:cNvPicPr/>
          <p:nvPr/>
        </p:nvPicPr>
        <p:blipFill>
          <a:blip r:embed="rId1"/>
          <a:stretch/>
        </p:blipFill>
        <p:spPr>
          <a:xfrm>
            <a:off x="3492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5003640" y="6524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6699"/>
                </a:solidFill>
                <a:latin typeface="Tahoma"/>
              </a:rPr>
              <a:t>XX CONGRESSO NAZIONALE AIRO</a:t>
            </a:r>
            <a:endParaRPr b="0" lang="en-US" sz="1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2367000" y="189000"/>
            <a:ext cx="4492440" cy="909720"/>
          </a:xfrm>
          <a:custGeom>
            <a:avLst/>
            <a:gdLst>
              <a:gd name="textAreaLeft" fmla="*/ 0 w 4492440"/>
              <a:gd name="textAreaRight" fmla="*/ 4492800 w 449244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2830" h="573">
                <a:moveTo>
                  <a:pt x="0" y="355"/>
                </a:moveTo>
                <a:cubicBezTo>
                  <a:pt x="28" y="333"/>
                  <a:pt x="114" y="217"/>
                  <a:pt x="160" y="220"/>
                </a:cubicBezTo>
                <a:cubicBezTo>
                  <a:pt x="206" y="223"/>
                  <a:pt x="216" y="342"/>
                  <a:pt x="275" y="374"/>
                </a:cubicBezTo>
                <a:cubicBezTo>
                  <a:pt x="334" y="406"/>
                  <a:pt x="439" y="429"/>
                  <a:pt x="512" y="412"/>
                </a:cubicBezTo>
                <a:cubicBezTo>
                  <a:pt x="585" y="395"/>
                  <a:pt x="630" y="285"/>
                  <a:pt x="711" y="271"/>
                </a:cubicBezTo>
                <a:cubicBezTo>
                  <a:pt x="792" y="257"/>
                  <a:pt x="887" y="304"/>
                  <a:pt x="999" y="329"/>
                </a:cubicBezTo>
                <a:cubicBezTo>
                  <a:pt x="1111" y="354"/>
                  <a:pt x="1285" y="431"/>
                  <a:pt x="1383" y="422"/>
                </a:cubicBezTo>
                <a:cubicBezTo>
                  <a:pt x="1481" y="413"/>
                  <a:pt x="1496" y="297"/>
                  <a:pt x="1587" y="278"/>
                </a:cubicBezTo>
                <a:cubicBezTo>
                  <a:pt x="1678" y="259"/>
                  <a:pt x="1754" y="282"/>
                  <a:pt x="1927" y="310"/>
                </a:cubicBezTo>
                <a:cubicBezTo>
                  <a:pt x="2100" y="338"/>
                  <a:pt x="2491" y="435"/>
                  <a:pt x="2624" y="448"/>
                </a:cubicBezTo>
                <a:cubicBezTo>
                  <a:pt x="2757" y="461"/>
                  <a:pt x="2723" y="410"/>
                  <a:pt x="2727" y="391"/>
                </a:cubicBezTo>
                <a:cubicBezTo>
                  <a:pt x="2731" y="372"/>
                  <a:pt x="2676" y="334"/>
                  <a:pt x="2650" y="333"/>
                </a:cubicBezTo>
                <a:cubicBezTo>
                  <a:pt x="2624" y="332"/>
                  <a:pt x="2564" y="354"/>
                  <a:pt x="2573" y="384"/>
                </a:cubicBezTo>
                <a:cubicBezTo>
                  <a:pt x="2582" y="414"/>
                  <a:pt x="2666" y="498"/>
                  <a:pt x="2707" y="515"/>
                </a:cubicBezTo>
                <a:cubicBezTo>
                  <a:pt x="2748" y="532"/>
                  <a:pt x="2830" y="573"/>
                  <a:pt x="2816" y="487"/>
                </a:cubicBezTo>
                <a:cubicBezTo>
                  <a:pt x="2802" y="401"/>
                  <a:pt x="2664" y="101"/>
                  <a:pt x="2624" y="0"/>
                </a:cubicBezTo>
              </a:path>
            </a:pathLst>
          </a:custGeom>
          <a:noFill/>
          <a:ln w="255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870640" y="2016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Tahoma"/>
              </a:rPr>
              <a:t>MATERIALI E METODI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05" name="Diagramma 11" descr=""/>
          <p:cNvPicPr/>
          <p:nvPr/>
        </p:nvPicPr>
        <p:blipFill>
          <a:blip r:embed="rId2"/>
          <a:stretch/>
        </p:blipFill>
        <p:spPr>
          <a:xfrm>
            <a:off x="1292400" y="1292400"/>
            <a:ext cx="6387840" cy="42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8" descr="cherub_silver_to_gold1"/>
          <p:cNvPicPr/>
          <p:nvPr/>
        </p:nvPicPr>
        <p:blipFill>
          <a:blip r:embed="rId1"/>
          <a:stretch/>
        </p:blipFill>
        <p:spPr>
          <a:xfrm>
            <a:off x="3492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5003640" y="6524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6699"/>
                </a:solidFill>
                <a:latin typeface="Tahoma"/>
              </a:rPr>
              <a:t>XX CONGRESSO NAZIONALE AIRO</a:t>
            </a:r>
            <a:endParaRPr b="0" lang="en-US" sz="1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8" name="Freeform 7"/>
          <p:cNvSpPr/>
          <p:nvPr/>
        </p:nvSpPr>
        <p:spPr>
          <a:xfrm>
            <a:off x="2367000" y="189000"/>
            <a:ext cx="4492440" cy="909720"/>
          </a:xfrm>
          <a:custGeom>
            <a:avLst/>
            <a:gdLst>
              <a:gd name="textAreaLeft" fmla="*/ 0 w 4492440"/>
              <a:gd name="textAreaRight" fmla="*/ 4492800 w 449244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2830" h="573">
                <a:moveTo>
                  <a:pt x="0" y="355"/>
                </a:moveTo>
                <a:cubicBezTo>
                  <a:pt x="28" y="333"/>
                  <a:pt x="114" y="217"/>
                  <a:pt x="160" y="220"/>
                </a:cubicBezTo>
                <a:cubicBezTo>
                  <a:pt x="206" y="223"/>
                  <a:pt x="216" y="342"/>
                  <a:pt x="275" y="374"/>
                </a:cubicBezTo>
                <a:cubicBezTo>
                  <a:pt x="334" y="406"/>
                  <a:pt x="439" y="429"/>
                  <a:pt x="512" y="412"/>
                </a:cubicBezTo>
                <a:cubicBezTo>
                  <a:pt x="585" y="395"/>
                  <a:pt x="630" y="285"/>
                  <a:pt x="711" y="271"/>
                </a:cubicBezTo>
                <a:cubicBezTo>
                  <a:pt x="792" y="257"/>
                  <a:pt x="887" y="304"/>
                  <a:pt x="999" y="329"/>
                </a:cubicBezTo>
                <a:cubicBezTo>
                  <a:pt x="1111" y="354"/>
                  <a:pt x="1285" y="431"/>
                  <a:pt x="1383" y="422"/>
                </a:cubicBezTo>
                <a:cubicBezTo>
                  <a:pt x="1481" y="413"/>
                  <a:pt x="1496" y="297"/>
                  <a:pt x="1587" y="278"/>
                </a:cubicBezTo>
                <a:cubicBezTo>
                  <a:pt x="1678" y="259"/>
                  <a:pt x="1754" y="282"/>
                  <a:pt x="1927" y="310"/>
                </a:cubicBezTo>
                <a:cubicBezTo>
                  <a:pt x="2100" y="338"/>
                  <a:pt x="2491" y="435"/>
                  <a:pt x="2624" y="448"/>
                </a:cubicBezTo>
                <a:cubicBezTo>
                  <a:pt x="2757" y="461"/>
                  <a:pt x="2723" y="410"/>
                  <a:pt x="2727" y="391"/>
                </a:cubicBezTo>
                <a:cubicBezTo>
                  <a:pt x="2731" y="372"/>
                  <a:pt x="2676" y="334"/>
                  <a:pt x="2650" y="333"/>
                </a:cubicBezTo>
                <a:cubicBezTo>
                  <a:pt x="2624" y="332"/>
                  <a:pt x="2564" y="354"/>
                  <a:pt x="2573" y="384"/>
                </a:cubicBezTo>
                <a:cubicBezTo>
                  <a:pt x="2582" y="414"/>
                  <a:pt x="2666" y="498"/>
                  <a:pt x="2707" y="515"/>
                </a:cubicBezTo>
                <a:cubicBezTo>
                  <a:pt x="2748" y="532"/>
                  <a:pt x="2830" y="573"/>
                  <a:pt x="2816" y="487"/>
                </a:cubicBezTo>
                <a:cubicBezTo>
                  <a:pt x="2802" y="401"/>
                  <a:pt x="2664" y="101"/>
                  <a:pt x="2624" y="0"/>
                </a:cubicBezTo>
              </a:path>
            </a:pathLst>
          </a:custGeom>
          <a:noFill/>
          <a:ln w="255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870640" y="2016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Tahoma"/>
              </a:rPr>
              <a:t>MATERIALI E METODI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0" name="CasellaDiTesto 12"/>
          <p:cNvSpPr/>
          <p:nvPr/>
        </p:nvSpPr>
        <p:spPr>
          <a:xfrm>
            <a:off x="533520" y="1219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TRATTAMENTO RADICALE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    59 pz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1" name="CasellaDiTesto 14"/>
          <p:cNvSpPr/>
          <p:nvPr/>
        </p:nvSpPr>
        <p:spPr>
          <a:xfrm>
            <a:off x="3331800" y="2209680"/>
            <a:ext cx="5493240" cy="2014200"/>
          </a:xfrm>
          <a:prstGeom prst="rect">
            <a:avLst/>
          </a:prstGeom>
          <a:gradFill rotWithShape="0">
            <a:gsLst>
              <a:gs pos="0">
                <a:srgbClr val="eaf6eb"/>
              </a:gs>
              <a:gs pos="100000">
                <a:srgbClr val="b2deb4"/>
              </a:gs>
            </a:gsLst>
            <a:lin ang="5400000"/>
          </a:gradFill>
          <a:ln w="9360">
            <a:solidFill>
              <a:srgbClr val="4388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it-IT" sz="1800" spc="-1" strike="noStrike" u="sng">
                <a:solidFill>
                  <a:srgbClr val="336699"/>
                </a:solidFill>
                <a:uFillTx/>
                <a:latin typeface="Tahoma"/>
              </a:rPr>
              <a:t>EBRT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 : 45-50.4 Gy in 5 FF/sett; 1.8 Gy/frazione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fotoni 15 MeV, 3D-CRT, 3/4 campi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it-IT" sz="1800" spc="-1" strike="noStrike" u="sng">
                <a:solidFill>
                  <a:srgbClr val="336699"/>
                </a:solidFill>
                <a:uFillTx/>
                <a:latin typeface="Tahoma"/>
              </a:rPr>
              <a:t>CT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: CDDP 80mg/m</a:t>
            </a:r>
            <a:r>
              <a:rPr b="1" lang="it-IT" sz="1800" spc="-1" strike="noStrike" baseline="30000">
                <a:solidFill>
                  <a:srgbClr val="336699"/>
                </a:solidFill>
                <a:latin typeface="Tahoma"/>
              </a:rPr>
              <a:t>2 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gg 1, 22 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        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+ 5FU 800mg/m2/die gg1-4, 22-25, i.c.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it-IT" sz="1800" spc="-1" strike="noStrike" u="sng">
                <a:solidFill>
                  <a:srgbClr val="336699"/>
                </a:solidFill>
                <a:uFillTx/>
                <a:latin typeface="Tahoma"/>
              </a:rPr>
              <a:t>BT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:</a:t>
            </a:r>
            <a:r>
              <a:rPr b="1" lang="it-IT" sz="1800" spc="-1" strike="noStrike" u="sng">
                <a:solidFill>
                  <a:srgbClr val="336699"/>
                </a:solidFill>
                <a:uFillTx/>
                <a:latin typeface="Tahoma"/>
              </a:rPr>
              <a:t> 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boost 15-20 Gy in 3-4 frazioni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2" name="CasellaDiTesto 15"/>
          <p:cNvSpPr/>
          <p:nvPr/>
        </p:nvSpPr>
        <p:spPr>
          <a:xfrm>
            <a:off x="335520" y="5192640"/>
            <a:ext cx="1567440" cy="368280"/>
          </a:xfrm>
          <a:prstGeom prst="rect">
            <a:avLst/>
          </a:prstGeom>
          <a:solidFill>
            <a:srgbClr val="3f7d4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BT esclusiva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3" name="CasellaDiTesto 16"/>
          <p:cNvSpPr/>
          <p:nvPr/>
        </p:nvSpPr>
        <p:spPr>
          <a:xfrm>
            <a:off x="4267080" y="4800600"/>
            <a:ext cx="4137120" cy="1191240"/>
          </a:xfrm>
          <a:prstGeom prst="rect">
            <a:avLst/>
          </a:prstGeom>
          <a:gradFill rotWithShape="0">
            <a:gsLst>
              <a:gs pos="0">
                <a:srgbClr val="eaf6eb"/>
              </a:gs>
              <a:gs pos="100000">
                <a:srgbClr val="b2deb4"/>
              </a:gs>
            </a:gsLst>
            <a:lin ang="5400000"/>
          </a:gradFill>
          <a:ln w="9360">
            <a:solidFill>
              <a:srgbClr val="4388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68a4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Resezione della mucosa esofagea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buClr>
                <a:srgbClr val="468a4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buClr>
                <a:srgbClr val="468a4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BT, 30 Gy in 6 FF settimanali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cxnSp>
        <p:nvCxnSpPr>
          <p:cNvPr id="114" name="Connettore 2 18"/>
          <p:cNvCxnSpPr>
            <a:stCxn id="112" idx="3"/>
            <a:endCxn id="113" idx="1"/>
          </p:cNvCxnSpPr>
          <p:nvPr/>
        </p:nvCxnSpPr>
        <p:spPr>
          <a:xfrm>
            <a:off x="1952280" y="5395680"/>
            <a:ext cx="2314800" cy="5400"/>
          </a:xfrm>
          <a:prstGeom prst="straightConnector1">
            <a:avLst/>
          </a:prstGeom>
          <a:ln w="38160">
            <a:solidFill>
              <a:srgbClr val="468a4b"/>
            </a:solidFill>
            <a:miter/>
            <a:tailEnd len="med" type="arrow" w="med"/>
          </a:ln>
        </p:spPr>
      </p:cxnSp>
      <p:sp>
        <p:nvSpPr>
          <p:cNvPr id="115" name="CasellaDiTesto 23"/>
          <p:cNvSpPr/>
          <p:nvPr/>
        </p:nvSpPr>
        <p:spPr>
          <a:xfrm>
            <a:off x="529200" y="3048120"/>
            <a:ext cx="936720" cy="368280"/>
          </a:xfrm>
          <a:prstGeom prst="rect">
            <a:avLst/>
          </a:prstGeom>
          <a:solidFill>
            <a:srgbClr val="468a4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+ EBRT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cxnSp>
        <p:nvCxnSpPr>
          <p:cNvPr id="116" name="Connettore 2 27"/>
          <p:cNvCxnSpPr>
            <a:stCxn id="115" idx="3"/>
            <a:endCxn id="111" idx="1"/>
          </p:cNvCxnSpPr>
          <p:nvPr/>
        </p:nvCxnSpPr>
        <p:spPr>
          <a:xfrm flipV="1">
            <a:off x="1557360" y="3222000"/>
            <a:ext cx="1581840" cy="29160"/>
          </a:xfrm>
          <a:prstGeom prst="straightConnector1">
            <a:avLst/>
          </a:prstGeom>
          <a:ln w="38160">
            <a:solidFill>
              <a:srgbClr val="468a4b"/>
            </a:solidFill>
            <a:miter/>
            <a:tailEnd len="med" type="arrow" w="med"/>
          </a:ln>
        </p:spPr>
      </p:cxnSp>
      <p:pic>
        <p:nvPicPr>
          <p:cNvPr id="117" name="Ovale 12" descr=""/>
          <p:cNvPicPr/>
          <p:nvPr/>
        </p:nvPicPr>
        <p:blipFill>
          <a:blip r:embed="rId2"/>
          <a:stretch/>
        </p:blipFill>
        <p:spPr>
          <a:xfrm>
            <a:off x="208080" y="1274760"/>
            <a:ext cx="40788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8" descr="cherub_silver_to_gold1"/>
          <p:cNvPicPr/>
          <p:nvPr/>
        </p:nvPicPr>
        <p:blipFill>
          <a:blip r:embed="rId1"/>
          <a:stretch/>
        </p:blipFill>
        <p:spPr>
          <a:xfrm>
            <a:off x="3492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5003640" y="6524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6699"/>
                </a:solidFill>
                <a:latin typeface="Tahoma"/>
              </a:rPr>
              <a:t>XX CONGRESSO NAZIONALE AIRO</a:t>
            </a:r>
            <a:endParaRPr b="0" lang="en-US" sz="1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2367000" y="189000"/>
            <a:ext cx="4492440" cy="909720"/>
          </a:xfrm>
          <a:custGeom>
            <a:avLst/>
            <a:gdLst>
              <a:gd name="textAreaLeft" fmla="*/ 0 w 4492440"/>
              <a:gd name="textAreaRight" fmla="*/ 4492800 w 449244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2830" h="573">
                <a:moveTo>
                  <a:pt x="0" y="355"/>
                </a:moveTo>
                <a:cubicBezTo>
                  <a:pt x="28" y="333"/>
                  <a:pt x="114" y="217"/>
                  <a:pt x="160" y="220"/>
                </a:cubicBezTo>
                <a:cubicBezTo>
                  <a:pt x="206" y="223"/>
                  <a:pt x="216" y="342"/>
                  <a:pt x="275" y="374"/>
                </a:cubicBezTo>
                <a:cubicBezTo>
                  <a:pt x="334" y="406"/>
                  <a:pt x="439" y="429"/>
                  <a:pt x="512" y="412"/>
                </a:cubicBezTo>
                <a:cubicBezTo>
                  <a:pt x="585" y="395"/>
                  <a:pt x="630" y="285"/>
                  <a:pt x="711" y="271"/>
                </a:cubicBezTo>
                <a:cubicBezTo>
                  <a:pt x="792" y="257"/>
                  <a:pt x="887" y="304"/>
                  <a:pt x="999" y="329"/>
                </a:cubicBezTo>
                <a:cubicBezTo>
                  <a:pt x="1111" y="354"/>
                  <a:pt x="1285" y="431"/>
                  <a:pt x="1383" y="422"/>
                </a:cubicBezTo>
                <a:cubicBezTo>
                  <a:pt x="1481" y="413"/>
                  <a:pt x="1496" y="297"/>
                  <a:pt x="1587" y="278"/>
                </a:cubicBezTo>
                <a:cubicBezTo>
                  <a:pt x="1678" y="259"/>
                  <a:pt x="1754" y="282"/>
                  <a:pt x="1927" y="310"/>
                </a:cubicBezTo>
                <a:cubicBezTo>
                  <a:pt x="2100" y="338"/>
                  <a:pt x="2491" y="435"/>
                  <a:pt x="2624" y="448"/>
                </a:cubicBezTo>
                <a:cubicBezTo>
                  <a:pt x="2757" y="461"/>
                  <a:pt x="2723" y="410"/>
                  <a:pt x="2727" y="391"/>
                </a:cubicBezTo>
                <a:cubicBezTo>
                  <a:pt x="2731" y="372"/>
                  <a:pt x="2676" y="334"/>
                  <a:pt x="2650" y="333"/>
                </a:cubicBezTo>
                <a:cubicBezTo>
                  <a:pt x="2624" y="332"/>
                  <a:pt x="2564" y="354"/>
                  <a:pt x="2573" y="384"/>
                </a:cubicBezTo>
                <a:cubicBezTo>
                  <a:pt x="2582" y="414"/>
                  <a:pt x="2666" y="498"/>
                  <a:pt x="2707" y="515"/>
                </a:cubicBezTo>
                <a:cubicBezTo>
                  <a:pt x="2748" y="532"/>
                  <a:pt x="2830" y="573"/>
                  <a:pt x="2816" y="487"/>
                </a:cubicBezTo>
                <a:cubicBezTo>
                  <a:pt x="2802" y="401"/>
                  <a:pt x="2664" y="101"/>
                  <a:pt x="2624" y="0"/>
                </a:cubicBezTo>
              </a:path>
            </a:pathLst>
          </a:custGeom>
          <a:noFill/>
          <a:ln w="255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870640" y="2016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Tahoma"/>
              </a:rPr>
              <a:t>MATERIALI E METODI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2" name="CasellaDiTesto 12"/>
          <p:cNvSpPr/>
          <p:nvPr/>
        </p:nvSpPr>
        <p:spPr>
          <a:xfrm>
            <a:off x="533520" y="12193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TRATTAMENTO PALLIATIVO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    63 pz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3" name="CasellaDiTesto 11"/>
          <p:cNvSpPr/>
          <p:nvPr/>
        </p:nvSpPr>
        <p:spPr>
          <a:xfrm>
            <a:off x="3522240" y="2401920"/>
            <a:ext cx="3612600" cy="1465560"/>
          </a:xfrm>
          <a:prstGeom prst="rect">
            <a:avLst/>
          </a:prstGeom>
          <a:gradFill rotWithShape="0">
            <a:gsLst>
              <a:gs pos="0">
                <a:srgbClr val="ebf5eb"/>
              </a:gs>
              <a:gs pos="100000">
                <a:srgbClr val="b3d8b5"/>
              </a:gs>
            </a:gsLst>
            <a:lin ang="5400000"/>
          </a:gradFill>
          <a:ln w="9360">
            <a:solidFill>
              <a:srgbClr val="3c7c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Recidiva locale sintomatica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Metastatici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Condizioni generali scadute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grpSp>
        <p:nvGrpSpPr>
          <p:cNvPr id="124" name="Freccia angolare in su 17"/>
          <p:cNvGrpSpPr/>
          <p:nvPr/>
        </p:nvGrpSpPr>
        <p:grpSpPr>
          <a:xfrm>
            <a:off x="2060280" y="1603440"/>
            <a:ext cx="1371600" cy="1444320"/>
            <a:chOff x="2060280" y="1603440"/>
            <a:chExt cx="1371600" cy="1444320"/>
          </a:xfrm>
        </p:grpSpPr>
        <p:pic>
          <p:nvPicPr>
            <p:cNvPr id="125" name="Freccia angolare in su 17" descr=""/>
            <p:cNvPicPr/>
            <p:nvPr/>
          </p:nvPicPr>
          <p:blipFill>
            <a:blip r:embed="rId2"/>
            <a:stretch/>
          </p:blipFill>
          <p:spPr>
            <a:xfrm>
              <a:off x="2063520" y="1606320"/>
              <a:ext cx="136836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 rot="5400000">
              <a:off x="1583280" y="2080080"/>
              <a:ext cx="125136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pic>
        <p:nvPicPr>
          <p:cNvPr id="127" name="CasellaDiTesto 19" descr=""/>
          <p:cNvPicPr/>
          <p:nvPr/>
        </p:nvPicPr>
        <p:blipFill>
          <a:blip r:embed="rId3"/>
          <a:stretch/>
        </p:blipFill>
        <p:spPr>
          <a:xfrm>
            <a:off x="1122480" y="4687920"/>
            <a:ext cx="4278240" cy="963720"/>
          </a:xfrm>
          <a:prstGeom prst="rect">
            <a:avLst/>
          </a:prstGeom>
          <a:ln w="0">
            <a:noFill/>
          </a:ln>
        </p:spPr>
      </p:pic>
      <p:pic>
        <p:nvPicPr>
          <p:cNvPr id="128" name="Ovale 9" descr=""/>
          <p:cNvPicPr/>
          <p:nvPr/>
        </p:nvPicPr>
        <p:blipFill>
          <a:blip r:embed="rId4"/>
          <a:stretch/>
        </p:blipFill>
        <p:spPr>
          <a:xfrm>
            <a:off x="208080" y="1274760"/>
            <a:ext cx="40788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8" descr="cherub_silver_to_gold1"/>
          <p:cNvPicPr/>
          <p:nvPr/>
        </p:nvPicPr>
        <p:blipFill>
          <a:blip r:embed="rId1"/>
          <a:stretch/>
        </p:blipFill>
        <p:spPr>
          <a:xfrm>
            <a:off x="3492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5003640" y="6524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6699"/>
                </a:solidFill>
                <a:latin typeface="Tahoma"/>
              </a:rPr>
              <a:t>XX CONGRESSO NAZIONALE AIRO</a:t>
            </a:r>
            <a:endParaRPr b="0" lang="en-US" sz="1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306880" y="152280"/>
            <a:ext cx="42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Tahoma"/>
              </a:rPr>
              <a:t>TECNICA DI TRATTAMENTO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32" name="CasellaDiTesto 10" descr=""/>
          <p:cNvPicPr/>
          <p:nvPr/>
        </p:nvPicPr>
        <p:blipFill>
          <a:blip r:embed="rId2"/>
          <a:stretch/>
        </p:blipFill>
        <p:spPr>
          <a:xfrm>
            <a:off x="1017720" y="1341360"/>
            <a:ext cx="6804000" cy="816120"/>
          </a:xfrm>
          <a:prstGeom prst="rect">
            <a:avLst/>
          </a:prstGeom>
          <a:ln w="0">
            <a:noFill/>
          </a:ln>
        </p:spPr>
      </p:pic>
      <p:sp>
        <p:nvSpPr>
          <p:cNvPr id="133" name="CasellaDiTesto 12"/>
          <p:cNvSpPr/>
          <p:nvPr/>
        </p:nvSpPr>
        <p:spPr>
          <a:xfrm>
            <a:off x="1447920" y="2590920"/>
            <a:ext cx="769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EUS per la localizzazione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Sistema di immobilizzazione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Clip metalliche sulla parete mucosale, a 20 mm dal m. prossimale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4" name="CasellaDiTesto 13"/>
          <p:cNvSpPr/>
          <p:nvPr/>
        </p:nvSpPr>
        <p:spPr>
          <a:xfrm>
            <a:off x="1295280" y="44956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dilatatore esofageo di Savary-Miller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grpSp>
        <p:nvGrpSpPr>
          <p:cNvPr id="135" name="Freccia destra 14"/>
          <p:cNvGrpSpPr/>
          <p:nvPr/>
        </p:nvGrpSpPr>
        <p:grpSpPr>
          <a:xfrm>
            <a:off x="1523880" y="4572000"/>
            <a:ext cx="689040" cy="304920"/>
            <a:chOff x="1523880" y="4572000"/>
            <a:chExt cx="689040" cy="304920"/>
          </a:xfrm>
        </p:grpSpPr>
        <p:pic>
          <p:nvPicPr>
            <p:cNvPr id="136" name="Freccia destra 14" descr=""/>
            <p:cNvPicPr/>
            <p:nvPr/>
          </p:nvPicPr>
          <p:blipFill>
            <a:blip r:embed="rId3"/>
            <a:stretch/>
          </p:blipFill>
          <p:spPr>
            <a:xfrm>
              <a:off x="1523880" y="4572000"/>
              <a:ext cx="6890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523880" y="4680000"/>
              <a:ext cx="6415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pic>
        <p:nvPicPr>
          <p:cNvPr id="138" name="Ovale 15" descr=""/>
          <p:cNvPicPr/>
          <p:nvPr/>
        </p:nvPicPr>
        <p:blipFill>
          <a:blip r:embed="rId4"/>
          <a:stretch/>
        </p:blipFill>
        <p:spPr>
          <a:xfrm>
            <a:off x="738360" y="1427040"/>
            <a:ext cx="407880" cy="669960"/>
          </a:xfrm>
          <a:prstGeom prst="rect">
            <a:avLst/>
          </a:prstGeom>
          <a:ln w="0">
            <a:noFill/>
          </a:ln>
        </p:spPr>
      </p:pic>
      <p:grpSp>
        <p:nvGrpSpPr>
          <p:cNvPr id="139" name="CasellaDiTesto 16"/>
          <p:cNvGrpSpPr/>
          <p:nvPr/>
        </p:nvGrpSpPr>
        <p:grpSpPr>
          <a:xfrm>
            <a:off x="42840" y="3067200"/>
            <a:ext cx="1395360" cy="639720"/>
            <a:chOff x="42840" y="3067200"/>
            <a:chExt cx="1395360" cy="639720"/>
          </a:xfrm>
        </p:grpSpPr>
        <p:pic>
          <p:nvPicPr>
            <p:cNvPr id="140" name="CasellaDiTesto 16" descr=""/>
            <p:cNvPicPr/>
            <p:nvPr/>
          </p:nvPicPr>
          <p:blipFill>
            <a:blip r:embed="rId5"/>
            <a:stretch/>
          </p:blipFill>
          <p:spPr>
            <a:xfrm>
              <a:off x="42840" y="3067200"/>
              <a:ext cx="1395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66320" y="3135240"/>
              <a:ext cx="111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Tahoma"/>
                </a:rPr>
                <a:t>I </a:t>
              </a:r>
              <a:r>
                <a:rPr b="1" lang="it-IT" sz="1800" spc="-1" strike="noStrike">
                  <a:solidFill>
                    <a:srgbClr val="ffffff"/>
                  </a:solidFill>
                  <a:latin typeface="Tahoma"/>
                </a:rPr>
                <a:t>seduta</a:t>
              </a: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grpSp>
        <p:nvGrpSpPr>
          <p:cNvPr id="142" name="CasellaDiTesto 17"/>
          <p:cNvGrpSpPr/>
          <p:nvPr/>
        </p:nvGrpSpPr>
        <p:grpSpPr>
          <a:xfrm>
            <a:off x="30240" y="4425840"/>
            <a:ext cx="1469880" cy="639720"/>
            <a:chOff x="30240" y="4425840"/>
            <a:chExt cx="1469880" cy="639720"/>
          </a:xfrm>
        </p:grpSpPr>
        <p:pic>
          <p:nvPicPr>
            <p:cNvPr id="143" name="CasellaDiTesto 17" descr=""/>
            <p:cNvPicPr/>
            <p:nvPr/>
          </p:nvPicPr>
          <p:blipFill>
            <a:blip r:embed="rId6"/>
            <a:stretch/>
          </p:blipFill>
          <p:spPr>
            <a:xfrm>
              <a:off x="30240" y="4425840"/>
              <a:ext cx="1469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82880" y="4495680"/>
              <a:ext cx="114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Tahoma"/>
                </a:rPr>
                <a:t>STENOSI</a:t>
              </a: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grpSp>
        <p:nvGrpSpPr>
          <p:cNvPr id="145" name="CasellaDiTesto 19"/>
          <p:cNvGrpSpPr/>
          <p:nvPr/>
        </p:nvGrpSpPr>
        <p:grpSpPr>
          <a:xfrm>
            <a:off x="6480" y="5492880"/>
            <a:ext cx="2547720" cy="639720"/>
            <a:chOff x="6480" y="5492880"/>
            <a:chExt cx="2547720" cy="639720"/>
          </a:xfrm>
        </p:grpSpPr>
        <p:pic>
          <p:nvPicPr>
            <p:cNvPr id="146" name="CasellaDiTesto 19" descr=""/>
            <p:cNvPicPr/>
            <p:nvPr/>
          </p:nvPicPr>
          <p:blipFill>
            <a:blip r:embed="rId7"/>
            <a:stretch/>
          </p:blipFill>
          <p:spPr>
            <a:xfrm>
              <a:off x="6480" y="5492880"/>
              <a:ext cx="2547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44000" y="5562720"/>
              <a:ext cx="22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Tahoma"/>
                </a:rPr>
                <a:t>Midazolam 1-2 </a:t>
              </a:r>
              <a:r>
                <a:rPr b="1" lang="it-IT" sz="1800" spc="-1" strike="noStrike">
                  <a:solidFill>
                    <a:srgbClr val="ffffff"/>
                  </a:solidFill>
                  <a:latin typeface="Tahoma"/>
                </a:rPr>
                <a:t>mg</a:t>
              </a:r>
              <a:endParaRPr b="0" lang="en-US" sz="18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sp>
        <p:nvSpPr>
          <p:cNvPr id="148" name="Freeform 7"/>
          <p:cNvSpPr/>
          <p:nvPr/>
        </p:nvSpPr>
        <p:spPr>
          <a:xfrm>
            <a:off x="2367000" y="189000"/>
            <a:ext cx="4492440" cy="909720"/>
          </a:xfrm>
          <a:custGeom>
            <a:avLst/>
            <a:gdLst>
              <a:gd name="textAreaLeft" fmla="*/ 0 w 4492440"/>
              <a:gd name="textAreaRight" fmla="*/ 4492800 w 449244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2830" h="573">
                <a:moveTo>
                  <a:pt x="0" y="355"/>
                </a:moveTo>
                <a:cubicBezTo>
                  <a:pt x="28" y="333"/>
                  <a:pt x="114" y="217"/>
                  <a:pt x="160" y="220"/>
                </a:cubicBezTo>
                <a:cubicBezTo>
                  <a:pt x="206" y="223"/>
                  <a:pt x="216" y="342"/>
                  <a:pt x="275" y="374"/>
                </a:cubicBezTo>
                <a:cubicBezTo>
                  <a:pt x="334" y="406"/>
                  <a:pt x="439" y="429"/>
                  <a:pt x="512" y="412"/>
                </a:cubicBezTo>
                <a:cubicBezTo>
                  <a:pt x="585" y="395"/>
                  <a:pt x="630" y="285"/>
                  <a:pt x="711" y="271"/>
                </a:cubicBezTo>
                <a:cubicBezTo>
                  <a:pt x="792" y="257"/>
                  <a:pt x="887" y="304"/>
                  <a:pt x="999" y="329"/>
                </a:cubicBezTo>
                <a:cubicBezTo>
                  <a:pt x="1111" y="354"/>
                  <a:pt x="1285" y="431"/>
                  <a:pt x="1383" y="422"/>
                </a:cubicBezTo>
                <a:cubicBezTo>
                  <a:pt x="1481" y="413"/>
                  <a:pt x="1496" y="297"/>
                  <a:pt x="1587" y="278"/>
                </a:cubicBezTo>
                <a:cubicBezTo>
                  <a:pt x="1678" y="259"/>
                  <a:pt x="1754" y="282"/>
                  <a:pt x="1927" y="310"/>
                </a:cubicBezTo>
                <a:cubicBezTo>
                  <a:pt x="2100" y="338"/>
                  <a:pt x="2491" y="435"/>
                  <a:pt x="2624" y="448"/>
                </a:cubicBezTo>
                <a:cubicBezTo>
                  <a:pt x="2757" y="461"/>
                  <a:pt x="2723" y="410"/>
                  <a:pt x="2727" y="391"/>
                </a:cubicBezTo>
                <a:cubicBezTo>
                  <a:pt x="2731" y="372"/>
                  <a:pt x="2676" y="334"/>
                  <a:pt x="2650" y="333"/>
                </a:cubicBezTo>
                <a:cubicBezTo>
                  <a:pt x="2624" y="332"/>
                  <a:pt x="2564" y="354"/>
                  <a:pt x="2573" y="384"/>
                </a:cubicBezTo>
                <a:cubicBezTo>
                  <a:pt x="2582" y="414"/>
                  <a:pt x="2666" y="498"/>
                  <a:pt x="2707" y="515"/>
                </a:cubicBezTo>
                <a:cubicBezTo>
                  <a:pt x="2748" y="532"/>
                  <a:pt x="2830" y="573"/>
                  <a:pt x="2816" y="487"/>
                </a:cubicBezTo>
                <a:cubicBezTo>
                  <a:pt x="2802" y="401"/>
                  <a:pt x="2664" y="101"/>
                  <a:pt x="2624" y="0"/>
                </a:cubicBezTo>
              </a:path>
            </a:pathLst>
          </a:custGeom>
          <a:noFill/>
          <a:ln w="255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8" descr="cherub_silver_to_gold1"/>
          <p:cNvPicPr/>
          <p:nvPr/>
        </p:nvPicPr>
        <p:blipFill>
          <a:blip r:embed="rId1"/>
          <a:stretch/>
        </p:blipFill>
        <p:spPr>
          <a:xfrm>
            <a:off x="3492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000760" y="6524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6699"/>
                </a:solidFill>
                <a:latin typeface="Tahoma"/>
              </a:rPr>
              <a:t>XX CONGRESSO NAZIONALE AIRO</a:t>
            </a:r>
            <a:endParaRPr b="0" lang="en-US" sz="1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2367000" y="189000"/>
            <a:ext cx="4492440" cy="909720"/>
          </a:xfrm>
          <a:custGeom>
            <a:avLst/>
            <a:gdLst>
              <a:gd name="textAreaLeft" fmla="*/ 0 w 4492440"/>
              <a:gd name="textAreaRight" fmla="*/ 4492800 w 449244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2830" h="573">
                <a:moveTo>
                  <a:pt x="0" y="355"/>
                </a:moveTo>
                <a:cubicBezTo>
                  <a:pt x="28" y="333"/>
                  <a:pt x="114" y="217"/>
                  <a:pt x="160" y="220"/>
                </a:cubicBezTo>
                <a:cubicBezTo>
                  <a:pt x="206" y="223"/>
                  <a:pt x="216" y="342"/>
                  <a:pt x="275" y="374"/>
                </a:cubicBezTo>
                <a:cubicBezTo>
                  <a:pt x="334" y="406"/>
                  <a:pt x="439" y="429"/>
                  <a:pt x="512" y="412"/>
                </a:cubicBezTo>
                <a:cubicBezTo>
                  <a:pt x="585" y="395"/>
                  <a:pt x="630" y="285"/>
                  <a:pt x="711" y="271"/>
                </a:cubicBezTo>
                <a:cubicBezTo>
                  <a:pt x="792" y="257"/>
                  <a:pt x="887" y="304"/>
                  <a:pt x="999" y="329"/>
                </a:cubicBezTo>
                <a:cubicBezTo>
                  <a:pt x="1111" y="354"/>
                  <a:pt x="1285" y="431"/>
                  <a:pt x="1383" y="422"/>
                </a:cubicBezTo>
                <a:cubicBezTo>
                  <a:pt x="1481" y="413"/>
                  <a:pt x="1496" y="297"/>
                  <a:pt x="1587" y="278"/>
                </a:cubicBezTo>
                <a:cubicBezTo>
                  <a:pt x="1678" y="259"/>
                  <a:pt x="1754" y="282"/>
                  <a:pt x="1927" y="310"/>
                </a:cubicBezTo>
                <a:cubicBezTo>
                  <a:pt x="2100" y="338"/>
                  <a:pt x="2491" y="435"/>
                  <a:pt x="2624" y="448"/>
                </a:cubicBezTo>
                <a:cubicBezTo>
                  <a:pt x="2757" y="461"/>
                  <a:pt x="2723" y="410"/>
                  <a:pt x="2727" y="391"/>
                </a:cubicBezTo>
                <a:cubicBezTo>
                  <a:pt x="2731" y="372"/>
                  <a:pt x="2676" y="334"/>
                  <a:pt x="2650" y="333"/>
                </a:cubicBezTo>
                <a:cubicBezTo>
                  <a:pt x="2624" y="332"/>
                  <a:pt x="2564" y="354"/>
                  <a:pt x="2573" y="384"/>
                </a:cubicBezTo>
                <a:cubicBezTo>
                  <a:pt x="2582" y="414"/>
                  <a:pt x="2666" y="498"/>
                  <a:pt x="2707" y="515"/>
                </a:cubicBezTo>
                <a:cubicBezTo>
                  <a:pt x="2748" y="532"/>
                  <a:pt x="2830" y="573"/>
                  <a:pt x="2816" y="487"/>
                </a:cubicBezTo>
                <a:cubicBezTo>
                  <a:pt x="2802" y="401"/>
                  <a:pt x="2664" y="101"/>
                  <a:pt x="2624" y="0"/>
                </a:cubicBezTo>
              </a:path>
            </a:pathLst>
          </a:custGeom>
          <a:noFill/>
          <a:ln w="255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306880" y="152280"/>
            <a:ext cx="42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Tahoma"/>
              </a:rPr>
              <a:t>TECNICA DI TRATTAMENTO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53" name="Diagramma 19" descr=""/>
          <p:cNvPicPr/>
          <p:nvPr/>
        </p:nvPicPr>
        <p:blipFill>
          <a:blip r:embed="rId2"/>
          <a:stretch/>
        </p:blipFill>
        <p:spPr>
          <a:xfrm>
            <a:off x="530280" y="1054080"/>
            <a:ext cx="4425840" cy="5029200"/>
          </a:xfrm>
          <a:prstGeom prst="rect">
            <a:avLst/>
          </a:prstGeom>
          <a:ln w="0">
            <a:noFill/>
          </a:ln>
        </p:spPr>
      </p:pic>
      <p:grpSp>
        <p:nvGrpSpPr>
          <p:cNvPr id="154" name="Callout con freccia sinistra 6"/>
          <p:cNvGrpSpPr/>
          <p:nvPr/>
        </p:nvGrpSpPr>
        <p:grpSpPr>
          <a:xfrm>
            <a:off x="4876920" y="3193920"/>
            <a:ext cx="2981160" cy="871560"/>
            <a:chOff x="4876920" y="3193920"/>
            <a:chExt cx="2981160" cy="871560"/>
          </a:xfrm>
        </p:grpSpPr>
        <p:pic>
          <p:nvPicPr>
            <p:cNvPr id="155" name="Callout con freccia sinistra 6" descr=""/>
            <p:cNvPicPr/>
            <p:nvPr/>
          </p:nvPicPr>
          <p:blipFill>
            <a:blip r:embed="rId3"/>
            <a:stretch/>
          </p:blipFill>
          <p:spPr>
            <a:xfrm>
              <a:off x="4876920" y="3193920"/>
              <a:ext cx="2981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934240" y="3214800"/>
              <a:ext cx="1881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500" spc="-1" strike="noStrike">
                  <a:solidFill>
                    <a:srgbClr val="336699"/>
                  </a:solidFill>
                  <a:latin typeface="Tahoma"/>
                </a:rPr>
                <a:t>Integrazione immagini US</a:t>
              </a:r>
              <a:endParaRPr b="0" lang="en-US" sz="15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pic>
        <p:nvPicPr>
          <p:cNvPr id="157" name="Picture 1034" descr="C:\Documents and Settings\Lantis\Desktop\fig1.tif"/>
          <p:cNvPicPr/>
          <p:nvPr/>
        </p:nvPicPr>
        <p:blipFill>
          <a:blip r:embed="rId4"/>
          <a:srcRect l="61168" t="4406" r="5641" b="30146"/>
          <a:stretch/>
        </p:blipFill>
        <p:spPr>
          <a:xfrm>
            <a:off x="5857920" y="4071960"/>
            <a:ext cx="264312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35" descr="C:\Documents and Settings\Lantis\Desktop\fig1.tif"/>
          <p:cNvPicPr/>
          <p:nvPr/>
        </p:nvPicPr>
        <p:blipFill>
          <a:blip r:embed="rId5"/>
          <a:srcRect l="26185" t="4406" r="38888" b="30146"/>
          <a:stretch/>
        </p:blipFill>
        <p:spPr>
          <a:xfrm>
            <a:off x="5857920" y="1071720"/>
            <a:ext cx="2643120" cy="207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8" descr="cherub_silver_to_gold1"/>
          <p:cNvPicPr/>
          <p:nvPr/>
        </p:nvPicPr>
        <p:blipFill>
          <a:blip r:embed="rId1"/>
          <a:stretch/>
        </p:blipFill>
        <p:spPr>
          <a:xfrm>
            <a:off x="34920" y="4608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5003640" y="6524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6699"/>
                </a:solidFill>
                <a:latin typeface="Tahoma"/>
              </a:rPr>
              <a:t>XX CONGRESSO NAZIONALE AIRO</a:t>
            </a:r>
            <a:endParaRPr b="0" lang="en-US" sz="1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2367000" y="189000"/>
            <a:ext cx="4492440" cy="909720"/>
          </a:xfrm>
          <a:custGeom>
            <a:avLst/>
            <a:gdLst>
              <a:gd name="textAreaLeft" fmla="*/ 0 w 4492440"/>
              <a:gd name="textAreaRight" fmla="*/ 4492800 w 449244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2830" h="573">
                <a:moveTo>
                  <a:pt x="0" y="355"/>
                </a:moveTo>
                <a:cubicBezTo>
                  <a:pt x="28" y="333"/>
                  <a:pt x="114" y="217"/>
                  <a:pt x="160" y="220"/>
                </a:cubicBezTo>
                <a:cubicBezTo>
                  <a:pt x="206" y="223"/>
                  <a:pt x="216" y="342"/>
                  <a:pt x="275" y="374"/>
                </a:cubicBezTo>
                <a:cubicBezTo>
                  <a:pt x="334" y="406"/>
                  <a:pt x="439" y="429"/>
                  <a:pt x="512" y="412"/>
                </a:cubicBezTo>
                <a:cubicBezTo>
                  <a:pt x="585" y="395"/>
                  <a:pt x="630" y="285"/>
                  <a:pt x="711" y="271"/>
                </a:cubicBezTo>
                <a:cubicBezTo>
                  <a:pt x="792" y="257"/>
                  <a:pt x="887" y="304"/>
                  <a:pt x="999" y="329"/>
                </a:cubicBezTo>
                <a:cubicBezTo>
                  <a:pt x="1111" y="354"/>
                  <a:pt x="1285" y="431"/>
                  <a:pt x="1383" y="422"/>
                </a:cubicBezTo>
                <a:cubicBezTo>
                  <a:pt x="1481" y="413"/>
                  <a:pt x="1496" y="297"/>
                  <a:pt x="1587" y="278"/>
                </a:cubicBezTo>
                <a:cubicBezTo>
                  <a:pt x="1678" y="259"/>
                  <a:pt x="1754" y="282"/>
                  <a:pt x="1927" y="310"/>
                </a:cubicBezTo>
                <a:cubicBezTo>
                  <a:pt x="2100" y="338"/>
                  <a:pt x="2491" y="435"/>
                  <a:pt x="2624" y="448"/>
                </a:cubicBezTo>
                <a:cubicBezTo>
                  <a:pt x="2757" y="461"/>
                  <a:pt x="2723" y="410"/>
                  <a:pt x="2727" y="391"/>
                </a:cubicBezTo>
                <a:cubicBezTo>
                  <a:pt x="2731" y="372"/>
                  <a:pt x="2676" y="334"/>
                  <a:pt x="2650" y="333"/>
                </a:cubicBezTo>
                <a:cubicBezTo>
                  <a:pt x="2624" y="332"/>
                  <a:pt x="2564" y="354"/>
                  <a:pt x="2573" y="384"/>
                </a:cubicBezTo>
                <a:cubicBezTo>
                  <a:pt x="2582" y="414"/>
                  <a:pt x="2666" y="498"/>
                  <a:pt x="2707" y="515"/>
                </a:cubicBezTo>
                <a:cubicBezTo>
                  <a:pt x="2748" y="532"/>
                  <a:pt x="2830" y="573"/>
                  <a:pt x="2816" y="487"/>
                </a:cubicBezTo>
                <a:cubicBezTo>
                  <a:pt x="2802" y="401"/>
                  <a:pt x="2664" y="101"/>
                  <a:pt x="2624" y="0"/>
                </a:cubicBezTo>
              </a:path>
            </a:pathLst>
          </a:custGeom>
          <a:noFill/>
          <a:ln w="255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739680" y="20160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Tahoma"/>
              </a:rPr>
              <a:t>RISULTATI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grpSp>
        <p:nvGrpSpPr>
          <p:cNvPr id="163" name="CasellaDiTesto 8"/>
          <p:cNvGrpSpPr/>
          <p:nvPr/>
        </p:nvGrpSpPr>
        <p:grpSpPr>
          <a:xfrm>
            <a:off x="847800" y="3584520"/>
            <a:ext cx="7527960" cy="2262240"/>
            <a:chOff x="847800" y="3584520"/>
            <a:chExt cx="7527960" cy="2262240"/>
          </a:xfrm>
        </p:grpSpPr>
        <p:pic>
          <p:nvPicPr>
            <p:cNvPr id="164" name="CasellaDiTesto 8" descr=""/>
            <p:cNvPicPr/>
            <p:nvPr/>
          </p:nvPicPr>
          <p:blipFill>
            <a:blip r:embed="rId2"/>
            <a:stretch/>
          </p:blipFill>
          <p:spPr>
            <a:xfrm>
              <a:off x="847800" y="3584520"/>
              <a:ext cx="75279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851040" y="3591000"/>
              <a:ext cx="751824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99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6699"/>
                  </a:solidFill>
                  <a:latin typeface="Tahoma"/>
                  <a:ea typeface="ＭＳ Ｐゴシック"/>
                </a:rPr>
                <a:t> </a:t>
              </a:r>
              <a:r>
                <a:rPr b="1" lang="it-IT" sz="2000" spc="-1" strike="noStrike">
                  <a:solidFill>
                    <a:srgbClr val="336699"/>
                  </a:solidFill>
                  <a:latin typeface="Tahoma"/>
                  <a:ea typeface="ＭＳ Ｐゴシック"/>
                </a:rPr>
                <a:t>20 pazienti (24,6%) disfagia di grado 3-4 dopo il trattamento</a:t>
              </a:r>
              <a:endParaRPr b="0" lang="en-US" sz="2000" spc="-1" strike="noStrike">
                <a:solidFill>
                  <a:srgbClr val="336699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6699"/>
                  </a:solidFill>
                  <a:latin typeface="Tahoma"/>
                  <a:ea typeface="ＭＳ Ｐゴシック"/>
                </a:rPr>
                <a:t>	</a:t>
              </a:r>
              <a:endParaRPr b="0" lang="en-US" sz="2000" spc="-1" strike="noStrike">
                <a:solidFill>
                  <a:srgbClr val="336699"/>
                </a:solidFill>
                <a:latin typeface="Tahoma"/>
              </a:endParaRPr>
            </a:p>
            <a:p>
              <a:pPr>
                <a:buClr>
                  <a:srgbClr val="ff99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Tahoma"/>
              </a:endParaRPr>
            </a:p>
            <a:p>
              <a:pPr>
                <a:buClr>
                  <a:srgbClr val="ff99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6699"/>
                  </a:solidFill>
                  <a:latin typeface="Tahoma"/>
                  <a:ea typeface="ＭＳ Ｐゴシック"/>
                </a:rPr>
                <a:t> </a:t>
              </a:r>
              <a:r>
                <a:rPr b="1" lang="it-IT" sz="2000" spc="-1" strike="noStrike">
                  <a:solidFill>
                    <a:srgbClr val="336699"/>
                  </a:solidFill>
                  <a:latin typeface="Tahoma"/>
                  <a:ea typeface="ＭＳ Ｐゴシック"/>
                </a:rPr>
                <a:t>22 pazienti (18%) trattamenti suppletivi:</a:t>
              </a:r>
              <a:endParaRPr b="0" lang="en-US" sz="2000" spc="-1" strike="noStrike">
                <a:solidFill>
                  <a:srgbClr val="336699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6699"/>
                  </a:solidFill>
                  <a:latin typeface="Tahoma"/>
                  <a:ea typeface="ＭＳ Ｐゴシック"/>
                </a:rPr>
                <a:t>19 stent </a:t>
              </a:r>
              <a:endParaRPr b="0" lang="en-US" sz="2000" spc="-1" strike="noStrike">
                <a:solidFill>
                  <a:srgbClr val="336699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6699"/>
                  </a:solidFill>
                  <a:latin typeface="Tahoma"/>
                  <a:ea typeface="ＭＳ Ｐゴシック"/>
                </a:rPr>
                <a:t>3 trattamenti laser </a:t>
              </a:r>
              <a:endParaRPr b="0" lang="en-US" sz="20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sp>
        <p:nvSpPr>
          <p:cNvPr id="166" name="CasellaDiTesto 6"/>
          <p:cNvSpPr/>
          <p:nvPr/>
        </p:nvSpPr>
        <p:spPr>
          <a:xfrm>
            <a:off x="380880" y="1295280"/>
            <a:ext cx="82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6600"/>
                </a:solidFill>
                <a:uFillTx/>
                <a:latin typeface="Tahoma"/>
              </a:rPr>
              <a:t>Pre-trattamento</a:t>
            </a:r>
            <a:r>
              <a:rPr b="1" lang="it-IT" sz="1800" spc="-1" strike="noStrike">
                <a:solidFill>
                  <a:srgbClr val="006600"/>
                </a:solidFill>
                <a:latin typeface="Tahoma"/>
              </a:rPr>
              <a:t> 37 pts (30.4 %) DISFAGIA di grado 3-4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cxnSp>
        <p:nvCxnSpPr>
          <p:cNvPr id="167" name="Connettore 7 7"/>
          <p:cNvCxnSpPr>
            <a:endCxn id="168" idx="1"/>
          </p:cNvCxnSpPr>
          <p:nvPr/>
        </p:nvCxnSpPr>
        <p:spPr>
          <a:xfrm>
            <a:off x="2666520" y="1676160"/>
            <a:ext cx="731160" cy="262080"/>
          </a:xfrm>
          <a:prstGeom prst="curvedConnector5">
            <a:avLst>
              <a:gd name="adj1" fmla="val 50000"/>
              <a:gd name="adj2" fmla="val 49931"/>
              <a:gd name="adj3" fmla="val 50000"/>
            </a:avLst>
          </a:prstGeom>
          <a:ln w="25560">
            <a:solidFill>
              <a:srgbClr val="336699"/>
            </a:solidFill>
            <a:miter/>
            <a:tailEnd len="med" type="triangle" w="med"/>
          </a:ln>
        </p:spPr>
      </p:cxnSp>
      <p:sp>
        <p:nvSpPr>
          <p:cNvPr id="168" name="CasellaDiTesto 8"/>
          <p:cNvSpPr/>
          <p:nvPr/>
        </p:nvSpPr>
        <p:spPr>
          <a:xfrm>
            <a:off x="3530880" y="175248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Tahoma"/>
              </a:rPr>
              <a:t>18pts (14,7%): dilatazione pre-trattamento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grpSp>
        <p:nvGrpSpPr>
          <p:cNvPr id="169" name="CasellaDiTesto 9"/>
          <p:cNvGrpSpPr/>
          <p:nvPr/>
        </p:nvGrpSpPr>
        <p:grpSpPr>
          <a:xfrm>
            <a:off x="1073160" y="2560680"/>
            <a:ext cx="7023240" cy="407880"/>
            <a:chOff x="1073160" y="2560680"/>
            <a:chExt cx="7023240" cy="407880"/>
          </a:xfrm>
        </p:grpSpPr>
        <p:pic>
          <p:nvPicPr>
            <p:cNvPr id="170" name="CasellaDiTesto 9" descr=""/>
            <p:cNvPicPr/>
            <p:nvPr/>
          </p:nvPicPr>
          <p:blipFill>
            <a:blip r:embed="rId3"/>
            <a:stretch/>
          </p:blipFill>
          <p:spPr>
            <a:xfrm>
              <a:off x="1073160" y="2560680"/>
              <a:ext cx="702324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076400" y="2564280"/>
              <a:ext cx="70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336699"/>
                  </a:solidFill>
                  <a:latin typeface="Tahoma"/>
                </a:rPr>
                <a:t>Miglioramento della disfagia in 102 pazienti (83,6%)</a:t>
              </a:r>
              <a:endParaRPr b="0" lang="en-US" sz="20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Diagramma 13" descr=""/>
          <p:cNvPicPr/>
          <p:nvPr/>
        </p:nvPicPr>
        <p:blipFill>
          <a:blip r:embed="rId1"/>
          <a:stretch/>
        </p:blipFill>
        <p:spPr>
          <a:xfrm>
            <a:off x="195120" y="3121200"/>
            <a:ext cx="2151360" cy="33955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6"/>
          <p:cNvSpPr/>
          <p:nvPr/>
        </p:nvSpPr>
        <p:spPr>
          <a:xfrm>
            <a:off x="697680" y="1219320"/>
            <a:ext cx="560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</a:rPr>
              <a:t>18 Pz con dilatazione pre-BT: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Non aumento delle Tossicità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Tahoma"/>
                <a:ea typeface="ＭＳ Ｐゴシック"/>
              </a:rPr>
              <a:t>Minore probabilità di controllo di disfagia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74" name="Picture 0" descr="C:\Documents and Settings\Lantis\Desktop\fig2.TIF"/>
          <p:cNvPicPr/>
          <p:nvPr/>
        </p:nvPicPr>
        <p:blipFill>
          <a:blip r:embed="rId2"/>
          <a:stretch/>
        </p:blipFill>
        <p:spPr>
          <a:xfrm>
            <a:off x="3643200" y="2813040"/>
            <a:ext cx="4786560" cy="350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sp>
        <p:nvSpPr>
          <p:cNvPr id="175" name="Freeform 7"/>
          <p:cNvSpPr/>
          <p:nvPr/>
        </p:nvSpPr>
        <p:spPr>
          <a:xfrm>
            <a:off x="2367000" y="189000"/>
            <a:ext cx="4492440" cy="909720"/>
          </a:xfrm>
          <a:custGeom>
            <a:avLst/>
            <a:gdLst>
              <a:gd name="textAreaLeft" fmla="*/ 0 w 4492440"/>
              <a:gd name="textAreaRight" fmla="*/ 4492800 w 449244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2830" h="573">
                <a:moveTo>
                  <a:pt x="0" y="355"/>
                </a:moveTo>
                <a:cubicBezTo>
                  <a:pt x="28" y="333"/>
                  <a:pt x="114" y="217"/>
                  <a:pt x="160" y="220"/>
                </a:cubicBezTo>
                <a:cubicBezTo>
                  <a:pt x="206" y="223"/>
                  <a:pt x="216" y="342"/>
                  <a:pt x="275" y="374"/>
                </a:cubicBezTo>
                <a:cubicBezTo>
                  <a:pt x="334" y="406"/>
                  <a:pt x="439" y="429"/>
                  <a:pt x="512" y="412"/>
                </a:cubicBezTo>
                <a:cubicBezTo>
                  <a:pt x="585" y="395"/>
                  <a:pt x="630" y="285"/>
                  <a:pt x="711" y="271"/>
                </a:cubicBezTo>
                <a:cubicBezTo>
                  <a:pt x="792" y="257"/>
                  <a:pt x="887" y="304"/>
                  <a:pt x="999" y="329"/>
                </a:cubicBezTo>
                <a:cubicBezTo>
                  <a:pt x="1111" y="354"/>
                  <a:pt x="1285" y="431"/>
                  <a:pt x="1383" y="422"/>
                </a:cubicBezTo>
                <a:cubicBezTo>
                  <a:pt x="1481" y="413"/>
                  <a:pt x="1496" y="297"/>
                  <a:pt x="1587" y="278"/>
                </a:cubicBezTo>
                <a:cubicBezTo>
                  <a:pt x="1678" y="259"/>
                  <a:pt x="1754" y="282"/>
                  <a:pt x="1927" y="310"/>
                </a:cubicBezTo>
                <a:cubicBezTo>
                  <a:pt x="2100" y="338"/>
                  <a:pt x="2491" y="435"/>
                  <a:pt x="2624" y="448"/>
                </a:cubicBezTo>
                <a:cubicBezTo>
                  <a:pt x="2757" y="461"/>
                  <a:pt x="2723" y="410"/>
                  <a:pt x="2727" y="391"/>
                </a:cubicBezTo>
                <a:cubicBezTo>
                  <a:pt x="2731" y="372"/>
                  <a:pt x="2676" y="334"/>
                  <a:pt x="2650" y="333"/>
                </a:cubicBezTo>
                <a:cubicBezTo>
                  <a:pt x="2624" y="332"/>
                  <a:pt x="2564" y="354"/>
                  <a:pt x="2573" y="384"/>
                </a:cubicBezTo>
                <a:cubicBezTo>
                  <a:pt x="2582" y="414"/>
                  <a:pt x="2666" y="498"/>
                  <a:pt x="2707" y="515"/>
                </a:cubicBezTo>
                <a:cubicBezTo>
                  <a:pt x="2748" y="532"/>
                  <a:pt x="2830" y="573"/>
                  <a:pt x="2816" y="487"/>
                </a:cubicBezTo>
                <a:cubicBezTo>
                  <a:pt x="2802" y="401"/>
                  <a:pt x="2664" y="101"/>
                  <a:pt x="2624" y="0"/>
                </a:cubicBezTo>
              </a:path>
            </a:pathLst>
          </a:custGeom>
          <a:noFill/>
          <a:ln w="255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3739680" y="20160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Tahoma"/>
              </a:rPr>
              <a:t>RISULTATI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77" name="Picture 28" descr="cherub_silver_to_gold1"/>
          <p:cNvPicPr/>
          <p:nvPr/>
        </p:nvPicPr>
        <p:blipFill>
          <a:blip r:embed="rId3"/>
          <a:stretch/>
        </p:blipFill>
        <p:spPr>
          <a:xfrm>
            <a:off x="3492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5003640" y="6524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6699"/>
                </a:solidFill>
                <a:latin typeface="Tahoma"/>
              </a:rPr>
              <a:t>XX CONGRESSO NAZIONALE AIRO</a:t>
            </a:r>
            <a:endParaRPr b="0" lang="en-US" sz="1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6:17:19Z</dcterms:created>
  <dc:creator>marianna</dc:creator>
  <dc:description/>
  <cp:keywords/>
  <dc:language>en-US</dc:language>
  <cp:lastModifiedBy>tecno</cp:lastModifiedBy>
  <dcterms:modified xsi:type="dcterms:W3CDTF">2010-11-14T12:49:49Z</dcterms:modified>
  <cp:revision>6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51040</vt:lpwstr>
  </property>
</Properties>
</file>