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09E4-3D21-498F-9669-CC32A7C6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3F76-2189-4177-A1BB-46330DE0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002B-423D-441D-8A17-F4D377E7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976DE-3189-45C3-B6A0-D6E561BD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5675-F58E-45A8-A7E7-3468C68E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D075-913F-4551-A456-D9783DA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8AC3-7A87-48EC-99C3-586E79AD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4E2E-A6BB-4E24-A42C-5DABFEEB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37D4-695A-439F-9A92-8B9BB27C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3D80-7A5D-4FD9-B791-6CC6FC8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95C7-29FA-4373-B28E-BF9063B7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13FC-7F81-4086-A98C-3F2868D1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DF2E-481F-43F9-9BBD-87EEB81B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404F-CE2B-4F08-ABA5-63365B9D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91BF-6686-48E8-9D96-1F04586A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53AC-6BD5-4494-8391-A40CB121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6B4F-EC00-478D-B367-ACF9457C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A692-7990-4364-9B8E-A6C95CB7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6EB6-51D9-440A-B79B-0CAC3440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B179-A480-4672-9531-BDE70F16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FA5D-3826-4EA2-8FEE-0383ABA8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352C-D404-4ECF-BCFA-7F7286A6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D176-CA87-49FE-A301-A1032572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6800-AB52-4E1B-9400-03778F4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634-6568-47DB-B7A6-E7E3AB65E603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CC9A-CDBA-4483-8E1B-A24C54AB6A9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C4A0-2A5A-4EEC-9F68-3E29867FF1F3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425-567F-41A9-B948-F0B1AD616D0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9000" y="1785600"/>
            <a:ext cx="54007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000"/>
                </a:solidFill>
                <a:latin typeface="Book Antiqua"/>
              </a:rPr>
              <a:t>CURRENT PRACTICE FOR MANAGEMENT OF RECTAL CANCER:</a:t>
            </a:r>
            <a:br>
              <a:rPr sz="3000"/>
            </a:br>
            <a:r>
              <a:rPr b="1" lang="it-IT" sz="3000" spc="-1" strike="noStrike">
                <a:solidFill>
                  <a:srgbClr val="ffc000"/>
                </a:solidFill>
                <a:latin typeface="Book Antiqua"/>
              </a:rPr>
              <a:t> 2009 INTERREGIONAL SURVEY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ttangolo 3"/>
          <p:cNvSpPr/>
          <p:nvPr/>
        </p:nvSpPr>
        <p:spPr>
          <a:xfrm>
            <a:off x="3492360" y="4214880"/>
            <a:ext cx="5688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 u="sng">
                <a:solidFill>
                  <a:srgbClr val="ffffff"/>
                </a:solidFill>
                <a:uFillTx/>
                <a:latin typeface="Book Antiqua"/>
              </a:rPr>
              <a:t>M. Di Genesio Pagliuca</a:t>
            </a:r>
            <a:r>
              <a:rPr b="1" i="1" lang="it-IT" sz="2200" spc="-1" strike="noStrike">
                <a:solidFill>
                  <a:srgbClr val="ffffff"/>
                </a:solidFill>
                <a:latin typeface="Book Antiqua"/>
              </a:rPr>
              <a:t>, L. Turri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Book Antiqua"/>
              </a:rPr>
              <a:t>T. Caltavuturo, R. Grasso, V. Tseroni,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it-IT" sz="2200" spc="-1" strike="noStrike">
                <a:solidFill>
                  <a:srgbClr val="ffffff"/>
                </a:solidFill>
                <a:latin typeface="Book Antiqua"/>
              </a:rPr>
              <a:t>M. Orsatti, A. Melano, P. Franzone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Book Antiqua"/>
              </a:rPr>
              <a:t>A. Bacigalupo, C. Marziano, T. Scolaro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Book Antiqua"/>
              </a:rPr>
              <a:t>M.C. Bassi, G. Moro, P.Sciascero,F.Munoz,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Book Antiqua"/>
              </a:rPr>
              <a:t>M.L. Vitali, M. Tessa, P. Gabriele, A.Rossi,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Book Antiqua"/>
              </a:rPr>
              <a:t>M. Krengli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152280" y="152280"/>
          <a:ext cx="113364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113364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7786800" y="152280"/>
          <a:ext cx="10969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86800" y="152280"/>
                    <a:ext cx="10969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"/>
          <p:cNvSpPr/>
          <p:nvPr/>
        </p:nvSpPr>
        <p:spPr>
          <a:xfrm>
            <a:off x="1295280" y="124560"/>
            <a:ext cx="6480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Book Antiqua"/>
                <a:ea typeface="Arial"/>
              </a:rPr>
              <a:t>AZIENDA OSPEDALIERO-UNIVERSITARIA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Book Antiqua"/>
                <a:ea typeface="Arial"/>
              </a:rPr>
              <a:t> “</a:t>
            </a:r>
            <a:r>
              <a:rPr b="0" lang="it-IT" sz="1700" spc="-1" strike="noStrike">
                <a:solidFill>
                  <a:srgbClr val="ffffff"/>
                </a:solidFill>
                <a:latin typeface="Book Antiqua"/>
                <a:ea typeface="Arial"/>
              </a:rPr>
              <a:t>MAGGIORE DELLA CARITA’” 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Book Antiqua"/>
                <a:ea typeface="Arial"/>
              </a:rPr>
              <a:t>UNIVERSITA’ DEL PIEMONTE ORIENTALE “A. AVOGADRO”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Book Antiqua"/>
                <a:ea typeface="Arial"/>
              </a:rPr>
              <a:t>S.C.D.U.   RADIOTERAPIA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Book Antiqua"/>
                <a:ea typeface="Arial"/>
              </a:rPr>
              <a:t>Direttore Prof. Marco Krengli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5"/>
          <a:stretch/>
        </p:blipFill>
        <p:spPr>
          <a:xfrm>
            <a:off x="77760" y="2216160"/>
            <a:ext cx="3414600" cy="44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Book Antiqua"/>
              </a:rPr>
              <a:t>VOLU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Segnaposto data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8652-4CD6-433C-8E90-0D6E91FD48C5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D7B1-5AA5-4788-8C46-6CCBDFD96B7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CasellaDiTesto 5"/>
          <p:cNvSpPr/>
          <p:nvPr/>
        </p:nvSpPr>
        <p:spPr>
          <a:xfrm>
            <a:off x="605520" y="2119320"/>
            <a:ext cx="206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Book Antiqua"/>
              </a:rPr>
              <a:t>ELECTIVEL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CasellaDiTesto 7"/>
          <p:cNvSpPr/>
          <p:nvPr/>
        </p:nvSpPr>
        <p:spPr>
          <a:xfrm>
            <a:off x="4089240" y="124452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Internal iliac no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CasellaDiTesto 8"/>
          <p:cNvSpPr/>
          <p:nvPr/>
        </p:nvSpPr>
        <p:spPr>
          <a:xfrm>
            <a:off x="4087800" y="203508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Obturator no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CasellaDiTesto 9"/>
          <p:cNvSpPr/>
          <p:nvPr/>
        </p:nvSpPr>
        <p:spPr>
          <a:xfrm>
            <a:off x="4130640" y="2963880"/>
            <a:ext cx="24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Sacral no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Freccia a destra 10"/>
          <p:cNvSpPr/>
          <p:nvPr/>
        </p:nvSpPr>
        <p:spPr>
          <a:xfrm>
            <a:off x="2927520" y="21193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Freccia a destra 11"/>
          <p:cNvSpPr/>
          <p:nvPr/>
        </p:nvSpPr>
        <p:spPr>
          <a:xfrm>
            <a:off x="2927520" y="29923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Freccia a destra 12"/>
          <p:cNvSpPr/>
          <p:nvPr/>
        </p:nvSpPr>
        <p:spPr>
          <a:xfrm>
            <a:off x="2927520" y="13334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CasellaDiTesto 13"/>
          <p:cNvSpPr/>
          <p:nvPr/>
        </p:nvSpPr>
        <p:spPr>
          <a:xfrm>
            <a:off x="1930320" y="3762360"/>
            <a:ext cx="534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000"/>
                </a:solidFill>
                <a:latin typeface="Book Antiqua"/>
              </a:rPr>
              <a:t>100% of the Institution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CasellaDiTesto 14"/>
          <p:cNvSpPr/>
          <p:nvPr/>
        </p:nvSpPr>
        <p:spPr>
          <a:xfrm>
            <a:off x="488160" y="469116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Common iliac nodes: 1 Cen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CasellaDiTesto 15"/>
          <p:cNvSpPr/>
          <p:nvPr/>
        </p:nvSpPr>
        <p:spPr>
          <a:xfrm>
            <a:off x="453600" y="533412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External iliac nodes: 1 Cen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data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ADDF-E3C1-4D24-A2C1-89BBA13221EF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Segnaposto numero diapositiva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2AEA-2F39-422C-90B2-7F8694D0DF7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Segnaposto piè di pagina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57200" y="274680"/>
            <a:ext cx="843588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Book Antiqua"/>
              </a:rPr>
              <a:t>TOTAL DOSES </a:t>
            </a:r>
            <a:r>
              <a:rPr b="1" lang="it-IT" sz="3600" spc="-1" strike="noStrike">
                <a:solidFill>
                  <a:srgbClr val="ffc000"/>
                </a:solidFill>
                <a:latin typeface="Book Antiqua"/>
              </a:rPr>
              <a:t>(NEOADJ/AD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(except for short course neoadjuvantradiotherap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75080" y="2022480"/>
            <a:ext cx="145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Book Antiqua"/>
              </a:rPr>
              <a:t>PELVI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351960" y="1844640"/>
            <a:ext cx="4941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Book Antiqua"/>
              </a:rPr>
              <a:t>TOTAL DOSE = 45 Gy: 60%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Book Antiqua"/>
              </a:rPr>
              <a:t>TOTAL DOSE &gt; 45 Gy: 40%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794160" y="3236760"/>
            <a:ext cx="17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Book Antiqua"/>
              </a:rPr>
              <a:t>RECTUM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351960" y="2989440"/>
            <a:ext cx="4941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Book Antiqua"/>
              </a:rPr>
              <a:t>TOTAL DOSE = 45 Gy: 34%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Book Antiqua"/>
              </a:rPr>
              <a:t>TOTAL DOSE &gt; 45 Gy: 66%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85840" y="5210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CONVENTIONAL FRACTIONATION: 100 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-243360" y="5722920"/>
            <a:ext cx="962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Book Antiqua"/>
              </a:rPr>
              <a:t>Higher doses per fractions (2.5, 4, 3 Gy): palliative setting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468360" y="4255920"/>
            <a:ext cx="82296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Book Antiqua"/>
              </a:rPr>
              <a:t>DOSES PER FR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egnaposto data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8B50-0703-4D81-84D2-E0234DA93052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Segnaposto numero diapositiva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7BA8-DE9B-4F75-8829-3C6D75F5573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Segnaposto piè di pagina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57200" y="11592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c000"/>
                </a:solidFill>
                <a:latin typeface="Book Antiqua"/>
              </a:rPr>
              <a:t>SET UP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50920" y="870120"/>
          <a:ext cx="8713800" cy="5487840"/>
        </p:xfrm>
        <a:graphic>
          <a:graphicData uri="http://schemas.openxmlformats.org/drawingml/2006/table">
            <a:tbl>
              <a:tblPr/>
              <a:tblGrid>
                <a:gridCol w="3749760"/>
                <a:gridCol w="4964040"/>
              </a:tblGrid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mmobilization Devi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elly board, Knee fi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atoo (Ins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° 3: 81.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° 4: 18.7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Anal marker (Ins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50% (25% all pts; 25% about 30% of p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ontrast medium (Ins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4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Prone position (p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47.1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upine position (p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52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QA Portals (Ins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Every 5 sessions: 62.5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Every 10 sessions: 37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During first session: palliative set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080" y="557280"/>
            <a:ext cx="88916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Book Antiqua"/>
              </a:rPr>
              <a:t>Patients are visited weekly in 75% of Centres and every 2 weeks in 25% of  Centres </a:t>
            </a:r>
            <a:br>
              <a:rPr sz="3200"/>
            </a:b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Segnaposto data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CA42-2EBA-46C0-897B-70AD245F15F4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Segnaposto numero diapositiva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3CCC-DAB3-4484-947A-FD0D5528149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Segnaposto piè di pagina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itolo 5"/>
          <p:cNvSpPr/>
          <p:nvPr/>
        </p:nvSpPr>
        <p:spPr>
          <a:xfrm>
            <a:off x="609480" y="2816280"/>
            <a:ext cx="82296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5e5ff"/>
                </a:solidFill>
                <a:latin typeface="Book Antiqua"/>
              </a:rPr>
              <a:t>G3-G4 toxicity: 4.3%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CasellaDiTesto 7"/>
          <p:cNvSpPr/>
          <p:nvPr/>
        </p:nvSpPr>
        <p:spPr>
          <a:xfrm>
            <a:off x="214200" y="4309920"/>
            <a:ext cx="88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ollow up was mainly performed in collaboration with medical oncologists or surgeons with clinical evaluation every six mon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Book Antiqua"/>
              </a:rPr>
              <a:t>CONCLU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0920" y="1221840"/>
            <a:ext cx="8999640" cy="36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This survey provides useful information to track the current approach to rectal cancer evaluation and manage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Future continue participation might helps Clinicians to address important clinical questions and to improve consistency homogeneity of treat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Segnaposto data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500B-1DEB-4F1F-9EEA-6001DE52AE0A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Segnaposto numero diapositiva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6503-EBE2-4D56-9F3A-0CA367880D8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Segnaposto piè di pagina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CasellaDiTesto 6"/>
          <p:cNvSpPr/>
          <p:nvPr/>
        </p:nvSpPr>
        <p:spPr>
          <a:xfrm>
            <a:off x="1214280" y="51436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it-IT" sz="4000" spc="-1" strike="noStrike">
                <a:solidFill>
                  <a:srgbClr val="ffffff"/>
                </a:solidFill>
                <a:latin typeface="Book Antiqua"/>
              </a:rPr>
              <a:t>Pattern of care“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data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788B-5AF0-4140-A7BD-8CA074502F02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Segnaposto numero diapositiva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F45E-E011-41BC-A15D-374EB3C5DE3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Segnaposto piè di pagina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itolo 6"/>
          <p:cNvSpPr/>
          <p:nvPr/>
        </p:nvSpPr>
        <p:spPr>
          <a:xfrm>
            <a:off x="255600" y="1357200"/>
            <a:ext cx="8459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Book Antiqua"/>
              </a:rPr>
              <a:t>To report the survey about </a:t>
            </a:r>
            <a:r>
              <a:rPr b="1" i="1" lang="en-US" sz="3400" spc="-1" strike="noStrike" u="sng">
                <a:solidFill>
                  <a:srgbClr val="ff0000"/>
                </a:solidFill>
                <a:uFillTx/>
                <a:latin typeface="Book Antiqua"/>
              </a:rPr>
              <a:t>clinical</a:t>
            </a:r>
            <a:r>
              <a:rPr b="1" lang="en-US" sz="3400" spc="-1" strike="noStrike">
                <a:solidFill>
                  <a:srgbClr val="e5e5ff"/>
                </a:solidFill>
                <a:latin typeface="Book Antiqua"/>
              </a:rPr>
              <a:t>, </a:t>
            </a:r>
            <a:r>
              <a:rPr b="1" i="1" lang="en-US" sz="3400" spc="-1" strike="noStrike" u="sng">
                <a:solidFill>
                  <a:srgbClr val="ff0000"/>
                </a:solidFill>
                <a:uFillTx/>
                <a:latin typeface="Book Antiqua"/>
              </a:rPr>
              <a:t>physical</a:t>
            </a:r>
            <a:r>
              <a:rPr b="1" lang="en-US" sz="3400" spc="-1" strike="noStrike">
                <a:solidFill>
                  <a:srgbClr val="e5e5ff"/>
                </a:solidFill>
                <a:latin typeface="Book Antiqua"/>
              </a:rPr>
              <a:t> and </a:t>
            </a:r>
            <a:r>
              <a:rPr b="1" i="1" lang="en-US" sz="3400" spc="-1" strike="noStrike" u="sng">
                <a:solidFill>
                  <a:srgbClr val="ff0000"/>
                </a:solidFill>
                <a:uFillTx/>
                <a:latin typeface="Book Antiqua"/>
              </a:rPr>
              <a:t>dosimetric</a:t>
            </a:r>
            <a:r>
              <a:rPr b="1" lang="en-US" sz="3400" spc="-1" strike="noStrike">
                <a:solidFill>
                  <a:srgbClr val="e5e5ff"/>
                </a:solidFill>
                <a:latin typeface="Book Antiqua"/>
              </a:rPr>
              <a:t> aspects in the planning and the treatment of rectal cancer  from Piedmont and Liguria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CasellaDiTesto 8"/>
          <p:cNvSpPr/>
          <p:nvPr/>
        </p:nvSpPr>
        <p:spPr>
          <a:xfrm>
            <a:off x="3073680" y="285840"/>
            <a:ext cx="309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c000"/>
                </a:solidFill>
                <a:latin typeface="Book Antiqua"/>
              </a:rPr>
              <a:t>PURPOSE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Segnaposto contenuto 7"/>
          <p:cNvSpPr/>
          <p:nvPr/>
        </p:nvSpPr>
        <p:spPr>
          <a:xfrm>
            <a:off x="142920" y="4057560"/>
            <a:ext cx="889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Book Antiqua"/>
              </a:rPr>
              <a:t>This survey was conducted annually over the last 5 years in Piedmont and for the first time in Liguria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data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C873-C6DD-476C-8F22-A78111FEBD73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Segnaposto numero diapositiva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8BBE-63B0-4F8A-B4FD-BF82912609A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Segnaposto piè di pagina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ffc000"/>
                </a:solidFill>
                <a:latin typeface="Book Antiqua"/>
              </a:rPr>
              <a:t>METHODS AND MATERIALS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CasellaDiTesto 28"/>
          <p:cNvSpPr/>
          <p:nvPr/>
        </p:nvSpPr>
        <p:spPr>
          <a:xfrm>
            <a:off x="4088520" y="5000760"/>
            <a:ext cx="519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ffff"/>
                </a:solidFill>
                <a:latin typeface="Book Antiqua"/>
              </a:rPr>
              <a:t>Total: 16 Institution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CasellaDiTesto 14"/>
          <p:cNvSpPr/>
          <p:nvPr/>
        </p:nvSpPr>
        <p:spPr>
          <a:xfrm>
            <a:off x="-187920" y="5643720"/>
            <a:ext cx="946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Book Antiqua"/>
              </a:rPr>
              <a:t>Total of Patient: 593 (425 in Piedmont and 168 in Liguria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CasellaDiTesto 13"/>
          <p:cNvSpPr/>
          <p:nvPr/>
        </p:nvSpPr>
        <p:spPr>
          <a:xfrm>
            <a:off x="1329840" y="5999040"/>
            <a:ext cx="65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Total of patients in 2008 (only in Piedmont): 41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Immagine 17" descr="liguria 2.jpg"/>
          <p:cNvPicPr/>
          <p:nvPr/>
        </p:nvPicPr>
        <p:blipFill>
          <a:blip r:embed="rId1"/>
          <a:srcRect l="0" t="6001" r="0" b="10445"/>
          <a:stretch/>
        </p:blipFill>
        <p:spPr>
          <a:xfrm>
            <a:off x="4786200" y="1571760"/>
            <a:ext cx="400068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Connettore 18"/>
          <p:cNvSpPr/>
          <p:nvPr/>
        </p:nvSpPr>
        <p:spPr>
          <a:xfrm>
            <a:off x="6929280" y="253512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Connettore 19"/>
          <p:cNvSpPr/>
          <p:nvPr/>
        </p:nvSpPr>
        <p:spPr>
          <a:xfrm>
            <a:off x="6929280" y="264312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Connettore 20"/>
          <p:cNvSpPr/>
          <p:nvPr/>
        </p:nvSpPr>
        <p:spPr>
          <a:xfrm>
            <a:off x="8286840" y="314316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Connettore 21"/>
          <p:cNvSpPr/>
          <p:nvPr/>
        </p:nvSpPr>
        <p:spPr>
          <a:xfrm>
            <a:off x="6178680" y="274968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Connettore 22"/>
          <p:cNvSpPr/>
          <p:nvPr/>
        </p:nvSpPr>
        <p:spPr>
          <a:xfrm>
            <a:off x="5464080" y="367812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CasellaDiTesto 23"/>
          <p:cNvSpPr/>
          <p:nvPr/>
        </p:nvSpPr>
        <p:spPr>
          <a:xfrm>
            <a:off x="6649200" y="22860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G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CasellaDiTesto 24"/>
          <p:cNvSpPr/>
          <p:nvPr/>
        </p:nvSpPr>
        <p:spPr>
          <a:xfrm>
            <a:off x="5953320" y="2438280"/>
            <a:ext cx="4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S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CasellaDiTesto 25"/>
          <p:cNvSpPr/>
          <p:nvPr/>
        </p:nvSpPr>
        <p:spPr>
          <a:xfrm>
            <a:off x="5225400" y="3429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I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CasellaDiTesto 26"/>
          <p:cNvSpPr/>
          <p:nvPr/>
        </p:nvSpPr>
        <p:spPr>
          <a:xfrm>
            <a:off x="8114040" y="28576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S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Immagine 4" descr="Piemonte.gif"/>
          <p:cNvPicPr/>
          <p:nvPr/>
        </p:nvPicPr>
        <p:blipFill>
          <a:blip r:embed="rId2"/>
          <a:stretch/>
        </p:blipFill>
        <p:spPr>
          <a:xfrm>
            <a:off x="214200" y="1109520"/>
            <a:ext cx="3997440" cy="4248360"/>
          </a:xfrm>
          <a:prstGeom prst="rect">
            <a:avLst/>
          </a:prstGeom>
          <a:ln w="0">
            <a:noFill/>
          </a:ln>
        </p:spPr>
      </p:pic>
      <p:sp>
        <p:nvSpPr>
          <p:cNvPr id="141" name="Connettore 29"/>
          <p:cNvSpPr/>
          <p:nvPr/>
        </p:nvSpPr>
        <p:spPr>
          <a:xfrm>
            <a:off x="1392120" y="360684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Connettore 30"/>
          <p:cNvSpPr/>
          <p:nvPr/>
        </p:nvSpPr>
        <p:spPr>
          <a:xfrm>
            <a:off x="1571760" y="4643280"/>
            <a:ext cx="10764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Connettore 31"/>
          <p:cNvSpPr/>
          <p:nvPr/>
        </p:nvSpPr>
        <p:spPr>
          <a:xfrm>
            <a:off x="2392200" y="371484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Connettore 32"/>
          <p:cNvSpPr/>
          <p:nvPr/>
        </p:nvSpPr>
        <p:spPr>
          <a:xfrm>
            <a:off x="2357280" y="264312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Connettore 33"/>
          <p:cNvSpPr/>
          <p:nvPr/>
        </p:nvSpPr>
        <p:spPr>
          <a:xfrm>
            <a:off x="3035160" y="192888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Connettore 34"/>
          <p:cNvSpPr/>
          <p:nvPr/>
        </p:nvSpPr>
        <p:spPr>
          <a:xfrm>
            <a:off x="2820960" y="307188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Connettore 35"/>
          <p:cNvSpPr/>
          <p:nvPr/>
        </p:nvSpPr>
        <p:spPr>
          <a:xfrm>
            <a:off x="3178080" y="278604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Connettore 36"/>
          <p:cNvSpPr/>
          <p:nvPr/>
        </p:nvSpPr>
        <p:spPr>
          <a:xfrm>
            <a:off x="3286080" y="378612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Connettore 37"/>
          <p:cNvSpPr/>
          <p:nvPr/>
        </p:nvSpPr>
        <p:spPr>
          <a:xfrm>
            <a:off x="1714680" y="3392640"/>
            <a:ext cx="107640" cy="107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Connettore 38"/>
          <p:cNvSpPr/>
          <p:nvPr/>
        </p:nvSpPr>
        <p:spPr>
          <a:xfrm>
            <a:off x="1643040" y="350028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Connettore 39"/>
          <p:cNvSpPr/>
          <p:nvPr/>
        </p:nvSpPr>
        <p:spPr>
          <a:xfrm>
            <a:off x="1785960" y="350028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Connettore 40"/>
          <p:cNvSpPr/>
          <p:nvPr/>
        </p:nvSpPr>
        <p:spPr>
          <a:xfrm>
            <a:off x="1857240" y="3429000"/>
            <a:ext cx="108000" cy="108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Connettore 1 41"/>
          <p:cNvSpPr/>
          <p:nvPr/>
        </p:nvSpPr>
        <p:spPr>
          <a:xfrm flipV="1">
            <a:off x="2871720" y="2801880"/>
            <a:ext cx="398520" cy="3412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CasellaDiTesto 42"/>
          <p:cNvSpPr/>
          <p:nvPr/>
        </p:nvSpPr>
        <p:spPr>
          <a:xfrm>
            <a:off x="1702080" y="31305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T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CasellaDiTesto 43"/>
          <p:cNvSpPr/>
          <p:nvPr/>
        </p:nvSpPr>
        <p:spPr>
          <a:xfrm>
            <a:off x="3005640" y="2500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CasellaDiTesto 44"/>
          <p:cNvSpPr/>
          <p:nvPr/>
        </p:nvSpPr>
        <p:spPr>
          <a:xfrm>
            <a:off x="2639880" y="284472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V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CasellaDiTesto 45"/>
          <p:cNvSpPr/>
          <p:nvPr/>
        </p:nvSpPr>
        <p:spPr>
          <a:xfrm>
            <a:off x="1357200" y="4357800"/>
            <a:ext cx="5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CasellaDiTesto 46"/>
          <p:cNvSpPr/>
          <p:nvPr/>
        </p:nvSpPr>
        <p:spPr>
          <a:xfrm>
            <a:off x="2170080" y="34164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CasellaDiTesto 47"/>
          <p:cNvSpPr/>
          <p:nvPr/>
        </p:nvSpPr>
        <p:spPr>
          <a:xfrm>
            <a:off x="3027240" y="35002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CasellaDiTesto 48"/>
          <p:cNvSpPr/>
          <p:nvPr/>
        </p:nvSpPr>
        <p:spPr>
          <a:xfrm>
            <a:off x="2214720" y="2357280"/>
            <a:ext cx="5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B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CasellaDiTesto 49"/>
          <p:cNvSpPr/>
          <p:nvPr/>
        </p:nvSpPr>
        <p:spPr>
          <a:xfrm>
            <a:off x="2813040" y="16430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514"/>
                </a:solidFill>
                <a:latin typeface="Book Antiqu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CasellaDiTesto 50"/>
          <p:cNvSpPr/>
          <p:nvPr/>
        </p:nvSpPr>
        <p:spPr>
          <a:xfrm>
            <a:off x="881640" y="364320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514"/>
                </a:solidFill>
                <a:latin typeface="Book Antiqua"/>
              </a:rPr>
              <a:t>CANDIOL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c000"/>
                </a:solidFill>
                <a:latin typeface="Book Antiqua"/>
              </a:rPr>
              <a:t>All Institutions received by e-mail a questionnaire-database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Disease pres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Diagnostic and terapeutic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Treatment inten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Use of neoadiuvant -adiuvant- concurrent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Target defini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Total and daily radiation 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Set 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Book Antiqua"/>
              </a:rPr>
              <a:t>Toxi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Segnaposto data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6600-45C4-42EE-87AA-ADE968F38FA1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Segnaposto numero diapositiva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FA0D-1B9B-4493-BCAB-7E6EF6C5293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Segnaposto piè di pagina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CasellaDiTesto 7"/>
          <p:cNvSpPr/>
          <p:nvPr/>
        </p:nvSpPr>
        <p:spPr>
          <a:xfrm>
            <a:off x="1872360" y="5680080"/>
            <a:ext cx="732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c000"/>
                </a:solidFill>
                <a:latin typeface="Book Antiqua"/>
              </a:rPr>
              <a:t>Inclusion in a single database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22960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0" spc="-1" strike="noStrike">
                <a:solidFill>
                  <a:srgbClr val="ffc000"/>
                </a:solidFill>
                <a:latin typeface="Book Antiqua"/>
              </a:rPr>
              <a:t>RESULTS</a:t>
            </a:r>
            <a:endParaRPr b="1" lang="en-US" sz="9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Segnaposto data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AD96-0A36-454B-A6A8-3D1EC17FA0F8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Segnaposto numero diapositiva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3A52-2386-4957-BBD6-8FB3D7CDEA9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Segnaposto piè di pagina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data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4297-A9AF-4BC3-9698-68011FAFBC38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Segnaposto numero diapositiva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10A3-40D5-4EF9-A16A-E3FD8F01EBF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Segnaposto piè di pagina 5"/>
          <p:cNvSpPr/>
          <p:nvPr/>
        </p:nvSpPr>
        <p:spPr>
          <a:xfrm>
            <a:off x="3124080" y="628668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itolo 1"/>
          <p:cNvSpPr/>
          <p:nvPr/>
        </p:nvSpPr>
        <p:spPr>
          <a:xfrm>
            <a:off x="428760" y="14292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Book Antiqua"/>
              </a:rPr>
              <a:t>STAG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Immagine 36" descr="Immagine2.png"/>
          <p:cNvPicPr/>
          <p:nvPr/>
        </p:nvPicPr>
        <p:blipFill>
          <a:blip r:embed="rId1"/>
          <a:stretch/>
        </p:blipFill>
        <p:spPr>
          <a:xfrm>
            <a:off x="71280" y="857160"/>
            <a:ext cx="6338880" cy="5351400"/>
          </a:xfrm>
          <a:prstGeom prst="rect">
            <a:avLst/>
          </a:prstGeom>
          <a:ln w="0">
            <a:noFill/>
          </a:ln>
        </p:spPr>
      </p:pic>
      <p:sp>
        <p:nvSpPr>
          <p:cNvPr id="178" name="Freccia in su 34"/>
          <p:cNvSpPr/>
          <p:nvPr/>
        </p:nvSpPr>
        <p:spPr>
          <a:xfrm>
            <a:off x="4071960" y="6033960"/>
            <a:ext cx="216000" cy="395280"/>
          </a:xfrm>
          <a:prstGeom prst="upArrow">
            <a:avLst>
              <a:gd name="adj1" fmla="val 50000"/>
              <a:gd name="adj2" fmla="val 49910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Freccia in su 34"/>
          <p:cNvSpPr/>
          <p:nvPr/>
        </p:nvSpPr>
        <p:spPr>
          <a:xfrm>
            <a:off x="5427720" y="6000840"/>
            <a:ext cx="216000" cy="395280"/>
          </a:xfrm>
          <a:prstGeom prst="upArrow">
            <a:avLst>
              <a:gd name="adj1" fmla="val 50000"/>
              <a:gd name="adj2" fmla="val 49910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CasellaDiTesto 35"/>
          <p:cNvSpPr/>
          <p:nvPr/>
        </p:nvSpPr>
        <p:spPr>
          <a:xfrm>
            <a:off x="5713200" y="592920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aramond"/>
              </a:rPr>
              <a:t>FUSION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Connettore 6"/>
          <p:cNvSpPr/>
          <p:nvPr/>
        </p:nvSpPr>
        <p:spPr>
          <a:xfrm>
            <a:off x="6477120" y="857160"/>
            <a:ext cx="215640" cy="252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Connettore 7"/>
          <p:cNvSpPr/>
          <p:nvPr/>
        </p:nvSpPr>
        <p:spPr>
          <a:xfrm>
            <a:off x="6477120" y="1319040"/>
            <a:ext cx="215640" cy="252720"/>
          </a:xfrm>
          <a:prstGeom prst="flowChartConnector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Connettore 8"/>
          <p:cNvSpPr/>
          <p:nvPr/>
        </p:nvSpPr>
        <p:spPr>
          <a:xfrm>
            <a:off x="6477120" y="1819440"/>
            <a:ext cx="215640" cy="252360"/>
          </a:xfrm>
          <a:prstGeom prst="flowChartConnector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Connettore 9"/>
          <p:cNvSpPr/>
          <p:nvPr/>
        </p:nvSpPr>
        <p:spPr>
          <a:xfrm>
            <a:off x="6478560" y="2319480"/>
            <a:ext cx="216000" cy="252360"/>
          </a:xfrm>
          <a:prstGeom prst="flowChartConnector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Connettore 15"/>
          <p:cNvSpPr/>
          <p:nvPr/>
        </p:nvSpPr>
        <p:spPr>
          <a:xfrm>
            <a:off x="6478560" y="2819520"/>
            <a:ext cx="216000" cy="252360"/>
          </a:xfrm>
          <a:prstGeom prst="flowChartConnector">
            <a:avLst/>
          </a:prstGeom>
          <a:solidFill>
            <a:srgbClr val="6d6d6d"/>
          </a:solidFill>
          <a:ln w="9360">
            <a:solidFill>
              <a:srgbClr val="6d6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Connettore 11"/>
          <p:cNvSpPr/>
          <p:nvPr/>
        </p:nvSpPr>
        <p:spPr>
          <a:xfrm>
            <a:off x="6478560" y="3247920"/>
            <a:ext cx="216000" cy="252360"/>
          </a:xfrm>
          <a:prstGeom prst="flowChartConnector">
            <a:avLst/>
          </a:prstGeom>
          <a:solidFill>
            <a:srgbClr val="ff505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Connettore 12"/>
          <p:cNvSpPr/>
          <p:nvPr/>
        </p:nvSpPr>
        <p:spPr>
          <a:xfrm>
            <a:off x="6478560" y="3676680"/>
            <a:ext cx="216000" cy="252360"/>
          </a:xfrm>
          <a:prstGeom prst="flowChartConnector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Connettore 13"/>
          <p:cNvSpPr/>
          <p:nvPr/>
        </p:nvSpPr>
        <p:spPr>
          <a:xfrm>
            <a:off x="6478560" y="4176720"/>
            <a:ext cx="216000" cy="252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Connettore 14"/>
          <p:cNvSpPr/>
          <p:nvPr/>
        </p:nvSpPr>
        <p:spPr>
          <a:xfrm>
            <a:off x="6478560" y="4676760"/>
            <a:ext cx="216000" cy="252360"/>
          </a:xfrm>
          <a:prstGeom prst="flowChartConnector">
            <a:avLst/>
          </a:prstGeom>
          <a:solidFill>
            <a:srgbClr val="002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Connettore 20"/>
          <p:cNvSpPr/>
          <p:nvPr/>
        </p:nvSpPr>
        <p:spPr>
          <a:xfrm>
            <a:off x="6478560" y="5214960"/>
            <a:ext cx="216000" cy="252360"/>
          </a:xfrm>
          <a:prstGeom prst="flowChartConnector">
            <a:avLst/>
          </a:prstGeom>
          <a:solidFill>
            <a:srgbClr val="6c44a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Connettore 16"/>
          <p:cNvSpPr/>
          <p:nvPr/>
        </p:nvSpPr>
        <p:spPr>
          <a:xfrm>
            <a:off x="6477120" y="5676840"/>
            <a:ext cx="215640" cy="252360"/>
          </a:xfrm>
          <a:prstGeom prst="flowChartConnector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Connettore 17"/>
          <p:cNvSpPr/>
          <p:nvPr/>
        </p:nvSpPr>
        <p:spPr>
          <a:xfrm>
            <a:off x="6461280" y="6176880"/>
            <a:ext cx="215640" cy="252360"/>
          </a:xfrm>
          <a:prstGeom prst="flowChartConnector">
            <a:avLst/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CasellaDiTesto 18"/>
          <p:cNvSpPr/>
          <p:nvPr/>
        </p:nvSpPr>
        <p:spPr>
          <a:xfrm>
            <a:off x="6750720" y="7858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RX tora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CasellaDiTesto 19"/>
          <p:cNvSpPr/>
          <p:nvPr/>
        </p:nvSpPr>
        <p:spPr>
          <a:xfrm>
            <a:off x="6751440" y="12859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TC tora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CasellaDiTesto 20"/>
          <p:cNvSpPr/>
          <p:nvPr/>
        </p:nvSpPr>
        <p:spPr>
          <a:xfrm>
            <a:off x="6756840" y="1785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TC addom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CasellaDiTesto 21"/>
          <p:cNvSpPr/>
          <p:nvPr/>
        </p:nvSpPr>
        <p:spPr>
          <a:xfrm>
            <a:off x="6729840" y="22860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TC torace+addom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CasellaDiTesto 22"/>
          <p:cNvSpPr/>
          <p:nvPr/>
        </p:nvSpPr>
        <p:spPr>
          <a:xfrm>
            <a:off x="6759720" y="27860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ETG addom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CasellaDiTesto 23"/>
          <p:cNvSpPr/>
          <p:nvPr/>
        </p:nvSpPr>
        <p:spPr>
          <a:xfrm>
            <a:off x="6696000" y="32018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Ecoendosc. anorett</a:t>
            </a: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CasellaDiTesto 24"/>
          <p:cNvSpPr/>
          <p:nvPr/>
        </p:nvSpPr>
        <p:spPr>
          <a:xfrm>
            <a:off x="6767280" y="36432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RMN pelv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CasellaDiTesto 25"/>
          <p:cNvSpPr/>
          <p:nvPr/>
        </p:nvSpPr>
        <p:spPr>
          <a:xfrm>
            <a:off x="6723360" y="46432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Pancolonscop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Rettangolo 26"/>
          <p:cNvSpPr/>
          <p:nvPr/>
        </p:nvSpPr>
        <p:spPr>
          <a:xfrm>
            <a:off x="6357960" y="714240"/>
            <a:ext cx="1763640" cy="4683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Rettangolo 27"/>
          <p:cNvSpPr/>
          <p:nvPr/>
        </p:nvSpPr>
        <p:spPr>
          <a:xfrm>
            <a:off x="6357960" y="4572000"/>
            <a:ext cx="2266920" cy="4683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ttangolo 28"/>
          <p:cNvSpPr/>
          <p:nvPr/>
        </p:nvSpPr>
        <p:spPr>
          <a:xfrm>
            <a:off x="6357960" y="2174760"/>
            <a:ext cx="2519280" cy="4683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CasellaDiTesto 29"/>
          <p:cNvSpPr/>
          <p:nvPr/>
        </p:nvSpPr>
        <p:spPr>
          <a:xfrm>
            <a:off x="6727680" y="4130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RMN bob. endoret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CasellaDiTesto 30"/>
          <p:cNvSpPr/>
          <p:nvPr/>
        </p:nvSpPr>
        <p:spPr>
          <a:xfrm>
            <a:off x="6733080" y="51436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Rettosigmoidoscop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CasellaDiTesto 31"/>
          <p:cNvSpPr/>
          <p:nvPr/>
        </p:nvSpPr>
        <p:spPr>
          <a:xfrm>
            <a:off x="6737760" y="563076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Colonscopia virtua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CasellaDiTesto 32"/>
          <p:cNvSpPr/>
          <p:nvPr/>
        </p:nvSpPr>
        <p:spPr>
          <a:xfrm>
            <a:off x="6798600" y="614376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P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640A-4715-46BB-B3C0-26F554B34463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D7B-10CB-4D70-B00B-1FFB5B0282C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Segnaposto piè di pagina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Book Antiqua"/>
              </a:rPr>
              <a:t>CHEMO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CasellaDiTesto 7"/>
          <p:cNvSpPr/>
          <p:nvPr/>
        </p:nvSpPr>
        <p:spPr>
          <a:xfrm>
            <a:off x="146160" y="981000"/>
            <a:ext cx="8783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oncurrent chemo-radiation including oral capecitabine and 5-FU in c.i. was largely employed in neoadjuvant and adjuvant setting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5280" y="2500200"/>
          <a:ext cx="8353440" cy="3694320"/>
        </p:xfrm>
        <a:graphic>
          <a:graphicData uri="http://schemas.openxmlformats.org/drawingml/2006/table">
            <a:tbl>
              <a:tblPr/>
              <a:tblGrid>
                <a:gridCol w="3524400"/>
                <a:gridCol w="4829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              </a:t>
                      </a: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Dru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                </a:t>
                      </a: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Patients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OLFO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30.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APECITAB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13.37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OXAL+ C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6.6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49.5% (Oxal, Target th, Mayo, De Gramont, only 5-FU c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000"/>
                </a:solidFill>
                <a:latin typeface="Book Antiqua"/>
              </a:rPr>
              <a:t>TREATMENT INTEN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Segnaposto data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F750-8515-4C0C-BAA1-CF1C69E8EEEC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Segnaposto numero diapositiva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A3B5-C7E8-4C09-91E6-2891AB6B013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8760" y="1071720"/>
          <a:ext cx="8143920" cy="5214960"/>
        </p:xfrm>
        <a:graphic>
          <a:graphicData uri="http://schemas.openxmlformats.org/drawingml/2006/table">
            <a:tbl>
              <a:tblPr/>
              <a:tblGrid>
                <a:gridCol w="4667040"/>
                <a:gridCol w="3476880"/>
              </a:tblGrid>
              <a:tr h="563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             </a:t>
                      </a: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INT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      </a:t>
                      </a: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PATIENTS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Neoadjuv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              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T-C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                  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8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Adjuv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              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T-C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                  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3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7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Esclu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4.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Palli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10.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I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000"/>
                          </a:solidFill>
                          <a:latin typeface="Book Antiqua"/>
                        </a:rPr>
                        <a:t>0.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9080" y="213840"/>
            <a:ext cx="882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c000"/>
                </a:solidFill>
                <a:latin typeface="Book Antiqua"/>
              </a:rPr>
              <a:t>SHORT COURSE NEOADJUVANT RT</a:t>
            </a: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Segnaposto data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513F-EEB8-40A0-9FB6-FF53FD3B7D21}" type="datetime">
              <a:rPr b="0" lang="it-IT" sz="12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0D60-C541-490B-83CE-164089DBB27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Segnaposto piè di pagina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ILENA DI GENESIO PAGLIUCA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CasellaDiTesto 5"/>
          <p:cNvSpPr/>
          <p:nvPr/>
        </p:nvSpPr>
        <p:spPr>
          <a:xfrm>
            <a:off x="287280" y="3643200"/>
            <a:ext cx="84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edian interval time between neoadjuvant treatment and surgery was variable, consisting in 7.5 weeks (range 4-16) after long course and in 10 days (range 7-14) after short course radiotherap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CasellaDiTesto 6"/>
          <p:cNvSpPr/>
          <p:nvPr/>
        </p:nvSpPr>
        <p:spPr>
          <a:xfrm>
            <a:off x="1083960" y="1214280"/>
            <a:ext cx="675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Book Antiqua"/>
              </a:rPr>
              <a:t>Employed in 31.25% of Institution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CasellaDiTesto 7"/>
          <p:cNvSpPr/>
          <p:nvPr/>
        </p:nvSpPr>
        <p:spPr>
          <a:xfrm>
            <a:off x="142920" y="2000160"/>
            <a:ext cx="878364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Book Antiqua"/>
              </a:rPr>
              <a:t>                       </a:t>
            </a:r>
            <a:r>
              <a:rPr b="1" lang="it-IT" sz="3000" spc="-1" strike="noStrike">
                <a:solidFill>
                  <a:srgbClr val="ffffff"/>
                </a:solidFill>
                <a:latin typeface="Book Antiqua"/>
              </a:rPr>
              <a:t>Only in 1 Institution: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0 short course treatment /19 neoadjuvant treat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7:46:50Z</dcterms:created>
  <dc:creator> </dc:creator>
  <dc:description/>
  <dc:language>en-US</dc:language>
  <cp:lastModifiedBy>tecno</cp:lastModifiedBy>
  <dcterms:modified xsi:type="dcterms:W3CDTF">2010-11-15T16:00:01Z</dcterms:modified>
  <cp:revision>455</cp:revision>
  <dc:subject/>
  <dc:title>Diapositiva 1</dc:title>
</cp:coreProperties>
</file>