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6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9.png" ContentType="image/png"/>
  <Override PartName="/ppt/media/image27.png" ContentType="image/png"/>
  <Override PartName="/ppt/media/image34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30.png" ContentType="image/png"/>
  <Override PartName="/ppt/media/image3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5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0.png" ContentType="image/png"/>
  <Override PartName="/ppt/media/image29.png" ContentType="image/png"/>
  <Override PartName="/ppt/media/image21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  <p:sldId id="277" r:id="rId48"/>
    <p:sldId id="278" r:id="rId49"/>
    <p:sldId id="279" r:id="rId50"/>
    <p:sldId id="280" r:id="rId51"/>
    <p:sldId id="281" r:id="rId52"/>
    <p:sldId id="282" r:id="rId53"/>
    <p:sldId id="283" r:id="rId54"/>
    <p:sldId id="284" r:id="rId55"/>
    <p:sldId id="285" r:id="rId56"/>
    <p:sldId id="286" r:id="rId57"/>
    <p:sldId id="287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slide" Target="slides/slide22.xml"/><Relationship Id="rId49" Type="http://schemas.openxmlformats.org/officeDocument/2006/relationships/slide" Target="slides/slide23.xml"/><Relationship Id="rId50" Type="http://schemas.openxmlformats.org/officeDocument/2006/relationships/slide" Target="slides/slide24.xml"/><Relationship Id="rId51" Type="http://schemas.openxmlformats.org/officeDocument/2006/relationships/slide" Target="slides/slide25.xml"/><Relationship Id="rId52" Type="http://schemas.openxmlformats.org/officeDocument/2006/relationships/slide" Target="slides/slide26.xml"/><Relationship Id="rId53" Type="http://schemas.openxmlformats.org/officeDocument/2006/relationships/slide" Target="slides/slide27.xml"/><Relationship Id="rId54" Type="http://schemas.openxmlformats.org/officeDocument/2006/relationships/slide" Target="slides/slide28.xml"/><Relationship Id="rId55" Type="http://schemas.openxmlformats.org/officeDocument/2006/relationships/slide" Target="slides/slide29.xml"/><Relationship Id="rId56" Type="http://schemas.openxmlformats.org/officeDocument/2006/relationships/slide" Target="slides/slide30.xml"/><Relationship Id="rId57" Type="http://schemas.openxmlformats.org/officeDocument/2006/relationships/slide" Target="slides/slide31.xml"/><Relationship Id="rId58" Type="http://schemas.openxmlformats.org/officeDocument/2006/relationships/slide" Target="slides/slide32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88920" cy="124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54185-6C93-4C69-BBFA-9B4095981C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99FB6-158D-4EB7-8DEB-362BC7209FE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1D27A-E6DB-46D4-BB9B-921A8A1FD33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053DF-AB5E-4068-AD11-283BC1A5851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2492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9EE3D-E157-438A-967C-1EB090A2517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3B594-A1F1-498E-B917-BDD916BF131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F90DA-D933-4C4C-9B73-D7DBE6B07EF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FDA5F-5F5D-48DB-8853-09F669F7C8C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61F64-29C6-4DA8-ACD8-7DD4EA7F0FA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15AAC-E825-40ED-A8AF-AD4C5C678FE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6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7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18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C1E2D-1A8A-4740-B10C-F7B5885CA02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794C9B-C455-419E-8180-62A9B6CA32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7FDE3-1D36-46FC-B1A4-AA438AB5B07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D20D0E-865E-4DE0-B75E-50FC0C30070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034106-D130-4C77-A025-125FE0B1DEA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CD7606-633A-458D-8B9E-F98C58711CC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B872D1-292E-42E7-B4F2-6E6384894A5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2492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CC1F97-5611-4133-8F14-A8BB6C2D2B1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F2FF76-2838-4852-AA3F-8DAFBE766E9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05431E-F3A3-452C-8285-AB6878290AF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A0863B-F02A-4D95-8768-28B56628FE1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C15CA0-E5CB-4D4A-B3CD-4A6F53371B7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25DD23-A34A-4027-81A2-CB316E9C08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11F7E-8C7D-4248-8344-893F0573A17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6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7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18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173834-6118-42AF-BB31-63B62B5B66B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2127E3-B5B1-4038-AB37-69C48009A01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2E5E95-2A43-4901-BAE9-E2A8320BEA8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5541A5-D03D-4305-8940-EFBCC0C5AF6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D57A98-C7C8-4698-9589-562CCC16D7F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934A52-91F8-49EC-82EB-80AF6AE90A9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2492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BBD7B7-1CA5-475D-A3F4-9E6D69258FC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E833CF-9F2A-4481-B16A-D6EBA7EC904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B1B7EE-C5C7-475E-8134-91DAF32DA9A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136C0F-BF95-4F5E-A57D-2861327B7E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90EA9-3999-40D1-9FB7-4FC49E084F4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1BEBF5-3682-42D2-8F1C-6302A811462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1DF575-DB6F-4E4B-A29C-77334C1BDBC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6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7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18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CF0590-E645-4EA0-BF41-D11968732F7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227CE-A728-4970-9E32-B7619E78427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66E87-0FAF-4583-9DA8-D2220AF33B2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CE264-931E-4652-91D2-B4D221520F0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DBA5F-C1FA-4088-963F-A56607AEA7C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EC99F-6EC4-496F-A9FA-A7941E229E0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2492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E9177-992C-42B2-8BCD-47B02F01455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00DF4-536E-483C-AB1A-4ECD701535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C591E-B07E-406F-B25C-5AA45F4C06E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E2A8A-C2CC-489E-948E-166B4F25FE6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C841E-4B38-4B46-A1D4-9501853974A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45E79-12E4-4681-BBA6-3A7C6E293B0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F6D5B-2C10-4007-80F4-9481F5895D6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6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7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18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BDEDB-7D3E-4763-BB87-5227162087D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6660AA-66BC-4783-B873-C2C414824D7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7FC7DA-D4BF-4685-9B24-904548FB3A1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8E6AF3-6D1E-47AF-95E8-BBC8A7E58DA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EED6D6-AE16-46D5-A64E-093EEE15ECA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FA17CD-20B8-4867-B0F0-13842B1593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6EB15-3D5C-457B-8A03-744E0D16D18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2492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7492D4-2D5B-4397-AB01-96D85614494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B0507F-1474-4078-A24E-D7C8666C0A6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FDF366-E119-4212-AAD3-F5D86456092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1B792D-E7CF-4A76-87F4-6B9A6C54D77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8AB94D-42E4-4B02-9649-F8216082D48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07D038-472B-41C8-BFBB-0797F080B6D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6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7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18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3CAD9C-3A89-45B3-9A23-752F895F588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600905-11C7-41D7-9662-55AF403AAF2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4E5E3E-EF7E-4BAB-B580-9EDF619657D3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E40264-19AC-4E57-9096-1657D541B0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338AD-B624-4975-9B93-ED5CADAB2B0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6B69AE-4BFA-42AB-8409-7D4A57AA192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2F7091-C384-49F1-9278-6AD3858D96D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2492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C49AA0-CD06-4BD1-A4C5-0C9B2894CD6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0DE849-6041-48A9-B91C-A979BAB88E3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FE13F1-C014-4522-BFA8-431204082D4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445340-F755-4E4C-95E9-030A9C93BC2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149887-F0E1-496B-8B0F-B84899BBFA7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97ABB2-38A9-42BA-B4D9-01A01322C70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6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7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18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B0E6E6-8B8B-4523-B2BB-EEBEB447F3F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C5F81-6C3B-497F-BC57-B65890DDFC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5C3C4-2991-4FDC-8B65-DBE622653E45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F5DD1-CE08-4BDE-BB89-6E936AB174C2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16978-C3A2-4127-A24F-5D1E1132525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E4B29-695D-41ED-AF3B-9FDA843E1BC7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1E8FB-7E11-4C8C-B617-E89A44387FD7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2492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4B0D1-2FFC-49C5-B20D-CB47BD512B65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A784F-422A-41C4-AC49-02EA1F4DD80F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C9520-10C0-4C0A-996F-91682FB99A90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43E76-31A7-4541-B29F-48EEC7710EF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16A2B-5384-44A8-8DAF-53C5873F83E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1B19E-43CD-4851-9333-7081974DFC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2492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E7278-9131-458C-90A9-2C85272B7000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6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7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18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704FB-A75B-4427-A3B4-52F38F8998FB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0A4470-4AE8-4E48-9ED5-133C36BE913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EB9820-1EC6-4753-8880-F466AE9FEAAE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294ECC-7F16-4DD8-8107-0FF9329DD1BB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88E2BB-E863-41F2-B5E0-906B4A9F1927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22E996-6029-4417-A4ED-DAF264EE9E44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2492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FDC267-939E-4B7D-8924-34CB87337001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7D7FFF-475F-4393-AF56-AD7E3CC929F6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A50E60-5433-4A9A-A186-0FF5B3B2797C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79CE80-03CC-4385-8F0E-8EC8FD13755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9763C-BF56-467C-A1B8-FB552DEBB1BC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8303C1-07DD-477D-950E-E2B458B3C487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3F5FA3-D03E-4766-8678-EED7A8C318E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6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7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18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E3537B-0673-4D7C-A166-17FF5006B2B0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75512E-3F80-4601-9F4D-87B02A56AED8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6436C8-7073-4373-9C3B-E020E8D0A272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76D4C1-4F37-424B-AE57-F70A89CD72EF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EAFC90-AEF2-4FF8-84C6-65A6717DCB15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FB0BF6-F8B0-43BA-8480-90621CD3C028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2492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06FE16-F87D-4395-ACA7-F41A50D3BEB2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FBA4BC-D584-4BAA-9E74-1436439FE7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5BA6D-ECEF-43B1-9249-522FC23133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FAAD8-61C1-41A9-AB68-01BDEDB685A7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8F352A-F898-416F-9429-E1F0453DE110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46F7F2-68EB-40B3-BD35-A90DA8613A5F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E59B19-0EA8-458E-85AC-C7DEF6C09A49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601C0F-94D7-4C0E-BFCC-B70E1B02D7B3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6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7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18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59C4FC-801B-4E37-850C-D4E7271B4E35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4C9ED-408B-49A9-9444-D916F4E7C4B6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B3DE3-627A-416C-BB39-3DC2392D07BE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8AE39-5767-4C63-8FCB-2E48895F2BAF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C5D77-B5A6-48CC-96F0-0CD012922D34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C57C9-EBBA-43C9-9958-4A73AF1D14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1DFF8-527D-458E-81F5-7610353C41F9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2492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54507-C070-43D4-9625-A1B36EE7DE74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CF5FB-D743-4280-850A-6A3F34340611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8D87D-8615-4667-876D-11BBC07E206D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BB13E-8CDE-4158-9CB4-57C77797544A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D4A5F-FBC5-4C59-B570-127717E4A7D9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861AF-9E9F-40EA-BC8D-D0E19BAAF7A8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6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7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18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ABF79-C9EA-4093-B9EC-3BFB23A029C9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F54D56-605B-4F8A-BB87-0B77CAE269CB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742404-11F5-4F78-BD82-E7C9E0E5E035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41345E-021A-4001-A007-CDC580CC88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4A9EA-BD30-4BB0-A267-761D8D23DE88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47B952-C166-41A8-9D1A-2FFE9C48C420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78C990-B10E-430F-9B8F-25DC094EB948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2492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139020-A7C1-4173-8AAE-21AD7CC4F552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267D88-5BAC-4F9C-872F-7F9F4EAC8132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56ECD5-C969-48FA-954D-9596D5F64247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4C42E4-3077-4062-ABA1-6981F2DE740A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2C6262-32CB-4166-A346-6E5967218D88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333849-AEEB-45B1-B21C-B0782730E9D9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6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7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18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3E6958-0E34-459B-AAE2-8CF9C5865D70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6916AB-6625-4F62-B92A-AF06130B20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D6F2E-977F-407B-88B0-FD6085E6E2CF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88566B-82A4-4720-8D03-CF8D0BAAB251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6B6F92-70D1-43AD-85C7-566FAC9BCA3C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C86111-D55D-46DD-BDC3-C145AE92C21E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20597D-F59C-4693-86DE-6004406D171E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2492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4379FC-F413-4865-A397-96C77255386A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E1E177-0D1F-4A77-BACD-3D737842E4FF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3AFC7A-7221-4D74-B93E-2A09D4E60D75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A9697D-B699-412F-A4ED-39BD92ACB53E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1E6AD9-3F67-4F57-86C3-802C4EB738A7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13F702-2E78-4073-8F19-1F19FD3FD0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7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8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C32A4-07FA-4BE5-BEC6-4EB48218809F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6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7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18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6AA0E4-7919-4059-8BFF-F5DA7B09CCA4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B7930-4B50-44E5-B6B9-B3783538FBA6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E328D-DB55-4153-B66E-C361B244D269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C28FD-5C7A-4696-81A8-DB0C881721FF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1E1CC-5402-4D31-85F8-D823A7D8384A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F9708-5013-4AA0-8770-2FF6F1742332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2492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F5BCA-101A-4896-BCE6-59F39E543E1B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19E2D-11BB-4FC2-A375-6B1F9DE72B42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BAF82-D879-4F39-96D3-03A5197BD0AD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0DF99-B7B0-4A38-8E70-7F6E319EA4A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A328-1F4C-4FB0-9819-82E034AF5572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FF493-F09B-4912-BB1C-6AB2B9E32227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1D6B9-748B-4DB7-ABDF-4EC7D73E4C5A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6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7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18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1CD4F-15E4-45F6-B73A-51D6C3C12775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295212-1097-48DB-930B-5823990F4CDA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2CD019-ECB2-4087-8208-E107FAD46772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E8C323-D4F7-4CCB-B418-CECB8587EDEA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E9D10A-7D16-4974-85F9-7B225F47D62C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7B11A5-642A-42EC-AC36-0372DD5FEA6B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2492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9BF273-318A-4768-A493-E686E4BE5769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8B1944-D7A2-43B8-8CC5-E41DDD9FFAB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F2D3-62C1-4EE6-9BEE-5E47AFF41637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3172B0-B58B-47C1-AE6B-11B7757D6AB8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4DE16D-AF85-4438-B9CE-74E1126AB352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61D688-7C2A-41F1-BA3A-A7D9BBA83B60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9212E1-A87B-43A4-BA46-B4F130179A55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6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7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18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6B4452-3805-4A60-AF2E-4201728D04D8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1C5A1E-3597-4785-B5D8-BF0E1CD7A1FB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2D2AA6-B1EA-4D9C-924F-008FF0B65340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C77958-15BD-402A-99EB-E965EFEBAF8B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AF5F64-7F03-4B34-9753-F24F6E4759C9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D0EA5D-81A3-4654-9AD3-244023A56CE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289F-385E-4FF0-AEC4-4A796EDA7544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2492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9473A8-4AC4-4643-A4D9-6BC308DA800C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6AEA6A-2EF7-47E7-A3BD-02D563253EE3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051C72-AC45-4389-8902-C4E536295FF6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B7872F-708B-4192-AF37-1CFDF638EB52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D88F80-B752-4022-B26C-4EBBD78A740C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2E660A-F8F7-4440-99CE-68E235FD7D0C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6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7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18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E4AD50-A4B1-430A-A7CA-007751229A87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4C3C4-D51D-45F5-B571-E5196827239D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F44C2-4CBB-45A5-8140-627F14652397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8677D-C2BD-47CA-A087-353D6553C96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D28D-6FF2-45CA-867D-30693856BAEE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856DA-E676-40EF-9974-992EBAA9E0CD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3D811C-F451-46BA-8492-9E2A5FBCFCFF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2492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F5B1F-79A0-4813-92A2-AEEC5F3BF798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34F27-C85C-423C-B0D5-293B435D4E0A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0C80A-A66A-4961-BC77-EF3B9862BDA3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BCBAD-4BAF-42CD-92E4-72B362F67BF2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3F87D-C8CF-4BB6-9789-22B24478DA6C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21ED7-089E-4310-9213-5454EE632154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6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7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18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50F1D-A301-4007-9F05-63A368A0503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BE2F-E4ED-4C20-B0D3-D9B9257333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74A1E-D9F9-4AD1-9B9C-CF77FF73F66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2492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ACB9-B21B-4455-B8D5-085EB07F538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933D-DE2B-484A-9255-CDB25163628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EE4F-295A-4186-BD0C-1EF1CEBB6F5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3911-BAAB-4EE4-8689-840E5E6A46D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03AC-D22F-4F83-9944-BE2345E365B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CAAE-583A-416D-B1DD-F47795F4632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7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8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B7F2-64D3-4E51-A057-3B9250C40E6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21C072-407C-42B9-BD05-40126273865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60D422-E47F-4BE9-9816-84FAAF0608E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3F92B-733C-4A04-A447-F5A119C721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5CC83-D6E9-4DCD-A779-E6C6AF51DB3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1B0FA1-3D2F-4BDC-A12A-20D794D84F1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84A897-9B9E-4FB2-BB5B-1F06FB494D5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2492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6E6CD0-9A8A-4D5E-A87A-A04BCDF3830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A30C6-74E1-4717-81CC-F5D86843F9F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458AD8-3EB8-40D8-B3AA-5D38CA03EF8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6F7072-C4FF-4105-8291-A437C7542E1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961C9A-8445-4389-9DFE-622A0CC2B1F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5FA97A-F41E-45EE-86F5-FE97F6347A5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6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7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8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0C1A65-10D2-4368-923A-7640AF290C8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D48ECF-9E97-439A-800F-18FF3F0390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A14EA-7186-490E-9568-80DA683FE5F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69EAC-4A58-4372-95A6-A4D3EDE3549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8AA1E4-9BE6-4A55-8B33-781967BB048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E47926-8376-44E6-A750-36B8CD6726C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22ACE-5D29-4186-A20C-20C880DFB73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2492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E1B11-2DB6-46EB-8142-F21E13CDC2E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F5CA5-0209-4A5D-92BA-1D18E91D9BA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4035D3-6B69-4B3D-9D91-D96F1A73538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3A6FF-8B2D-4F75-9C63-996148CAD0C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7BC8C-B8E3-4BF9-A1B0-C5CCD8C2FF9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72E2C-FA6C-40D1-A703-14745D3F63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2492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71BBF-DE73-447B-BC08-BD30E8F96EE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6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7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18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DBD6E-A9A4-427B-9D03-29F7ACC5E00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F1E9-4FDC-481E-9D97-39712D95174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3AF12-4816-4003-9C94-F2EB5B25FAC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4181-6439-4925-A9BD-50F4C716C57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2E9E-5CB9-4673-9A0E-733C3EF8809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105B-C6F1-4A4E-BF64-B82981EA213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2492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1261-1F49-4246-BA4A-6CEB2BE5017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6EF2-647A-43C1-AF47-1276EC75B9E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468F-3729-4A3B-9BDC-FC1A177E6F5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B5073-1597-49A2-9947-BBCF08BA52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6A379-46D3-4ADF-AC99-37C614D9F48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4D5F-DBE2-4323-8630-BBAEFC08F8C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2327D-3663-458D-A6D3-E793BD31686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6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7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18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8E2B-38BF-46E6-83E2-7209E5A6F55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1B3B0E-8CF7-44E7-A5FD-6C4C79B8610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30DD49-12CC-46E9-9E8F-FE925778DA2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4410D7-37CD-455B-BC9C-803516D5429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976FFF-A3BA-4918-BC16-BB1BC5BC71C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50D9EF-685B-4BD7-BA3D-56789EA092E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2492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D7B159-8991-4FA6-B903-CF357E33AFE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D38CBA-2DCD-4941-A316-2BDEC5ECC4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93CEF-043F-49B3-AB02-F06C4695183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16B6DA-1755-43A4-B99D-4CCFD1E4462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DE91B0-E7B9-4A27-BDDA-B27EE6E58AF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3898BE-09E0-4477-9B9E-DEF70E5EC50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D80E88-0BAC-4AD3-AEEF-5C79EBD7E18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6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7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18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A8B5BC-8EA2-4786-A8C9-F87F6DF4E9B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4983E0-EE37-4BE5-A20C-54C11C1E096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CAB33D-58F1-4739-9B30-7F0C2C4F220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52DC68-4A7C-42AA-B78D-A4A870BA486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7EF27E-070B-4178-AF22-8CBDD08AA3E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79951E-F149-44D5-B148-3712F73CA8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ADE2A-96EB-4ED2-991A-AD5F69CAC70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2492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3262AE-B957-4398-AE8B-22DBD124918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B81670-01CC-4CCE-8B29-71DAFBCC17B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0B6D7C-4010-4F76-A48A-EA5DA162F56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815027-3436-471E-B196-B242B7BAF0E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3A68E7-1BFB-4BFD-A685-0F53ED24BDA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DC5257-F24C-4DCC-BC2D-175BD453B6D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6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7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18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37D76C-C8E6-4DC6-A31F-576C57B440C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7394C-181F-4A30-8801-6751D83D9A0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6E5F8-A581-47CC-9829-29F7EBE4C56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1DC39-6B9E-490B-95D1-4BEFDF3ABE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83160"/>
            <a:ext cx="2133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83160"/>
            <a:ext cx="2895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924680" y="6380280"/>
            <a:ext cx="757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C34FEF-6F19-45B1-9A12-7821E06C4A90}" type="slidenum">
              <a:rPr b="0" lang="it-IT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3"/>
          <p:cNvSpPr/>
          <p:nvPr/>
        </p:nvSpPr>
        <p:spPr>
          <a:xfrm>
            <a:off x="457200" y="6383160"/>
            <a:ext cx="2133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3124080" y="6383160"/>
            <a:ext cx="2895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10"/>
          </p:nvPr>
        </p:nvSpPr>
        <p:spPr>
          <a:xfrm>
            <a:off x="7924680" y="6380280"/>
            <a:ext cx="757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E519A-1061-4B1F-80A1-96149C56849C}" type="slidenum">
              <a:rPr b="0" lang="it-IT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3"/>
          <p:cNvSpPr/>
          <p:nvPr/>
        </p:nvSpPr>
        <p:spPr>
          <a:xfrm>
            <a:off x="457200" y="6383160"/>
            <a:ext cx="2133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3124080" y="6383160"/>
            <a:ext cx="2895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11"/>
          </p:nvPr>
        </p:nvSpPr>
        <p:spPr>
          <a:xfrm>
            <a:off x="7924680" y="6380280"/>
            <a:ext cx="757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9B77B5-E240-4299-B898-259DC3606F7B}" type="slidenum">
              <a:rPr b="0" lang="it-IT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3"/>
          <p:cNvSpPr/>
          <p:nvPr/>
        </p:nvSpPr>
        <p:spPr>
          <a:xfrm>
            <a:off x="457200" y="6383160"/>
            <a:ext cx="2133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3124080" y="6383160"/>
            <a:ext cx="2895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12"/>
          </p:nvPr>
        </p:nvSpPr>
        <p:spPr>
          <a:xfrm>
            <a:off x="7924680" y="6380280"/>
            <a:ext cx="757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FB707E-1F97-442E-B8C1-3105D5BD4CFD}" type="slidenum">
              <a:rPr b="0" lang="it-IT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3"/>
          <p:cNvSpPr/>
          <p:nvPr/>
        </p:nvSpPr>
        <p:spPr>
          <a:xfrm>
            <a:off x="457200" y="6383160"/>
            <a:ext cx="2133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Text Box 4"/>
          <p:cNvSpPr/>
          <p:nvPr/>
        </p:nvSpPr>
        <p:spPr>
          <a:xfrm>
            <a:off x="3124080" y="6383160"/>
            <a:ext cx="2895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Num" idx="13"/>
          </p:nvPr>
        </p:nvSpPr>
        <p:spPr>
          <a:xfrm>
            <a:off x="7924680" y="6380280"/>
            <a:ext cx="757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7BE06F-F0A6-4E02-B366-A513436E0FE1}" type="slidenum">
              <a:rPr b="0" lang="it-IT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Text Box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14"/>
          </p:nvPr>
        </p:nvSpPr>
        <p:spPr>
          <a:xfrm>
            <a:off x="7924680" y="6416280"/>
            <a:ext cx="75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it-IT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C28CC390-CEC5-453F-B187-CCEC4E345745}" type="slidenum">
              <a:rPr b="0" lang="it-IT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Text Box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sldNum" idx="15"/>
          </p:nvPr>
        </p:nvSpPr>
        <p:spPr>
          <a:xfrm>
            <a:off x="7924680" y="6416280"/>
            <a:ext cx="75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it-IT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863FFDFE-7041-4CAB-A1A0-7AD6B9DC267E}" type="slidenum">
              <a:rPr b="0" lang="it-IT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Text Box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sldNum" idx="16"/>
          </p:nvPr>
        </p:nvSpPr>
        <p:spPr>
          <a:xfrm>
            <a:off x="7924680" y="6416280"/>
            <a:ext cx="75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it-IT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4106B4BA-12C8-4053-8803-E21936B3F091}" type="slidenum">
              <a:rPr b="0" lang="it-IT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 Box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Text Box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sldNum" idx="17"/>
          </p:nvPr>
        </p:nvSpPr>
        <p:spPr>
          <a:xfrm>
            <a:off x="7924680" y="6416280"/>
            <a:ext cx="75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it-IT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2233B1A1-7430-4591-827C-B6C8317A07F4}" type="slidenum">
              <a:rPr b="0" lang="it-IT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 Box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Text Box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sldNum" idx="18"/>
          </p:nvPr>
        </p:nvSpPr>
        <p:spPr>
          <a:xfrm>
            <a:off x="7924680" y="6416280"/>
            <a:ext cx="75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it-IT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F9AAAD81-17AE-4482-B899-356B8AC0D386}" type="slidenum">
              <a:rPr b="0" lang="it-IT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 Box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Text Box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19"/>
          </p:nvPr>
        </p:nvSpPr>
        <p:spPr>
          <a:xfrm>
            <a:off x="7924680" y="6416280"/>
            <a:ext cx="75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it-IT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A7508475-C660-4781-96A8-5CB146189C43}" type="slidenum">
              <a:rPr b="0" lang="it-IT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7924680" y="6416280"/>
            <a:ext cx="75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it-IT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A7C279B8-B2CA-4258-8962-0295608F4414}" type="slidenum">
              <a:rPr b="0" lang="it-IT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Text Box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sldNum" idx="20"/>
          </p:nvPr>
        </p:nvSpPr>
        <p:spPr>
          <a:xfrm>
            <a:off x="7924680" y="6416280"/>
            <a:ext cx="75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it-IT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77704F46-B0CE-4D2E-ABEA-45F342753D11}" type="slidenum">
              <a:rPr b="0" lang="it-IT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Text Box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sldNum" idx="21"/>
          </p:nvPr>
        </p:nvSpPr>
        <p:spPr>
          <a:xfrm>
            <a:off x="7924680" y="6416280"/>
            <a:ext cx="75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it-IT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93CE4EC1-4D93-4804-B0A7-C8923923EEAD}" type="slidenum">
              <a:rPr b="0" lang="it-IT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Text Box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Text Box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sldNum" idx="22"/>
          </p:nvPr>
        </p:nvSpPr>
        <p:spPr>
          <a:xfrm>
            <a:off x="7924680" y="6416280"/>
            <a:ext cx="75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it-IT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00F726D3-A33E-43F9-9212-8DD6569A9C0D}" type="slidenum">
              <a:rPr b="0" lang="it-IT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Text Box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Text Box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sldNum" idx="23"/>
          </p:nvPr>
        </p:nvSpPr>
        <p:spPr>
          <a:xfrm>
            <a:off x="7924680" y="6416280"/>
            <a:ext cx="75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it-IT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F313943C-7490-4997-9A9F-BA578BAD3A70}" type="slidenum">
              <a:rPr b="0" lang="it-IT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 Box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Text Box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sldNum" idx="24"/>
          </p:nvPr>
        </p:nvSpPr>
        <p:spPr>
          <a:xfrm>
            <a:off x="7924680" y="6416280"/>
            <a:ext cx="75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it-IT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0BA826A0-5924-45C5-BA74-D71D883BD119}" type="slidenum">
              <a:rPr b="0" lang="it-IT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457200" y="6383160"/>
            <a:ext cx="2133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124080" y="6383160"/>
            <a:ext cx="2895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7924680" y="6380280"/>
            <a:ext cx="757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6CFD1E-4005-4C6C-9CF2-EDD3244C9217}" type="slidenum">
              <a:rPr b="0" lang="it-IT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3"/>
          <p:cNvSpPr/>
          <p:nvPr/>
        </p:nvSpPr>
        <p:spPr>
          <a:xfrm>
            <a:off x="457200" y="6383160"/>
            <a:ext cx="2133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3124080" y="6383160"/>
            <a:ext cx="2895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7924680" y="6380280"/>
            <a:ext cx="757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4E5B6C-0835-404E-BD68-CDA26A00CA27}" type="slidenum">
              <a:rPr b="0" lang="it-IT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"/>
          <p:cNvSpPr/>
          <p:nvPr/>
        </p:nvSpPr>
        <p:spPr>
          <a:xfrm>
            <a:off x="457200" y="6383160"/>
            <a:ext cx="2133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3124080" y="6383160"/>
            <a:ext cx="2895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5"/>
          </p:nvPr>
        </p:nvSpPr>
        <p:spPr>
          <a:xfrm>
            <a:off x="7924680" y="6380280"/>
            <a:ext cx="757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E5C19B-A308-441A-8159-50CD49012F2B}" type="slidenum">
              <a:rPr b="0" lang="it-IT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3"/>
          <p:cNvSpPr/>
          <p:nvPr/>
        </p:nvSpPr>
        <p:spPr>
          <a:xfrm>
            <a:off x="457200" y="6383160"/>
            <a:ext cx="2133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124080" y="6383160"/>
            <a:ext cx="2895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6"/>
          </p:nvPr>
        </p:nvSpPr>
        <p:spPr>
          <a:xfrm>
            <a:off x="7924680" y="6380280"/>
            <a:ext cx="757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8911FD-218A-4837-A369-5FA6A3299C68}" type="slidenum">
              <a:rPr b="0" lang="it-IT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457200" y="6383160"/>
            <a:ext cx="2133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3124080" y="6383160"/>
            <a:ext cx="2895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7"/>
          </p:nvPr>
        </p:nvSpPr>
        <p:spPr>
          <a:xfrm>
            <a:off x="7924680" y="6380280"/>
            <a:ext cx="757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0B766F-95F5-42CE-BED5-8BA86809BA33}" type="slidenum">
              <a:rPr b="0" lang="it-IT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3"/>
          <p:cNvSpPr/>
          <p:nvPr/>
        </p:nvSpPr>
        <p:spPr>
          <a:xfrm>
            <a:off x="457200" y="6383160"/>
            <a:ext cx="2133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3124080" y="6383160"/>
            <a:ext cx="2895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8"/>
          </p:nvPr>
        </p:nvSpPr>
        <p:spPr>
          <a:xfrm>
            <a:off x="7924680" y="6380280"/>
            <a:ext cx="757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D5D20B-641C-459B-9520-C0391EC96256}" type="slidenum">
              <a:rPr b="0" lang="it-IT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3"/>
          <p:cNvSpPr/>
          <p:nvPr/>
        </p:nvSpPr>
        <p:spPr>
          <a:xfrm>
            <a:off x="457200" y="6383160"/>
            <a:ext cx="2133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3124080" y="6383160"/>
            <a:ext cx="2895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9"/>
          </p:nvPr>
        </p:nvSpPr>
        <p:spPr>
          <a:xfrm>
            <a:off x="7924680" y="6380280"/>
            <a:ext cx="757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230A13-356A-48CD-98EA-1DC86B58F54C}" type="slidenum">
              <a:rPr b="0" lang="it-IT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9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9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Text Box 1"/>
          <p:cNvSpPr/>
          <p:nvPr/>
        </p:nvSpPr>
        <p:spPr>
          <a:xfrm>
            <a:off x="2340000" y="4156200"/>
            <a:ext cx="4319640" cy="27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064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91560"/>
                <a:tab algn="l" pos="10058400"/>
                <a:tab algn="l" pos="105156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Book Antiqua"/>
              </a:rPr>
              <a:t>Radioterapia Oncologic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64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91560"/>
                <a:tab algn="l" pos="10058400"/>
                <a:tab algn="l" pos="105156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Book Antiqua"/>
              </a:rPr>
              <a:t>Ospedale San Camill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64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91560"/>
                <a:tab algn="l" pos="10058400"/>
                <a:tab algn="l" pos="105156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Book Antiqua"/>
              </a:rPr>
              <a:t>Forlanin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64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91560"/>
                <a:tab algn="l" pos="10058400"/>
                <a:tab algn="l" pos="105156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Book Antiqua"/>
              </a:rPr>
              <a:t>Roma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64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91560"/>
                <a:tab algn="l" pos="10058400"/>
                <a:tab algn="l" pos="10515600"/>
              </a:tabLst>
            </a:pPr>
            <a:r>
              <a:rPr b="0" lang="it-IT" sz="1900" spc="-1" strike="noStrike">
                <a:solidFill>
                  <a:srgbClr val="ffffff"/>
                </a:solidFill>
                <a:latin typeface="Book Antiqua"/>
              </a:rPr>
              <a:t>XX Congresso AIRO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64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91560"/>
                <a:tab algn="l" pos="10058400"/>
                <a:tab algn="l" pos="10515600"/>
              </a:tabLst>
            </a:pPr>
            <a:r>
              <a:rPr b="0" lang="it-IT" sz="1900" spc="-1" strike="noStrike">
                <a:solidFill>
                  <a:srgbClr val="ffffff"/>
                </a:solidFill>
                <a:latin typeface="Book Antiqua"/>
              </a:rPr>
              <a:t>Napoli 13-16 Novembre 2010  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64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915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4" name="Picture 2" descr=""/>
          <p:cNvPicPr/>
          <p:nvPr/>
        </p:nvPicPr>
        <p:blipFill>
          <a:blip r:embed="rId1"/>
          <a:stretch/>
        </p:blipFill>
        <p:spPr>
          <a:xfrm>
            <a:off x="6622920" y="4292640"/>
            <a:ext cx="2521080" cy="2108160"/>
          </a:xfrm>
          <a:prstGeom prst="rect">
            <a:avLst/>
          </a:prstGeom>
          <a:ln w="0">
            <a:noFill/>
          </a:ln>
        </p:spPr>
      </p:pic>
      <p:pic>
        <p:nvPicPr>
          <p:cNvPr id="995" name="Picture 3" descr=""/>
          <p:cNvPicPr/>
          <p:nvPr/>
        </p:nvPicPr>
        <p:blipFill>
          <a:blip r:embed="rId2"/>
          <a:stretch/>
        </p:blipFill>
        <p:spPr>
          <a:xfrm>
            <a:off x="0" y="4292640"/>
            <a:ext cx="2700360" cy="2108160"/>
          </a:xfrm>
          <a:prstGeom prst="rect">
            <a:avLst/>
          </a:prstGeom>
          <a:ln w="0">
            <a:noFill/>
          </a:ln>
        </p:spPr>
      </p:pic>
      <p:sp>
        <p:nvSpPr>
          <p:cNvPr id="996" name="Rectangle 4"/>
          <p:cNvSpPr/>
          <p:nvPr/>
        </p:nvSpPr>
        <p:spPr>
          <a:xfrm>
            <a:off x="0" y="260280"/>
            <a:ext cx="914400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Times New Roman"/>
              </a:rPr>
              <a:t>MELANOMA CUTANEO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Times New Roman"/>
              </a:rPr>
              <a:t>RADIOTERAPIA: PERCHE’ S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Times New Roman"/>
              </a:rPr>
              <a:t>VITTORIO DONATO</a:t>
            </a:r>
            <a:r>
              <a:rPr b="0" lang="it-IT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Text Box 3"/>
          <p:cNvSpPr/>
          <p:nvPr/>
        </p:nvSpPr>
        <p:spPr>
          <a:xfrm>
            <a:off x="676440" y="378000"/>
            <a:ext cx="778500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Text Box 4"/>
          <p:cNvSpPr/>
          <p:nvPr/>
        </p:nvSpPr>
        <p:spPr>
          <a:xfrm>
            <a:off x="0" y="2514600"/>
            <a:ext cx="9144000" cy="38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2880" indent="-4064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Book Antiqua"/>
              </a:rPr>
              <a:t>Recommended when at least one of these situation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2880" indent="-4064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Book Antiqua"/>
              </a:rPr>
              <a:t>1) extracapsular extens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2880" indent="-4064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Book Antiqua"/>
              </a:rPr>
              <a:t>2) more than one lymph node involve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2880" indent="-4064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Book Antiqua"/>
              </a:rPr>
              <a:t>3) clinically palpable adenopath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2880" indent="-4064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Book Antiqua"/>
              </a:rPr>
              <a:t>4) recurrent disease after a previous lymphadenectom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2880" indent="-4064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Book Antiqua"/>
              </a:rPr>
              <a:t> </a:t>
            </a:r>
            <a:r>
              <a:rPr b="0" lang="it-IT" sz="2800" spc="-1" strike="noStrike">
                <a:solidFill>
                  <a:srgbClr val="ffff00"/>
                </a:solidFill>
                <a:latin typeface="Book Antiqua"/>
              </a:rPr>
              <a:t>5) cervical lymph node  location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2" name="Group 1"/>
          <p:cNvGrpSpPr/>
          <p:nvPr/>
        </p:nvGrpSpPr>
        <p:grpSpPr>
          <a:xfrm>
            <a:off x="228600" y="104760"/>
            <a:ext cx="8591400" cy="2028960"/>
            <a:chOff x="228600" y="104760"/>
            <a:chExt cx="8591400" cy="2028960"/>
          </a:xfrm>
        </p:grpSpPr>
        <p:pic>
          <p:nvPicPr>
            <p:cNvPr id="1033" name="Picture 2" descr=""/>
            <p:cNvPicPr/>
            <p:nvPr/>
          </p:nvPicPr>
          <p:blipFill>
            <a:blip r:embed="rId1"/>
            <a:stretch/>
          </p:blipFill>
          <p:spPr>
            <a:xfrm>
              <a:off x="228600" y="104760"/>
              <a:ext cx="8591400" cy="20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4" name="Text Box 3"/>
            <p:cNvSpPr/>
            <p:nvPr/>
          </p:nvSpPr>
          <p:spPr>
            <a:xfrm>
              <a:off x="228600" y="104760"/>
              <a:ext cx="8591400" cy="20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5" name="Group 1"/>
          <p:cNvGrpSpPr/>
          <p:nvPr/>
        </p:nvGrpSpPr>
        <p:grpSpPr>
          <a:xfrm>
            <a:off x="676440" y="131760"/>
            <a:ext cx="7783200" cy="1352520"/>
            <a:chOff x="676440" y="131760"/>
            <a:chExt cx="7783200" cy="1352520"/>
          </a:xfrm>
        </p:grpSpPr>
        <p:pic>
          <p:nvPicPr>
            <p:cNvPr id="1036" name="Picture 2" descr=""/>
            <p:cNvPicPr/>
            <p:nvPr/>
          </p:nvPicPr>
          <p:blipFill>
            <a:blip r:embed="rId1"/>
            <a:stretch/>
          </p:blipFill>
          <p:spPr>
            <a:xfrm>
              <a:off x="676440" y="131760"/>
              <a:ext cx="778320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7" name="Text Box 3"/>
            <p:cNvSpPr/>
            <p:nvPr/>
          </p:nvSpPr>
          <p:spPr>
            <a:xfrm>
              <a:off x="676440" y="131760"/>
              <a:ext cx="7783200" cy="13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38" name="Text Box 4"/>
          <p:cNvSpPr/>
          <p:nvPr/>
        </p:nvSpPr>
        <p:spPr>
          <a:xfrm>
            <a:off x="0" y="1557360"/>
            <a:ext cx="8893080" cy="51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06440" algn="ctr">
              <a:spcBef>
                <a:spcPts val="751"/>
              </a:spcBef>
              <a:tabLst>
                <a:tab algn="l" pos="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91560"/>
                <a:tab algn="l" pos="10058400"/>
                <a:tab algn="l" pos="105156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D Anderson treatment algorithm for radiation of clinically apparent lymph nodes (2010)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6440">
              <a:spcBef>
                <a:spcPts val="751"/>
              </a:spcBef>
              <a:tabLst>
                <a:tab algn="l" pos="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91560"/>
                <a:tab algn="l" pos="10058400"/>
                <a:tab algn="l" pos="105156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) Cervical Nodes : presence of any 1 or extracapsular extension, &gt;2 cm, &gt; 2 involved lymph nodes, recurrent disease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6440">
              <a:spcBef>
                <a:spcPts val="751"/>
              </a:spcBef>
              <a:tabLst>
                <a:tab algn="l" pos="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91560"/>
                <a:tab algn="l" pos="10058400"/>
                <a:tab algn="l" pos="105156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) Axillary nodes: presence of any 1 or extracapsular  extension, &gt;3 cm, &gt;4 involved lymph nodes, recurrent disease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9" name="Group 1"/>
          <p:cNvGrpSpPr/>
          <p:nvPr/>
        </p:nvGrpSpPr>
        <p:grpSpPr>
          <a:xfrm>
            <a:off x="603360" y="324000"/>
            <a:ext cx="7643880" cy="1582560"/>
            <a:chOff x="603360" y="324000"/>
            <a:chExt cx="7643880" cy="1582560"/>
          </a:xfrm>
        </p:grpSpPr>
        <p:pic>
          <p:nvPicPr>
            <p:cNvPr id="1040" name="Picture 2" descr=""/>
            <p:cNvPicPr/>
            <p:nvPr/>
          </p:nvPicPr>
          <p:blipFill>
            <a:blip r:embed="rId1"/>
            <a:stretch/>
          </p:blipFill>
          <p:spPr>
            <a:xfrm>
              <a:off x="603360" y="324000"/>
              <a:ext cx="7643880" cy="15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1" name="Text Box 3"/>
            <p:cNvSpPr/>
            <p:nvPr/>
          </p:nvSpPr>
          <p:spPr>
            <a:xfrm>
              <a:off x="603360" y="324000"/>
              <a:ext cx="7643880" cy="15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2" name="Text Box 4"/>
          <p:cNvSpPr/>
          <p:nvPr/>
        </p:nvSpPr>
        <p:spPr>
          <a:xfrm>
            <a:off x="0" y="1941480"/>
            <a:ext cx="9144000" cy="49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06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91560"/>
                <a:tab algn="l" pos="10058400"/>
                <a:tab algn="l" pos="105156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it-IT" sz="3000" spc="-1" strike="noStrike">
                <a:solidFill>
                  <a:srgbClr val="ffffff"/>
                </a:solidFill>
                <a:latin typeface="Book Antiqua"/>
              </a:rPr>
              <a:t>Hamming-Vierze (Arch Otolaryngol H N Surg 2009) .Melanoma neck node metastasis treated with surgery only </a:t>
            </a:r>
            <a:r>
              <a:rPr b="0" lang="it-IT" sz="3000" spc="-1" strike="noStrike">
                <a:solidFill>
                  <a:srgbClr val="00b0f0"/>
                </a:solidFill>
                <a:latin typeface="Book Antiqua"/>
              </a:rPr>
              <a:t>( S group)</a:t>
            </a:r>
            <a:r>
              <a:rPr b="0" lang="it-IT" sz="3000" spc="-1" strike="noStrike">
                <a:solidFill>
                  <a:srgbClr val="ffffff"/>
                </a:solidFill>
                <a:latin typeface="Book Antiqua"/>
              </a:rPr>
              <a:t> or with surgery and adjuvant RT </a:t>
            </a:r>
            <a:r>
              <a:rPr b="0" lang="it-IT" sz="3000" spc="-1" strike="noStrike">
                <a:solidFill>
                  <a:srgbClr val="00b0f0"/>
                </a:solidFill>
                <a:latin typeface="Book Antiqua"/>
              </a:rPr>
              <a:t>(S + RT group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6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91560"/>
                <a:tab algn="l" pos="10058400"/>
                <a:tab algn="l" pos="105156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it-IT" sz="3000" spc="-1" strike="noStrike">
                <a:solidFill>
                  <a:srgbClr val="ffffff"/>
                </a:solidFill>
                <a:latin typeface="Book Antiqua"/>
              </a:rPr>
              <a:t>Median follow up       Regional Recurrence Rat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6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91560"/>
                <a:tab algn="l" pos="10058400"/>
                <a:tab algn="l" pos="105156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Book Antiqua"/>
              </a:rPr>
              <a:t>        </a:t>
            </a:r>
            <a:r>
              <a:rPr b="0" lang="it-IT" sz="3000" spc="-1" strike="noStrike">
                <a:solidFill>
                  <a:srgbClr val="ffffff"/>
                </a:solidFill>
                <a:latin typeface="Book Antiqua"/>
              </a:rPr>
              <a:t>2,5 years                           </a:t>
            </a:r>
            <a:r>
              <a:rPr b="0" lang="it-IT" sz="3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it-IT" sz="3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it-IT" sz="30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915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9156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28% difference P= 0.1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915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Freeform 5"/>
          <p:cNvSpPr/>
          <p:nvPr/>
        </p:nvSpPr>
        <p:spPr>
          <a:xfrm rot="13500000">
            <a:off x="5922360" y="4449600"/>
            <a:ext cx="763560" cy="712800"/>
          </a:xfrm>
          <a:custGeom>
            <a:avLst/>
            <a:gdLst>
              <a:gd name="textAreaLeft" fmla="*/ 63000 w 763560"/>
              <a:gd name="textAreaRight" fmla="*/ 585360 w 763560"/>
              <a:gd name="textAreaTop" fmla="*/ 491040 h 712800"/>
              <a:gd name="textAreaBottom" fmla="*/ 578160 h 712800"/>
            </a:gdLst>
            <a:ahLst/>
            <a:rect l="textAreaLeft" t="textAreaTop" r="textAreaRight" b="textAreaBottom"/>
            <a:pathLst>
              <a:path w="763588" h="712788">
                <a:moveTo>
                  <a:pt x="0" y="534591"/>
                </a:moveTo>
                <a:lnTo>
                  <a:pt x="259013" y="356394"/>
                </a:lnTo>
                <a:lnTo>
                  <a:pt x="259013" y="491086"/>
                </a:lnTo>
                <a:lnTo>
                  <a:pt x="541886" y="491086"/>
                </a:lnTo>
                <a:lnTo>
                  <a:pt x="541886" y="259013"/>
                </a:lnTo>
                <a:lnTo>
                  <a:pt x="407194" y="259013"/>
                </a:lnTo>
                <a:lnTo>
                  <a:pt x="585391" y="0"/>
                </a:lnTo>
                <a:lnTo>
                  <a:pt x="763588" y="259013"/>
                </a:lnTo>
                <a:lnTo>
                  <a:pt x="628896" y="259013"/>
                </a:lnTo>
                <a:lnTo>
                  <a:pt x="628896" y="578096"/>
                </a:lnTo>
                <a:lnTo>
                  <a:pt x="259013" y="578096"/>
                </a:lnTo>
                <a:lnTo>
                  <a:pt x="259013" y="712788"/>
                </a:lnTo>
                <a:lnTo>
                  <a:pt x="0" y="534591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Oval 6"/>
          <p:cNvSpPr/>
          <p:nvPr/>
        </p:nvSpPr>
        <p:spPr>
          <a:xfrm>
            <a:off x="3962520" y="4876920"/>
            <a:ext cx="1850760" cy="9144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2000" spc="-1" strike="noStrike">
                <a:solidFill>
                  <a:srgbClr val="c00000"/>
                </a:solidFill>
                <a:latin typeface="Times New Roman"/>
              </a:rPr>
              <a:t>S  + 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2000" spc="-1" strike="noStrike">
                <a:solidFill>
                  <a:srgbClr val="c00000"/>
                </a:solidFill>
                <a:latin typeface="Times New Roman"/>
              </a:rPr>
              <a:t>    </a:t>
            </a:r>
            <a:r>
              <a:rPr b="0" lang="it-IT" sz="2000" spc="-1" strike="noStrike">
                <a:solidFill>
                  <a:srgbClr val="c00000"/>
                </a:solidFill>
                <a:latin typeface="Times New Roman"/>
              </a:rPr>
              <a:t>46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Oval 7"/>
          <p:cNvSpPr/>
          <p:nvPr/>
        </p:nvSpPr>
        <p:spPr>
          <a:xfrm>
            <a:off x="6934320" y="4800600"/>
            <a:ext cx="1800000" cy="9144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20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0" lang="it-IT" sz="2000" spc="-1" strike="noStrike">
                <a:solidFill>
                  <a:srgbClr val="c00000"/>
                </a:solidFill>
                <a:latin typeface="Times New Roman"/>
              </a:rPr>
              <a:t>S             18 %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6" name="Group 1"/>
          <p:cNvGrpSpPr/>
          <p:nvPr/>
        </p:nvGrpSpPr>
        <p:grpSpPr>
          <a:xfrm>
            <a:off x="609480" y="365040"/>
            <a:ext cx="7783560" cy="1584360"/>
            <a:chOff x="609480" y="365040"/>
            <a:chExt cx="7783560" cy="1584360"/>
          </a:xfrm>
        </p:grpSpPr>
        <p:pic>
          <p:nvPicPr>
            <p:cNvPr id="1047" name="Picture 2" descr=""/>
            <p:cNvPicPr/>
            <p:nvPr/>
          </p:nvPicPr>
          <p:blipFill>
            <a:blip r:embed="rId1"/>
            <a:stretch/>
          </p:blipFill>
          <p:spPr>
            <a:xfrm>
              <a:off x="609480" y="365040"/>
              <a:ext cx="77835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8" name="Text Box 3"/>
            <p:cNvSpPr/>
            <p:nvPr/>
          </p:nvSpPr>
          <p:spPr>
            <a:xfrm>
              <a:off x="609480" y="365040"/>
              <a:ext cx="778356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9" name="Text Box 4"/>
          <p:cNvSpPr/>
          <p:nvPr/>
        </p:nvSpPr>
        <p:spPr>
          <a:xfrm>
            <a:off x="216000" y="2362320"/>
            <a:ext cx="8677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9156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Moreno ( Cancer 2010) </a:t>
            </a:r>
            <a:r>
              <a:rPr b="0" lang="it-IT" sz="2800" spc="-1" strike="noStrike">
                <a:solidFill>
                  <a:srgbClr val="00b0f0"/>
                </a:solidFill>
                <a:latin typeface="Book Antiqua"/>
              </a:rPr>
              <a:t>mucosal melanoma of the nose and paranasal sinues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, a contemporany experience from MD Anderson Cancer Center : postoperative radiation therapy improves locoregional control with a total dose greater than 54 Gy (P=0.021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1"/>
          <p:cNvGrpSpPr/>
          <p:nvPr/>
        </p:nvGrpSpPr>
        <p:grpSpPr>
          <a:xfrm>
            <a:off x="682560" y="-6480"/>
            <a:ext cx="7783560" cy="1906560"/>
            <a:chOff x="682560" y="-6480"/>
            <a:chExt cx="7783560" cy="1906560"/>
          </a:xfrm>
        </p:grpSpPr>
        <p:pic>
          <p:nvPicPr>
            <p:cNvPr id="1051" name="Picture 2" descr=""/>
            <p:cNvPicPr/>
            <p:nvPr/>
          </p:nvPicPr>
          <p:blipFill>
            <a:blip r:embed="rId1"/>
            <a:stretch/>
          </p:blipFill>
          <p:spPr>
            <a:xfrm>
              <a:off x="682560" y="-6480"/>
              <a:ext cx="7783560" cy="19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2" name="Text Box 3"/>
            <p:cNvSpPr/>
            <p:nvPr/>
          </p:nvSpPr>
          <p:spPr>
            <a:xfrm>
              <a:off x="682560" y="-6480"/>
              <a:ext cx="7783560" cy="19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3" name="Text Box 4"/>
          <p:cNvSpPr/>
          <p:nvPr/>
        </p:nvSpPr>
        <p:spPr>
          <a:xfrm>
            <a:off x="0" y="2085840"/>
            <a:ext cx="8839080" cy="47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06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9156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Wu AJ (Am J Clin Oncol 2010) presents the MSKCC experience in 24 patients affected by </a:t>
            </a:r>
            <a:r>
              <a:rPr b="0" lang="it-IT" sz="2800" spc="-1" strike="noStrike">
                <a:solidFill>
                  <a:srgbClr val="00b0f0"/>
                </a:solidFill>
                <a:latin typeface="Book Antiqua"/>
              </a:rPr>
              <a:t>mucosal melanoma of Head and Neck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comparing IMRT , 3D conformal Rt and conventional 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6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9156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Book Antiqua"/>
              </a:rPr>
              <a:t>Modern radiotherapeutic thechniques including IMRT appear feasible and well tolerated in the adjuvant RT of Head and Neck  mucosal melano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915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4" name="Group 1"/>
          <p:cNvGrpSpPr/>
          <p:nvPr/>
        </p:nvGrpSpPr>
        <p:grpSpPr>
          <a:xfrm>
            <a:off x="828720" y="469800"/>
            <a:ext cx="7777080" cy="1443240"/>
            <a:chOff x="828720" y="469800"/>
            <a:chExt cx="7777080" cy="1443240"/>
          </a:xfrm>
        </p:grpSpPr>
        <p:pic>
          <p:nvPicPr>
            <p:cNvPr id="1055" name="Picture 2" descr=""/>
            <p:cNvPicPr/>
            <p:nvPr/>
          </p:nvPicPr>
          <p:blipFill>
            <a:blip r:embed="rId1"/>
            <a:stretch/>
          </p:blipFill>
          <p:spPr>
            <a:xfrm>
              <a:off x="828720" y="469800"/>
              <a:ext cx="7777080" cy="144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6" name="Text Box 3"/>
            <p:cNvSpPr/>
            <p:nvPr/>
          </p:nvSpPr>
          <p:spPr>
            <a:xfrm>
              <a:off x="828720" y="469800"/>
              <a:ext cx="7777080" cy="14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7" name="Text Box 4"/>
          <p:cNvSpPr/>
          <p:nvPr/>
        </p:nvSpPr>
        <p:spPr>
          <a:xfrm>
            <a:off x="395280" y="2197080"/>
            <a:ext cx="8458200" cy="36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9156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Melanoma is perceived to be a “radioresistant tumor”. This perception has limited the employing of radiation therapy to treat this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9156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This concept was based on radiobiologic reports  that revealed a greater fractions of surviving cells after receiving individual doses of 2 G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8" name="Group 1"/>
          <p:cNvGrpSpPr/>
          <p:nvPr/>
        </p:nvGrpSpPr>
        <p:grpSpPr>
          <a:xfrm>
            <a:off x="682560" y="476280"/>
            <a:ext cx="7783560" cy="1584360"/>
            <a:chOff x="682560" y="476280"/>
            <a:chExt cx="7783560" cy="1584360"/>
          </a:xfrm>
        </p:grpSpPr>
        <p:pic>
          <p:nvPicPr>
            <p:cNvPr id="1059" name="Picture 2" descr=""/>
            <p:cNvPicPr/>
            <p:nvPr/>
          </p:nvPicPr>
          <p:blipFill>
            <a:blip r:embed="rId1"/>
            <a:stretch/>
          </p:blipFill>
          <p:spPr>
            <a:xfrm>
              <a:off x="682560" y="476280"/>
              <a:ext cx="77835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0" name="Text Box 3"/>
            <p:cNvSpPr/>
            <p:nvPr/>
          </p:nvSpPr>
          <p:spPr>
            <a:xfrm>
              <a:off x="682560" y="476280"/>
              <a:ext cx="778356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1" name="Text Box 4"/>
          <p:cNvSpPr/>
          <p:nvPr/>
        </p:nvSpPr>
        <p:spPr>
          <a:xfrm>
            <a:off x="250920" y="2290680"/>
            <a:ext cx="8642160" cy="42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06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9156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Several retrospective studies have revealed response rates about  80% when radiation is delivered in large doses per fraction</a:t>
            </a:r>
            <a:r>
              <a:rPr b="0" lang="it-IT" sz="2800" spc="-1" strike="noStrike">
                <a:solidFill>
                  <a:srgbClr val="ffff00"/>
                </a:solidFill>
                <a:latin typeface="Book Antiqua"/>
              </a:rPr>
              <a:t> (&gt;4 Gy)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, suggesting that if t reated appropriately, melanoma is responsive to radiation therap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6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9156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(Overgaard J Radiother Oncol 1986; 5:183-192)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1"/>
          <p:cNvGrpSpPr/>
          <p:nvPr/>
        </p:nvGrpSpPr>
        <p:grpSpPr>
          <a:xfrm>
            <a:off x="676440" y="131760"/>
            <a:ext cx="7783200" cy="1352520"/>
            <a:chOff x="676440" y="131760"/>
            <a:chExt cx="7783200" cy="1352520"/>
          </a:xfrm>
        </p:grpSpPr>
        <p:pic>
          <p:nvPicPr>
            <p:cNvPr id="1063" name="Picture 2" descr=""/>
            <p:cNvPicPr/>
            <p:nvPr/>
          </p:nvPicPr>
          <p:blipFill>
            <a:blip r:embed="rId1"/>
            <a:stretch/>
          </p:blipFill>
          <p:spPr>
            <a:xfrm>
              <a:off x="676440" y="131760"/>
              <a:ext cx="778320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4" name="Text Box 3"/>
            <p:cNvSpPr/>
            <p:nvPr/>
          </p:nvSpPr>
          <p:spPr>
            <a:xfrm>
              <a:off x="676440" y="131760"/>
              <a:ext cx="7783200" cy="13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5" name="Text Box 4"/>
          <p:cNvSpPr/>
          <p:nvPr/>
        </p:nvSpPr>
        <p:spPr>
          <a:xfrm>
            <a:off x="0" y="1557360"/>
            <a:ext cx="9144000" cy="51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06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91560"/>
                <a:tab algn="l" pos="10058400"/>
                <a:tab algn="l" pos="105156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Book Antiqua"/>
              </a:rPr>
              <a:t>RTOG  8305: 8 Gy x 4 </a:t>
            </a:r>
            <a:r>
              <a:rPr b="0" lang="it-IT" sz="3000" spc="-1" strike="noStrike">
                <a:solidFill>
                  <a:srgbClr val="ffff00"/>
                </a:solidFill>
                <a:latin typeface="Book Antiqua"/>
              </a:rPr>
              <a:t>vs 2.5 Gy x 20  ( moderate hypofractionation)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6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91560"/>
                <a:tab algn="l" pos="10058400"/>
                <a:tab algn="l" pos="105156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Book Antiqua"/>
              </a:rPr>
              <a:t>137 pts,  one half of the lesions were larger than 5 cm the greatest diameter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6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91560"/>
                <a:tab algn="l" pos="10058400"/>
                <a:tab algn="l" pos="105156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Book Antiqua"/>
              </a:rPr>
              <a:t>No difference was found in complete o partial response. RR 24.2% for 8 Gy and 23.4 % for 2.5 G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9156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(Sause WT IJROBP 1991; 20: 429-43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6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91560"/>
                <a:tab algn="l" pos="10058400"/>
                <a:tab algn="l" pos="105156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Book Antiqua"/>
              </a:rPr>
              <a:t>MD Anderson Cancer Center recommended radiation therapy for appropriately selected patients  ( 6 Gy x 5/6)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6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915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6" name="Group 1"/>
          <p:cNvGrpSpPr/>
          <p:nvPr/>
        </p:nvGrpSpPr>
        <p:grpSpPr>
          <a:xfrm>
            <a:off x="682560" y="365040"/>
            <a:ext cx="7783560" cy="1584360"/>
            <a:chOff x="682560" y="365040"/>
            <a:chExt cx="7783560" cy="1584360"/>
          </a:xfrm>
        </p:grpSpPr>
        <p:pic>
          <p:nvPicPr>
            <p:cNvPr id="1067" name="Picture 2" descr=""/>
            <p:cNvPicPr/>
            <p:nvPr/>
          </p:nvPicPr>
          <p:blipFill>
            <a:blip r:embed="rId1"/>
            <a:stretch/>
          </p:blipFill>
          <p:spPr>
            <a:xfrm>
              <a:off x="682560" y="365040"/>
              <a:ext cx="77835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8" name="Text Box 3"/>
            <p:cNvSpPr/>
            <p:nvPr/>
          </p:nvSpPr>
          <p:spPr>
            <a:xfrm>
              <a:off x="682560" y="365040"/>
              <a:ext cx="778356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9" name="Text Box 4"/>
          <p:cNvSpPr/>
          <p:nvPr/>
        </p:nvSpPr>
        <p:spPr>
          <a:xfrm>
            <a:off x="0" y="2133720"/>
            <a:ext cx="4191120" cy="41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064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91560"/>
                <a:tab algn="l" pos="10058400"/>
                <a:tab algn="l" pos="105156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64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91560"/>
                <a:tab algn="l" pos="10058400"/>
                <a:tab algn="l" pos="105156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it-IT" sz="28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Lentigo maligna melanoma</a:t>
            </a:r>
            <a:r>
              <a:rPr b="0" lang="it-IT" sz="2800" spc="-1" strike="noStrike">
                <a:solidFill>
                  <a:srgbClr val="00b0f0"/>
                </a:solidFill>
                <a:latin typeface="Book Antiqua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appears as large dark plaque in sun exposed regions of the body . Radiation therapy has been used as primary therapy in patients unsuitable for surg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0" name="Picture 5" descr=""/>
          <p:cNvPicPr/>
          <p:nvPr/>
        </p:nvPicPr>
        <p:blipFill>
          <a:blip r:embed="rId2"/>
          <a:stretch/>
        </p:blipFill>
        <p:spPr>
          <a:xfrm>
            <a:off x="5003640" y="2770200"/>
            <a:ext cx="2808360" cy="2562120"/>
          </a:xfrm>
          <a:prstGeom prst="rect">
            <a:avLst/>
          </a:prstGeom>
          <a:ln w="0">
            <a:noFill/>
          </a:ln>
        </p:spPr>
      </p:pic>
      <p:sp>
        <p:nvSpPr>
          <p:cNvPr id="1071" name="Oval 6"/>
          <p:cNvSpPr/>
          <p:nvPr/>
        </p:nvSpPr>
        <p:spPr>
          <a:xfrm>
            <a:off x="5435640" y="3860640"/>
            <a:ext cx="1657440" cy="3812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Text Box 4"/>
          <p:cNvSpPr/>
          <p:nvPr/>
        </p:nvSpPr>
        <p:spPr>
          <a:xfrm>
            <a:off x="324000" y="1981080"/>
            <a:ext cx="8820000" cy="42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2880" indent="-4064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Harwood (JROBP 1983) observed results of 28 patients  treated with primary  RT: local control was achieved  in 92% ( median, 2 yea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2880" indent="-4064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Tsang (AD 1994) updated the Princess Margaret Experience : local control was 94% for resection and 90% for 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2880" indent="-4064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Schmid-Wendtner ( J AM Acad Dermatol 2000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288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reported  similar  results using superficial 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3" name="Group 1"/>
          <p:cNvGrpSpPr/>
          <p:nvPr/>
        </p:nvGrpSpPr>
        <p:grpSpPr>
          <a:xfrm>
            <a:off x="684360" y="404640"/>
            <a:ext cx="7783200" cy="1439640"/>
            <a:chOff x="684360" y="404640"/>
            <a:chExt cx="7783200" cy="1439640"/>
          </a:xfrm>
        </p:grpSpPr>
        <p:pic>
          <p:nvPicPr>
            <p:cNvPr id="1074" name="Picture 2" descr=""/>
            <p:cNvPicPr/>
            <p:nvPr/>
          </p:nvPicPr>
          <p:blipFill>
            <a:blip r:embed="rId1"/>
            <a:stretch/>
          </p:blipFill>
          <p:spPr>
            <a:xfrm>
              <a:off x="684360" y="404640"/>
              <a:ext cx="7783200" cy="14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5" name="Text Box 3"/>
            <p:cNvSpPr/>
            <p:nvPr/>
          </p:nvSpPr>
          <p:spPr>
            <a:xfrm>
              <a:off x="684360" y="404640"/>
              <a:ext cx="778320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7" name="Group 1"/>
          <p:cNvGrpSpPr/>
          <p:nvPr/>
        </p:nvGrpSpPr>
        <p:grpSpPr>
          <a:xfrm>
            <a:off x="457200" y="0"/>
            <a:ext cx="7867800" cy="1600200"/>
            <a:chOff x="457200" y="0"/>
            <a:chExt cx="7867800" cy="1600200"/>
          </a:xfrm>
        </p:grpSpPr>
        <p:pic>
          <p:nvPicPr>
            <p:cNvPr id="998" name="Picture 2" descr=""/>
            <p:cNvPicPr/>
            <p:nvPr/>
          </p:nvPicPr>
          <p:blipFill>
            <a:blip r:embed="rId1"/>
            <a:stretch/>
          </p:blipFill>
          <p:spPr>
            <a:xfrm>
              <a:off x="539640" y="0"/>
              <a:ext cx="778536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9" name="Text Box 3"/>
            <p:cNvSpPr/>
            <p:nvPr/>
          </p:nvSpPr>
          <p:spPr>
            <a:xfrm>
              <a:off x="457200" y="155520"/>
              <a:ext cx="7785000" cy="14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0" name="Text Box 4"/>
          <p:cNvSpPr/>
          <p:nvPr/>
        </p:nvSpPr>
        <p:spPr>
          <a:xfrm>
            <a:off x="401760" y="1341360"/>
            <a:ext cx="7770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06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9156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Melanoma is an almost rare tumor with increased incidence in the last five  dec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6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9156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Early diagnosis permits a curative surgery for 99% of patients in early st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1" name="Picture 5" descr=""/>
          <p:cNvPicPr/>
          <p:nvPr/>
        </p:nvPicPr>
        <p:blipFill>
          <a:blip r:embed="rId2"/>
          <a:stretch/>
        </p:blipFill>
        <p:spPr>
          <a:xfrm>
            <a:off x="2411280" y="3860640"/>
            <a:ext cx="4248360" cy="284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Treatment in lentigo malignant melanoma  </a:t>
            </a:r>
            <a:endParaRPr b="1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77" name=""/>
          <p:cNvSpPr txBox="1"/>
          <p:nvPr/>
        </p:nvSpPr>
        <p:spPr>
          <a:xfrm>
            <a:off x="394920" y="1844640"/>
            <a:ext cx="828684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For selected lentigo maligna lesions of the face where cosmetic or functional factors preclude surgery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Topical  imiquimod  cream has been more recently used as first-line treatment for nonsurgical in situ cases  Powell  AM Br J Dermatol , 2009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RT:  7Gy x5 ( &lt;3 cm), 4.5 Gy x 10 (3-5 cm), &gt; +50 G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52 pts: RC/RP  10/23, 23/29  Harwood (IJROBP, 1983)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8" name="Group 1"/>
          <p:cNvGrpSpPr/>
          <p:nvPr/>
        </p:nvGrpSpPr>
        <p:grpSpPr>
          <a:xfrm>
            <a:off x="506520" y="457200"/>
            <a:ext cx="8229600" cy="1463760"/>
            <a:chOff x="506520" y="457200"/>
            <a:chExt cx="8229600" cy="1463760"/>
          </a:xfrm>
        </p:grpSpPr>
        <p:pic>
          <p:nvPicPr>
            <p:cNvPr id="1079" name="Picture 2" descr=""/>
            <p:cNvPicPr/>
            <p:nvPr/>
          </p:nvPicPr>
          <p:blipFill>
            <a:blip r:embed="rId1"/>
            <a:stretch/>
          </p:blipFill>
          <p:spPr>
            <a:xfrm>
              <a:off x="506520" y="457200"/>
              <a:ext cx="8229600" cy="14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0" name="Text Box 3"/>
            <p:cNvSpPr/>
            <p:nvPr/>
          </p:nvSpPr>
          <p:spPr>
            <a:xfrm>
              <a:off x="506520" y="457200"/>
              <a:ext cx="8229600" cy="14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81" name="Text Box 4"/>
          <p:cNvSpPr/>
          <p:nvPr/>
        </p:nvSpPr>
        <p:spPr>
          <a:xfrm>
            <a:off x="250920" y="2209680"/>
            <a:ext cx="8893080" cy="40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2880" indent="-4064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00b0f0"/>
                </a:solidFill>
                <a:latin typeface="Book Antiqua"/>
              </a:rPr>
              <a:t>HEAD and NECK MUCOSAL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:  Douglas ( JOHNS 2010) observe data of retrospective analysis : it is reported an OS of  32% at 5 years in patients treated with 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2880" indent="-4064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00b0f0"/>
                </a:solidFill>
                <a:latin typeface="Book Antiqua"/>
              </a:rPr>
              <a:t>SINONASAL MUCOSAL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: Narasimhan (Skull Base 2009) report the experience with sinonasal mucosal melanoma observing an OS at 5 years of 34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2" name="Group 1"/>
          <p:cNvGrpSpPr/>
          <p:nvPr/>
        </p:nvGrpSpPr>
        <p:grpSpPr>
          <a:xfrm>
            <a:off x="533520" y="285840"/>
            <a:ext cx="7783560" cy="1438200"/>
            <a:chOff x="533520" y="285840"/>
            <a:chExt cx="7783560" cy="1438200"/>
          </a:xfrm>
        </p:grpSpPr>
        <p:pic>
          <p:nvPicPr>
            <p:cNvPr id="1083" name="Picture 2" descr=""/>
            <p:cNvPicPr/>
            <p:nvPr/>
          </p:nvPicPr>
          <p:blipFill>
            <a:blip r:embed="rId1"/>
            <a:stretch/>
          </p:blipFill>
          <p:spPr>
            <a:xfrm>
              <a:off x="533520" y="285840"/>
              <a:ext cx="778356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4" name="Text Box 3"/>
            <p:cNvSpPr/>
            <p:nvPr/>
          </p:nvSpPr>
          <p:spPr>
            <a:xfrm>
              <a:off x="533520" y="285840"/>
              <a:ext cx="7783560" cy="14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85" name="Text Box 4"/>
          <p:cNvSpPr/>
          <p:nvPr/>
        </p:nvSpPr>
        <p:spPr>
          <a:xfrm>
            <a:off x="0" y="2209680"/>
            <a:ext cx="914400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2880" indent="-406440" algn="ctr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onzalez ( Appl Radiat Isot 2009) clearly have demonstrated the therapeutic efficacy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BNCT (Boron Neutron Capture Therapy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 “for the treatment of primary cutaneous melanoma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in patients who are not candidates for other forms of therapy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288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Picture 1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grpSp>
        <p:nvGrpSpPr>
          <p:cNvPr id="1087" name="Group 1"/>
          <p:cNvGrpSpPr/>
          <p:nvPr/>
        </p:nvGrpSpPr>
        <p:grpSpPr>
          <a:xfrm>
            <a:off x="0" y="115920"/>
            <a:ext cx="9145080" cy="1152000"/>
            <a:chOff x="0" y="115920"/>
            <a:chExt cx="9145080" cy="1152000"/>
          </a:xfrm>
        </p:grpSpPr>
        <p:pic>
          <p:nvPicPr>
            <p:cNvPr id="1088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290160"/>
              <a:ext cx="914508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9" name="Text Box 3"/>
            <p:cNvSpPr/>
            <p:nvPr/>
          </p:nvSpPr>
          <p:spPr>
            <a:xfrm>
              <a:off x="0" y="115920"/>
              <a:ext cx="914508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0" name="Group 1"/>
          <p:cNvGrpSpPr/>
          <p:nvPr/>
        </p:nvGrpSpPr>
        <p:grpSpPr>
          <a:xfrm>
            <a:off x="0" y="0"/>
            <a:ext cx="9145080" cy="1152000"/>
            <a:chOff x="0" y="0"/>
            <a:chExt cx="9145080" cy="1152000"/>
          </a:xfrm>
        </p:grpSpPr>
        <p:pic>
          <p:nvPicPr>
            <p:cNvPr id="1091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174240"/>
              <a:ext cx="914508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2" name="Text Box 3"/>
            <p:cNvSpPr/>
            <p:nvPr/>
          </p:nvSpPr>
          <p:spPr>
            <a:xfrm>
              <a:off x="0" y="0"/>
              <a:ext cx="914508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93" name="Picture 5" descr=""/>
          <p:cNvPicPr/>
          <p:nvPr/>
        </p:nvPicPr>
        <p:blipFill>
          <a:blip r:embed="rId2"/>
          <a:stretch/>
        </p:blipFill>
        <p:spPr>
          <a:xfrm>
            <a:off x="0" y="1125360"/>
            <a:ext cx="2819520" cy="276408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6" descr=""/>
          <p:cNvPicPr/>
          <p:nvPr/>
        </p:nvPicPr>
        <p:blipFill>
          <a:blip r:embed="rId3"/>
          <a:stretch/>
        </p:blipFill>
        <p:spPr>
          <a:xfrm>
            <a:off x="3132000" y="1125360"/>
            <a:ext cx="2810160" cy="275436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7" descr=""/>
          <p:cNvPicPr/>
          <p:nvPr/>
        </p:nvPicPr>
        <p:blipFill>
          <a:blip r:embed="rId4"/>
          <a:stretch/>
        </p:blipFill>
        <p:spPr>
          <a:xfrm>
            <a:off x="6248520" y="1052640"/>
            <a:ext cx="2895480" cy="284940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8" descr=""/>
          <p:cNvPicPr/>
          <p:nvPr/>
        </p:nvPicPr>
        <p:blipFill>
          <a:blip r:embed="rId5"/>
          <a:stretch/>
        </p:blipFill>
        <p:spPr>
          <a:xfrm>
            <a:off x="395280" y="4005360"/>
            <a:ext cx="8375760" cy="28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7" name="Picture 2" descr=""/>
          <p:cNvPicPr/>
          <p:nvPr/>
        </p:nvPicPr>
        <p:blipFill>
          <a:blip r:embed="rId1"/>
          <a:stretch/>
        </p:blipFill>
        <p:spPr>
          <a:xfrm>
            <a:off x="539640" y="3284640"/>
            <a:ext cx="528012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-360" y="549360"/>
            <a:ext cx="352908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OTAL SCALP</a:t>
            </a:r>
            <a:endParaRPr b="1" lang="en-US" sz="36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99" name="Text Box 5"/>
          <p:cNvSpPr/>
          <p:nvPr/>
        </p:nvSpPr>
        <p:spPr>
          <a:xfrm>
            <a:off x="4341240" y="29718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  <a:ea typeface="MS PGothic"/>
              </a:rPr>
              <a:t>PTV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0" name="Picture 6" descr=""/>
          <p:cNvPicPr/>
          <p:nvPr/>
        </p:nvPicPr>
        <p:blipFill>
          <a:blip r:embed="rId2"/>
          <a:stretch/>
        </p:blipFill>
        <p:spPr>
          <a:xfrm>
            <a:off x="3962520" y="96840"/>
            <a:ext cx="1904760" cy="203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01" name="Picture 7" descr=""/>
          <p:cNvPicPr/>
          <p:nvPr/>
        </p:nvPicPr>
        <p:blipFill>
          <a:blip r:embed="rId3"/>
          <a:stretch/>
        </p:blipFill>
        <p:spPr>
          <a:xfrm>
            <a:off x="3962520" y="2238480"/>
            <a:ext cx="1957320" cy="72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02" name="Picture 8" descr=""/>
          <p:cNvPicPr/>
          <p:nvPr/>
        </p:nvPicPr>
        <p:blipFill>
          <a:blip r:embed="rId4"/>
          <a:stretch/>
        </p:blipFill>
        <p:spPr>
          <a:xfrm>
            <a:off x="6302520" y="0"/>
            <a:ext cx="2832120" cy="662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03" name="Text Box 9"/>
          <p:cNvSpPr/>
          <p:nvPr/>
        </p:nvSpPr>
        <p:spPr>
          <a:xfrm>
            <a:off x="324000" y="1700280"/>
            <a:ext cx="327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La tecnica convenzionale prevede la sovrapposizione di campi elettroni e fotoni con notevole complessit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1"/>
          <p:cNvGrpSpPr/>
          <p:nvPr/>
        </p:nvGrpSpPr>
        <p:grpSpPr>
          <a:xfrm>
            <a:off x="-6480" y="133200"/>
            <a:ext cx="7783560" cy="1438560"/>
            <a:chOff x="-6480" y="133200"/>
            <a:chExt cx="7783560" cy="1438560"/>
          </a:xfrm>
        </p:grpSpPr>
        <p:pic>
          <p:nvPicPr>
            <p:cNvPr id="1105" name="Picture 2" descr=""/>
            <p:cNvPicPr/>
            <p:nvPr/>
          </p:nvPicPr>
          <p:blipFill>
            <a:blip r:embed="rId1"/>
            <a:stretch/>
          </p:blipFill>
          <p:spPr>
            <a:xfrm>
              <a:off x="-6480" y="133200"/>
              <a:ext cx="7783560" cy="143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6" name="Text Box 3"/>
            <p:cNvSpPr/>
            <p:nvPr/>
          </p:nvSpPr>
          <p:spPr>
            <a:xfrm>
              <a:off x="-6480" y="133200"/>
              <a:ext cx="7783560" cy="14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07" name="Text Box 4"/>
          <p:cNvSpPr/>
          <p:nvPr/>
        </p:nvSpPr>
        <p:spPr>
          <a:xfrm>
            <a:off x="0" y="160020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6120" indent="-406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6120"/>
                <a:tab algn="l" pos="1003320"/>
                <a:tab algn="l" pos="1460520"/>
                <a:tab algn="l" pos="1917720"/>
                <a:tab algn="l" pos="2374920"/>
                <a:tab algn="l" pos="2832120"/>
                <a:tab algn="l" pos="3289320"/>
                <a:tab algn="l" pos="3746520"/>
                <a:tab algn="l" pos="4203720"/>
                <a:tab algn="l" pos="4660920"/>
                <a:tab algn="l" pos="5118120"/>
                <a:tab algn="l" pos="5575320"/>
                <a:tab algn="l" pos="6032520"/>
                <a:tab algn="l" pos="6489720"/>
                <a:tab algn="l" pos="6946920"/>
                <a:tab algn="l" pos="7404120"/>
                <a:tab algn="l" pos="7861320"/>
                <a:tab algn="l" pos="8318520"/>
                <a:tab algn="l" pos="8775720"/>
                <a:tab algn="l" pos="9232920"/>
                <a:tab algn="l" pos="969012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6120" indent="-4064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546120"/>
                <a:tab algn="l" pos="1003320"/>
                <a:tab algn="l" pos="1460520"/>
                <a:tab algn="l" pos="1917720"/>
                <a:tab algn="l" pos="2374920"/>
                <a:tab algn="l" pos="2832120"/>
                <a:tab algn="l" pos="3289320"/>
                <a:tab algn="l" pos="3746520"/>
                <a:tab algn="l" pos="4203720"/>
                <a:tab algn="l" pos="4660920"/>
                <a:tab algn="l" pos="5118120"/>
                <a:tab algn="l" pos="5575320"/>
                <a:tab algn="l" pos="6032520"/>
                <a:tab algn="l" pos="6489720"/>
                <a:tab algn="l" pos="6946920"/>
                <a:tab algn="l" pos="7404120"/>
                <a:tab algn="l" pos="7861320"/>
                <a:tab algn="l" pos="8318520"/>
                <a:tab algn="l" pos="8775720"/>
                <a:tab algn="l" pos="9232920"/>
                <a:tab algn="l" pos="969012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Yanagi ( IJROBP 2010) observed that </a:t>
            </a:r>
            <a:r>
              <a:rPr b="0" lang="en-US" sz="2800" spc="-1" strike="noStrike">
                <a:solidFill>
                  <a:srgbClr val="00b0f0"/>
                </a:solidFill>
                <a:latin typeface="Book Antiqua"/>
              </a:rPr>
              <a:t>Carbon Ion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adiotherapy is a safe and effective treatment for mucosal melanoma of the head and neck in terms of high local control and acceptable toxiciti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6120" indent="-4064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546120"/>
                <a:tab algn="l" pos="1003320"/>
                <a:tab algn="l" pos="1460520"/>
                <a:tab algn="l" pos="1917720"/>
                <a:tab algn="l" pos="2374920"/>
                <a:tab algn="l" pos="2832120"/>
                <a:tab algn="l" pos="3289320"/>
                <a:tab algn="l" pos="3746520"/>
                <a:tab algn="l" pos="4203720"/>
                <a:tab algn="l" pos="4660920"/>
                <a:tab algn="l" pos="5118120"/>
                <a:tab algn="l" pos="5575320"/>
                <a:tab algn="l" pos="6032520"/>
                <a:tab algn="l" pos="6489720"/>
                <a:tab algn="l" pos="6946920"/>
                <a:tab algn="l" pos="7404120"/>
                <a:tab algn="l" pos="7861320"/>
                <a:tab algn="l" pos="8318520"/>
                <a:tab algn="l" pos="8775720"/>
                <a:tab algn="l" pos="9232920"/>
                <a:tab algn="l" pos="969012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edian follow-up 49,2 ms. 3-ys survival rates 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46,1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6120" indent="-4064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546120"/>
                <a:tab algn="l" pos="1003320"/>
                <a:tab algn="l" pos="1460520"/>
                <a:tab algn="l" pos="1917720"/>
                <a:tab algn="l" pos="2374920"/>
                <a:tab algn="l" pos="2832120"/>
                <a:tab algn="l" pos="3289320"/>
                <a:tab algn="l" pos="3746520"/>
                <a:tab algn="l" pos="4203720"/>
                <a:tab algn="l" pos="4660920"/>
                <a:tab algn="l" pos="5118120"/>
                <a:tab algn="l" pos="5575320"/>
                <a:tab algn="l" pos="6032520"/>
                <a:tab algn="l" pos="6489720"/>
                <a:tab algn="l" pos="6946920"/>
                <a:tab algn="l" pos="7404120"/>
                <a:tab algn="l" pos="7861320"/>
                <a:tab algn="l" pos="8318520"/>
                <a:tab algn="l" pos="8775720"/>
                <a:tab algn="l" pos="9232920"/>
                <a:tab algn="l" pos="969012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verall survival rate was better than in those treated with conventional radiotherapy and was comparable to that with surg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8" name="Group 1"/>
          <p:cNvGrpSpPr/>
          <p:nvPr/>
        </p:nvGrpSpPr>
        <p:grpSpPr>
          <a:xfrm>
            <a:off x="0" y="115920"/>
            <a:ext cx="9145080" cy="1152000"/>
            <a:chOff x="0" y="115920"/>
            <a:chExt cx="9145080" cy="1152000"/>
          </a:xfrm>
        </p:grpSpPr>
        <p:pic>
          <p:nvPicPr>
            <p:cNvPr id="1109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290160"/>
              <a:ext cx="914508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0" name="Text Box 3"/>
            <p:cNvSpPr/>
            <p:nvPr/>
          </p:nvSpPr>
          <p:spPr>
            <a:xfrm>
              <a:off x="0" y="115920"/>
              <a:ext cx="914508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1" name="Group 5"/>
          <p:cNvGrpSpPr/>
          <p:nvPr/>
        </p:nvGrpSpPr>
        <p:grpSpPr>
          <a:xfrm>
            <a:off x="755640" y="1916280"/>
            <a:ext cx="7846560" cy="3673440"/>
            <a:chOff x="755640" y="1916280"/>
            <a:chExt cx="7846560" cy="3673440"/>
          </a:xfrm>
        </p:grpSpPr>
        <p:graphicFrame>
          <p:nvGraphicFramePr>
            <p:cNvPr id="1112" name="Object 6"/>
            <p:cNvGraphicFramePr/>
            <p:nvPr/>
          </p:nvGraphicFramePr>
          <p:xfrm>
            <a:off x="755640" y="1916280"/>
            <a:ext cx="4020120" cy="36734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13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55640" y="1916280"/>
                      <a:ext cx="4020120" cy="367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14" name="Object 7"/>
            <p:cNvGraphicFramePr/>
            <p:nvPr/>
          </p:nvGraphicFramePr>
          <p:xfrm>
            <a:off x="4629600" y="1916280"/>
            <a:ext cx="3972600" cy="36702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115" name="Object 7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629600" y="1916280"/>
                      <a:ext cx="3972600" cy="367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16" name="AutoShape 9"/>
          <p:cNvSpPr/>
          <p:nvPr/>
        </p:nvSpPr>
        <p:spPr>
          <a:xfrm>
            <a:off x="3635280" y="3645000"/>
            <a:ext cx="1656000" cy="1081080"/>
          </a:xfrm>
          <a:custGeom>
            <a:avLst/>
            <a:gdLst>
              <a:gd name="textAreaLeft" fmla="*/ 258480 w 1656000"/>
              <a:gd name="textAreaRight" fmla="*/ 1449000 w 1656000"/>
              <a:gd name="textAreaTop" fmla="*/ 270360 h 1081080"/>
              <a:gd name="textAreaBottom" fmla="*/ 811080 h 1081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7" name="Group 1"/>
          <p:cNvGrpSpPr/>
          <p:nvPr/>
        </p:nvGrpSpPr>
        <p:grpSpPr>
          <a:xfrm>
            <a:off x="457200" y="160200"/>
            <a:ext cx="7783560" cy="1438560"/>
            <a:chOff x="457200" y="160200"/>
            <a:chExt cx="7783560" cy="1438560"/>
          </a:xfrm>
        </p:grpSpPr>
        <p:pic>
          <p:nvPicPr>
            <p:cNvPr id="1118" name="Picture 2" descr=""/>
            <p:cNvPicPr/>
            <p:nvPr/>
          </p:nvPicPr>
          <p:blipFill>
            <a:blip r:embed="rId1"/>
            <a:stretch/>
          </p:blipFill>
          <p:spPr>
            <a:xfrm>
              <a:off x="457200" y="160200"/>
              <a:ext cx="7783560" cy="143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9" name="Text Box 3"/>
            <p:cNvSpPr/>
            <p:nvPr/>
          </p:nvSpPr>
          <p:spPr>
            <a:xfrm>
              <a:off x="457200" y="160200"/>
              <a:ext cx="7783560" cy="14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0" name="Text Box 4"/>
          <p:cNvSpPr/>
          <p:nvPr/>
        </p:nvSpPr>
        <p:spPr>
          <a:xfrm>
            <a:off x="0" y="1600200"/>
            <a:ext cx="914400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6120" indent="-406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6120"/>
                <a:tab algn="l" pos="1003320"/>
                <a:tab algn="l" pos="1460520"/>
                <a:tab algn="l" pos="1917720"/>
                <a:tab algn="l" pos="2374920"/>
                <a:tab algn="l" pos="2832120"/>
                <a:tab algn="l" pos="3289320"/>
                <a:tab algn="l" pos="3746520"/>
                <a:tab algn="l" pos="4203720"/>
                <a:tab algn="l" pos="4660920"/>
                <a:tab algn="l" pos="5118120"/>
                <a:tab algn="l" pos="5575320"/>
                <a:tab algn="l" pos="6032520"/>
                <a:tab algn="l" pos="6489720"/>
                <a:tab algn="l" pos="6946920"/>
                <a:tab algn="l" pos="7404120"/>
                <a:tab algn="l" pos="7861320"/>
                <a:tab algn="l" pos="8318520"/>
                <a:tab algn="l" pos="8775720"/>
                <a:tab algn="l" pos="9232920"/>
                <a:tab algn="l" pos="969012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6120" indent="-4064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546120"/>
                <a:tab algn="l" pos="1003320"/>
                <a:tab algn="l" pos="1460520"/>
                <a:tab algn="l" pos="1917720"/>
                <a:tab algn="l" pos="2374920"/>
                <a:tab algn="l" pos="2832120"/>
                <a:tab algn="l" pos="3289320"/>
                <a:tab algn="l" pos="3746520"/>
                <a:tab algn="l" pos="4203720"/>
                <a:tab algn="l" pos="4660920"/>
                <a:tab algn="l" pos="5118120"/>
                <a:tab algn="l" pos="5575320"/>
                <a:tab algn="l" pos="6032520"/>
                <a:tab algn="l" pos="6489720"/>
                <a:tab algn="l" pos="6946920"/>
                <a:tab algn="l" pos="7404120"/>
                <a:tab algn="l" pos="7861320"/>
                <a:tab algn="l" pos="8318520"/>
                <a:tab algn="l" pos="8775720"/>
                <a:tab algn="l" pos="9232920"/>
                <a:tab algn="l" pos="969012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Zenda ( IJROBP 2010) observed that </a:t>
            </a:r>
            <a:r>
              <a:rPr b="0" lang="en-US" sz="2800" spc="-1" strike="noStrike">
                <a:solidFill>
                  <a:srgbClr val="00b0f0"/>
                </a:solidFill>
                <a:latin typeface="Book Antiqua"/>
              </a:rPr>
              <a:t>Proton beam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rapy showed promising local control benefit for mucosal melanoma of the head and neck in terms of high local contro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6120" indent="-4064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546120"/>
                <a:tab algn="l" pos="1003320"/>
                <a:tab algn="l" pos="1460520"/>
                <a:tab algn="l" pos="1917720"/>
                <a:tab algn="l" pos="2374920"/>
                <a:tab algn="l" pos="2832120"/>
                <a:tab algn="l" pos="3289320"/>
                <a:tab algn="l" pos="3746520"/>
                <a:tab algn="l" pos="4203720"/>
                <a:tab algn="l" pos="4660920"/>
                <a:tab algn="l" pos="5118120"/>
                <a:tab algn="l" pos="5575320"/>
                <a:tab algn="l" pos="6032520"/>
                <a:tab algn="l" pos="6489720"/>
                <a:tab algn="l" pos="6946920"/>
                <a:tab algn="l" pos="7404120"/>
                <a:tab algn="l" pos="7861320"/>
                <a:tab algn="l" pos="8318520"/>
                <a:tab algn="l" pos="8775720"/>
                <a:tab algn="l" pos="9232920"/>
                <a:tab algn="l" pos="969012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4 Gy x 15 fr. 3-ys overall survival rates was 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58.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6120" indent="-4064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546120"/>
                <a:tab algn="l" pos="1003320"/>
                <a:tab algn="l" pos="1460520"/>
                <a:tab algn="l" pos="1917720"/>
                <a:tab algn="l" pos="2374920"/>
                <a:tab algn="l" pos="2832120"/>
                <a:tab algn="l" pos="3289320"/>
                <a:tab algn="l" pos="3746520"/>
                <a:tab algn="l" pos="4203720"/>
                <a:tab algn="l" pos="4660920"/>
                <a:tab algn="l" pos="5118120"/>
                <a:tab algn="l" pos="5575320"/>
                <a:tab algn="l" pos="6032520"/>
                <a:tab algn="l" pos="6489720"/>
                <a:tab algn="l" pos="6946920"/>
                <a:tab algn="l" pos="7404120"/>
                <a:tab algn="l" pos="7861320"/>
                <a:tab algn="l" pos="8318520"/>
                <a:tab algn="l" pos="8775720"/>
                <a:tab algn="l" pos="9232920"/>
                <a:tab algn="l" pos="969012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confirm the efficacy and safety, a phase II study of hypofractionated PBT for mucosal melanoma of the head and neck using the same treatment schedule as the present study is now ongoing in Jap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1" name="Group 1"/>
          <p:cNvGrpSpPr/>
          <p:nvPr/>
        </p:nvGrpSpPr>
        <p:grpSpPr>
          <a:xfrm>
            <a:off x="228600" y="228600"/>
            <a:ext cx="7783560" cy="1438200"/>
            <a:chOff x="228600" y="228600"/>
            <a:chExt cx="7783560" cy="1438200"/>
          </a:xfrm>
        </p:grpSpPr>
        <p:pic>
          <p:nvPicPr>
            <p:cNvPr id="1122" name="Picture 2" descr=""/>
            <p:cNvPicPr/>
            <p:nvPr/>
          </p:nvPicPr>
          <p:blipFill>
            <a:blip r:embed="rId1"/>
            <a:stretch/>
          </p:blipFill>
          <p:spPr>
            <a:xfrm>
              <a:off x="228600" y="228600"/>
              <a:ext cx="778356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3" name="Text Box 3"/>
            <p:cNvSpPr/>
            <p:nvPr/>
          </p:nvSpPr>
          <p:spPr>
            <a:xfrm>
              <a:off x="228600" y="228600"/>
              <a:ext cx="7783560" cy="14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4" name="Text Box 4"/>
          <p:cNvSpPr/>
          <p:nvPr/>
        </p:nvSpPr>
        <p:spPr>
          <a:xfrm>
            <a:off x="0" y="160020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6120" indent="-406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6120"/>
                <a:tab algn="l" pos="1003320"/>
                <a:tab algn="l" pos="1460520"/>
                <a:tab algn="l" pos="1917720"/>
                <a:tab algn="l" pos="2374920"/>
                <a:tab algn="l" pos="2832120"/>
                <a:tab algn="l" pos="3289320"/>
                <a:tab algn="l" pos="3746520"/>
                <a:tab algn="l" pos="4203720"/>
                <a:tab algn="l" pos="4660920"/>
                <a:tab algn="l" pos="5118120"/>
                <a:tab algn="l" pos="5575320"/>
                <a:tab algn="l" pos="6032520"/>
                <a:tab algn="l" pos="6489720"/>
                <a:tab algn="l" pos="6946920"/>
                <a:tab algn="l" pos="7404120"/>
                <a:tab algn="l" pos="7861320"/>
                <a:tab algn="l" pos="8318520"/>
                <a:tab algn="l" pos="8775720"/>
                <a:tab algn="l" pos="9232920"/>
                <a:tab algn="l" pos="969012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6120" indent="-4064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546120"/>
                <a:tab algn="l" pos="1003320"/>
                <a:tab algn="l" pos="1460520"/>
                <a:tab algn="l" pos="1917720"/>
                <a:tab algn="l" pos="2374920"/>
                <a:tab algn="l" pos="2832120"/>
                <a:tab algn="l" pos="3289320"/>
                <a:tab algn="l" pos="3746520"/>
                <a:tab algn="l" pos="4203720"/>
                <a:tab algn="l" pos="4660920"/>
                <a:tab algn="l" pos="5118120"/>
                <a:tab algn="l" pos="5575320"/>
                <a:tab algn="l" pos="6032520"/>
                <a:tab algn="l" pos="6489720"/>
                <a:tab algn="l" pos="6946920"/>
                <a:tab algn="l" pos="7404120"/>
                <a:tab algn="l" pos="7861320"/>
                <a:tab algn="l" pos="8318520"/>
                <a:tab algn="l" pos="8775720"/>
                <a:tab algn="l" pos="9232920"/>
                <a:tab algn="l" pos="969012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ypofractionation  (may be) and high BED : are a promising non surgical modalit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6120" indent="-4064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546120"/>
                <a:tab algn="l" pos="1003320"/>
                <a:tab algn="l" pos="1460520"/>
                <a:tab algn="l" pos="1917720"/>
                <a:tab algn="l" pos="2374920"/>
                <a:tab algn="l" pos="2832120"/>
                <a:tab algn="l" pos="3289320"/>
                <a:tab algn="l" pos="3746520"/>
                <a:tab algn="l" pos="4203720"/>
                <a:tab algn="l" pos="4660920"/>
                <a:tab algn="l" pos="5118120"/>
                <a:tab algn="l" pos="5575320"/>
                <a:tab algn="l" pos="6032520"/>
                <a:tab algn="l" pos="6489720"/>
                <a:tab algn="l" pos="6946920"/>
                <a:tab algn="l" pos="7404120"/>
                <a:tab algn="l" pos="7861320"/>
                <a:tab algn="l" pos="8318520"/>
                <a:tab algn="l" pos="8775720"/>
                <a:tab algn="l" pos="9232920"/>
                <a:tab algn="l" pos="969012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remains controversial whether cervical lymph nodes should be included in the treatment fiel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6120" indent="-4064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546120"/>
                <a:tab algn="l" pos="1003320"/>
                <a:tab algn="l" pos="1460520"/>
                <a:tab algn="l" pos="1917720"/>
                <a:tab algn="l" pos="2374920"/>
                <a:tab algn="l" pos="2832120"/>
                <a:tab algn="l" pos="3289320"/>
                <a:tab algn="l" pos="3746520"/>
                <a:tab algn="l" pos="4203720"/>
                <a:tab algn="l" pos="4660920"/>
                <a:tab algn="l" pos="5118120"/>
                <a:tab algn="l" pos="5575320"/>
                <a:tab algn="l" pos="6032520"/>
                <a:tab algn="l" pos="6489720"/>
                <a:tab algn="l" pos="6946920"/>
                <a:tab algn="l" pos="7404120"/>
                <a:tab algn="l" pos="7861320"/>
                <a:tab algn="l" pos="8318520"/>
                <a:tab algn="l" pos="8775720"/>
                <a:tab algn="l" pos="9232920"/>
                <a:tab algn="l" pos="969012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t the present is to institute close follow-up after PBT and to detect signs of recurrence or regrowth as early as possibl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1"/>
          <p:cNvGrpSpPr/>
          <p:nvPr/>
        </p:nvGrpSpPr>
        <p:grpSpPr>
          <a:xfrm>
            <a:off x="457200" y="0"/>
            <a:ext cx="7783560" cy="1483920"/>
            <a:chOff x="457200" y="0"/>
            <a:chExt cx="7783560" cy="1483920"/>
          </a:xfrm>
        </p:grpSpPr>
        <p:pic>
          <p:nvPicPr>
            <p:cNvPr id="1003" name="Picture 2" descr=""/>
            <p:cNvPicPr/>
            <p:nvPr/>
          </p:nvPicPr>
          <p:blipFill>
            <a:blip r:embed="rId1"/>
            <a:stretch/>
          </p:blipFill>
          <p:spPr>
            <a:xfrm>
              <a:off x="457200" y="0"/>
              <a:ext cx="7783560" cy="14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4" name="Text Box 3"/>
            <p:cNvSpPr/>
            <p:nvPr/>
          </p:nvSpPr>
          <p:spPr>
            <a:xfrm>
              <a:off x="457200" y="0"/>
              <a:ext cx="7783560" cy="14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5" name="Text Box 4"/>
          <p:cNvSpPr/>
          <p:nvPr/>
        </p:nvSpPr>
        <p:spPr>
          <a:xfrm>
            <a:off x="0" y="1413000"/>
            <a:ext cx="9144000" cy="42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2880" indent="-4064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Book Antiqua"/>
              </a:rPr>
              <a:t>Histogenetic type of primary cutaneous melanoma. 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Germline mutations  CDKN2A/p16 , tumor-suppressor gene (MCR1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2880" indent="-4064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Book Antiqua"/>
              </a:rPr>
              <a:t>Superficial Spreading Melanoma 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comprises  70 % of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2880" indent="-4064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Book Antiqua"/>
              </a:rPr>
              <a:t>Nodular Melanoma 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is the second most common subtype with 15-25 % of cases. Arises on the skin of the trunk or in </a:t>
            </a:r>
            <a:r>
              <a:rPr b="0" i="1" lang="it-IT" sz="2800" spc="-1" strike="noStrike">
                <a:solidFill>
                  <a:srgbClr val="ffffff"/>
                </a:solidFill>
                <a:latin typeface="Book Antiqua"/>
              </a:rPr>
              <a:t>head and neck reg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2880" indent="-4064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Book Antiqua"/>
              </a:rPr>
              <a:t>Lentigo Maligna Melanoma 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represent less than 10% and occurs on the </a:t>
            </a:r>
            <a:r>
              <a:rPr b="0" i="1" lang="it-IT" sz="2800" spc="-1" strike="noStrike">
                <a:solidFill>
                  <a:srgbClr val="ffffff"/>
                </a:solidFill>
                <a:latin typeface="Book Antiqua"/>
              </a:rPr>
              <a:t>face or neck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2880" indent="-4064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Book Antiqua"/>
              </a:rPr>
              <a:t>Acral lentiginous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: 5% in whites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5" name="Group 1"/>
          <p:cNvGrpSpPr/>
          <p:nvPr/>
        </p:nvGrpSpPr>
        <p:grpSpPr>
          <a:xfrm>
            <a:off x="826920" y="333360"/>
            <a:ext cx="7777440" cy="1584360"/>
            <a:chOff x="826920" y="333360"/>
            <a:chExt cx="7777440" cy="1584360"/>
          </a:xfrm>
        </p:grpSpPr>
        <p:pic>
          <p:nvPicPr>
            <p:cNvPr id="1126" name="Picture 2" descr=""/>
            <p:cNvPicPr/>
            <p:nvPr/>
          </p:nvPicPr>
          <p:blipFill>
            <a:blip r:embed="rId1"/>
            <a:stretch/>
          </p:blipFill>
          <p:spPr>
            <a:xfrm>
              <a:off x="826920" y="333360"/>
              <a:ext cx="7777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7" name="Text Box 3"/>
            <p:cNvSpPr/>
            <p:nvPr/>
          </p:nvSpPr>
          <p:spPr>
            <a:xfrm>
              <a:off x="826920" y="333360"/>
              <a:ext cx="777744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8" name="Text Box 4"/>
          <p:cNvSpPr/>
          <p:nvPr/>
        </p:nvSpPr>
        <p:spPr>
          <a:xfrm>
            <a:off x="0" y="2363760"/>
            <a:ext cx="9144000" cy="42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9156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Radiotherapy  is commonly used for palliation of advanced  melanom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9156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One area of substantial research interest was attempting to define the optimal dose-fraction RT scheme for use in this setti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9156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Overgaard (1995) 70 pts with metastatic/recurrent melanoma randomized 27Gy in 3 fr alone or followed by hyperthermia. HT improved LC (25&gt; 56%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9156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9" name="Group 1"/>
          <p:cNvGrpSpPr/>
          <p:nvPr/>
        </p:nvGrpSpPr>
        <p:grpSpPr>
          <a:xfrm>
            <a:off x="826920" y="196920"/>
            <a:ext cx="7783560" cy="1144440"/>
            <a:chOff x="826920" y="196920"/>
            <a:chExt cx="7783560" cy="1144440"/>
          </a:xfrm>
        </p:grpSpPr>
        <p:pic>
          <p:nvPicPr>
            <p:cNvPr id="1130" name="Picture 2" descr=""/>
            <p:cNvPicPr/>
            <p:nvPr/>
          </p:nvPicPr>
          <p:blipFill>
            <a:blip r:embed="rId1"/>
            <a:stretch/>
          </p:blipFill>
          <p:spPr>
            <a:xfrm>
              <a:off x="826920" y="196920"/>
              <a:ext cx="7783560" cy="11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Text Box 3"/>
            <p:cNvSpPr/>
            <p:nvPr/>
          </p:nvSpPr>
          <p:spPr>
            <a:xfrm>
              <a:off x="826920" y="196920"/>
              <a:ext cx="778356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2" name="Text Box 4"/>
          <p:cNvSpPr/>
          <p:nvPr/>
        </p:nvSpPr>
        <p:spPr>
          <a:xfrm>
            <a:off x="0" y="1916280"/>
            <a:ext cx="9144000" cy="38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2880" indent="-4064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Book Antiqua"/>
              </a:rPr>
              <a:t>Adjuvant radiotherapy 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has been shown to improve local control of selected cas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2880" indent="-4064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Radiation therapy has been used as </a:t>
            </a:r>
            <a:r>
              <a:rPr b="0" lang="it-IT" sz="2800" spc="-1" strike="noStrike">
                <a:solidFill>
                  <a:srgbClr val="ffff00"/>
                </a:solidFill>
                <a:latin typeface="Book Antiqua"/>
              </a:rPr>
              <a:t>primary therapy 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for melanomas arising on the s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2880" indent="-4064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Book Antiqua"/>
              </a:rPr>
              <a:t>Elective indication 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in the primary treatment for  head and neck mucosal melano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2880" indent="-4064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Radiotherapy has been succesfully used for the </a:t>
            </a:r>
            <a:r>
              <a:rPr b="0" lang="it-IT" sz="2800" spc="-1" strike="noStrike">
                <a:solidFill>
                  <a:srgbClr val="ffff00"/>
                </a:solidFill>
                <a:latin typeface="Book Antiqua"/>
              </a:rPr>
              <a:t>palliation of symptoms 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due to metastatic melano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288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3" name="Picture 3" descr="twip_2001_0518_01"/>
          <p:cNvPicPr/>
          <p:nvPr/>
        </p:nvPicPr>
        <p:blipFill>
          <a:blip r:embed="rId1"/>
          <a:stretch/>
        </p:blipFill>
        <p:spPr>
          <a:xfrm>
            <a:off x="324000" y="2565360"/>
            <a:ext cx="8534160" cy="4292640"/>
          </a:xfrm>
          <a:prstGeom prst="rect">
            <a:avLst/>
          </a:prstGeom>
          <a:ln w="0">
            <a:noFill/>
          </a:ln>
        </p:spPr>
      </p:pic>
      <p:sp>
        <p:nvSpPr>
          <p:cNvPr id="1134" name="Rectangle 2"/>
          <p:cNvSpPr/>
          <p:nvPr/>
        </p:nvSpPr>
        <p:spPr>
          <a:xfrm>
            <a:off x="0" y="260280"/>
            <a:ext cx="914400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nostante le indicazioni e le prospettive radioterapiche siano aumentate esiste una “diffidenza” al suo impiego nel trattamento del melanom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emento Audere Semper  (G. D’Annunzio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6" name="Group 1"/>
          <p:cNvGrpSpPr/>
          <p:nvPr/>
        </p:nvGrpSpPr>
        <p:grpSpPr>
          <a:xfrm>
            <a:off x="457200" y="228600"/>
            <a:ext cx="7783560" cy="1582560"/>
            <a:chOff x="457200" y="228600"/>
            <a:chExt cx="7783560" cy="1582560"/>
          </a:xfrm>
        </p:grpSpPr>
        <p:pic>
          <p:nvPicPr>
            <p:cNvPr id="1007" name="Picture 2" descr=""/>
            <p:cNvPicPr/>
            <p:nvPr/>
          </p:nvPicPr>
          <p:blipFill>
            <a:blip r:embed="rId1"/>
            <a:stretch/>
          </p:blipFill>
          <p:spPr>
            <a:xfrm>
              <a:off x="457200" y="228600"/>
              <a:ext cx="7783560" cy="15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8" name="Text Box 3"/>
            <p:cNvSpPr/>
            <p:nvPr/>
          </p:nvSpPr>
          <p:spPr>
            <a:xfrm>
              <a:off x="457200" y="228600"/>
              <a:ext cx="7783560" cy="15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9" name="Text Box 4"/>
          <p:cNvSpPr/>
          <p:nvPr/>
        </p:nvSpPr>
        <p:spPr>
          <a:xfrm>
            <a:off x="228600" y="1628640"/>
            <a:ext cx="891540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9156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Standard treatment for localized melanoma (stages I-IIA)&lt; 4mm without ulceration or &lt;2mm with ulceration,  is wide local excis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915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9156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margins of 1 cm               margin of 2 cm f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9156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for lesions of 1mm            lesion &gt; 1 m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9156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915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9156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                              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sentinel lymph node biops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Freeform 5"/>
          <p:cNvSpPr/>
          <p:nvPr/>
        </p:nvSpPr>
        <p:spPr>
          <a:xfrm flipV="1" rot="18780000">
            <a:off x="3234960" y="2956320"/>
            <a:ext cx="851040" cy="851040"/>
          </a:xfrm>
          <a:custGeom>
            <a:avLst/>
            <a:gdLst>
              <a:gd name="textAreaLeft" fmla="*/ 75960 w 851040"/>
              <a:gd name="textAreaRight" fmla="*/ 638280 w 851040"/>
              <a:gd name="textAreaTop" fmla="*/ 561960 h 851040"/>
              <a:gd name="textAreaBottom" fmla="*/ 714600 h 851040"/>
            </a:gdLst>
            <a:ahLst/>
            <a:rect l="textAreaLeft" t="textAreaTop" r="textAreaRight" b="textAreaBottom"/>
            <a:pathLst>
              <a:path w="850900" h="850900">
                <a:moveTo>
                  <a:pt x="0" y="638175"/>
                </a:moveTo>
                <a:lnTo>
                  <a:pt x="212725" y="425450"/>
                </a:lnTo>
                <a:lnTo>
                  <a:pt x="212725" y="561930"/>
                </a:lnTo>
                <a:lnTo>
                  <a:pt x="561930" y="561930"/>
                </a:lnTo>
                <a:lnTo>
                  <a:pt x="561930" y="212725"/>
                </a:lnTo>
                <a:lnTo>
                  <a:pt x="425450" y="212725"/>
                </a:lnTo>
                <a:lnTo>
                  <a:pt x="638175" y="0"/>
                </a:lnTo>
                <a:lnTo>
                  <a:pt x="850900" y="212725"/>
                </a:lnTo>
                <a:lnTo>
                  <a:pt x="714420" y="212725"/>
                </a:lnTo>
                <a:lnTo>
                  <a:pt x="714420" y="714420"/>
                </a:lnTo>
                <a:lnTo>
                  <a:pt x="212725" y="714420"/>
                </a:lnTo>
                <a:lnTo>
                  <a:pt x="212725" y="850900"/>
                </a:lnTo>
                <a:lnTo>
                  <a:pt x="0" y="638175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AutoShape 6"/>
          <p:cNvSpPr/>
          <p:nvPr/>
        </p:nvSpPr>
        <p:spPr>
          <a:xfrm>
            <a:off x="5438880" y="4610160"/>
            <a:ext cx="504720" cy="647640"/>
          </a:xfrm>
          <a:prstGeom prst="downArrow">
            <a:avLst>
              <a:gd name="adj1" fmla="val 39324"/>
              <a:gd name="adj2" fmla="val 41685"/>
            </a:avLst>
          </a:prstGeom>
          <a:solidFill>
            <a:srgbClr val="00b8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Group 1"/>
          <p:cNvGrpSpPr/>
          <p:nvPr/>
        </p:nvGrpSpPr>
        <p:grpSpPr>
          <a:xfrm>
            <a:off x="673200" y="457200"/>
            <a:ext cx="7783560" cy="1584360"/>
            <a:chOff x="673200" y="457200"/>
            <a:chExt cx="7783560" cy="1584360"/>
          </a:xfrm>
        </p:grpSpPr>
        <p:pic>
          <p:nvPicPr>
            <p:cNvPr id="1013" name="Picture 2" descr=""/>
            <p:cNvPicPr/>
            <p:nvPr/>
          </p:nvPicPr>
          <p:blipFill>
            <a:blip r:embed="rId1"/>
            <a:stretch/>
          </p:blipFill>
          <p:spPr>
            <a:xfrm>
              <a:off x="673200" y="457200"/>
              <a:ext cx="77835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4" name="Text Box 3"/>
            <p:cNvSpPr/>
            <p:nvPr/>
          </p:nvSpPr>
          <p:spPr>
            <a:xfrm>
              <a:off x="673200" y="457200"/>
              <a:ext cx="778356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15" name="Text Box 4"/>
          <p:cNvSpPr/>
          <p:nvPr/>
        </p:nvSpPr>
        <p:spPr>
          <a:xfrm>
            <a:off x="609480" y="2060640"/>
            <a:ext cx="85345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9156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IIC –IIB ( &gt; 4mm) and III stage with known lymph node metastases at presentation  standard treatment i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915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9156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wide local excision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9156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not include the deep fascia             limph node 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dissection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9156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(ELND)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9156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Book Antiqua"/>
              </a:rPr>
              <a:t>Risk of recurrence: 30-8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9156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AutoShape 5"/>
          <p:cNvSpPr/>
          <p:nvPr/>
        </p:nvSpPr>
        <p:spPr>
          <a:xfrm>
            <a:off x="5292720" y="4653000"/>
            <a:ext cx="431640" cy="360360"/>
          </a:xfrm>
          <a:prstGeom prst="plus">
            <a:avLst>
              <a:gd name="adj" fmla="val 41181"/>
            </a:avLst>
          </a:prstGeom>
          <a:solidFill>
            <a:srgbClr val="00b8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 txBox="1"/>
          <p:nvPr/>
        </p:nvSpPr>
        <p:spPr>
          <a:xfrm>
            <a:off x="468000" y="2204640"/>
            <a:ext cx="82868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I-II stage: RT is rarely recommended as an adjuvant to wide local excision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High- risk features such as primary thickness &gt;4 mm, HN primary site, primary ulceration have been reported to increase the risk of local recurrence  ( Urist Cancer 55: 1398-1402, 1985)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Presence of disease  (R+ or recurrence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Adjuvant radiotherapy is recommede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18" name="Picture 2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7785000" cy="15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9" name="Group 1"/>
          <p:cNvGrpSpPr/>
          <p:nvPr/>
        </p:nvGrpSpPr>
        <p:grpSpPr>
          <a:xfrm>
            <a:off x="228600" y="104760"/>
            <a:ext cx="8591400" cy="2028960"/>
            <a:chOff x="228600" y="104760"/>
            <a:chExt cx="8591400" cy="2028960"/>
          </a:xfrm>
        </p:grpSpPr>
        <p:pic>
          <p:nvPicPr>
            <p:cNvPr id="1020" name="Picture 2" descr=""/>
            <p:cNvPicPr/>
            <p:nvPr/>
          </p:nvPicPr>
          <p:blipFill>
            <a:blip r:embed="rId1"/>
            <a:stretch/>
          </p:blipFill>
          <p:spPr>
            <a:xfrm>
              <a:off x="228600" y="104760"/>
              <a:ext cx="8591400" cy="20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1" name="Text Box 3"/>
            <p:cNvSpPr/>
            <p:nvPr/>
          </p:nvSpPr>
          <p:spPr>
            <a:xfrm>
              <a:off x="228600" y="104760"/>
              <a:ext cx="8591400" cy="20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22" name="Text Box 4"/>
          <p:cNvSpPr/>
          <p:nvPr/>
        </p:nvSpPr>
        <p:spPr>
          <a:xfrm>
            <a:off x="0" y="1916280"/>
            <a:ext cx="9144000" cy="46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9156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For patients with nodal extracapsular  extension, four or more involved lymph nodes 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, larger than 3 cm or recurrent nodal disease  after previous dissection, the risk of regional recurrence can range from 30% to 50%. (Cooper  Js Cancer J 2001; 3: 342-349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9156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466 pts treated with lymphadenectomy and radiation the actuarial 5-year regional control rate for all patients was 89%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9156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Survival rates : disease specific 49%, disease free 42%, distant metastasis-free 44%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915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9156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                  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Text Box 4"/>
          <p:cNvSpPr/>
          <p:nvPr/>
        </p:nvSpPr>
        <p:spPr>
          <a:xfrm>
            <a:off x="0" y="2492280"/>
            <a:ext cx="9144000" cy="36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9156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Regional control rate of 89% at 10 years  after irradiation with 30/36 Gy in 5/6 fr or </a:t>
            </a:r>
            <a:r>
              <a:rPr b="0" lang="it-IT" sz="2800" spc="-1" strike="noStrike">
                <a:solidFill>
                  <a:srgbClr val="ffff00"/>
                </a:solidFill>
                <a:latin typeface="Book Antiqua"/>
              </a:rPr>
              <a:t>50/60 Gy in 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9156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( Bonnen MD Cancer 2004; 100; 383-389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9156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Elective nodal radiation suffers the same limitations as EL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9156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Reserve radiation therapy for patients with significant medical comorbid condition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4" name="Group 1"/>
          <p:cNvGrpSpPr/>
          <p:nvPr/>
        </p:nvGrpSpPr>
        <p:grpSpPr>
          <a:xfrm>
            <a:off x="552600" y="260280"/>
            <a:ext cx="8591400" cy="2028960"/>
            <a:chOff x="552600" y="260280"/>
            <a:chExt cx="8591400" cy="2028960"/>
          </a:xfrm>
        </p:grpSpPr>
        <p:pic>
          <p:nvPicPr>
            <p:cNvPr id="1025" name="Picture 2" descr=""/>
            <p:cNvPicPr/>
            <p:nvPr/>
          </p:nvPicPr>
          <p:blipFill>
            <a:blip r:embed="rId1"/>
            <a:stretch/>
          </p:blipFill>
          <p:spPr>
            <a:xfrm>
              <a:off x="552600" y="260280"/>
              <a:ext cx="8591400" cy="20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6" name="Text Box 3"/>
            <p:cNvSpPr/>
            <p:nvPr/>
          </p:nvSpPr>
          <p:spPr>
            <a:xfrm>
              <a:off x="552600" y="260280"/>
              <a:ext cx="8591400" cy="20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Text Box 3"/>
          <p:cNvSpPr/>
          <p:nvPr/>
        </p:nvSpPr>
        <p:spPr>
          <a:xfrm>
            <a:off x="676440" y="378000"/>
            <a:ext cx="778500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Text Box 4"/>
          <p:cNvSpPr/>
          <p:nvPr/>
        </p:nvSpPr>
        <p:spPr>
          <a:xfrm>
            <a:off x="0" y="2514600"/>
            <a:ext cx="914400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2880" indent="-4064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Referenc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2880" indent="-4064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Fuhrmann D: Br J Dermatol, 20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2880" indent="-4064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Pidhorecky I: Ann Surg Oncol 20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2880" indent="-4064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Ballo MT: IJROBP, 200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2880" indent="-4064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Ballo MT: Cancer,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2880" indent="-4064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Ballo MT: Ann Surg  Oncol, 2004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2880" indent="-4064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Ballo MT: IJROBP, 2006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2880" indent="-4064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Ballo MT: Cancer Control 2008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2880" indent="-4064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Rettangolo 6"/>
          <p:cNvSpPr/>
          <p:nvPr/>
        </p:nvSpPr>
        <p:spPr>
          <a:xfrm>
            <a:off x="468360" y="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Times New Roman"/>
              </a:rPr>
              <a:t>Should adjuvant radiotherapy  be recommended following resection of regional lymph node metastases of malignant melanomas 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rancesco</dc:creator>
  <dc:description/>
  <dc:language>en-US</dc:language>
  <cp:lastModifiedBy>tecno</cp:lastModifiedBy>
  <dcterms:modified xsi:type="dcterms:W3CDTF">2010-11-15T08:45:42Z</dcterms:modified>
  <cp:revision>250</cp:revision>
  <dc:subject/>
  <dc:title>Impiego della Tomoterapia Elicoidale nel trattamento del tumore polmonare non a piccole cellule.</dc:title>
</cp:coreProperties>
</file>