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1A5-68B8-411F-8B68-01A4AEFD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763-B88B-4BFA-B23A-F5AD562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98A-2911-48FE-9321-E879B055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4E7-85E5-44CD-9A61-31B3F548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7BE-A3F7-4C03-AA6D-2C89CE0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D2B-1430-4B56-BC1D-B9402D48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C22-E50E-438A-8C45-CB369510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792-4C3C-43FC-BAFB-20A6C833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325-5215-4EA1-93F1-F03966C6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51C-CC4E-4C30-8991-A7449D84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71C-53D1-4509-AC30-465CFE5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854-CD2A-4F8E-875B-5D18558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6C79-F0E2-4A7B-82E6-5A8BE1BA849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IBITORI DEL RECETTOR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ER-2 E RADIOTERAPIA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TT LORENZO L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D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rcRect l="84951" t="10453" r="1217" b="6250"/>
          <a:stretch/>
        </p:blipFill>
        <p:spPr>
          <a:xfrm>
            <a:off x="7380360" y="260280"/>
            <a:ext cx="1800000" cy="609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rcRect l="84951" t="10453" r="1217" b="6250"/>
          <a:stretch/>
        </p:blipFill>
        <p:spPr>
          <a:xfrm>
            <a:off x="0" y="333360"/>
            <a:ext cx="180036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22965" t="34080" r="6198" b="48297"/>
          <a:stretch/>
        </p:blipFill>
        <p:spPr>
          <a:xfrm>
            <a:off x="395280" y="692280"/>
            <a:ext cx="8748720" cy="1224000"/>
          </a:xfrm>
          <a:prstGeom prst="rect">
            <a:avLst/>
          </a:prstGeom>
          <a:ln w="0">
            <a:noFill/>
          </a:ln>
        </p:spPr>
      </p:pic>
      <p:sp>
        <p:nvSpPr>
          <p:cNvPr id="89" name="CasellaDiTesto 6"/>
          <p:cNvSpPr/>
          <p:nvPr/>
        </p:nvSpPr>
        <p:spPr>
          <a:xfrm>
            <a:off x="3476520" y="6524640"/>
            <a:ext cx="56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ug H. Int. J. Radiation Oncology Biol. Phys., Vol. 58, No. 2, pp. 344–352, 200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rcRect l="27309" t="40276" r="11239" b="13578"/>
          <a:stretch/>
        </p:blipFill>
        <p:spPr>
          <a:xfrm>
            <a:off x="179280" y="2133720"/>
            <a:ext cx="8533080" cy="3601800"/>
          </a:xfrm>
          <a:prstGeom prst="rect">
            <a:avLst/>
          </a:prstGeom>
          <a:ln w="0">
            <a:noFill/>
          </a:ln>
        </p:spPr>
      </p:pic>
      <p:sp>
        <p:nvSpPr>
          <p:cNvPr id="91" name="Connettore 1 11"/>
          <p:cNvSpPr/>
          <p:nvPr/>
        </p:nvSpPr>
        <p:spPr>
          <a:xfrm>
            <a:off x="2484360" y="1341360"/>
            <a:ext cx="489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ttangolo 14"/>
          <p:cNvSpPr/>
          <p:nvPr/>
        </p:nvSpPr>
        <p:spPr>
          <a:xfrm>
            <a:off x="250920" y="4508640"/>
            <a:ext cx="849780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6"/>
          <p:cNvSpPr/>
          <p:nvPr/>
        </p:nvSpPr>
        <p:spPr>
          <a:xfrm>
            <a:off x="3092400" y="6524640"/>
            <a:ext cx="60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bade MJ. Int. J. Radiation Oncology Biol. Phys.,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Vol. 77, No. 2, pp. 575–581, 20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26556" t="49828" r="11460" b="38361"/>
          <a:stretch/>
        </p:blipFill>
        <p:spPr>
          <a:xfrm>
            <a:off x="468360" y="1052640"/>
            <a:ext cx="806436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rcRect l="25358" t="26378" r="8851" b="30315"/>
          <a:stretch/>
        </p:blipFill>
        <p:spPr>
          <a:xfrm>
            <a:off x="0" y="2421000"/>
            <a:ext cx="914400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Connettore 1 10"/>
          <p:cNvSpPr/>
          <p:nvPr/>
        </p:nvSpPr>
        <p:spPr>
          <a:xfrm>
            <a:off x="1042920" y="371628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Connettore 1 13"/>
          <p:cNvSpPr/>
          <p:nvPr/>
        </p:nvSpPr>
        <p:spPr>
          <a:xfrm>
            <a:off x="971640" y="3716280"/>
            <a:ext cx="777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ttangolo 18"/>
          <p:cNvSpPr/>
          <p:nvPr/>
        </p:nvSpPr>
        <p:spPr>
          <a:xfrm>
            <a:off x="395280" y="5084640"/>
            <a:ext cx="835344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ttore 1 10"/>
          <p:cNvSpPr/>
          <p:nvPr/>
        </p:nvSpPr>
        <p:spPr>
          <a:xfrm>
            <a:off x="1042920" y="371628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22965" t="43922" r="11460" b="33440"/>
          <a:stretch/>
        </p:blipFill>
        <p:spPr>
          <a:xfrm>
            <a:off x="216000" y="907920"/>
            <a:ext cx="8532720" cy="1657440"/>
          </a:xfrm>
          <a:prstGeom prst="rect">
            <a:avLst/>
          </a:prstGeom>
          <a:ln w="0">
            <a:noFill/>
          </a:ln>
        </p:spPr>
      </p:pic>
      <p:sp>
        <p:nvSpPr>
          <p:cNvPr id="103" name="CasellaDiTesto 9"/>
          <p:cNvSpPr/>
          <p:nvPr/>
        </p:nvSpPr>
        <p:spPr>
          <a:xfrm>
            <a:off x="4863960" y="65246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bade MJ,Radiotherapy and Oncology 93 (2009) 639–6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rcRect l="45020" t="36949" r="5725" b="33268"/>
          <a:stretch/>
        </p:blipFill>
        <p:spPr>
          <a:xfrm>
            <a:off x="179280" y="2781360"/>
            <a:ext cx="8683560" cy="2951280"/>
          </a:xfrm>
          <a:prstGeom prst="rect">
            <a:avLst/>
          </a:prstGeom>
          <a:ln w="0">
            <a:noFill/>
          </a:ln>
        </p:spPr>
      </p:pic>
      <p:sp>
        <p:nvSpPr>
          <p:cNvPr id="105" name="Connettore 1 12"/>
          <p:cNvSpPr/>
          <p:nvPr/>
        </p:nvSpPr>
        <p:spPr>
          <a:xfrm>
            <a:off x="1908000" y="1628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ttangolo 14"/>
          <p:cNvSpPr/>
          <p:nvPr/>
        </p:nvSpPr>
        <p:spPr>
          <a:xfrm>
            <a:off x="324000" y="5013360"/>
            <a:ext cx="849600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1042920" y="371628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ttangolo 8"/>
          <p:cNvSpPr/>
          <p:nvPr/>
        </p:nvSpPr>
        <p:spPr>
          <a:xfrm>
            <a:off x="611280" y="110160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rolim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AD-001), marketed by Novartis under the tradenames Zortress (USA) and Certican (Europe and other countries) in transplantation medicine, and Afinitor in oncology is the 42-O-(2-hydroxyethyl) derivative of sirolimus and works similarly to sirolimus as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ammalian target of rapamycin) inhibitor. It is currently used as an immunosuppressant to prevent rejection of organ trans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CasellaDiTesto 9"/>
          <p:cNvSpPr/>
          <p:nvPr/>
        </p:nvSpPr>
        <p:spPr>
          <a:xfrm>
            <a:off x="672120" y="4581360"/>
            <a:ext cx="782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omitant Radiotherapy is not recommend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vartis suggests to wait at least 30 days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hing from the literatur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ttore 1 10"/>
          <p:cNvSpPr/>
          <p:nvPr/>
        </p:nvSpPr>
        <p:spPr>
          <a:xfrm>
            <a:off x="1042920" y="371628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ttangolo 8"/>
          <p:cNvSpPr/>
          <p:nvPr/>
        </p:nvSpPr>
        <p:spPr>
          <a:xfrm>
            <a:off x="684360" y="981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rastuzumab (herceptin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locks her2-activated cell signalling reducing cell proliferation restoring ability to undergo apoptosis by inhibiting the phosphatidylinositol 3 kinase/Akt pathway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creases cellular sensitivity to chemotherapy and radiotherapy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" descr="hers%20overexpression%20in%20breast%20cancer"/>
          <p:cNvPicPr/>
          <p:nvPr/>
        </p:nvPicPr>
        <p:blipFill>
          <a:blip r:embed="rId1"/>
          <a:stretch/>
        </p:blipFill>
        <p:spPr>
          <a:xfrm>
            <a:off x="2700360" y="3327480"/>
            <a:ext cx="413856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95280" y="1052640"/>
          <a:ext cx="8280360" cy="5332320"/>
        </p:xfrm>
        <a:graphic>
          <a:graphicData uri="http://schemas.openxmlformats.org/drawingml/2006/table">
            <a:tbl>
              <a:tblPr/>
              <a:tblGrid>
                <a:gridCol w="2106720"/>
                <a:gridCol w="3224160"/>
                <a:gridCol w="2949480"/>
              </a:tblGrid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 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s 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crease DFS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crease OS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1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ABP-B31 NCCTG-9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s 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1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5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crease DFS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1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crease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OS 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Her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s 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3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3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crease DFS 1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crease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OS 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stuzumab and Cardiac Tox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incidence of cardiac dysfunction in the trastuzumab arm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HERA Tria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at a median follow-up time of 1 year was 0.6% for severe CHF and 7.0% for left ventricular (LV)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ximately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0 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d a substantial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crea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the left ventricular ejection fraction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VE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risk of cardiac dysfunction with trastuzumab treatment increases with the use of anthracyc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55640" y="450864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4000" y="202032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he mechanism of cardiac dysfunction associated with  trastuzumab is not clearly understood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ErbB2 receptor is expressed on cardiomyocytes,  in addition to tumor tissue, where it exerts a protective  effect on cardiac function (maintenance of normal cardiac contractility and dependence on HER2 for myocyte survival); thus,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ith ErbB2-signaling  (Trastuzumab)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may block this protective effec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itolo 1"/>
          <p:cNvSpPr/>
          <p:nvPr/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CasellaDiTesto 8"/>
          <p:cNvSpPr/>
          <p:nvPr/>
        </p:nvSpPr>
        <p:spPr>
          <a:xfrm>
            <a:off x="6265440" y="6165720"/>
            <a:ext cx="298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cter M, JCO 200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ez EA, Clin Breast Cancer 20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24000" y="148428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 is possible that radiation-associated cardiac damage occurs by both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microvascula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fibrotic) and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macrovascula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coronary atherosclerosis) damage occurring after a longer latency peri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dern irradiation techniq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 to be associated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imited ris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heart complication. The use of anthracycline, other cardiotoxic chemotherapies and targeted therapies should incite for great caution by perform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reful treatment planning and optimi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itolo 1"/>
          <p:cNvSpPr/>
          <p:nvPr/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CasellaDiTesto 6"/>
          <p:cNvSpPr/>
          <p:nvPr/>
        </p:nvSpPr>
        <p:spPr>
          <a:xfrm>
            <a:off x="4731480" y="6524640"/>
            <a:ext cx="43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oyen J.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ancer Radiother. 2010 Jul;14(4-5):319-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rcRect l="22412" t="20300" r="28335" b="14734"/>
          <a:stretch/>
        </p:blipFill>
        <p:spPr>
          <a:xfrm>
            <a:off x="611280" y="476280"/>
            <a:ext cx="8316720" cy="6167520"/>
          </a:xfrm>
          <a:prstGeom prst="rect">
            <a:avLst/>
          </a:prstGeom>
          <a:ln w="0">
            <a:noFill/>
          </a:ln>
        </p:spPr>
      </p:pic>
      <p:sp>
        <p:nvSpPr>
          <p:cNvPr id="127" name="Titolo 1"/>
          <p:cNvSpPr/>
          <p:nvPr/>
        </p:nvSpPr>
        <p:spPr>
          <a:xfrm>
            <a:off x="45720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ttangolo 7"/>
          <p:cNvSpPr/>
          <p:nvPr/>
        </p:nvSpPr>
        <p:spPr>
          <a:xfrm>
            <a:off x="3203640" y="6308640"/>
            <a:ext cx="57610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IBITORI DEL RECETTOR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ER-2 E RAD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6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ccia in giù 3"/>
          <p:cNvSpPr/>
          <p:nvPr/>
        </p:nvSpPr>
        <p:spPr>
          <a:xfrm>
            <a:off x="2359080" y="328464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Freccia in giù 5"/>
          <p:cNvSpPr/>
          <p:nvPr/>
        </p:nvSpPr>
        <p:spPr>
          <a:xfrm>
            <a:off x="2359080" y="436572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8886960" cy="2449440"/>
          </a:xfrm>
          <a:prstGeom prst="rect">
            <a:avLst/>
          </a:prstGeom>
          <a:ln w="0">
            <a:noFill/>
          </a:ln>
        </p:spPr>
      </p:pic>
      <p:sp>
        <p:nvSpPr>
          <p:cNvPr id="130" name="Rettangolo 5"/>
          <p:cNvSpPr/>
          <p:nvPr/>
        </p:nvSpPr>
        <p:spPr>
          <a:xfrm>
            <a:off x="971640" y="3703680"/>
            <a:ext cx="74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No significant differences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ong arms were found in incidence of acute skin reaction, pneumonitis, dyspnea, cough, dysphagia, or neutropeni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itolo 1"/>
          <p:cNvSpPr/>
          <p:nvPr/>
        </p:nvSpPr>
        <p:spPr>
          <a:xfrm>
            <a:off x="45720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rcRect l="0" t="18135" r="0" b="24185"/>
          <a:stretch/>
        </p:blipFill>
        <p:spPr>
          <a:xfrm>
            <a:off x="468360" y="765000"/>
            <a:ext cx="7948440" cy="251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rcRect l="46209" t="52785" r="7305" b="13750"/>
          <a:stretch/>
        </p:blipFill>
        <p:spPr>
          <a:xfrm>
            <a:off x="395280" y="3319560"/>
            <a:ext cx="7921800" cy="3205080"/>
          </a:xfrm>
          <a:prstGeom prst="rect">
            <a:avLst/>
          </a:prstGeom>
          <a:ln w="0">
            <a:noFill/>
          </a:ln>
        </p:spPr>
      </p:pic>
      <p:sp>
        <p:nvSpPr>
          <p:cNvPr id="134" name="CasellaDiTesto 3"/>
          <p:cNvSpPr/>
          <p:nvPr/>
        </p:nvSpPr>
        <p:spPr>
          <a:xfrm>
            <a:off x="6487200" y="6546960"/>
            <a:ext cx="27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ussa L EJC 2010 in pr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ttangolo 4"/>
          <p:cNvSpPr/>
          <p:nvPr/>
        </p:nvSpPr>
        <p:spPr>
          <a:xfrm>
            <a:off x="468360" y="6021360"/>
            <a:ext cx="78487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itolo 1"/>
          <p:cNvSpPr/>
          <p:nvPr/>
        </p:nvSpPr>
        <p:spPr>
          <a:xfrm>
            <a:off x="45720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olo 1"/>
          <p:cNvSpPr/>
          <p:nvPr/>
        </p:nvSpPr>
        <p:spPr>
          <a:xfrm>
            <a:off x="45720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CasellaDiTesto 2"/>
          <p:cNvSpPr/>
          <p:nvPr/>
        </p:nvSpPr>
        <p:spPr>
          <a:xfrm>
            <a:off x="179280" y="1484280"/>
            <a:ext cx="86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rastuzumab in breast cancer: experience from the University of Flor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perience trastuzumab given postoperatively with adjuvant chemotherap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well tolerated and produced optimal clinical resul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disease-free surviv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CasellaDiTesto 3"/>
          <p:cNvSpPr/>
          <p:nvPr/>
        </p:nvSpPr>
        <p:spPr>
          <a:xfrm>
            <a:off x="5697720" y="6505560"/>
            <a:ext cx="35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i L. J Chemother. 2010 Apr;22(2):115-8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olo 1"/>
          <p:cNvSpPr/>
          <p:nvPr/>
        </p:nvSpPr>
        <p:spPr>
          <a:xfrm>
            <a:off x="4572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47870" t="53770" r="28335" b="17687"/>
          <a:stretch/>
        </p:blipFill>
        <p:spPr>
          <a:xfrm>
            <a:off x="1835280" y="2852640"/>
            <a:ext cx="5832360" cy="393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22329" t="19488" r="28418" b="45079"/>
          <a:stretch/>
        </p:blipFill>
        <p:spPr>
          <a:xfrm>
            <a:off x="1403280" y="549360"/>
            <a:ext cx="6408720" cy="2592360"/>
          </a:xfrm>
          <a:prstGeom prst="rect">
            <a:avLst/>
          </a:prstGeom>
          <a:ln w="0">
            <a:noFill/>
          </a:ln>
        </p:spPr>
      </p:pic>
      <p:sp>
        <p:nvSpPr>
          <p:cNvPr id="143" name="Connettore 1 7"/>
          <p:cNvSpPr/>
          <p:nvPr/>
        </p:nvSpPr>
        <p:spPr>
          <a:xfrm>
            <a:off x="3924360" y="3573360"/>
            <a:ext cx="352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Connettore 1 9"/>
          <p:cNvSpPr/>
          <p:nvPr/>
        </p:nvSpPr>
        <p:spPr>
          <a:xfrm>
            <a:off x="2050920" y="3860640"/>
            <a:ext cx="4249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Connettore 1 10"/>
          <p:cNvSpPr/>
          <p:nvPr/>
        </p:nvSpPr>
        <p:spPr>
          <a:xfrm>
            <a:off x="2268360" y="5805360"/>
            <a:ext cx="525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Connettore 1 12"/>
          <p:cNvSpPr/>
          <p:nvPr/>
        </p:nvSpPr>
        <p:spPr>
          <a:xfrm>
            <a:off x="2050920" y="609300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olo 1"/>
          <p:cNvSpPr/>
          <p:nvPr/>
        </p:nvSpPr>
        <p:spPr>
          <a:xfrm>
            <a:off x="4572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23410" t="19316" r="28335" b="34424"/>
          <a:stretch/>
        </p:blipFill>
        <p:spPr>
          <a:xfrm>
            <a:off x="0" y="836640"/>
            <a:ext cx="9129600" cy="5400720"/>
          </a:xfrm>
          <a:prstGeom prst="rect">
            <a:avLst/>
          </a:prstGeom>
          <a:ln w="0">
            <a:noFill/>
          </a:ln>
        </p:spPr>
      </p:pic>
      <p:sp>
        <p:nvSpPr>
          <p:cNvPr id="149" name="Connettore 1 13"/>
          <p:cNvSpPr/>
          <p:nvPr/>
        </p:nvSpPr>
        <p:spPr>
          <a:xfrm>
            <a:off x="324000" y="2133720"/>
            <a:ext cx="396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Connettore 1 14"/>
          <p:cNvSpPr/>
          <p:nvPr/>
        </p:nvSpPr>
        <p:spPr>
          <a:xfrm>
            <a:off x="108000" y="2349360"/>
            <a:ext cx="417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Connettore 1 16"/>
          <p:cNvSpPr/>
          <p:nvPr/>
        </p:nvSpPr>
        <p:spPr>
          <a:xfrm>
            <a:off x="108000" y="2565360"/>
            <a:ext cx="42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Connettore 1 18"/>
          <p:cNvSpPr/>
          <p:nvPr/>
        </p:nvSpPr>
        <p:spPr>
          <a:xfrm>
            <a:off x="71280" y="2781360"/>
            <a:ext cx="421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Connettore 1 21"/>
          <p:cNvSpPr/>
          <p:nvPr/>
        </p:nvSpPr>
        <p:spPr>
          <a:xfrm>
            <a:off x="108000" y="3068640"/>
            <a:ext cx="42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Connettore 1 23"/>
          <p:cNvSpPr/>
          <p:nvPr/>
        </p:nvSpPr>
        <p:spPr>
          <a:xfrm>
            <a:off x="108000" y="3284640"/>
            <a:ext cx="24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Connettore 1 25"/>
          <p:cNvSpPr/>
          <p:nvPr/>
        </p:nvSpPr>
        <p:spPr>
          <a:xfrm>
            <a:off x="250920" y="5877000"/>
            <a:ext cx="410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Connettore 1 27"/>
          <p:cNvSpPr/>
          <p:nvPr/>
        </p:nvSpPr>
        <p:spPr>
          <a:xfrm>
            <a:off x="108000" y="6093000"/>
            <a:ext cx="42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Connettore 1 29"/>
          <p:cNvSpPr/>
          <p:nvPr/>
        </p:nvSpPr>
        <p:spPr>
          <a:xfrm>
            <a:off x="4788000" y="1197000"/>
            <a:ext cx="417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Connettore 1 31"/>
          <p:cNvSpPr/>
          <p:nvPr/>
        </p:nvSpPr>
        <p:spPr>
          <a:xfrm>
            <a:off x="4788000" y="1413000"/>
            <a:ext cx="273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IBITORI DEL RECETTOR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ER-2 E RAD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6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UTINE AND CLIN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ccia in giù 3"/>
          <p:cNvSpPr/>
          <p:nvPr/>
        </p:nvSpPr>
        <p:spPr>
          <a:xfrm>
            <a:off x="2359080" y="328464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Freccia in giù 5"/>
          <p:cNvSpPr/>
          <p:nvPr/>
        </p:nvSpPr>
        <p:spPr>
          <a:xfrm>
            <a:off x="2359080" y="436572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tolo 1"/>
          <p:cNvSpPr/>
          <p:nvPr/>
        </p:nvSpPr>
        <p:spPr>
          <a:xfrm>
            <a:off x="45720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CasellaDiTesto 2"/>
          <p:cNvSpPr/>
          <p:nvPr/>
        </p:nvSpPr>
        <p:spPr>
          <a:xfrm>
            <a:off x="179280" y="148428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straightforward approach is to target a specific molecule involved in tumor-cell survival, including EGFR, IGF-1R, Ras, PI3K, and AK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-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ing new preclinical data show potential therapeutic benefit for combining molecularly targeted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gents with ra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olo 1"/>
          <p:cNvSpPr/>
          <p:nvPr/>
        </p:nvSpPr>
        <p:spPr>
          <a:xfrm>
            <a:off x="45720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CasellaDiTesto 2"/>
          <p:cNvSpPr/>
          <p:nvPr/>
        </p:nvSpPr>
        <p:spPr>
          <a:xfrm>
            <a:off x="179280" y="1125360"/>
            <a:ext cx="864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. ROUTINE AND CLINICAL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) the data on combining targeted therapies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diation are still scarce and do not allow f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aningful conclusion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long-term outcome of trastuzumab-related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eart failure is unknown so it is important to spare the heart volume during RT, 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uzumab given postoperative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well tolerated and produced optimal clinical result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eterogene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o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for the antitumor activity of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single-cellular path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actions between tumor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naling and rad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provi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e for target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ple-signaling path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be achieved by agents that ha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acity to target multiple oncoprote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bination of multiple single-target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36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pidermal growth factor receptor (EGFR) family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our transmembrane receptor tyrosine kin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EGRF (HER1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2 (ErbB2, neu), HER3 (ErbB3), and HER4 (ErbB4), w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s to transmit extracellular cues to intracellula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duction pathways that regulate proliferation, survival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iation responses. At least two members of the fami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FR and HER2, are frequently dysregulate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GF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2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been associated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or cells to chemotherapy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diothera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sellaDiTesto 4"/>
          <p:cNvSpPr/>
          <p:nvPr/>
        </p:nvSpPr>
        <p:spPr>
          <a:xfrm>
            <a:off x="4968720" y="636264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arden Y.,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Eur JCancer 2001;37(Suppl. 4):S3–S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rteaga CL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J Clin Oncol 2001;19:32S–40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032360" y="6165720"/>
            <a:ext cx="55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Johnstone RW, </a:t>
            </a:r>
            <a:r>
              <a:rPr b="0" lang="da-DK" sz="1400" spc="-1" strike="noStrike">
                <a:solidFill>
                  <a:srgbClr val="000000"/>
                </a:solidFill>
                <a:latin typeface="Comic Sans MS"/>
              </a:rPr>
              <a:t>Nat Rev Drug Discov 1:287-299, 200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Yu X, J Natl Cancer Inst 94:504-513, 200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hinnaiyan P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 J Radiat Oncol Biol Phys 62:223-229,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32926" t="24237" r="12285" b="29503"/>
          <a:stretch/>
        </p:blipFill>
        <p:spPr>
          <a:xfrm>
            <a:off x="826920" y="620640"/>
            <a:ext cx="7993080" cy="374508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5"/>
          <p:cNvSpPr/>
          <p:nvPr/>
        </p:nvSpPr>
        <p:spPr>
          <a:xfrm>
            <a:off x="179280" y="4365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istone deacetylases (HDAC)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zym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at remove acetyl groups from an ε-N-acetyl lysine amino acid on a hist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AC inhibitors may act as po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RT sensitiz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rogating promitogenic/survival and DNA repair–signaling pathway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acity of HDAC inhibitors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wnmodu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expression of EGFR and ErbB2, therefore representing another possible mechanism for HDAC inhibitors to enhance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tumor activity of rad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e 6"/>
          <p:cNvSpPr/>
          <p:nvPr/>
        </p:nvSpPr>
        <p:spPr>
          <a:xfrm>
            <a:off x="704880" y="2492280"/>
            <a:ext cx="9144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e 7"/>
          <p:cNvSpPr/>
          <p:nvPr/>
        </p:nvSpPr>
        <p:spPr>
          <a:xfrm>
            <a:off x="4500720" y="2514600"/>
            <a:ext cx="9144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636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KT famil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kt1, Akt2 and Akt3. These genes code for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at are members of the serine/threonine-specific protein ki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kt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s involved in cellular survival pathways, by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hib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poptot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rocesses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kt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s an important signaling molecul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sulin signaling pathway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role of Akt3 is less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kt could promote growth factor-mediated cell survival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ectly and indirectly. Akt could phosphorylate BAD (pro-apopt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ein of the Bcl-2 Family) on Ser136, which m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D dissociate from the Bcl-2/Bcl-X complex and lose the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optotic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4"/>
          <p:cNvSpPr/>
          <p:nvPr/>
        </p:nvSpPr>
        <p:spPr>
          <a:xfrm>
            <a:off x="4968720" y="636264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arden Y.,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Eur JCancer 2001;37(Suppl. 4):S3–S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rteaga CL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J Clin Oncol 2001;19:32S–40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20198" t="20300" r="44040" b="20753"/>
          <a:stretch/>
        </p:blipFill>
        <p:spPr>
          <a:xfrm>
            <a:off x="250920" y="484200"/>
            <a:ext cx="8642160" cy="409716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4"/>
          <p:cNvSpPr/>
          <p:nvPr/>
        </p:nvSpPr>
        <p:spPr>
          <a:xfrm>
            <a:off x="250920" y="465300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kt activation can be regulated through the tumor suppressor PT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TEN protein acts as a phosphatase to dephosphorylate phosphatidylinositol (3,4,5)-trisphosphat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This dephosphoryl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important because it results in inhibition of the AKT signaling pathway. it acts as part of a chemical pathway that signals cells to stop dividing and causes cells to undergo programmed cell dea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ttangolo 5"/>
          <p:cNvSpPr/>
          <p:nvPr/>
        </p:nvSpPr>
        <p:spPr>
          <a:xfrm>
            <a:off x="7524720" y="3933720"/>
            <a:ext cx="16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popto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itolo 1"/>
          <p:cNvSpPr/>
          <p:nvPr/>
        </p:nvSpPr>
        <p:spPr>
          <a:xfrm>
            <a:off x="457200" y="-243000"/>
            <a:ext cx="8229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e 7"/>
          <p:cNvSpPr/>
          <p:nvPr/>
        </p:nvSpPr>
        <p:spPr>
          <a:xfrm>
            <a:off x="3203640" y="1700280"/>
            <a:ext cx="914400" cy="64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e 8"/>
          <p:cNvSpPr/>
          <p:nvPr/>
        </p:nvSpPr>
        <p:spPr>
          <a:xfrm>
            <a:off x="2865600" y="3645000"/>
            <a:ext cx="914400" cy="64764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e 9"/>
          <p:cNvSpPr/>
          <p:nvPr/>
        </p:nvSpPr>
        <p:spPr>
          <a:xfrm>
            <a:off x="4162320" y="2492280"/>
            <a:ext cx="91440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e 10"/>
          <p:cNvSpPr/>
          <p:nvPr/>
        </p:nvSpPr>
        <p:spPr>
          <a:xfrm>
            <a:off x="7113600" y="2060640"/>
            <a:ext cx="9144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e 11"/>
          <p:cNvSpPr/>
          <p:nvPr/>
        </p:nvSpPr>
        <p:spPr>
          <a:xfrm>
            <a:off x="7740720" y="2421000"/>
            <a:ext cx="9144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e 12"/>
          <p:cNvSpPr/>
          <p:nvPr/>
        </p:nvSpPr>
        <p:spPr>
          <a:xfrm>
            <a:off x="2268360" y="3213000"/>
            <a:ext cx="7909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e 13"/>
          <p:cNvSpPr/>
          <p:nvPr/>
        </p:nvSpPr>
        <p:spPr>
          <a:xfrm>
            <a:off x="1116000" y="3645000"/>
            <a:ext cx="792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Ovale 14"/>
          <p:cNvSpPr/>
          <p:nvPr/>
        </p:nvSpPr>
        <p:spPr>
          <a:xfrm>
            <a:off x="3132000" y="1413000"/>
            <a:ext cx="648000" cy="43164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e 15"/>
          <p:cNvSpPr/>
          <p:nvPr/>
        </p:nvSpPr>
        <p:spPr>
          <a:xfrm>
            <a:off x="3995640" y="1413000"/>
            <a:ext cx="647640" cy="43164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e 16"/>
          <p:cNvSpPr/>
          <p:nvPr/>
        </p:nvSpPr>
        <p:spPr>
          <a:xfrm>
            <a:off x="4356000" y="1844640"/>
            <a:ext cx="647640" cy="43200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e 17"/>
          <p:cNvSpPr/>
          <p:nvPr/>
        </p:nvSpPr>
        <p:spPr>
          <a:xfrm>
            <a:off x="5724360" y="1484280"/>
            <a:ext cx="863640" cy="50472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4968720" y="636264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hinnaiya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emin Radiat Oncol 16:59-64, 200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25095" t="25394" r="43913" b="36220"/>
          <a:stretch/>
        </p:blipFill>
        <p:spPr>
          <a:xfrm>
            <a:off x="2195640" y="1268280"/>
            <a:ext cx="4897440" cy="3409920"/>
          </a:xfrm>
          <a:prstGeom prst="rect">
            <a:avLst/>
          </a:prstGeom>
          <a:ln w="0">
            <a:noFill/>
          </a:ln>
        </p:spPr>
      </p:pic>
      <p:sp>
        <p:nvSpPr>
          <p:cNvPr id="82" name="Ovale 8"/>
          <p:cNvSpPr/>
          <p:nvPr/>
        </p:nvSpPr>
        <p:spPr>
          <a:xfrm>
            <a:off x="4952880" y="2276640"/>
            <a:ext cx="91440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CasellaDiTesto 9"/>
          <p:cNvSpPr/>
          <p:nvPr/>
        </p:nvSpPr>
        <p:spPr>
          <a:xfrm>
            <a:off x="755640" y="482292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ve activa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known to contribute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dio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therefore a significant target for increasing radiosensitivity. Breast cancer cell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rendered more resist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adiation-induced apoptosis b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T over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LOG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636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Heat-shock protein 90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90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s a crucial role in bo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bilisation and regulation of various protein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lated to radioresistan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Inhibition of Hsp90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efore provide a strategy for enhanc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diosensitivity of tumou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ion involves the selective degradation of several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ttributed to radiation resistance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luding </a:t>
            </a:r>
            <a:r>
              <a:rPr b="0" lang="da-DK" sz="2400" spc="-1" strike="noStrike">
                <a:solidFill>
                  <a:srgbClr val="ff0000"/>
                </a:solidFill>
                <a:latin typeface="Arial"/>
              </a:rPr>
              <a:t>EGFR, ErbB2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af-1, and AK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GF-1R signaling blockad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rease 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dio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blocking AKT activation through the inhibi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I3K and AT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4284720" y="6362640"/>
            <a:ext cx="50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cKenna WG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ncogene 22:5866-5875, 200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tingl L.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British Journal of Cancer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102: 1578-1591, 2010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7:54:54Z</dcterms:created>
  <dc:creator>Guenzi</dc:creator>
  <dc:description/>
  <dc:language>en-US</dc:language>
  <cp:lastModifiedBy>tecno</cp:lastModifiedBy>
  <dcterms:modified xsi:type="dcterms:W3CDTF">2010-11-15T07:30:46Z</dcterms:modified>
  <cp:revision>144</cp:revision>
  <dc:subject/>
  <dc:title>Guenzi Problematiche integrazione herceptin</dc:title>
</cp:coreProperties>
</file>