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0AF-FE0F-4439-9720-051BC7FE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097-E1F1-49DD-A380-ED04B140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AAB2-5159-4909-853F-5C96CEDE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7BE-DBCC-4C02-A6E3-EDCACE0B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7804-F9EA-4711-9211-7477025F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156D-E090-49DA-B04E-1562CEDD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557C-12ED-4DE2-9663-F184F3EA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A871-87E5-45D7-939B-7D0496F3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B225-3B78-4AC3-8F75-4DA8432D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6CA2-1E60-4BCB-BAA9-F6E4C7BA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7D1A-A19A-4239-BD08-B11C0114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4BE-D552-4D1B-A123-8A18FAE9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3928-BE4A-421A-B53C-1ED6B0EC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64C9-DE13-4416-BE2A-55FFBABE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CF60-5A1F-4CDD-B5C6-0376FAF4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E10A-71CD-407C-B77F-BAA52DA3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C60B-08EF-45E7-84E2-84815051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6D74-5C21-426E-A220-59C7F34C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21F-6148-4251-A1AD-F6CD2B3E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BC4-3B0E-440A-95A2-DB13BBCD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9F8-A7F3-427A-AC01-EFE1752F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9DA-CDE1-4249-8EA9-ACC6938F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9B9-2D2E-49C9-9185-A21007BA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EC8-ABD0-4FB6-A891-B021136A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EF5E-5EA0-4FD6-9DD0-2491AF7035A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40BC-FAC7-48F1-8092-81208C72C1B2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99" name="CasellaDiTesto 6"/>
          <p:cNvSpPr/>
          <p:nvPr/>
        </p:nvSpPr>
        <p:spPr>
          <a:xfrm>
            <a:off x="5003640" y="1989000"/>
            <a:ext cx="266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CasellaDiTesto 7"/>
          <p:cNvSpPr/>
          <p:nvPr/>
        </p:nvSpPr>
        <p:spPr>
          <a:xfrm>
            <a:off x="5003640" y="2492280"/>
            <a:ext cx="2089440" cy="3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CasellaDiTesto 8"/>
          <p:cNvSpPr/>
          <p:nvPr/>
        </p:nvSpPr>
        <p:spPr>
          <a:xfrm>
            <a:off x="5076720" y="3068640"/>
            <a:ext cx="2087640" cy="36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932360" y="2205000"/>
            <a:ext cx="2448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076720" y="2708280"/>
            <a:ext cx="2448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0" y="285480"/>
            <a:ext cx="4427640" cy="34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70c0"/>
                </a:solidFill>
                <a:latin typeface="Arial"/>
              </a:rPr>
              <a:t>Radioterapia Adiuvante nel Melanoma cutaneo:</a:t>
            </a:r>
            <a:br>
              <a:rPr sz="4000"/>
            </a:br>
            <a:r>
              <a:rPr b="1" lang="it-IT" sz="4000" spc="-1" strike="noStrike">
                <a:solidFill>
                  <a:srgbClr val="0070c0"/>
                </a:solidFill>
                <a:latin typeface="Arial"/>
              </a:rPr>
              <a:t>Perché N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900000" y="6021360"/>
          <a:ext cx="1657440" cy="62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6021360"/>
                    <a:ext cx="16574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13"/>
          <p:cNvSpPr/>
          <p:nvPr/>
        </p:nvSpPr>
        <p:spPr>
          <a:xfrm>
            <a:off x="3203640" y="6381720"/>
            <a:ext cx="2663640" cy="366840"/>
          </a:xfrm>
          <a:prstGeom prst="rect">
            <a:avLst/>
          </a:prstGeom>
          <a:solidFill>
            <a:srgbClr val="008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0040" y="4000680"/>
            <a:ext cx="842976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10199"/>
                </a:solidFill>
                <a:latin typeface="Arial"/>
              </a:rPr>
              <a:t>Luca Marmir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10199"/>
                </a:solidFill>
                <a:latin typeface="Arial"/>
              </a:rPr>
              <a:t>UOC Radioterap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10199"/>
                </a:solidFill>
                <a:latin typeface="Arial"/>
              </a:rPr>
              <a:t>Osp. Fatebenefratelli Isola Tiberina - R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3534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riteri di selezione dei pazienti per il 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dicazioni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elanoma cutaneo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ssenza di adenopatie palpabi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troindicazioni rel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lattia metasta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lterazione del drenaggio linfatico della zona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Escissione ampia con margini &gt;1 cm, ricostruzione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 innesti o trapiant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fezione in at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ravidanz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ngas C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’alto rischio di ricaduta linfonodale è contemplato nei seguenti cas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Recidiva linfonod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stensione extracapsul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etastasi in &gt;3 linfonodi nella stessa cat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acrometastasi (&gt;1 lnf con Ø &gt;3 cm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Beck LB, 2008; Mangas C, 2010; Pawlik TM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 queste condizioni il ricorso alla radioterapia adiuvante si è dimostrata in grado di ridurre le recidive linfonodali a &lt;15% e quindi meno dei controlli storici, ma non si è potuto dimostrare che ciò abbia un impatto sulla sopravviven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Le esperienze cliniche di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adioterapia adiuva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reagan ET, 19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Prospectiv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rial on postoperative RT in positive lymph nodes at Mayo Clinic (50 Gy in 28 fr with spl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cidiva locoregionale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T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 R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Sopravvivenza: 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sovrapponib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onnen MD,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stoperative RT in 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negativ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H&amp;N lymph nodes at MD Anderson (30 Gy in 6 fr in 2,5 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Risultati a 10 an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rollo locoregionale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8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pravv. libera da metastas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49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pravvivenza causa-specific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pravvivenza glob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allo MT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stoperative RT in 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synchronous or metachronous positive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ervical lymph nodes at MD Ander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Risultati a 5 an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rollo regionale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9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pravv. libera da metastas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59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pravvivenza causa-specific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91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urmeister BH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2 Trial prospettici su RT (48 Gy in 28 fr) dopo linfadenectomia in N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cidive infield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cidive in tessuti adiacent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1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etastasi a distanza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6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Arial"/>
              </a:rPr>
              <a:t>Risultati a 5 ann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rollo region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9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gr-free surv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2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pravv. glob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3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ico fattore influenzante la prognosi: &gt;3 linf positi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ncrieff MD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T postop in paz. ad alto rischio (716 p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iduzione del 10% di recidive locali dopo RT (non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ignificativo statisticamente) nei paz. con 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estensione 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extracapsul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gnosi peggiore in caso di 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massivo interessamento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nfonodale, non corretta tuttavia dalla 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hang DT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T postop (30 Gy in 6 fr in 2,5 w) in paz. ad alto risch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Risultati a 5 ann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rollo region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8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ree from me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4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pravv. causa-spec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5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pravv. glob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questione è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i="1" lang="it-IT" sz="2800" spc="-1" strike="noStrike">
                <a:solidFill>
                  <a:srgbClr val="ffff99"/>
                </a:solidFill>
                <a:latin typeface="Arial"/>
              </a:rPr>
              <a:t>radioterapia adiuvante</a:t>
            </a: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 è in grado di ridurre il rischio di ripresa di malattia nel melanoma cutane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Specificamente, la radioterapia sulle stazioni linfonodali regionali è in grado di </a:t>
            </a:r>
            <a:r>
              <a:rPr b="1" i="1" lang="it-IT" sz="2800" spc="-1" strike="noStrike">
                <a:solidFill>
                  <a:srgbClr val="ffff99"/>
                </a:solidFill>
                <a:latin typeface="Arial"/>
              </a:rPr>
              <a:t>modificare la prognosi</a:t>
            </a: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hen P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nfadenectomia +/- RT postop in paz. ad alto rischio (238 pts; non rand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“…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 bassa percentuale di recidive loco-regionali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opo sola chirurgia 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non giustifica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a chiara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accomandazione alla RT postoperatoria, con la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ssibile esclusione dell’estensione extracapsula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uhrmann D,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nfadenectomia +/- RT in stadio III (116 p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contr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 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pravv. globale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26%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cidive locoregional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21%             1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Tossicit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mplican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Linf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mpare nel 10-40% dei pazienti sottoposti ad irradiazione delle regioni ascellari o inguinali. In una percentuale del </a:t>
            </a:r>
            <a:r>
              <a:rPr b="1" lang="it-IT" sz="2400" spc="-1" strike="noStrike">
                <a:solidFill>
                  <a:srgbClr val="ffff99"/>
                </a:solidFill>
                <a:latin typeface="Arial"/>
              </a:rPr>
              <a:t>5-10% si presenta come grado 3-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 nel 20% dei pazienti richiede terap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Alt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anni al tessuto nervoso (plesso brachiale) ed a quello osteo-articolare sono nettamente più infrequenti, comparendo rispettivamente nel 5% e nel 2% dei c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Raccomandazioni 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Linee-gui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ise à jour 2005 des reccomandations pour la prise en charge des patients adultes atteints d’un mélanome cutané sans métastase à 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Radiothérap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99"/>
                </a:solidFill>
                <a:latin typeface="Arial"/>
              </a:rPr>
              <a:t>Le données disponibles sont </a:t>
            </a:r>
            <a:r>
              <a:rPr b="1" i="1" lang="it-IT" sz="2400" spc="-1" strike="noStrike">
                <a:solidFill>
                  <a:srgbClr val="c00000"/>
                </a:solidFill>
                <a:latin typeface="Arial"/>
              </a:rPr>
              <a:t>insuffisantes</a:t>
            </a:r>
            <a:r>
              <a:rPr b="1" i="1" lang="it-IT" sz="2400" spc="-1" strike="noStrike">
                <a:solidFill>
                  <a:srgbClr val="ffff99"/>
                </a:solidFill>
                <a:latin typeface="Arial"/>
              </a:rPr>
              <a:t> pour conclure en termes de bénefice/risque sur l’intérêt de la radiothérapie en situation adjuvant chez les patients atteints d’un mélanome cutan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égrier S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tate of the Science 60° Anniversary Review – 60 Years of Advancees in Cutaneous Melanoma Epidemiology, Diagnosis, and Treatment, as reported in the Journal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Radi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Arial"/>
              </a:rPr>
              <a:t>(non ve ne è traccia!!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mierre M-F,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35344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itial Evaluation, Diagnosis, Staging, Treatment, and Follow-up of Patients with Primary Cutaneous Malignant Melanoma. Consensus Statement of the Network of Catalan and Balearic Melanoma Ce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djuvant Radi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99"/>
                </a:solidFill>
                <a:latin typeface="Arial"/>
              </a:rPr>
              <a:t>Radiation therapy of the affected parts of the lymphatic system (after lymphadenectomy) </a:t>
            </a:r>
            <a:r>
              <a:rPr b="1" i="1" lang="it-IT" sz="2400" spc="-1" strike="noStrike">
                <a:solidFill>
                  <a:srgbClr val="c00000"/>
                </a:solidFill>
                <a:latin typeface="Arial"/>
              </a:rPr>
              <a:t>reduces the likelihood </a:t>
            </a:r>
            <a:r>
              <a:rPr b="1" i="1" lang="it-IT" sz="2400" spc="-1" strike="noStrike">
                <a:solidFill>
                  <a:srgbClr val="ffff99"/>
                </a:solidFill>
                <a:latin typeface="Arial"/>
              </a:rPr>
              <a:t>of nodal recurrence by 20-50% in some groups of patients with stage III disease who are considered high risk</a:t>
            </a:r>
            <a:r>
              <a:rPr b="1" i="1" lang="it-IT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ngas C,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iagnosis and treatment of melanom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uropean consensus-based interdisciplinary guid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djuvant Radi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99"/>
                </a:solidFill>
                <a:latin typeface="Arial"/>
              </a:rPr>
              <a:t>There is no role for prophylactic radiotherapy of draining lymph nodes after excision of the primary melanoma. </a:t>
            </a:r>
            <a:r>
              <a:rPr b="1" i="1" lang="it-IT" sz="2400" spc="-1" strike="noStrike">
                <a:solidFill>
                  <a:srgbClr val="c00000"/>
                </a:solidFill>
                <a:latin typeface="Arial"/>
              </a:rPr>
              <a:t>When lymph node dissection is not complete or metastatic lymph nodes are inoperable</a:t>
            </a:r>
            <a:r>
              <a:rPr b="1" i="1" lang="it-IT" sz="2400" spc="-1" strike="noStrike">
                <a:solidFill>
                  <a:srgbClr val="ffff99"/>
                </a:solidFill>
                <a:latin typeface="Arial"/>
              </a:rPr>
              <a:t>, radiation therapy of the regional lymph nodes may be reccomen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arbe C,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clusio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35344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 principali fattori associati alla </a:t>
            </a: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sopravvivenz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sono: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pessore del tu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lcer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ivello di invasione (Clark’s classific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’ considerato cruciale per l’outcome il grado di invasione del derma per le lesioni da 1 a 4 mm (Balch CM, 200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’ raccomandata la stadiazione patologica di N nelle neoplasie maggiori di 1 mm con la tecnica del linfonodo sentinella (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 RT post-operatoria consente in molti casi un controllo loco-regionale pari all’85-90% nei pazienti ad alto rischio e al costo di relativo tasso di complican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uttavia i dati a disposizione derivano da pochi Centri specializzati o da raggruppamenti di casistiche e pertanto del tutto insufficienti per sostenere un effettivo ruolo alla radioterapia postoperatoria in termini di rischio/beneficio sull’intera popolazione di pazienti con melanoma cutane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endenhall WM,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 rot="10800000">
            <a:off x="7929360" y="21384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357200"/>
            <a:ext cx="8686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   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Non chiederci la parola che squadri da ogni lato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      l'animo nostro informe, e a lettere di fuoco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      lo dichiari e risplenda come un croco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      perduto in mezzo a un polveroso prato.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 Ah l'uomo che se ne va sicuro,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      agli altri ed a se stesso amico,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      e l'ombra sua non cura che la canicola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      stampa sopra uno scalcinato muro!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       </a:t>
            </a:r>
            <a:r>
              <a:rPr b="1" lang="it-IT" sz="2400" spc="-1" strike="noStrike">
                <a:solidFill>
                  <a:srgbClr val="ffc000"/>
                </a:solidFill>
                <a:latin typeface="Garamond"/>
              </a:rPr>
              <a:t>Non domandarci la formula che mondi possa aprirti, </a:t>
            </a:r>
            <a:br>
              <a:rPr sz="2400"/>
            </a:br>
            <a:r>
              <a:rPr b="1" lang="it-IT" sz="2400" spc="-1" strike="noStrike">
                <a:solidFill>
                  <a:srgbClr val="ffc000"/>
                </a:solidFill>
                <a:latin typeface="Garamond"/>
              </a:rPr>
              <a:t> sì qualche storta sillaba e secca come un ramo. </a:t>
            </a:r>
            <a:br>
              <a:rPr sz="2400"/>
            </a:br>
            <a:r>
              <a:rPr b="1" lang="it-IT" sz="2400" spc="-1" strike="noStrike">
                <a:solidFill>
                  <a:srgbClr val="ffc000"/>
                </a:solidFill>
                <a:latin typeface="Garamond"/>
              </a:rPr>
              <a:t>      Codesto solo oggi possiamo dirti: </a:t>
            </a:r>
            <a:br>
              <a:rPr sz="2400"/>
            </a:br>
            <a:r>
              <a:rPr b="1" lang="it-IT" sz="2400" spc="-1" strike="noStrike">
                <a:solidFill>
                  <a:srgbClr val="ffc000"/>
                </a:solidFill>
                <a:latin typeface="Garamond"/>
              </a:rPr>
              <a:t>      ciò che non siamo, ciò che non vogliamo. </a:t>
            </a:r>
            <a:br>
              <a:rPr sz="2400"/>
            </a:br>
            <a:br>
              <a:rPr sz="2400"/>
            </a:br>
            <a:r>
              <a:rPr b="1" lang="it-IT" sz="2000" spc="-1" strike="noStrike">
                <a:solidFill>
                  <a:srgbClr val="ffffff"/>
                </a:solidFill>
                <a:latin typeface="Tempus Sans Itc"/>
              </a:rPr>
              <a:t>      [Eugenio Montale, da Ossi di seppia, 1925]</a:t>
            </a:r>
            <a:r>
              <a:rPr b="1" lang="it-IT" sz="1800" spc="-1" strike="noStrike">
                <a:solidFill>
                  <a:srgbClr val="99ff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storia naturale del melanoma cutaneo mostra come il rischio maggiore dopo chirurgia radicale sia la diffusione sistemica piuttosto che la recidiva loco-region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a ricordare come vi sia correlazione t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pessore lesione e </a:t>
            </a: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meta cerebr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^ linfonodi coinvolti e </a:t>
            </a: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meta polmona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strategia prevalente è innanzitutto indirizzata ad identificare la </a:t>
            </a:r>
            <a:r>
              <a:rPr b="0" i="1" lang="it-IT" sz="2800" spc="-1" strike="noStrike">
                <a:solidFill>
                  <a:srgbClr val="ffff99"/>
                </a:solidFill>
                <a:latin typeface="Arial"/>
              </a:rPr>
              <a:t>popolazione a maggior rischio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 recidiva loco-regionale (e non di metastatizzazione a distanza) che possa avvalersi di RT adiuv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d esempio la RT sembra francamente inutile in presenza di eccessivo rischio di metastas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10-15 linf coinvol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eta a distanza 70% (encefalo 4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opravvivenza a 5 anni 3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4419720" y="4648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ingole Istituzioni e raccomandazioni arbitrate hanno individuato che la radioterapia adiuvante sulle catene linfonodali coinvolte (previa linfadenectomia) riduca la possibilità di recidiva linfonodale del 20-50% in alcuni sottogruppi di pazienti con stadio III, considerati ad alto risch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La Stadiazione patologica (LS) 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il valore prognostico dell’interessamento linfonoda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tecnica LS rende possibile la valutazione selettiva delle stazioni linfonodali a maggior rischio, limitando così la necessità di linfadenectomia e/o di terapie adiuvanti, limitandole ai soli casi positivi (Balch CM, 20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 conseguenza il suo uso routinario è raccomandato nella quasi totalità dei pazien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claude\AppData\Local\Microsoft\Windows\Temporary Internet Files\Content.IE5\JE7KVBLI\MC900242001[1].wmf"/>
          <p:cNvPicPr/>
          <p:nvPr/>
        </p:nvPicPr>
        <p:blipFill>
          <a:blip r:embed="rId1"/>
          <a:stretch/>
        </p:blipFill>
        <p:spPr>
          <a:xfrm>
            <a:off x="7929720" y="214200"/>
            <a:ext cx="928440" cy="1041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8217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</a:rPr>
              <a:t>Radioterapia: perché N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3534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l Multicenter Selective Lymphadenectomy Trial (MSLT) Group ha dimostrato in uno studio randomizzato che </a:t>
            </a: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l’incidenza di micrometastasi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el LS è del 16% e che la percentuale di recidive linfonodali nel gruppo storico del 15,6% e che vi era un miglioramento della sopravvivenza nel gruppo gestito con la tecnica 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oltre  il MSLT Group ha osservato solo un 4,2% di rischio di recidiva linfonodale (quale 1^ sede di ripresa) nei pazienti sottoposti a LS (Morton DL, 200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4:48:09Z</dcterms:created>
  <dc:creator>sangalliclaudia</dc:creator>
  <dc:description/>
  <dc:language>en-US</dc:language>
  <cp:lastModifiedBy>tecno</cp:lastModifiedBy>
  <dcterms:modified xsi:type="dcterms:W3CDTF">2010-11-15T08:21:27Z</dcterms:modified>
  <cp:revision>196</cp:revision>
  <dc:subject/>
  <dc:title>Melanoma cutaneo replica: NO</dc:title>
</cp:coreProperties>
</file>