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E30-38D2-4BBA-9CDD-1569B59F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4D3-1CDD-43C0-AA5B-C5F5944C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1DE-4B40-455E-B83F-0551B8F7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271-495E-42AC-A059-9456A4C2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DB7-92B0-44DB-AB4A-16251E3E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E781-0F0C-4757-BEEC-82FE663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021-1799-4CB7-A5BE-4CABB6C1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1FF-79E4-4ED1-B9B3-E28AC91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9638-52EE-4198-95EB-D75084E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052C-A480-42F1-8569-4AB7C2B3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F2A-04D9-4874-8BBC-D6D20DB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605-FC1B-4C7D-8339-725BE432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90E-5729-4D90-9C1C-BD2A238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222-5691-40F9-8EC3-27A02B8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D90-344F-4538-BF51-142AE6C9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CE55-F924-4CB3-BF69-FDC8BB5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98C1-C851-4AA4-BBAC-1DB88C69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FFE-5BAF-4885-95FC-1688C8C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46E-BE6C-41E8-A175-25AEC33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E2D-51FF-432C-ACB7-2B4B2D8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0F4-730E-4D61-AC2E-67FCD53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8DE-9F17-493D-B280-1143CD3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A1D-5205-43FA-9EB0-D9D0652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E3E-41AD-4E1E-8606-14F424C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3D4-B447-4B11-B5B9-DC64E50B73A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F73F-39F8-4B4B-B073-D4A2CF7C4F9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0" y="2714760"/>
            <a:ext cx="914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sp>
        <p:nvSpPr>
          <p:cNvPr id="163" name="WordArt 17"/>
          <p:cNvSpPr txBox="1"/>
          <p:nvPr/>
        </p:nvSpPr>
        <p:spPr>
          <a:xfrm>
            <a:off x="4211640" y="1413000"/>
            <a:ext cx="357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3"/>
          <a:stretch/>
        </p:blipFill>
        <p:spPr>
          <a:xfrm>
            <a:off x="6588000" y="71280"/>
            <a:ext cx="2556000" cy="1125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71280" y="0"/>
            <a:ext cx="2845080" cy="1125360"/>
          </a:xfrm>
          <a:prstGeom prst="rect">
            <a:avLst/>
          </a:prstGeom>
          <a:ln w="0">
            <a:noFill/>
          </a:ln>
        </p:spPr>
      </p:pic>
      <p:sp>
        <p:nvSpPr>
          <p:cNvPr id="166" name="Rettangolo 5"/>
          <p:cNvSpPr/>
          <p:nvPr/>
        </p:nvSpPr>
        <p:spPr>
          <a:xfrm>
            <a:off x="285840" y="159696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ISULTATI PRELIMINARI DEL TRATTAMENTO RADIANTE CON TECNICA VOLUMETRICA AD INTENSITÀ MODULATA RAPID ARC NEL CARCINOMA DEL RETTO NEOADIUVANTE: ANALISI DEI DATI DI TOSSICITÀ ACUTA DEI PRIMI 16 PAZI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5"/>
          <a:stretch/>
        </p:blipFill>
        <p:spPr>
          <a:xfrm>
            <a:off x="3203640" y="5229360"/>
            <a:ext cx="309708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Immagine 9" descr="image001.png"/>
          <p:cNvPicPr/>
          <p:nvPr/>
        </p:nvPicPr>
        <p:blipFill>
          <a:blip r:embed="rId6"/>
          <a:stretch/>
        </p:blipFill>
        <p:spPr>
          <a:xfrm>
            <a:off x="7667640" y="5942160"/>
            <a:ext cx="1333440" cy="788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3396600"/>
            <a:ext cx="88581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.Lazzari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.Porcu</a:t>
            </a:r>
            <a:r>
              <a:rPr b="1" lang="it-IT" sz="2000" spc="-1" strike="noStrike" u="sng" baseline="30000">
                <a:solidFill>
                  <a:srgbClr val="ffffff"/>
                </a:solidFill>
                <a:uFillTx/>
                <a:latin typeface="Arial"/>
                <a:ea typeface="Times New Roman"/>
              </a:rPr>
              <a:t>1,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. Dell’ Acqua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, 3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A.Cecconi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A.Vavassori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.Rondi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S.Vigorito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F.Cattani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C. Fodor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B.A. Jereczek-Fossa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, 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R.Orecchia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,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Radiation Oncology, European Institute of Oncology Milan;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Medical Physics, European Institute of Oncology Milan; 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ty of Milan;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4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epartment of Radiation Oncology, Fondazione S. Maugeri, Pav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2" descr="p018_0_06_1"/>
          <p:cNvPicPr/>
          <p:nvPr/>
        </p:nvPicPr>
        <p:blipFill>
          <a:blip r:embed="rId7"/>
          <a:stretch/>
        </p:blipFill>
        <p:spPr>
          <a:xfrm>
            <a:off x="108000" y="6165720"/>
            <a:ext cx="2016000" cy="5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MATERIALI E METO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7358040" y="6093000"/>
            <a:ext cx="1770120" cy="693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142920" y="4039200"/>
            <a:ext cx="44290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COUNTOU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argini LINFONO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Da GTV ( N contornati) a CTV: 8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 CTV a  PTV:  5m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argini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 da GTV a CTV 1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 da CTV a PTV 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CasellaDiTesto 25"/>
          <p:cNvSpPr/>
          <p:nvPr/>
        </p:nvSpPr>
        <p:spPr>
          <a:xfrm>
            <a:off x="223560" y="1940040"/>
            <a:ext cx="229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Vescic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Ret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Teste Femoral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Piccolo Intesti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Genit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CasellaDiTesto 23"/>
          <p:cNvSpPr/>
          <p:nvPr/>
        </p:nvSpPr>
        <p:spPr>
          <a:xfrm>
            <a:off x="142920" y="1428840"/>
            <a:ext cx="121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Arial"/>
              </a:rPr>
              <a:t>O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ccia circolare in giù 10"/>
          <p:cNvSpPr/>
          <p:nvPr/>
        </p:nvSpPr>
        <p:spPr>
          <a:xfrm rot="20280000">
            <a:off x="2211480" y="1464840"/>
            <a:ext cx="1071360" cy="571680"/>
          </a:xfrm>
          <a:custGeom>
            <a:avLst/>
            <a:gdLst>
              <a:gd name="textAreaLeft" fmla="*/ 214200 w 1071360"/>
              <a:gd name="textAreaRight" fmla="*/ 785880 w 107136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11520" y="0"/>
                </a:lnTo>
                <a:arcTo wR="8640" hR="21600" stAng="-5400000" swAng="3429472"/>
                <a:lnTo>
                  <a:pt x="21326" y="16200"/>
                </a:lnTo>
                <a:lnTo>
                  <a:pt x="18720" y="21600"/>
                </a:lnTo>
                <a:lnTo>
                  <a:pt x="15566" y="16200"/>
                </a:lnTo>
                <a:lnTo>
                  <a:pt x="17006" y="16200"/>
                </a:lnTo>
                <a:arcTo wR="8640" hR="21600" stAng="-1970528" swAng="-3197391"/>
                <a:lnTo>
                  <a:pt x="10080" y="302"/>
                </a:lnTo>
                <a:arcTo wR="8640" hR="21600" stAng="-5632081" swAng="-5167919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232081"/>
                <a:lnTo>
                  <a:pt x="10080" y="302"/>
                </a:lnTo>
                <a:arcTo wR="8640" hR="21600" stAng="-5632081" swAng="-5167919"/>
                <a:close/>
              </a:path>
            </a:pathLst>
          </a:custGeom>
          <a:solidFill>
            <a:srgbClr val="ffff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CasellaDiTesto 38"/>
          <p:cNvSpPr/>
          <p:nvPr/>
        </p:nvSpPr>
        <p:spPr>
          <a:xfrm>
            <a:off x="3501720" y="150012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T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43578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MATERIALI E METO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7373880" y="6093000"/>
            <a:ext cx="1770120" cy="693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0" y="1526400"/>
            <a:ext cx="4429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I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Prescrizione I SIB: 14 p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TV N- : 1.8 Gy x 25= 45 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TV  T +/ N+ : 2.2 Gy x 25 = 55 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escrizione II SIB: 1 p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TV N- : 1.8 Gy x 25= 45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TV  T / N+: 2.0 Gy x 25 = 50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asellaDiTesto 27"/>
          <p:cNvSpPr/>
          <p:nvPr/>
        </p:nvSpPr>
        <p:spPr>
          <a:xfrm>
            <a:off x="-108000" y="6006960"/>
            <a:ext cx="50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BCT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imi 5 giorni      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ed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uccessivamente  2 CBCT a setti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CasellaDiTesto 28"/>
          <p:cNvSpPr/>
          <p:nvPr/>
        </p:nvSpPr>
        <p:spPr>
          <a:xfrm>
            <a:off x="481680" y="55389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ET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3203640" y="6215040"/>
            <a:ext cx="357120" cy="71640"/>
          </a:xfrm>
          <a:prstGeom prst="rightArrow">
            <a:avLst>
              <a:gd name="adj1" fmla="val 50000"/>
              <a:gd name="adj2" fmla="val 268932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000680" y="3500280"/>
            <a:ext cx="5143320" cy="2374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286160" y="1285920"/>
            <a:ext cx="485784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MATERIALI E METO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7373880" y="6164280"/>
            <a:ext cx="1770120" cy="693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42920" y="1157400"/>
            <a:ext cx="41432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VALUTAZIONE PRE-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utti i pz sono stati valutati p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lo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nguinamen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stensione addomina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sturbi urinar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o pondera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arrea o occlus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3280" y="2714760"/>
          <a:ext cx="4143600" cy="3025800"/>
        </p:xfrm>
        <a:graphic>
          <a:graphicData uri="http://schemas.openxmlformats.org/drawingml/2006/table">
            <a:tbl>
              <a:tblPr/>
              <a:tblGrid>
                <a:gridCol w="2846520"/>
                <a:gridCol w="12970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to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 pazienti (1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guinam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ione addomi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e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r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p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vo alte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"/>
          <p:cNvSpPr/>
          <p:nvPr/>
        </p:nvSpPr>
        <p:spPr>
          <a:xfrm>
            <a:off x="5000760" y="19296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intomi pre-RT con RapidAr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On-Board Imager (OBI) – confidence in tumor targeting"/>
          <p:cNvPicPr/>
          <p:nvPr/>
        </p:nvPicPr>
        <p:blipFill>
          <a:blip r:embed="rId2"/>
          <a:stretch/>
        </p:blipFill>
        <p:spPr>
          <a:xfrm>
            <a:off x="428760" y="4597560"/>
            <a:ext cx="292896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7373880" y="6164280"/>
            <a:ext cx="1770120" cy="693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142920" y="62028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urante RA-IMAT 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criteri de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adiation Therapy Oncology Group/European Organization for Research and Treatment of Cancer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RTOG/EORTC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no stati usati  per valutare la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ossicit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cuta genito-urinaria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(GU),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quella gastro-intestinal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(GI )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 la tossicità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cutanea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CasellaDiTesto 5"/>
          <p:cNvSpPr/>
          <p:nvPr/>
        </p:nvSpPr>
        <p:spPr>
          <a:xfrm flipV="1">
            <a:off x="357120" y="2357280"/>
            <a:ext cx="2000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85840" y="3718080"/>
          <a:ext cx="5572080" cy="2568600"/>
        </p:xfrm>
        <a:graphic>
          <a:graphicData uri="http://schemas.openxmlformats.org/drawingml/2006/table">
            <a:tbl>
              <a:tblPr/>
              <a:tblGrid>
                <a:gridCol w="1771560"/>
                <a:gridCol w="1515960"/>
                <a:gridCol w="1143000"/>
                <a:gridCol w="1141560"/>
              </a:tblGrid>
              <a:tr h="110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ado della tossicit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ssicità cutan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16 pazient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16 pazient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16 pazient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2"/>
          <p:cNvSpPr/>
          <p:nvPr/>
        </p:nvSpPr>
        <p:spPr>
          <a:xfrm>
            <a:off x="179280" y="245484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ntomi durante RT con  RapidArc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4" descr="http://www.dietabellezzaebenessere.com/wp-content/uploads/2010/04/combattere-la-diarrea-con-il-limone-caldo.gif"/>
          <p:cNvPicPr/>
          <p:nvPr/>
        </p:nvPicPr>
        <p:blipFill>
          <a:blip r:embed="rId2"/>
          <a:stretch/>
        </p:blipFill>
        <p:spPr>
          <a:xfrm>
            <a:off x="6429240" y="2643120"/>
            <a:ext cx="2381400" cy="228600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9"/>
          <p:cNvSpPr/>
          <p:nvPr/>
        </p:nvSpPr>
        <p:spPr>
          <a:xfrm>
            <a:off x="734040" y="32860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valutati con 2 visite settiman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7373880" y="6164280"/>
            <a:ext cx="1770120" cy="693720"/>
          </a:xfrm>
          <a:prstGeom prst="rect">
            <a:avLst/>
          </a:prstGeom>
          <a:ln w="0">
            <a:noFill/>
          </a:ln>
        </p:spPr>
      </p:pic>
      <p:sp>
        <p:nvSpPr>
          <p:cNvPr id="257" name="CasellaDiTesto 5"/>
          <p:cNvSpPr/>
          <p:nvPr/>
        </p:nvSpPr>
        <p:spPr>
          <a:xfrm flipV="1">
            <a:off x="357120" y="2357280"/>
            <a:ext cx="2000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85840" y="150048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ntomi dopo Rt con RapidAr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3429000"/>
          <a:ext cx="6000840" cy="3071880"/>
        </p:xfrm>
        <a:graphic>
          <a:graphicData uri="http://schemas.openxmlformats.org/drawingml/2006/table">
            <a:tbl>
              <a:tblPr/>
              <a:tblGrid>
                <a:gridCol w="1976400"/>
                <a:gridCol w="1258920"/>
                <a:gridCol w="1455840"/>
                <a:gridCol w="1309680"/>
              </a:tblGrid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ado della tossicit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ssicità cutan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ca dato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CasellaDiTesto 6"/>
          <p:cNvSpPr/>
          <p:nvPr/>
        </p:nvSpPr>
        <p:spPr>
          <a:xfrm>
            <a:off x="1083600" y="255888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alutati alla fine della RT e ad un m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6" descr="https://npcb7w.bay.livefilestore.com/y1mr_1fhPHccIsOQInSh-nRPcXAsutp8vH3PNf6EOTGrxdwjFGC45r1Ng75x1MmWf9FNljl5HqA_wzpEQz1Q8GoSjoLy9imw_vy9Z6YAlnzr1iae4_UcYhauXlwoyNl_gwb33UBfF6Gy2WFw6rhQQCC0w/simpson_ok.jpg"/>
          <p:cNvPicPr/>
          <p:nvPr/>
        </p:nvPicPr>
        <p:blipFill>
          <a:blip r:embed="rId2"/>
          <a:stretch/>
        </p:blipFill>
        <p:spPr>
          <a:xfrm>
            <a:off x="6500880" y="1928880"/>
            <a:ext cx="2071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omic Sans MS"/>
              </a:rPr>
              <a:t>Conclusioni RAPIDAR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4480" y="142884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nostra esperienza preliminare mostra che  la tecnica con rapidArcr è un trattamento con bassa tossicità acuta  GI- GU e cutane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lla  </a:t>
            </a: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fine  del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trattamento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ssenza di tossicità G3 </a:t>
            </a: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di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tipo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GI/GU e cutane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         </a:t>
            </a: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nonostante aumento 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         </a:t>
            </a: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boost concomitante (SIB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Velocità di trattamento (3min pz)        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IG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2f2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7572240" y="6215040"/>
            <a:ext cx="1571760" cy="642960"/>
          </a:xfrm>
          <a:prstGeom prst="rect">
            <a:avLst/>
          </a:prstGeom>
          <a:ln w="0">
            <a:noFill/>
          </a:ln>
        </p:spPr>
      </p:pic>
      <p:sp>
        <p:nvSpPr>
          <p:cNvPr id="265" name="Freccia circolare a destra 1"/>
          <p:cNvSpPr/>
          <p:nvPr/>
        </p:nvSpPr>
        <p:spPr>
          <a:xfrm rot="7559400">
            <a:off x="5319360" y="4037040"/>
            <a:ext cx="411120" cy="465120"/>
          </a:xfrm>
          <a:custGeom>
            <a:avLst/>
            <a:gdLst>
              <a:gd name="textAreaLeft" fmla="*/ 55080 w 411120"/>
              <a:gd name="textAreaRight" fmla="*/ 356040 w 411120"/>
              <a:gd name="textAreaTop" fmla="*/ 64800 h 465120"/>
              <a:gd name="textAreaBottom" fmla="*/ 400320 h 4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027" stAng="-5400000" swAng="-5400000"/>
                <a:lnTo>
                  <a:pt x="0" y="15574"/>
                </a:lnTo>
                <a:arcTo wR="21600" hR="6027" stAng="10800000" swAng="-2833076"/>
                <a:lnTo>
                  <a:pt x="16200" y="21409"/>
                </a:lnTo>
                <a:lnTo>
                  <a:pt x="21600" y="16827"/>
                </a:lnTo>
                <a:lnTo>
                  <a:pt x="16200" y="11862"/>
                </a:lnTo>
                <a:lnTo>
                  <a:pt x="16200" y="11862"/>
                </a:lnTo>
                <a:arcTo wR="21600" hR="6027" stAng="7966924" swAng="1638928"/>
                <a:lnTo>
                  <a:pt x="8415" y="10800"/>
                </a:lnTo>
                <a:arcTo wR="21600" hR="6027" stAng="-9605852" swAng="4205852"/>
                <a:close/>
              </a:path>
              <a:path fill="darkenLess" w="21600" h="21600">
                <a:moveTo>
                  <a:pt x="21600" y="0"/>
                </a:moveTo>
                <a:arcTo wR="21600" hR="6027" stAng="-5400000" swAng="-5400000"/>
                <a:lnTo>
                  <a:pt x="0" y="6027"/>
                </a:lnTo>
                <a:arcTo wR="21600" hR="6027" stAng="10800000" swAng="-1194148"/>
                <a:lnTo>
                  <a:pt x="8415" y="10800"/>
                </a:lnTo>
                <a:arcTo wR="21600" hR="6027" stAng="-9605852" swAng="4205852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ccia in giù 2"/>
          <p:cNvSpPr/>
          <p:nvPr/>
        </p:nvSpPr>
        <p:spPr>
          <a:xfrm>
            <a:off x="4560840" y="2905200"/>
            <a:ext cx="36036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Connettore 2 4"/>
          <p:cNvCxnSpPr/>
          <p:nvPr/>
        </p:nvCxnSpPr>
        <p:spPr>
          <a:xfrm>
            <a:off x="5745240" y="5643360"/>
            <a:ext cx="4579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omic Sans MS"/>
              </a:rPr>
              <a:t>Conclusioni RAPIDAR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1071720"/>
            <a:ext cx="8713800" cy="53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Follow-up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più lungo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Bassa tossicità tardiva</a:t>
            </a:r>
            <a:r>
              <a:rPr b="1" lang="en-GB" sz="3000" spc="-1" strike="noStrike">
                <a:solidFill>
                  <a:srgbClr val="f2f2f2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f2f2f2"/>
                </a:solidFill>
                <a:latin typeface="Arial"/>
              </a:rPr>
              <a:t>valutan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- down st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- down s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WORK IN PROGRESS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2f2f2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ccia a destra 4"/>
          <p:cNvSpPr/>
          <p:nvPr/>
        </p:nvSpPr>
        <p:spPr>
          <a:xfrm>
            <a:off x="4929120" y="250020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ccia circolare a destra 5"/>
          <p:cNvSpPr/>
          <p:nvPr/>
        </p:nvSpPr>
        <p:spPr>
          <a:xfrm>
            <a:off x="142920" y="1785960"/>
            <a:ext cx="428760" cy="642960"/>
          </a:xfrm>
          <a:custGeom>
            <a:avLst/>
            <a:gdLst>
              <a:gd name="textAreaLeft" fmla="*/ 57240 w 428760"/>
              <a:gd name="textAreaRight" fmla="*/ 371520 w 428760"/>
              <a:gd name="textAreaTop" fmla="*/ 106920 h 642960"/>
              <a:gd name="textAreaBottom" fmla="*/ 5360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00" stAng="-5400000" swAng="-5400000"/>
                <a:lnTo>
                  <a:pt x="0" y="14400"/>
                </a:lnTo>
                <a:arcTo wR="21600" hR="7200" stAng="10800000" swAng="-3134325"/>
                <a:lnTo>
                  <a:pt x="16200" y="21371"/>
                </a:lnTo>
                <a:lnTo>
                  <a:pt x="21600" y="18000"/>
                </a:lnTo>
                <a:lnTo>
                  <a:pt x="16200" y="14171"/>
                </a:lnTo>
                <a:lnTo>
                  <a:pt x="16200" y="14171"/>
                </a:lnTo>
                <a:arcTo wR="21600" hR="7200" stAng="7665675" swAng="2480722"/>
                <a:lnTo>
                  <a:pt x="2894" y="10800"/>
                </a:lnTo>
                <a:arcTo wR="21600" hR="7200" stAng="-10146396" swAng="4746396"/>
                <a:close/>
              </a:path>
              <a:path fill="darkenLess" w="21600" h="21600">
                <a:moveTo>
                  <a:pt x="21600" y="0"/>
                </a:moveTo>
                <a:arcTo wR="21600" hR="7200" stAng="-5400000" swAng="-5400000"/>
                <a:lnTo>
                  <a:pt x="0" y="7200"/>
                </a:lnTo>
                <a:arcTo wR="21600" hR="7200" stAng="10800000" swAng="-653604"/>
                <a:lnTo>
                  <a:pt x="2894" y="10800"/>
                </a:lnTo>
                <a:arcTo wR="21600" hR="7200" stAng="-10146396" swAng="4746396"/>
                <a:close/>
              </a:path>
            </a:pathLst>
          </a:cu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7" descr="C:\Users\Utente\Desktop\scavatore.jpg"/>
          <p:cNvPicPr/>
          <p:nvPr/>
        </p:nvPicPr>
        <p:blipFill>
          <a:blip r:embed="rId1"/>
          <a:stretch/>
        </p:blipFill>
        <p:spPr>
          <a:xfrm>
            <a:off x="6715080" y="4854600"/>
            <a:ext cx="221472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13840" y="928800"/>
            <a:ext cx="89298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it-IT" sz="7200" spc="-1" strike="noStrike">
                <a:solidFill>
                  <a:srgbClr val="ffff00"/>
                </a:solidFill>
                <a:latin typeface="Arial"/>
              </a:rPr>
              <a:t>GRAZIE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http://t0.gstatic.com/images?q=tbn:ANd9GcSHbd5QzfioE_hhENKSDwm2nxKNsRqwnQIG0fCevSU18gRMxjZS"/>
          <p:cNvPicPr/>
          <p:nvPr/>
        </p:nvPicPr>
        <p:blipFill>
          <a:blip r:embed="rId1"/>
          <a:stretch/>
        </p:blipFill>
        <p:spPr>
          <a:xfrm>
            <a:off x="714240" y="2214720"/>
            <a:ext cx="29196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000: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iniziano gli studi di fattibilità (fase I)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con IMAT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 “forward planning” all’Università del Maryland – 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007: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K. Otto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escrive una nuovo metodo di IMAT che chiam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VMAT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“Volumetric Modulated Ar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007-2008: Varian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dotta l’algoritmo descritto da K. Otto per brevettare il sistem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RapidArc</a:t>
            </a:r>
            <a:r>
              <a:rPr b="0" lang="it-IT" sz="2400" spc="-1" strike="noStrike" baseline="30000">
                <a:solidFill>
                  <a:srgbClr val="ffff00"/>
                </a:solidFill>
                <a:latin typeface="Comic Sans MS"/>
              </a:rPr>
              <a:t>TM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, a cui viene implementata la possibiltà di modulare anche il dose-rate durante la rotazione del ga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>
            <a:off x="507960" y="3692520"/>
            <a:ext cx="8136000" cy="28796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000: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iniziano gli studi di fattibilità (fase I)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con IMAT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 “forward planning” all’Università del Maryland – 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007: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K. Otto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escrive una nuovo metodo di IMAT che chiam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VMAT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“Volumetric Modulated Ar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2007-2008: Varian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dotta l’algoritmo descritto da K. Otto per brevettare il sistem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RapidArc</a:t>
            </a:r>
            <a:r>
              <a:rPr b="0" lang="it-IT" sz="2400" spc="-1" strike="noStrike" baseline="30000">
                <a:solidFill>
                  <a:srgbClr val="ffff00"/>
                </a:solidFill>
                <a:latin typeface="Comic Sans MS"/>
              </a:rPr>
              <a:t>TM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, a cui viene implementata la possibiltà di modulare anche il dose-rate durante la rotazione del ga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258920" y="3492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VANTAGGI DI RAPID AR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57120" y="1446120"/>
            <a:ext cx="835812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La soluzione proposta è un algoritmo di ottimizzazione del piano di trattamento mediante il quale la dose è rilasciata durante un arco di 360 grad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Velocità di trat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Distribuzione di dose altamente conformata al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Accuratezza dosimetrica maggi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962880" y="33354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V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215040" y="2500200"/>
            <a:ext cx="2357640" cy="2071800"/>
          </a:xfrm>
          <a:prstGeom prst="rect">
            <a:avLst/>
          </a:prstGeom>
          <a:ln w="0">
            <a:noFill/>
          </a:ln>
        </p:spPr>
      </p:pic>
      <p:cxnSp>
        <p:nvCxnSpPr>
          <p:cNvPr id="180" name="Connettore 4 12"/>
          <p:cNvCxnSpPr/>
          <p:nvPr/>
        </p:nvCxnSpPr>
        <p:spPr>
          <a:xfrm>
            <a:off x="2728440" y="3014640"/>
            <a:ext cx="629640" cy="558000"/>
          </a:xfrm>
          <a:prstGeom prst="bentConnector3">
            <a:avLst>
              <a:gd name="adj1" fmla="val 41304"/>
            </a:avLst>
          </a:prstGeom>
          <a:ln w="9360">
            <a:solidFill>
              <a:srgbClr val="ffff66"/>
            </a:solidFill>
            <a:miter/>
            <a:tailEnd len="med" type="arrow" w="med"/>
          </a:ln>
        </p:spPr>
      </p:cxn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514520" y="3492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VANTAGGI DI RAPID A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0" y="1214280"/>
            <a:ext cx="914400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roduzione di schemi di ipofrazionamento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minuzione dei volumi irradiati a basse dos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ggior tempo da dedicare al set-up  del paz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000080" y="3643200"/>
            <a:ext cx="7215120" cy="2928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84" name="CasellaDiTesto 8"/>
          <p:cNvSpPr/>
          <p:nvPr/>
        </p:nvSpPr>
        <p:spPr>
          <a:xfrm>
            <a:off x="2370960" y="3143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Pelvi IMRT campi fissi vs IMRT RapidA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3D parrotta arco"/>
          <p:cNvPicPr/>
          <p:nvPr/>
        </p:nvPicPr>
        <p:blipFill>
          <a:blip r:embed="rId1"/>
          <a:stretch/>
        </p:blipFill>
        <p:spPr>
          <a:xfrm>
            <a:off x="-1500120" y="-642960"/>
            <a:ext cx="12072960" cy="817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142920" y="1484280"/>
            <a:ext cx="91440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febbraio 2010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ottobre 2010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16 pazienti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ffetti da  adenocarcinoma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l rett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ono stati trattati presso il Dipartimento di Radioterapia  Dell’Istituto Europeo di Oncologia (IEO)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on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cnica Volumetrica ad intensità modulata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RapidArc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CasellaDiTesto 3"/>
          <p:cNvSpPr/>
          <p:nvPr/>
        </p:nvSpPr>
        <p:spPr>
          <a:xfrm>
            <a:off x="250020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28760" y="321480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onne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4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Uomini 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1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ta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edia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63 (range tra 40 -76 a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2786040" y="392904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2857680" y="4714920"/>
            <a:ext cx="975960" cy="90360"/>
          </a:xfrm>
          <a:prstGeom prst="rightArrow">
            <a:avLst>
              <a:gd name="adj1" fmla="val 50000"/>
              <a:gd name="adj2" fmla="val 2700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857680" y="5572080"/>
            <a:ext cx="975960" cy="90360"/>
          </a:xfrm>
          <a:prstGeom prst="rightArrow">
            <a:avLst>
              <a:gd name="adj1" fmla="val 50000"/>
              <a:gd name="adj2" fmla="val 2700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7373880" y="6215040"/>
            <a:ext cx="177012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5480" y="3571560"/>
            <a:ext cx="909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2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2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3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13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4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1 pz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0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3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1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9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2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4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N1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1 pz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500120" y="3786120"/>
            <a:ext cx="976320" cy="90720"/>
          </a:xfrm>
          <a:prstGeom prst="rightArrow">
            <a:avLst>
              <a:gd name="adj1" fmla="val 50000"/>
              <a:gd name="adj2" fmla="val 269048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00120" y="421488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500120" y="564372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500120" y="6572160"/>
            <a:ext cx="976320" cy="90720"/>
          </a:xfrm>
          <a:prstGeom prst="rightArrow">
            <a:avLst>
              <a:gd name="adj1" fmla="val 50000"/>
              <a:gd name="adj2" fmla="val 269048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1500120" y="514368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1500120" y="471492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1500120" y="6072120"/>
            <a:ext cx="976320" cy="90720"/>
          </a:xfrm>
          <a:prstGeom prst="rightArrow">
            <a:avLst>
              <a:gd name="adj1" fmla="val 50000"/>
              <a:gd name="adj2" fmla="val 269048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CasellaDiTesto 17"/>
          <p:cNvSpPr/>
          <p:nvPr/>
        </p:nvSpPr>
        <p:spPr>
          <a:xfrm>
            <a:off x="500040" y="1285920"/>
            <a:ext cx="678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etto prossimale                     3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etto medio-distale                 3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etto distale                             9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etto prox-medio                      1 p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4095720" y="1481040"/>
            <a:ext cx="976320" cy="90720"/>
          </a:xfrm>
          <a:prstGeom prst="rightArrow">
            <a:avLst>
              <a:gd name="adj1" fmla="val 50000"/>
              <a:gd name="adj2" fmla="val 269048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167360" y="283860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167360" y="2409840"/>
            <a:ext cx="976320" cy="90360"/>
          </a:xfrm>
          <a:prstGeom prst="rightArrow">
            <a:avLst>
              <a:gd name="adj1" fmla="val 50000"/>
              <a:gd name="adj2" fmla="val 27012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095720" y="2000160"/>
            <a:ext cx="976320" cy="90720"/>
          </a:xfrm>
          <a:prstGeom prst="rightArrow">
            <a:avLst>
              <a:gd name="adj1" fmla="val 50000"/>
              <a:gd name="adj2" fmla="val 269048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8"/>
          <a:stretch/>
        </p:blipFill>
        <p:spPr>
          <a:xfrm>
            <a:off x="7500960" y="6213600"/>
            <a:ext cx="1643040" cy="644400"/>
          </a:xfrm>
          <a:prstGeom prst="rect">
            <a:avLst/>
          </a:prstGeom>
          <a:ln w="0">
            <a:noFill/>
          </a:ln>
        </p:spPr>
      </p:pic>
      <p:sp>
        <p:nvSpPr>
          <p:cNvPr id="211" name="CasellaDiTesto 18"/>
          <p:cNvSpPr/>
          <p:nvPr/>
        </p:nvSpPr>
        <p:spPr>
          <a:xfrm>
            <a:off x="4095720" y="4359240"/>
            <a:ext cx="479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apecitabina os                 14 p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ecitabin. +oxal.            1 pz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7238880" y="4572000"/>
            <a:ext cx="428760" cy="71280"/>
          </a:xfrm>
          <a:prstGeom prst="rightArrow">
            <a:avLst>
              <a:gd name="adj1" fmla="val 50000"/>
              <a:gd name="adj2" fmla="val 270403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9"/>
          <a:stretch/>
        </p:blipFill>
        <p:spPr>
          <a:xfrm>
            <a:off x="7072200" y="1214280"/>
            <a:ext cx="1857600" cy="1643400"/>
          </a:xfrm>
          <a:prstGeom prst="rect">
            <a:avLst/>
          </a:prstGeom>
          <a:ln w="28440">
            <a:solidFill>
              <a:srgbClr val="b090e3"/>
            </a:solidFill>
            <a:miter/>
          </a:ln>
        </p:spPr>
      </p:pic>
      <p:sp>
        <p:nvSpPr>
          <p:cNvPr id="214" name="AutoShape 4"/>
          <p:cNvSpPr/>
          <p:nvPr/>
        </p:nvSpPr>
        <p:spPr>
          <a:xfrm>
            <a:off x="7238880" y="4924440"/>
            <a:ext cx="428760" cy="71280"/>
          </a:xfrm>
          <a:prstGeom prst="rightArrow">
            <a:avLst>
              <a:gd name="adj1" fmla="val 50000"/>
              <a:gd name="adj2" fmla="val 270403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7373880" y="6164280"/>
            <a:ext cx="1770120" cy="69372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19"/>
          <p:cNvSpPr/>
          <p:nvPr/>
        </p:nvSpPr>
        <p:spPr>
          <a:xfrm>
            <a:off x="285840" y="3354480"/>
            <a:ext cx="40719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Endoscopi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Eco-endoscopi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TC TB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RMN pelvi (in caso dubbi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TC/FDG Pet TB (sempre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Etg N inguinali (in casi dubb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CasellaDiTesto 22"/>
          <p:cNvSpPr/>
          <p:nvPr/>
        </p:nvSpPr>
        <p:spPr>
          <a:xfrm>
            <a:off x="4643280" y="21430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utti i pz hanno eseguit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C Simulazione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slic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 3mm acquisita dal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iaframma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l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iccolo Trocante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asellaDiTesto 32"/>
          <p:cNvSpPr/>
          <p:nvPr/>
        </p:nvSpPr>
        <p:spPr>
          <a:xfrm>
            <a:off x="432000" y="1428840"/>
            <a:ext cx="266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00"/>
                </a:solidFill>
                <a:latin typeface="Arial"/>
              </a:rPr>
              <a:t>Stadiazione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individuazione T- 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Immagine 1" descr=""/>
          <p:cNvPicPr/>
          <p:nvPr/>
        </p:nvPicPr>
        <p:blipFill>
          <a:blip r:embed="rId2"/>
          <a:stretch/>
        </p:blipFill>
        <p:spPr>
          <a:xfrm>
            <a:off x="4714920" y="4307040"/>
            <a:ext cx="4214880" cy="16430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 rot="20569200">
            <a:off x="3635280" y="1884240"/>
            <a:ext cx="803520" cy="906480"/>
          </a:xfrm>
          <a:custGeom>
            <a:avLst/>
            <a:gdLst>
              <a:gd name="textAreaLeft" fmla="*/ 107640 w 803520"/>
              <a:gd name="textAreaRight" fmla="*/ 695880 w 803520"/>
              <a:gd name="textAreaTop" fmla="*/ 136800 h 906480"/>
              <a:gd name="textAreaBottom" fmla="*/ 650160 h 9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18" stAng="-5400000" swAng="-5400000"/>
                <a:lnTo>
                  <a:pt x="0" y="12228"/>
                </a:lnTo>
                <a:arcTo wR="21600" hR="6518" stAng="10800000" swAng="-2428723"/>
                <a:lnTo>
                  <a:pt x="14400" y="21227"/>
                </a:lnTo>
                <a:lnTo>
                  <a:pt x="21600" y="15890"/>
                </a:lnTo>
                <a:lnTo>
                  <a:pt x="14400" y="9807"/>
                </a:lnTo>
                <a:lnTo>
                  <a:pt x="14400" y="12662"/>
                </a:lnTo>
                <a:arcTo wR="21600" hR="6518" stAng="8371277" swAng="1926855"/>
                <a:lnTo>
                  <a:pt x="2183" y="9373"/>
                </a:lnTo>
                <a:arcTo wR="21600" hR="6518" stAng="-10298131" swAng="4898131"/>
                <a:close/>
              </a:path>
              <a:path fill="darkenLess" w="21600" h="21600">
                <a:moveTo>
                  <a:pt x="21600" y="0"/>
                </a:moveTo>
                <a:arcTo wR="21600" hR="6518" stAng="-5400000" swAng="-5400000"/>
                <a:lnTo>
                  <a:pt x="0" y="6518"/>
                </a:lnTo>
                <a:arcTo wR="21600" hR="6518" stAng="10800000" swAng="-501869"/>
                <a:lnTo>
                  <a:pt x="2183" y="9373"/>
                </a:lnTo>
                <a:arcTo wR="21600" hR="6518" stAng="-10298131" swAng="4898131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CasellaDiTesto 36"/>
          <p:cNvSpPr/>
          <p:nvPr/>
        </p:nvSpPr>
        <p:spPr>
          <a:xfrm>
            <a:off x="5143680" y="1571760"/>
            <a:ext cx="20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mul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ccia in giù 17"/>
          <p:cNvSpPr/>
          <p:nvPr/>
        </p:nvSpPr>
        <p:spPr>
          <a:xfrm>
            <a:off x="1285920" y="2571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CasellaDiTesto 1"/>
          <p:cNvSpPr/>
          <p:nvPr/>
        </p:nvSpPr>
        <p:spPr>
          <a:xfrm>
            <a:off x="5148720" y="363996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: -  Retto vu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Vescica pi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0:34:44Z</dcterms:created>
  <dc:creator>Z07862</dc:creator>
  <dc:description/>
  <dc:language>en-US</dc:language>
  <cp:lastModifiedBy>tecno</cp:lastModifiedBy>
  <dcterms:modified xsi:type="dcterms:W3CDTF">2010-11-15T14:11:19Z</dcterms:modified>
  <cp:revision>205</cp:revision>
  <dc:subject/>
  <dc:title>Diapositiva 1</dc:title>
</cp:coreProperties>
</file>