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EC3-79B1-413A-A69B-FA16BFD9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2D9-9D06-43A5-8B55-1FC565F0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0DE-4451-4CD8-8C7A-AE0D96DD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39D-9C46-40E4-A205-54E39A86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0A8-EE0F-4BBF-82CE-58379DDC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86E-1029-4F5B-A62C-A80A4A7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A90-A905-4FB1-B1FF-04AF7064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05BF-B204-41C8-AB12-93F2057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640-585F-4FC2-82AE-44EA9DF3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3EDF-208C-4885-A7FF-8127488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EFBC-4729-4906-90F9-9EF0855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380-6236-4419-B628-A412EBA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FFEB-F452-44A5-965F-8DD4193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C53E-8016-4427-B66C-B6CD845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AB6-7465-4018-8AE5-F05C2B78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1ABC-03AA-47BB-8639-7386534E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EB0-064A-464D-B0E8-484F161B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1788-9BCA-4445-B2D9-E849106C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AD56-EBDB-4A77-8E9E-9DD9A6D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0012-9EF5-4483-9387-D92C653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1569-6431-44DC-A707-7DA59B9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E684-CBC1-4BE4-A4D9-BF8DBA72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5CD-ACEA-41F5-AAB3-11125404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5726-D28F-46C9-BE27-E39F596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507E-910C-4C6A-8C43-D2A3048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E999-1D46-41F3-9885-F860419C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9FF3-D107-44E8-A856-C68A771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AFEE-F016-46AF-BBF3-E7F976CE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7194-6410-4D87-A532-7F354AC6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808D-1EB2-4910-97B2-35F06B9A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9482-0158-41DE-B5E0-50F5115F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7F7B-E0FE-41A5-8A40-69D2DC2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3A5A-F652-4269-A656-3D79386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E04-075F-45A0-BBA8-098EEC4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FE09-61E9-4709-BA82-29FF6BD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6DDA-52DB-4E27-A924-38ABF12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46EA-A5F9-4258-8976-D24D30F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28C9-614A-4FED-9B70-6E00B39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1910-6F0C-4FF6-947C-57F2C35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99A8-57C1-471E-BCAB-069A9E8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64E5-D5FF-4AE6-893B-909CC47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F84D-EF6D-431B-82B5-261939A1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B597-86FB-4798-AE75-832AD9C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582-353B-4EDA-A854-A4AD1CB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4E0-D109-49E6-858D-E6E7B98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14C-8C6E-4C0D-8C0C-B164F7F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6BB-E2FD-472A-9264-BA09709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4C2-C6AA-467F-8397-ECD43BD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1CA6-9CAA-41BD-AA1D-89F16E9C1E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436-ED5A-4D59-9F1B-F244BB527C6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C9E-638B-498C-87F2-7277500C4E0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AA7-E79C-4930-8F4B-5D4E9BBEA0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Logo ASL a colori"/>
          <p:cNvPicPr/>
          <p:nvPr/>
        </p:nvPicPr>
        <p:blipFill>
          <a:blip r:embed="rId2"/>
          <a:stretch/>
        </p:blipFill>
        <p:spPr>
          <a:xfrm>
            <a:off x="785880" y="285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Logo UdA per dia"/>
          <p:cNvPicPr/>
          <p:nvPr/>
        </p:nvPicPr>
        <p:blipFill>
          <a:blip r:embed="rId3"/>
          <a:stretch/>
        </p:blipFill>
        <p:spPr>
          <a:xfrm>
            <a:off x="7500960" y="214200"/>
            <a:ext cx="790560" cy="8575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0" y="222732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600" spc="-1" strike="noStrike">
                <a:solidFill>
                  <a:srgbClr val="002060"/>
                </a:solidFill>
                <a:latin typeface="Calibri"/>
              </a:rPr>
              <a:t>Radiochemioterapia adiuvant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600" spc="-1" strike="noStrike">
                <a:solidFill>
                  <a:srgbClr val="002060"/>
                </a:solidFill>
                <a:latin typeface="Calibri"/>
              </a:rPr>
              <a:t>nelle neoplasie gastriche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500" spc="-1" strike="noStrike">
                <a:solidFill>
                  <a:srgbClr val="000066"/>
                </a:solidFill>
                <a:latin typeface="Calibri"/>
              </a:rPr>
              <a:t>analisi della tossicità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500" spc="-1" strike="noStrike">
                <a:solidFill>
                  <a:srgbClr val="000066"/>
                </a:solidFill>
                <a:latin typeface="Calibri"/>
              </a:rPr>
              <a:t>acuta e tard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537372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75000"/>
              </a:lnSpc>
              <a:spcBef>
                <a:spcPts val="575"/>
              </a:spcBef>
              <a:buClr>
                <a:srgbClr val="000066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Tahoma"/>
              </a:rPr>
              <a:t>Augurio, A. Vinciguerra, F. Palone, S. Manzi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75000"/>
              </a:lnSpc>
              <a:spcBef>
                <a:spcPts val="575"/>
              </a:spcBef>
              <a:buClr>
                <a:srgbClr val="000066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Tahoma"/>
              </a:rPr>
              <a:t>F. Di Febo, M. D’Alessandro, G. Ausili Cefa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0" y="628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IRO 2007 - Fi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sellaDiTesto 9"/>
          <p:cNvSpPr/>
          <p:nvPr/>
        </p:nvSpPr>
        <p:spPr>
          <a:xfrm>
            <a:off x="2431800" y="785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attedra di Radioterapia </a:t>
            </a:r>
            <a:br>
              <a:rPr sz="1800"/>
            </a:b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Università “G. d’Annunzio” – Chi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Direttore: Prof. G. Ausili Ce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0328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125360"/>
            <a:ext cx="8064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NEOPLASIA GAST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Terapia cardine = CHIRUR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2349360"/>
            <a:ext cx="1008000" cy="1008360"/>
          </a:xfrm>
          <a:prstGeom prst="downArrow">
            <a:avLst>
              <a:gd name="adj1" fmla="val 50000"/>
              <a:gd name="adj2" fmla="val 25009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5640" y="795240"/>
            <a:ext cx="79200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 fontScale="41000"/>
          </a:bodyPr>
          <a:p>
            <a:pPr marL="1116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SOPRAVVIVENZA A 5 ANNI E 10 ANNI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dopo intervento chirurgico curativ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1701720"/>
            <a:ext cx="7921800" cy="403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dbf5f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JC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5 anni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76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b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58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4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I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34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IIa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20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IIb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8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V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7%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 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781360"/>
            <a:ext cx="7343640" cy="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1990800"/>
            <a:ext cx="0" cy="34542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5513400"/>
            <a:ext cx="792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 anchorCtr="1">
            <a:normAutofit/>
          </a:bodyPr>
          <a:p>
            <a:pPr marL="272880" indent="-2728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i="1" lang="en-US" sz="1900" spc="-1" strike="noStrike">
                <a:solidFill>
                  <a:srgbClr val="000066"/>
                </a:solidFill>
                <a:latin typeface="Calibri"/>
              </a:rPr>
              <a:t>Il tasso di SVV si riduce con l’estensione della malattia: l’interessamento linfonodale e l’infiltrazione della parete sono associati ad una prognosi infau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87640" y="3141720"/>
            <a:ext cx="1886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4360" y="1052640"/>
          <a:ext cx="7924680" cy="5018040"/>
        </p:xfrm>
        <a:graphic>
          <a:graphicData uri="http://schemas.openxmlformats.org/drawingml/2006/table">
            <a:tbl>
              <a:tblPr/>
              <a:tblGrid>
                <a:gridCol w="2266920"/>
                <a:gridCol w="1885680"/>
                <a:gridCol w="1886040"/>
                <a:gridCol w="1886040"/>
              </a:tblGrid>
              <a:tr h="802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ATTER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I RIPRESA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NCIDENZA NEL GRUPPO TOTALE DI PAZIENTI</a:t>
                      </a:r>
                      <a:r>
                        <a:rPr b="1" lang="en-US" sz="3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lin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einterv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tops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ocoregiona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80 -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2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itoneale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Localizz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Diffus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23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4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30-4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22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etastasi a distanza</a:t>
                      </a:r>
                      <a:r>
                        <a:rPr b="0" i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52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22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f6fc6"/>
                          </a:solidFill>
                          <a:latin typeface="Tahoma"/>
                        </a:rPr>
                        <a:t>49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087520" y="637524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Gunderson LL, Sosin H: IJROBP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66"/>
                </a:solidFill>
                <a:latin typeface="Tahoma"/>
              </a:rPr>
              <a:t>……</a:t>
            </a:r>
            <a:r>
              <a:rPr b="0" i="1" lang="it-IT" sz="3600" spc="-1" strike="noStrike">
                <a:solidFill>
                  <a:srgbClr val="000066"/>
                </a:solidFill>
                <a:latin typeface="Tahoma"/>
              </a:rPr>
              <a:t>pattern di ripresa (nuove serie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2462400" y="6436080"/>
            <a:ext cx="64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Bonenkamp JJ et al (Dutch Gastric Cancer Trial), N Engl J Med 1999 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340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908-9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7083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2:02:52Z</dcterms:created>
  <dc:creator>tigerjedi</dc:creator>
  <dc:description/>
  <dc:language>en-US</dc:language>
  <cp:lastModifiedBy>TC</cp:lastModifiedBy>
  <dcterms:modified xsi:type="dcterms:W3CDTF">2007-11-11T12:51:28Z</dcterms:modified>
  <cp:revision>49</cp:revision>
  <dc:subject/>
  <dc:title>Diapositiva 1</dc:title>
</cp:coreProperties>
</file>