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69A-54E1-4AE6-9130-6D683F2C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DFA-AF7C-4534-8FBD-7DE7B19E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761-079F-47BE-AB71-5AFDBA6F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5450-8224-4CC9-9131-ECB79437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8BA-6500-42B4-9DBF-AF980CBC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6B6-BD40-46E1-B098-7DF94472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E94C-0898-400B-9AFE-58839209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741-E467-4AA7-AC85-F5F14C46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3F69-DE45-49A2-AD79-4EDCFF64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60C-E749-4231-9192-9728BC44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3AE-C939-46DA-A261-F761C666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BF4-4339-4BDA-A3F7-4C957365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5016-3149-41C1-8969-ECAF5393890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981000"/>
            <a:ext cx="75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TRATTAMENTO RADIO-CHEMIOTERAPICO CONCOMITANTE NEL CARCINOMA A CELLULE SQUAMOSE LOCALMENTE AVANZATO DEL DISTRETTO TESTA-COLLO: ESPERIENZA DELLA RADIOTERAPIA ONCOLOGICA DELL’UNIVERSITÀ DI FIR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472428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zione di Radioterapia, Dipartimento di Fisiopatolog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nica,  Università di Fir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398988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F.Paiar,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A.Bruni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, B.Grilli Leonulli, R.Barca, S.Fondelli, B.Agresti, G.P.Bi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0360" y="595008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- Firenze, 10 Novembre 2007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38120" y="5400720"/>
          <a:ext cx="130500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5400720"/>
                    <a:ext cx="130500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26920" y="5445000"/>
            <a:ext cx="122400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Verdana"/>
              </a:rPr>
              <a:t>Analisi dei 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56000" y="907920"/>
          <a:ext cx="5329080" cy="5796000"/>
        </p:xfrm>
        <a:graphic>
          <a:graphicData uri="http://schemas.openxmlformats.org/drawingml/2006/table">
            <a:tbl>
              <a:tblPr/>
              <a:tblGrid>
                <a:gridCol w="2303280"/>
                <a:gridCol w="1800360"/>
                <a:gridCol w="122544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FATTORI PROGNOST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S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60 a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60 a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ORMANCE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G 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G 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ORBILITA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rofari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vo or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inge/Ipofari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. LINFONO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TF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6 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= 66 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MIOTERA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chemiotera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hemiotera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CLI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-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-T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250920" y="3573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LOCA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3500280"/>
            <a:ext cx="2089080" cy="5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48360" y="3645000"/>
            <a:ext cx="648000" cy="360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157720"/>
            <a:ext cx="648000" cy="360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01080" y="3716280"/>
            <a:ext cx="792000" cy="360360"/>
          </a:xfrm>
          <a:prstGeom prst="leftArrow">
            <a:avLst>
              <a:gd name="adj1" fmla="val 50000"/>
              <a:gd name="adj2" fmla="val 549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01080" y="5229360"/>
            <a:ext cx="792000" cy="360360"/>
          </a:xfrm>
          <a:prstGeom prst="leftArrow">
            <a:avLst>
              <a:gd name="adj1" fmla="val 50000"/>
              <a:gd name="adj2" fmla="val 549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Verdana"/>
              </a:rPr>
              <a:t>Effetti Collateral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0920" y="981000"/>
          <a:ext cx="4608360" cy="5543640"/>
        </p:xfrm>
        <a:graphic>
          <a:graphicData uri="http://schemas.openxmlformats.org/drawingml/2006/table">
            <a:tbl>
              <a:tblPr/>
              <a:tblGrid>
                <a:gridCol w="1944720"/>
                <a:gridCol w="863640"/>
                <a:gridCol w="901440"/>
                <a:gridCol w="89856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Danni Acu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.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.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.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c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(1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(4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(2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erosto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(2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(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fa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(44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(2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* (3,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geu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(2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(3,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(1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tane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it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 (5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(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rointestin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us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m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o Ponder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(4,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(1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(3,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(7,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(3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(2,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tolog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u/Neutrop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e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astrinop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(1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(3,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(&lt;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(1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(3,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(2,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(2,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(1,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003640" y="981000"/>
          <a:ext cx="3961080" cy="4324320"/>
        </p:xfrm>
        <a:graphic>
          <a:graphicData uri="http://schemas.openxmlformats.org/drawingml/2006/table">
            <a:tbl>
              <a:tblPr/>
              <a:tblGrid>
                <a:gridCol w="1290240"/>
                <a:gridCol w="1503360"/>
                <a:gridCol w="952200"/>
                <a:gridCol w="21600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Danni Tard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eve/Mode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c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,6%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erosto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,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fa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,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lerosi tess. Mo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o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,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geu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,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el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&lt;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s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,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ie dent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,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 Tu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106 (5,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6012000" y="5445000"/>
            <a:ext cx="24476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z sono ricorsi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z è ricorso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z è ricors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2000" y="5445000"/>
            <a:ext cx="2232000" cy="1079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028000" y="4005360"/>
            <a:ext cx="504720" cy="287280"/>
          </a:xfrm>
          <a:prstGeom prst="ellipse">
            <a:avLst/>
          </a:prstGeom>
          <a:noFill/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01080" y="1700280"/>
            <a:ext cx="503280" cy="360360"/>
          </a:xfrm>
          <a:prstGeom prst="ellipse">
            <a:avLst/>
          </a:prstGeom>
          <a:noFill/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95640" y="2349360"/>
            <a:ext cx="792360" cy="360360"/>
          </a:xfrm>
          <a:prstGeom prst="ellipse">
            <a:avLst/>
          </a:prstGeom>
          <a:noFill/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nclus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907920"/>
            <a:ext cx="856908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38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’ </a:t>
            </a:r>
            <a:r>
              <a:rPr b="1" i="1" lang="en-GB" sz="1800" spc="-1" strike="noStrike">
                <a:solidFill>
                  <a:srgbClr val="3333ff"/>
                </a:solidFill>
                <a:latin typeface="Times New Roman"/>
              </a:rPr>
              <a:t>associazione  radio-chemioterapic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on l’ utilizzo di farmaci della famiglia del Platino, in accordo con i dati della letteratura, rappresenta al momento attuale il miglior approccio terapeutico per il carcinoma del distretto testa-collo localmente avanz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38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i="1" lang="en-GB" sz="1800" spc="-1" strike="noStrike">
                <a:solidFill>
                  <a:srgbClr val="3333ff"/>
                </a:solidFill>
                <a:latin typeface="Times New Roman"/>
              </a:rPr>
              <a:t>Cisplati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appresenta il farmaco d’ elezione nei trattamenti radio-chemioterapici associati e non è stato evidenziato alcun vantaggio dall’ uso di regimi polichemioterap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907920"/>
            <a:ext cx="8713800" cy="180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2924280"/>
            <a:ext cx="8713800" cy="1224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2924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38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i nostri risultati emerge  che la </a:t>
            </a:r>
            <a:r>
              <a:rPr b="1" i="1" lang="en-GB" sz="1800" spc="-1" strike="noStrike">
                <a:solidFill>
                  <a:srgbClr val="3333ff"/>
                </a:solidFill>
                <a:latin typeface="Times New Roman"/>
              </a:rPr>
              <a:t>sede di insorgenz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orofaringe) e la </a:t>
            </a:r>
            <a:r>
              <a:rPr b="1" i="1" lang="en-GB" sz="1800" spc="-1" strike="noStrike">
                <a:solidFill>
                  <a:srgbClr val="3333ff"/>
                </a:solidFill>
                <a:latin typeface="Times New Roman"/>
              </a:rPr>
              <a:t>DTF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(&gt; 66 Gray) sono gli unici fattori prognostici statisticamente significativi per il </a:t>
            </a:r>
            <a:r>
              <a:rPr b="1" i="1" lang="en-GB" sz="1800" spc="-1" strike="noStrike">
                <a:solidFill>
                  <a:srgbClr val="3333ff"/>
                </a:solidFill>
                <a:latin typeface="Times New Roman"/>
              </a:rPr>
              <a:t>controllo loco-regiona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della malattia. Inoltre la </a:t>
            </a:r>
            <a:r>
              <a:rPr b="1" i="1" lang="en-GB" sz="1800" spc="-1" strike="noStrike">
                <a:solidFill>
                  <a:srgbClr val="3333ff"/>
                </a:solidFill>
                <a:latin typeface="Times New Roman"/>
              </a:rPr>
              <a:t>sede di insorgenz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orofaringe) risulta, essere l’ unico fattore prognostico statisticamente significativo per la </a:t>
            </a:r>
            <a:r>
              <a:rPr b="1" i="1" lang="en-GB" sz="1800" spc="-1" strike="noStrike">
                <a:solidFill>
                  <a:srgbClr val="3333ff"/>
                </a:solidFill>
                <a:latin typeface="Times New Roman"/>
              </a:rPr>
              <a:t>sopravvivenza globa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4581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38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i="1" lang="en-GB" sz="1800" spc="-1" strike="noStrike">
                <a:solidFill>
                  <a:srgbClr val="3333ff"/>
                </a:solidFill>
                <a:latin typeface="Times New Roman"/>
              </a:rPr>
              <a:t>fallimento loco-regiona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appresenta ancora oggi la principale causa di insuccesso nel trattamento del carcinoma localmente avanzato del distretto testa c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5661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38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l trattamento associato è risultato un trattamento impegnativo sia per gli effetti collaterali acuti che per quelli tardivi ma è risultato </a:t>
            </a:r>
            <a:r>
              <a:rPr b="1" i="1" lang="en-GB" sz="1800" spc="-1" strike="noStrike">
                <a:solidFill>
                  <a:srgbClr val="3333ff"/>
                </a:solidFill>
                <a:latin typeface="Times New Roman"/>
              </a:rPr>
              <a:t>generalmente ben tolle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724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4437000"/>
            <a:ext cx="871380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5661000"/>
            <a:ext cx="8713800" cy="72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Verdana"/>
              </a:rPr>
              <a:t>Prospettive Fu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1268280"/>
            <a:ext cx="691380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ggior utilizzo di nuove tecniche radioterapiche (</a:t>
            </a:r>
            <a:r>
              <a:rPr b="1" lang="it-IT" sz="1800" spc="-1" strike="noStrike">
                <a:solidFill>
                  <a:srgbClr val="3333ff"/>
                </a:solidFill>
                <a:latin typeface="Times New Roman"/>
              </a:rPr>
              <a:t>IMR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che garantiscano il raggiungimento della massima dose auspicabile (</a:t>
            </a:r>
            <a:r>
              <a:rPr b="1" lang="it-IT" sz="1800" spc="-1" strike="noStrike">
                <a:solidFill>
                  <a:srgbClr val="3333ff"/>
                </a:solidFill>
                <a:latin typeface="Times New Roman"/>
              </a:rPr>
              <a:t>70 GY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mantenendo comunque un’ accettabile tossicità sia acuta che tard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troduzione nella routine clinica di </a:t>
            </a:r>
            <a:r>
              <a:rPr b="1" lang="it-IT" sz="1800" spc="-1" strike="noStrike">
                <a:solidFill>
                  <a:srgbClr val="3333ff"/>
                </a:solidFill>
                <a:latin typeface="Times New Roman"/>
              </a:rPr>
              <a:t>nuovi approcci multidisciplinar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n l’ obiettivo di migliorare sia il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trollo loco-regional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he la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pravvivenza global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it-IT" sz="1800" spc="-1" strike="noStrike">
                <a:solidFill>
                  <a:srgbClr val="3333ff"/>
                </a:solidFill>
                <a:latin typeface="Times New Roman"/>
              </a:rPr>
              <a:t>Chemioterapia di induzio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? Combinazione dei classici schemi con </a:t>
            </a:r>
            <a:r>
              <a:rPr b="1" lang="it-IT" sz="1800" spc="-1" strike="noStrike">
                <a:solidFill>
                  <a:srgbClr val="3333ff"/>
                </a:solidFill>
                <a:latin typeface="Times New Roman"/>
              </a:rPr>
              <a:t>Taxan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?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ggior diffusione dell’ utilizzo dei nuovi fattori biologici con target molecolare selettivo (</a:t>
            </a:r>
            <a:r>
              <a:rPr b="1" lang="it-IT" sz="1800" spc="-1" strike="noStrike">
                <a:solidFill>
                  <a:srgbClr val="3333ff"/>
                </a:solidFill>
                <a:latin typeface="Times New Roman"/>
              </a:rPr>
              <a:t>Cetuximab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che consentano un approccio RT-CHT associato con profili di tolleranza migliori e la possibilità di eseguire il trattamento associato anche in pz con Performance status non otti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1268280"/>
            <a:ext cx="7272360" cy="100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2637000"/>
            <a:ext cx="7272360" cy="122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4221000"/>
            <a:ext cx="7272360" cy="1368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Verdana"/>
              </a:rPr>
              <a:t>Obiettivo dell’ Anali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148428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alutazione dei risultati in termini di sopravvivenza globale (</a:t>
            </a:r>
            <a:r>
              <a:rPr b="1" lang="it-IT" sz="2400" spc="-1" strike="noStrike">
                <a:solidFill>
                  <a:srgbClr val="cc3300"/>
                </a:solidFill>
                <a:latin typeface="Times New Roman"/>
              </a:rPr>
              <a:t>overall surviva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, sopravvivenza specifica per malattia (</a:t>
            </a:r>
            <a:r>
              <a:rPr b="1" lang="it-IT" sz="2400" spc="-1" strike="noStrike">
                <a:solidFill>
                  <a:srgbClr val="cc3300"/>
                </a:solidFill>
                <a:latin typeface="Times New Roman"/>
              </a:rPr>
              <a:t>disease specific surviva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, sopravvivenza libera da malattia locoregionale (</a:t>
            </a:r>
            <a:r>
              <a:rPr b="1" lang="it-IT" sz="2400" spc="-1" strike="noStrike">
                <a:solidFill>
                  <a:srgbClr val="cc3300"/>
                </a:solidFill>
                <a:latin typeface="Times New Roman"/>
              </a:rPr>
              <a:t>locoregional contro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alutazione della sopravvivenza globale e del controllo loco-regionale in relazione ai vari </a:t>
            </a:r>
            <a:r>
              <a:rPr b="1" lang="it-IT" sz="2400" spc="-1" strike="noStrike">
                <a:solidFill>
                  <a:srgbClr val="cc3300"/>
                </a:solidFill>
                <a:latin typeface="Times New Roman"/>
              </a:rPr>
              <a:t>fattori di rischi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rrelati col paziente, col tumore e con il trattamento  radio-chemioterap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alisi dei principali </a:t>
            </a:r>
            <a:r>
              <a:rPr b="1" lang="it-IT" sz="2400" spc="-1" strike="noStrike">
                <a:solidFill>
                  <a:srgbClr val="cc3300"/>
                </a:solidFill>
                <a:latin typeface="Times New Roman"/>
              </a:rPr>
              <a:t>effetti collaterali acut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2400" spc="-1" strike="noStrike">
                <a:solidFill>
                  <a:srgbClr val="cc3300"/>
                </a:solidFill>
                <a:latin typeface="Times New Roman"/>
              </a:rPr>
              <a:t> tardiv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rrelati con il trattamento radio-chemioterapico associ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Verdana"/>
              </a:rPr>
              <a:t>Caratteristiche della casi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341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6 pazienti con carcinoma del distretto testa-collo localmente avanzato trattati dal 1996 al 2006 con radio-chemioterapia associ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234936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chi  = 83 pz (88,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mine = 23 pz (21,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2637000"/>
            <a:ext cx="1441440" cy="287280"/>
          </a:xfrm>
          <a:prstGeom prst="rightArrow">
            <a:avLst>
              <a:gd name="adj1" fmla="val 50000"/>
              <a:gd name="adj2" fmla="val 125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2565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: F = 3,6 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2492280"/>
            <a:ext cx="2089080" cy="649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589720"/>
            <a:ext cx="36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matori    = 80 pz (75,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 Fumatori = 26 pz (24,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96760" y="3716280"/>
            <a:ext cx="229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à media = 59 a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ange 37-78 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4508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à mediana = 60 a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3500280"/>
            <a:ext cx="2808360" cy="1657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427640" y="3500280"/>
          <a:ext cx="432108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500280"/>
                    <a:ext cx="432108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788000" y="1413000"/>
          <a:ext cx="3240000" cy="1863720"/>
        </p:xfrm>
        <a:graphic>
          <a:graphicData uri="http://schemas.openxmlformats.org/drawingml/2006/table">
            <a:tbl>
              <a:tblPr/>
              <a:tblGrid>
                <a:gridCol w="1873080"/>
                <a:gridCol w="136692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Sta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N° pz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-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(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 (5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(1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755640" y="333360"/>
            <a:ext cx="81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Verdana"/>
              </a:rPr>
              <a:t>Caratteristiche della casi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42920" y="3500280"/>
          <a:ext cx="7201080" cy="2778120"/>
        </p:xfrm>
        <a:graphic>
          <a:graphicData uri="http://schemas.openxmlformats.org/drawingml/2006/table">
            <a:tbl>
              <a:tblPr/>
              <a:tblGrid>
                <a:gridCol w="1060560"/>
                <a:gridCol w="1060560"/>
                <a:gridCol w="1056960"/>
                <a:gridCol w="1060560"/>
                <a:gridCol w="1058760"/>
                <a:gridCol w="19036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N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N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N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T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Tx/T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T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T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T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T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4500720" y="5950080"/>
            <a:ext cx="502920" cy="287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42920" y="1413000"/>
          <a:ext cx="3489480" cy="1898640"/>
        </p:xfrm>
        <a:graphic>
          <a:graphicData uri="http://schemas.openxmlformats.org/drawingml/2006/table">
            <a:tbl>
              <a:tblPr/>
              <a:tblGrid>
                <a:gridCol w="1416240"/>
                <a:gridCol w="2073240"/>
              </a:tblGrid>
              <a:tr h="42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SE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N° di p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vo or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106 (21,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rofari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/106 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,9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i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6 (9,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pofari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06 (17,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995640" y="6381720"/>
            <a:ext cx="43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NM classification of malignant tumours – sixth Edition 2002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101080" y="2565360"/>
            <a:ext cx="287280" cy="625680"/>
          </a:xfrm>
          <a:custGeom>
            <a:avLst/>
            <a:gdLst>
              <a:gd name="textAreaLeft" fmla="*/ 0 w 287280"/>
              <a:gd name="textAreaRight" fmla="*/ 103680 w 287280"/>
              <a:gd name="textAreaTop" fmla="*/ 16200 h 625680"/>
              <a:gd name="textAreaBottom" fmla="*/ 609480 h 62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38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90160" y="2684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8360" y="270828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Verdana"/>
              </a:rPr>
              <a:t>Caratteristiche della casi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9079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utti i pz sono stati sottoposti a regime chemioterapico a base di </a:t>
            </a:r>
            <a:r>
              <a:rPr b="1" i="1" lang="it-IT" sz="2400" spc="-1" strike="noStrike">
                <a:solidFill>
                  <a:srgbClr val="333399"/>
                </a:solidFill>
                <a:latin typeface="Times New Roman"/>
              </a:rPr>
              <a:t>Pla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177336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gime monochemioterapico (58 p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141720"/>
            <a:ext cx="12589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DDP settimanale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 p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350028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DDP         infus.cont. 24 p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14172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DDP trisettimanale 11p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8987600">
            <a:off x="2268360" y="2636640"/>
            <a:ext cx="287640" cy="649080"/>
          </a:xfrm>
          <a:prstGeom prst="downArrow">
            <a:avLst>
              <a:gd name="adj1" fmla="val 50000"/>
              <a:gd name="adj2" fmla="val 5641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2708280"/>
            <a:ext cx="288720" cy="792000"/>
          </a:xfrm>
          <a:prstGeom prst="downArrow">
            <a:avLst>
              <a:gd name="adj1" fmla="val 50000"/>
              <a:gd name="adj2" fmla="val 6857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787600">
            <a:off x="936720" y="2599920"/>
            <a:ext cx="287280" cy="649440"/>
          </a:xfrm>
          <a:prstGeom prst="downArrow">
            <a:avLst>
              <a:gd name="adj1" fmla="val 50000"/>
              <a:gd name="adj2" fmla="val 565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4120800">
            <a:off x="3367440" y="1464120"/>
            <a:ext cx="287280" cy="1047960"/>
          </a:xfrm>
          <a:prstGeom prst="downArrow">
            <a:avLst>
              <a:gd name="adj1" fmla="val 50000"/>
              <a:gd name="adj2" fmla="val 9119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1773360"/>
            <a:ext cx="2016360" cy="86508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844640"/>
            <a:ext cx="201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gime polichemioterapico (48 p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1773360"/>
            <a:ext cx="1800360" cy="93636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284640"/>
            <a:ext cx="13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DDP+5FU   ( 21 p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3284640"/>
            <a:ext cx="165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BDCA+5FU  (27 pz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3078000">
            <a:off x="6330240" y="2690640"/>
            <a:ext cx="270000" cy="638280"/>
          </a:xfrm>
          <a:prstGeom prst="downArrow">
            <a:avLst>
              <a:gd name="adj1" fmla="val 50000"/>
              <a:gd name="adj2" fmla="val 591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539400">
            <a:off x="7144200" y="26978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042920" y="4221000"/>
          <a:ext cx="5977080" cy="2421000"/>
        </p:xfrm>
        <a:graphic>
          <a:graphicData uri="http://schemas.openxmlformats.org/drawingml/2006/table">
            <a:tbl>
              <a:tblPr/>
              <a:tblGrid>
                <a:gridCol w="1784520"/>
                <a:gridCol w="2271600"/>
                <a:gridCol w="1920960"/>
              </a:tblGrid>
              <a:tr h="4572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VOLU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DE T + LNF 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/106 (68.6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DE T + LNF LC + SP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/106 (31,4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FAS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T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/106 (85.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6 (14.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DOSE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66 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106 (17.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/106 (83.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FRAZION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-2.0 Gy x 5/set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/106 (10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7093080" y="4653000"/>
            <a:ext cx="1871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*Dose media                    64 G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ange                            54 - 74 G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5013360"/>
            <a:ext cx="503280" cy="21600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5950080"/>
            <a:ext cx="503280" cy="21564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7514600">
            <a:off x="5096520" y="1464120"/>
            <a:ext cx="287280" cy="1047960"/>
          </a:xfrm>
          <a:prstGeom prst="downArrow">
            <a:avLst>
              <a:gd name="adj1" fmla="val 50000"/>
              <a:gd name="adj2" fmla="val 9119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4437000"/>
            <a:ext cx="1800360" cy="165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Verdana"/>
              </a:rPr>
              <a:t>Analisi dei 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16000" y="5084640"/>
          <a:ext cx="6911640" cy="1599840"/>
        </p:xfrm>
        <a:graphic>
          <a:graphicData uri="http://schemas.openxmlformats.org/drawingml/2006/table">
            <a:tbl>
              <a:tblPr/>
              <a:tblGrid>
                <a:gridCol w="2369520"/>
                <a:gridCol w="1468080"/>
                <a:gridCol w="1551960"/>
                <a:gridCol w="15220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 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 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0 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Local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Overall Survi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76360" y="1052640"/>
          <a:ext cx="6048360" cy="36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052640"/>
                    <a:ext cx="6048360" cy="36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Verdana"/>
              </a:rPr>
              <a:t>Analisi dei 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548172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llow up mediano di 27,3 m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591336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57024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106 (42,5%) pz deceduti per malat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5626080"/>
            <a:ext cx="2879640" cy="93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332000" y="1268280"/>
          <a:ext cx="626436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268280"/>
                    <a:ext cx="62643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Verdana"/>
              </a:rPr>
              <a:t>ANALISI INSUCCES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1341360"/>
          <a:ext cx="8002440" cy="2592360"/>
        </p:xfrm>
        <a:graphic>
          <a:graphicData uri="http://schemas.openxmlformats.org/drawingml/2006/table">
            <a:tbl>
              <a:tblPr/>
              <a:tblGrid>
                <a:gridCol w="1743120"/>
                <a:gridCol w="635040"/>
                <a:gridCol w="554040"/>
                <a:gridCol w="714240"/>
                <a:gridCol w="1189080"/>
                <a:gridCol w="552600"/>
                <a:gridCol w="793440"/>
                <a:gridCol w="182088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PERSISTENZE / RECID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TOTALE P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RECUP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INSUCCESSI FIN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+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VO OR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23 (5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OFARI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54 (2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I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10 (6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POFARI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9 (7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/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/106 (4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932360" y="4149720"/>
          <a:ext cx="3240000" cy="2448000"/>
        </p:xfrm>
        <a:graphic>
          <a:graphicData uri="http://schemas.openxmlformats.org/drawingml/2006/table">
            <a:tbl>
              <a:tblPr/>
              <a:tblGrid>
                <a:gridCol w="2160720"/>
                <a:gridCol w="107928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SEDE METASTA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M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G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 SOTTOCUTAN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900000" y="4365720"/>
            <a:ext cx="17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106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PAZIENTI METASTA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5805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PZ MTS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5229360"/>
            <a:ext cx="287640" cy="57600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4365720"/>
            <a:ext cx="1944720" cy="21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5229360"/>
            <a:ext cx="1655640" cy="287280"/>
          </a:xfrm>
          <a:prstGeom prst="rightArrow">
            <a:avLst>
              <a:gd name="adj1" fmla="val 50000"/>
              <a:gd name="adj2" fmla="val 14407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365720"/>
            <a:ext cx="576360" cy="358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3573360"/>
            <a:ext cx="576000" cy="358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3573360"/>
            <a:ext cx="720720" cy="358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Verdana"/>
              </a:rPr>
              <a:t>Analisi dei 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916360" y="1052640"/>
          <a:ext cx="4680000" cy="5249880"/>
        </p:xfrm>
        <a:graphic>
          <a:graphicData uri="http://schemas.openxmlformats.org/drawingml/2006/table">
            <a:tbl>
              <a:tblPr/>
              <a:tblGrid>
                <a:gridCol w="2303280"/>
                <a:gridCol w="1728720"/>
                <a:gridCol w="6480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Fattori Prognost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SS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60 a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60 a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ORMANCE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G 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G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ORBIDITA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rofari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vo or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inge/Ipofari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TF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66 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= 66 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. LINFONO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MIOTERA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oC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iC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020000" y="3789360"/>
            <a:ext cx="504720" cy="360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3357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OVERALL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3284640"/>
            <a:ext cx="2521080" cy="5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40720" y="3860640"/>
            <a:ext cx="792000" cy="289080"/>
          </a:xfrm>
          <a:prstGeom prst="leftArrow">
            <a:avLst>
              <a:gd name="adj1" fmla="val 50000"/>
              <a:gd name="adj2" fmla="val 684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3:12:55Z</dcterms:created>
  <dc:creator>Radio150</dc:creator>
  <dc:description/>
  <dc:language>en-US</dc:language>
  <cp:lastModifiedBy>TC</cp:lastModifiedBy>
  <dcterms:modified xsi:type="dcterms:W3CDTF">2007-11-10T09:21:44Z</dcterms:modified>
  <cp:revision>117</cp:revision>
  <dc:subject/>
  <dc:title>Diapositiva 1</dc:title>
</cp:coreProperties>
</file>