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D13-F82E-44BB-AA91-CC6E1C58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7C3-8B6B-4D70-8BB6-575660A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979-84FF-46F0-AECD-9F1DDB97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14B-0A4F-43F3-ACF9-14099DA6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983-EC86-4627-8F90-87C1034A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F7C-2F76-4CF4-8D61-B838D713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E9A-F1D4-49ED-95FF-4C92F704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169-F2FC-4B07-8978-244FB8A8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63E-4446-4233-993C-D0F4BC5D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665-D4D2-4297-AD55-2C01173D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073-8633-4438-AF5A-A9112550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3CB-955D-4F8B-82EF-03B2A1D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ACFD-930A-4424-B016-7C5D9B922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725480" y="6308640"/>
            <a:ext cx="56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gresso Nazional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Firenze 10-13/10/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164360" y="6308640"/>
            <a:ext cx="325440" cy="324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187280" y="6308640"/>
            <a:ext cx="32544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168640"/>
            <a:ext cx="77738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uction chemotherapy with paclitaxel and cisplatin to concurrent radiotherapy and weekly paclitaxel in the treatment of loco-regionally advanced head and neck squamous cell carcinoma. Mature results of a prospective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40428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° Department of Radiological Science, Operative Unit of Radiotherapy - University of Mess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Arial"/>
              </a:rPr>
              <a:t>^Department of Human Pathology, Division of Medical Oncology - University of Mess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c0066"/>
                </a:solidFill>
                <a:latin typeface="Arial"/>
              </a:rPr>
              <a:t>*Operative Unit of Radiotherapy -  Hospital of Taorm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936360" cy="93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152360" cy="627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560" y="4869000"/>
            <a:ext cx="79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99"/>
                </a:solidFill>
                <a:uFillTx/>
                <a:latin typeface="Arial"/>
              </a:rPr>
              <a:t>A. Pontoriero°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, A. Salatino°, P. Frosina°, C. De Renzis°,</a:t>
            </a: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G. Ferraro^,                          A. Scimone^,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N. Settineri°,</a:t>
            </a: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A. Santacaterina*, S. Pergolizzi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°</a:t>
            </a: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*,</a:t>
            </a: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V. Adamo^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58920" y="1670040"/>
          <a:ext cx="8605800" cy="490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1670040"/>
                    <a:ext cx="86058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Risultati</a:t>
            </a:r>
            <a:br>
              <a:rPr sz="44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- Tossicità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561960"/>
          <a:ext cx="8172360" cy="578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1960"/>
                    <a:ext cx="817236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708360" y="2209320"/>
            <a:ext cx="511344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Mucosite (</a:t>
            </a:r>
            <a:r>
              <a:rPr b="1" i="1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grado 4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in 5 cas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Interruzione del paclitaxel in 5 pazienti durante le prime tre Settimane di irradiaz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3139920"/>
            <a:ext cx="287640" cy="576360"/>
          </a:xfrm>
          <a:prstGeom prst="upArrow">
            <a:avLst>
              <a:gd name="adj1" fmla="val 50000"/>
              <a:gd name="adj2" fmla="val 500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6481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o approccio ibrido ha dimostrato una buona attività nel trattamento del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cinoma squamoso del  testa-collo localmente avanza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uttavia, anche se la tossicità è un problema, i risultati a lungo termine incoraggiano ad utilizzare questo trial in un numero di pazienti più am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6600"/>
                </a:solidFill>
                <a:latin typeface="Arial"/>
              </a:rPr>
              <a:t>End-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669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lutare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l’</a:t>
            </a:r>
            <a:r>
              <a:rPr b="1" lang="it-IT" sz="2400" spc="-1" strike="noStrike" u="sng">
                <a:solidFill>
                  <a:srgbClr val="ff3300"/>
                </a:solidFill>
                <a:uFillTx/>
                <a:latin typeface="Arial"/>
              </a:rPr>
              <a:t>Attività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uno schema ibrido*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l trattamento del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rcinoma squamoso del   testa-collo localmente avanza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ossi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4076640"/>
            <a:ext cx="705636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c0066"/>
                </a:solidFill>
                <a:latin typeface="Arial"/>
              </a:rPr>
              <a:t>Schema Ibrido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hemioterapia di induzione con paclitaxel e cisplatino e paclitaxel settimanale in concomitanza alla radioterapia  nel trattamento del carcinoma squamoso del  testa-collo localmente avanzat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8864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Pazienti e Metodo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Schema -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276640"/>
            <a:ext cx="8496360" cy="288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2            22-23             43-44                 64            71             78             85          92           99          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844640"/>
            <a:ext cx="21600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84464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1844640"/>
            <a:ext cx="21600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1844640"/>
            <a:ext cx="21600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84464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184464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708280"/>
            <a:ext cx="50472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2708280"/>
            <a:ext cx="50472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708280"/>
            <a:ext cx="50472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2708280"/>
            <a:ext cx="5050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48360" y="2708280"/>
            <a:ext cx="5050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7640" y="2708280"/>
            <a:ext cx="50472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8360" y="2708280"/>
            <a:ext cx="50472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1844640"/>
            <a:ext cx="21564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48360" y="1844640"/>
            <a:ext cx="216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1844640"/>
            <a:ext cx="216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844640"/>
            <a:ext cx="216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1844640"/>
            <a:ext cx="216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8360" y="1844640"/>
            <a:ext cx="216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40720" y="1844640"/>
            <a:ext cx="216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4797360"/>
            <a:ext cx="215640" cy="2160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3429000"/>
            <a:ext cx="215640" cy="216000"/>
          </a:xfrm>
          <a:prstGeom prst="rect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4149720"/>
            <a:ext cx="215640" cy="216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5445000"/>
            <a:ext cx="504720" cy="2160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42900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clitaxel 175 mg/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iorno 1  ogni  21 giorni per un totale di 3 cicli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4600" y="4076640"/>
            <a:ext cx="67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splatino 75 mg/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iorno 2 ogni  21 giorni per un totale di 3 ci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51920" y="4724280"/>
            <a:ext cx="35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clitaxel 40 mg/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 6 – 7 ci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65760" y="5445000"/>
            <a:ext cx="70282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6-70 G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180-200 cGy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settimane dopo la fine dell’ultimo ciclo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u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733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6370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547640" y="404640"/>
            <a:ext cx="360360" cy="237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000 h 2376720"/>
              <a:gd name="textAreaBottom" fmla="*/ 232272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7"/>
                  <a:pt x="10800" y="1573"/>
                </a:cubicBezTo>
                <a:lnTo>
                  <a:pt x="10800" y="9051"/>
                </a:lnTo>
                <a:cubicBezTo>
                  <a:pt x="10800" y="9838"/>
                  <a:pt x="5400" y="10624"/>
                  <a:pt x="0" y="10624"/>
                </a:cubicBezTo>
                <a:cubicBezTo>
                  <a:pt x="5400" y="10624"/>
                  <a:pt x="10800" y="11411"/>
                  <a:pt x="10800" y="12197"/>
                </a:cubicBezTo>
                <a:lnTo>
                  <a:pt x="10800" y="20027"/>
                </a:lnTo>
                <a:cubicBezTo>
                  <a:pt x="10800" y="2081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6011640" y="-819000"/>
            <a:ext cx="360360" cy="4824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9800 h 4824360"/>
              <a:gd name="textAreaBottom" fmla="*/ 4714560 h 48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7"/>
                  <a:pt x="10800" y="1573"/>
                </a:cubicBezTo>
                <a:lnTo>
                  <a:pt x="10800" y="9051"/>
                </a:lnTo>
                <a:cubicBezTo>
                  <a:pt x="10800" y="9838"/>
                  <a:pt x="5400" y="10624"/>
                  <a:pt x="0" y="10624"/>
                </a:cubicBezTo>
                <a:cubicBezTo>
                  <a:pt x="5400" y="10624"/>
                  <a:pt x="10800" y="11411"/>
                  <a:pt x="10800" y="12197"/>
                </a:cubicBezTo>
                <a:lnTo>
                  <a:pt x="10800" y="20027"/>
                </a:lnTo>
                <a:cubicBezTo>
                  <a:pt x="10800" y="2081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69640" y="10969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7600" y="10047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omit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8800" y="1557360"/>
            <a:ext cx="76438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Gennaio 1999 - Dicembre 200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43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Età mediana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29-74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419640" y="2635200"/>
          <a:ext cx="5724360" cy="32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635200"/>
                    <a:ext cx="572436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0" y="2997360"/>
          <a:ext cx="4140360" cy="298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97360"/>
                    <a:ext cx="41403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476280"/>
          <a:ext cx="2987640" cy="215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76280"/>
                    <a:ext cx="29876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4000" y="2565360"/>
          <a:ext cx="2879640" cy="2109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565360"/>
                    <a:ext cx="287964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714840" y="385920"/>
          <a:ext cx="5429160" cy="6086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385920"/>
                    <a:ext cx="542916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79280" y="4508640"/>
          <a:ext cx="3373560" cy="19206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4508640"/>
                    <a:ext cx="3373560" cy="19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12920" y="1060560"/>
          <a:ext cx="831672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060560"/>
                    <a:ext cx="831672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72280" y="5733000"/>
            <a:ext cx="74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00"/>
                </a:solidFill>
                <a:latin typeface="Arial"/>
              </a:rPr>
              <a:t>Overall respon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Complete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tial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GB" sz="2400" spc="-1" strike="noStrike" u="sng">
                <a:solidFill>
                  <a:srgbClr val="006600"/>
                </a:solidFill>
                <a:uFillTx/>
                <a:latin typeface="Arial"/>
              </a:rPr>
              <a:t>32 Pz (7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9440" y="5588640"/>
            <a:ext cx="74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00"/>
                </a:solidFill>
                <a:latin typeface="Arial"/>
              </a:rPr>
              <a:t>Overall respon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Complete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tial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GB" sz="2400" spc="-1" strike="noStrike" u="sng">
                <a:solidFill>
                  <a:srgbClr val="006600"/>
                </a:solidFill>
                <a:uFillTx/>
                <a:latin typeface="Arial"/>
              </a:rPr>
              <a:t>42 Pz (9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12920" y="1060560"/>
          <a:ext cx="831672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060560"/>
                    <a:ext cx="831672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1520" b="1588"/>
          <a:stretch/>
        </p:blipFill>
        <p:spPr>
          <a:xfrm>
            <a:off x="1403280" y="1125360"/>
            <a:ext cx="5256360" cy="5253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83120" y="229212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pravvivenza me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23 me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Risulta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1338" b="1370"/>
          <a:stretch/>
        </p:blipFill>
        <p:spPr>
          <a:xfrm>
            <a:off x="684360" y="1197000"/>
            <a:ext cx="5257800" cy="525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92400" y="1483920"/>
            <a:ext cx="47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mpo mediano di fallimento del tratt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99"/>
                </a:solidFill>
                <a:uFillTx/>
                <a:latin typeface="Arial"/>
              </a:rPr>
              <a:t>18 me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356000" y="2276640"/>
          <a:ext cx="4788000" cy="272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2276640"/>
                    <a:ext cx="478800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0:40:46Z</dcterms:created>
  <dc:creator>PONTORIERO</dc:creator>
  <dc:description/>
  <dc:language>en-US</dc:language>
  <cp:lastModifiedBy>TC</cp:lastModifiedBy>
  <dcterms:modified xsi:type="dcterms:W3CDTF">2007-11-10T12:02:27Z</dcterms:modified>
  <cp:revision>18</cp:revision>
  <dc:subject/>
  <dc:title>Diapositiva 1</dc:title>
</cp:coreProperties>
</file>