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F10F-DDBE-432D-8DC3-BBE2954F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E785-2D3A-4EA8-8C5B-0F1EB2F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4EF4-FB30-44CD-A9C4-BE92E9F5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8E01-2606-42EC-A624-74625803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5023-A37F-421A-98A6-C89872F8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8D58-CB28-4349-B1B0-F8C85774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7084-F6C2-4F2E-9555-4EE7E4D3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EE60-1B38-47E9-AD9E-4CFF853E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7DD5-A101-49DD-826F-450BCC5B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899640" y="33300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90AB-6926-48BB-9E92-682A9617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483B-DC88-4775-B60A-1BDCEA5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75B5-9024-441C-BB70-54F2B832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5DBD-74FF-4A50-9F7A-E4BAFC70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87C8-99C9-4E44-AD66-BCD47D2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782E-DBBA-487B-9192-2EC324B2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F642-1452-44E3-A857-7BBEE7D7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D6E3-3E4E-40FC-9EA7-9D1AA74F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69A3-9197-4409-BA7D-4513B86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7936-A1D9-4675-925B-DDC690E7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9BBD-753A-4E27-A193-465EBA96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99640" y="33300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0103-1098-4163-A1E9-5DCC1352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07C9-38D0-46CA-B6B0-07E293C4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67BC-8CA1-454D-B8C6-909573C0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7B9D-9CDB-4405-BFD2-F739EABD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0CE8-3846-41D6-BCBC-E6E8D792B9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899640" y="333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AB9F-8ACA-4DEB-ABFE-EAB33BD917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Controversies in Radiotherapy of Non-Small Cell Lung Cancer: Is Concomitant Chemoradiotherapy the Standard Treatment?</a:t>
            </a: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llan Pr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HS Lothi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3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4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916280"/>
            <a:ext cx="8532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ividual patient data meta-analysis sequential chemoradiotherap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vs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ncomitant chemoradiotherapy (Auperin et al 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6 t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199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edian follow-up 5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333360"/>
            <a:ext cx="83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4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916280"/>
            <a:ext cx="8532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ividual patient data meta-analysis concomitant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vs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quential chemoradiotherapy (Auperin et al 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R 0.83 (0.73-0.94), p = 0.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36 </a:t>
            </a:r>
            <a:r>
              <a:rPr b="0" i="1" lang="en-GB" sz="2800" spc="-1" strike="noStrike">
                <a:solidFill>
                  <a:srgbClr val="ffffff"/>
                </a:solidFill>
                <a:latin typeface="Garamond"/>
              </a:rPr>
              <a:t>vs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30.6% 2 year survi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4.8 </a:t>
            </a:r>
            <a:r>
              <a:rPr b="0" i="1" lang="en-GB" sz="2800" spc="-1" strike="noStrike">
                <a:solidFill>
                  <a:srgbClr val="ffffff"/>
                </a:solidFill>
                <a:latin typeface="Garamond"/>
              </a:rPr>
              <a:t>vs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0.1% 5 year survi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333360"/>
            <a:ext cx="83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4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916280"/>
            <a:ext cx="8532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ividual patient data meta-analysis concomitant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vs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quential chemoradiotherapy (Auperin et al 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Locoregional pro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R 0.76 (0.62-0.9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8.8%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35.1% @ 5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stant pro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R 1.04 (0.86-1.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7.5%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36.1% @ 5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0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motherapy reduces distant relap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ocal relapse may be increased if local therapy delay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concomitant therapy not possible, neo- adjuvant therapy may be the wrong parad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4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844640"/>
          <a:ext cx="8388000" cy="4316400"/>
        </p:xfrm>
        <a:graphic>
          <a:graphicData uri="http://schemas.openxmlformats.org/drawingml/2006/table">
            <a:tbl>
              <a:tblPr/>
              <a:tblGrid>
                <a:gridCol w="1397880"/>
                <a:gridCol w="1398240"/>
                <a:gridCol w="1398240"/>
                <a:gridCol w="1397880"/>
                <a:gridCol w="1397880"/>
                <a:gridCol w="13978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uction C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olu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xicit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n Arb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5.1 -75.6 G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5-7.5 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ute lu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k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3.6 - 80 G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-6 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t stat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pha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te lu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TO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7.4 G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 G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 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te lu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SK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4 G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 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pha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te lu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K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.3 G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ute lu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549360"/>
            <a:ext cx="82897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4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2421000"/>
          <a:ext cx="8640720" cy="3024000"/>
        </p:xfrm>
        <a:graphic>
          <a:graphicData uri="http://schemas.openxmlformats.org/drawingml/2006/table">
            <a:tbl>
              <a:tblPr/>
              <a:tblGrid>
                <a:gridCol w="1395360"/>
                <a:gridCol w="1397160"/>
                <a:gridCol w="1395360"/>
                <a:gridCol w="1397160"/>
                <a:gridCol w="1395360"/>
                <a:gridCol w="1660320"/>
              </a:tblGrid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emo-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xi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TO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-75.4 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5 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ekly 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/9 acute  lu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CCT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 –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-78 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5-8.5 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ekly 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/6 acute  lu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8-90 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5-9 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uction &amp; weekly C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% l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0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rrent evidence indicates concomitant chemoradiotherapy is superior to sequ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– if significant radiotherapy dose escalation were only possible with radiotherapy as single agent, adjuvant chemotherapy might be worthy of compari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l treatments may cure; systemic treatments do n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62064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0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Garamond"/>
              </a:rPr>
              <a:t>What is the aim of therap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 eradicate cancer and prevent distant a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loc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recurr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ow do we achieve th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y delivering the highest possible doses of chemotherapy and radiotherapy in the shortest possible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0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ould sequential be bett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giving treatments simultaneously limited delivered doses of either chemotherapy or radio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there any evidence for thi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oposide 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xanes 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metrexed 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norelbine 8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mcitabine 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mited evidence for radiotherapy dose esca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0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r>
              <a:rPr b="1" i="1" lang="en-GB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is the evid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e tolera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ase I estimates of maximum tolerated do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diotherapy dose esca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ect comparis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dividual randomised tria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Meta-analy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dividual patient da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260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0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773360"/>
          <a:ext cx="7561440" cy="45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756144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0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76440" y="1481040"/>
          <a:ext cx="7864200" cy="51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481040"/>
                    <a:ext cx="78642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333360"/>
            <a:ext cx="83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4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916280"/>
            <a:ext cx="8532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ividual patient data meta-analysis sequential chemoradiotherap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vs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adiotherapy (Auperin et al 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22 t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3839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edian follow-up 6.9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333360"/>
            <a:ext cx="83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4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916280"/>
            <a:ext cx="8532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ividual patient data meta-analysis sequential chemoradiotherap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vs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adiotherapy (Auperin et al 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R 0.88 (0.82-0.94), p = 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Garamond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20.3 </a:t>
            </a:r>
            <a:r>
              <a:rPr b="0" i="1" lang="en-GB" sz="2800" spc="-1" strike="noStrike">
                <a:solidFill>
                  <a:srgbClr val="ffffff"/>
                </a:solidFill>
                <a:latin typeface="Garamond"/>
              </a:rPr>
              <a:t>vs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8.4% 2 year survi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6.2 </a:t>
            </a:r>
            <a:r>
              <a:rPr b="0" i="1" lang="en-GB" sz="2800" spc="-1" strike="noStrike">
                <a:solidFill>
                  <a:srgbClr val="ffffff"/>
                </a:solidFill>
                <a:latin typeface="Garamond"/>
              </a:rPr>
              <a:t>vs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4.5% 5 year survi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333360"/>
            <a:ext cx="83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comitant </a:t>
            </a:r>
            <a:r>
              <a:rPr b="1" i="1" lang="en-GB" sz="4400" spc="-1" strike="noStrike">
                <a:solidFill>
                  <a:srgbClr val="e5e5ff"/>
                </a:solidFill>
                <a:latin typeface="Garamond"/>
              </a:rPr>
              <a:t>vs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Sequential CT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916280"/>
            <a:ext cx="8532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ividual patient data meta-analysis sequential chemoradiotherap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vs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adiotherapy (Auperin et al 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stant pro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R 0.73 (0.60-0.8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4.5%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43.1% @ 5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Locoregional pro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R 1.18 (0.97-1.4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0%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35.5% @ 5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</cp:lastModifiedBy>
  <dcterms:modified xsi:type="dcterms:W3CDTF">2007-11-13T07:28:35Z</dcterms:modified>
  <cp:revision>34</cp:revision>
  <dc:subject/>
  <dc:title>PowerPoint Presentation</dc:title>
</cp:coreProperties>
</file>