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9.png" ContentType="image/png"/>
  <Override PartName="/ppt/media/image17.wmf" ContentType="image/x-wmf"/>
  <Override PartName="/ppt/media/image8.gif" ContentType="image/gif"/>
  <Override PartName="/ppt/media/image7.wmf" ContentType="image/x-wmf"/>
  <Override PartName="/ppt/media/image12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5.wmf" ContentType="image/x-wmf"/>
  <Override PartName="/ppt/media/image4.png" ContentType="image/png"/>
  <Override PartName="/ppt/media/image3.jpeg" ContentType="image/jpeg"/>
  <Override PartName="/ppt/media/image24.png" ContentType="image/png"/>
  <Override PartName="/ppt/media/image22.png" ContentType="image/png"/>
  <Override PartName="/ppt/media/image20.gif" ContentType="image/gif"/>
  <Override PartName="/ppt/media/image23.png" ContentType="image/png"/>
  <Override PartName="/ppt/media/image1.jpeg" ContentType="image/jpeg"/>
  <Override PartName="/ppt/media/image27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image15.gif" ContentType="image/gif"/>
  <Override PartName="/ppt/media/image18.png" ContentType="image/png"/>
  <Override PartName="/ppt/media/image14.gif" ContentType="image/gif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5E34-160A-4D7A-842E-AE7256CB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B25-7A05-42BB-ACBF-32B9D404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9E9-B2EE-41B9-87D1-45D46801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6001-A9AE-4D78-9DA2-EEB48421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887D-AD8D-4EE8-BAEE-9E86B087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8868-38C6-42A3-B1FB-F6A2DDD6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FA13-0DC0-45A1-96CC-8BF9F1ED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AA1C-8F11-41AE-92B6-ED84501C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D1C5-D435-4E9F-B55C-1C8779DD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B242-B97B-43DB-B555-865272F2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45D6-E440-424C-A8FF-45EA9541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ABEE-44BE-4659-8DC6-4E5FCC9A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1937-972D-464D-AB9E-0E4C5B92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7C83-3207-4848-B827-382B0489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5415-F7E9-4139-81D7-1611F28B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544D-3F12-41F7-828E-5CA6F27E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6F26-DE18-4FAD-94BC-1E5E23F5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FD7-33AE-4E6D-9B1C-22BC5EED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DD3-EACB-4910-8F25-C0F77D58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F05-E3A2-4848-B1A6-61DE111E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013-D817-45B7-AF0C-D3022F0D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3EE-A4AE-40FE-971D-1E007406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FD7-2D7A-4A7D-B41A-2CC3C9C1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6CD1-30A6-4433-BC60-D86F65EC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4722-48D4-46FE-B39C-2B31BA7EA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952880"/>
            <a:ext cx="9144000" cy="1513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1F69-EE12-4E5B-9B01-2335865B6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45280"/>
            <a:ext cx="9144000" cy="1512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4608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13604c"/>
                </a:solidFill>
                <a:latin typeface="Clearface-HeavyItalic"/>
              </a:rPr>
              <a:t>CONTROVERSIAL ISSUES IN LUNG CANCER</a:t>
            </a:r>
            <a:br>
              <a:rPr sz="3200"/>
            </a:br>
            <a:r>
              <a:rPr b="0" i="1" lang="it-IT" sz="3200" spc="-1" strike="noStrike">
                <a:solidFill>
                  <a:srgbClr val="13604c"/>
                </a:solidFill>
                <a:latin typeface="Clearface-HeavyItalic"/>
              </a:rPr>
              <a:t>RADIOTHERAPY:</a:t>
            </a:r>
            <a:br>
              <a:rPr sz="3200"/>
            </a:br>
            <a:r>
              <a:rPr b="0" i="1" lang="it-IT" sz="3200" spc="-1" strike="noStrike">
                <a:solidFill>
                  <a:srgbClr val="13604c"/>
                </a:solidFill>
                <a:latin typeface="Clearface-HeavyItalic"/>
              </a:rPr>
              <a:t>Concurrent chemoradiotherapy in stage III unresectable</a:t>
            </a:r>
            <a:br>
              <a:rPr sz="3200"/>
            </a:br>
            <a:r>
              <a:rPr b="0" i="1" lang="it-IT" sz="3200" spc="-1" strike="noStrike">
                <a:solidFill>
                  <a:srgbClr val="13604c"/>
                </a:solidFill>
                <a:latin typeface="Clearface-HeavyItalic"/>
              </a:rPr>
              <a:t>NSCLC: </a:t>
            </a:r>
            <a:br>
              <a:rPr sz="3200"/>
            </a:br>
            <a:r>
              <a:rPr b="0" i="1" lang="it-IT" sz="3200" spc="-1" strike="noStrike">
                <a:solidFill>
                  <a:srgbClr val="13604c"/>
                </a:solidFill>
                <a:latin typeface="Clearface-HeavyItalic"/>
              </a:rPr>
              <a:t>is the current standard of treat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788000" y="6165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esare Gui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ORN G.Moscati Avell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un 1-24/USO 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hase III trial: 203 </a:t>
            </a: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pts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ffff99"/>
                </a:solidFill>
                <a:latin typeface="Comic Sans MS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T-RT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consolid.     </a:t>
            </a:r>
            <a:r>
              <a:rPr b="0" lang="it-IT" sz="3200" spc="-1" strike="noStrike">
                <a:solidFill>
                  <a:srgbClr val="99cc00"/>
                </a:solidFill>
                <a:latin typeface="Comic Sans MS"/>
              </a:rPr>
              <a:t>(docetax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M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24,2 vs</a:t>
            </a:r>
            <a:r>
              <a:rPr b="0" lang="it-IT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99cc00"/>
                </a:solidFill>
                <a:latin typeface="Comic Sans MS"/>
              </a:rPr>
              <a:t>21</a:t>
            </a:r>
            <a:r>
              <a:rPr b="0" lang="it-IT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99cc00"/>
                </a:solidFill>
                <a:latin typeface="Comic Sans MS"/>
              </a:rPr>
              <a:t>5,5% toxic de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“…</a:t>
            </a:r>
            <a:r>
              <a:rPr b="0" i="1" lang="it-IT" sz="2800" spc="-1" strike="noStrike">
                <a:solidFill>
                  <a:srgbClr val="99cc00"/>
                </a:solidFill>
                <a:latin typeface="Comic Sans MS"/>
              </a:rPr>
              <a:t>docetaxel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 no longer to be used in consolidation in patients with stage III NSCLC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Comic Sans MS"/>
              </a:rPr>
              <a:t>Hoosier  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59360" y="6400800"/>
            <a:ext cx="309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Hanna, abstract #7512, Seoul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9144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71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Second question: Timing</a:t>
            </a:r>
            <a:br>
              <a:rPr sz="2800"/>
            </a:b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Sequential</a:t>
            </a: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 vs </a:t>
            </a:r>
            <a:r>
              <a:rPr b="0" lang="it-IT" sz="2800" spc="-1" strike="noStrike">
                <a:solidFill>
                  <a:srgbClr val="ff3300"/>
                </a:solidFill>
                <a:latin typeface="Comic Sans MS"/>
              </a:rPr>
              <a:t>concomitant</a:t>
            </a: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 CT-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19080" y="996840"/>
            <a:ext cx="466884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SCLC Coll. Group Met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dividual Pati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205 pts “Intention to tre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LGB 88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W.JAP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TOG 94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ORTC 089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4213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NewRomanPS"/>
              </a:rPr>
              <a:t>Curran “</a:t>
            </a:r>
            <a:r>
              <a:rPr b="0" lang="it-IT" sz="1200" spc="-1" strike="noStrike">
                <a:solidFill>
                  <a:srgbClr val="000000"/>
                </a:solidFill>
                <a:latin typeface="TimesNewRomanPS"/>
              </a:rPr>
              <a:t>Concomitant CT-RT vs sequential CT-RT in NSCLC: a meta-analysis using individual patient data from clinical tri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TimesNewRomanPS"/>
              </a:rPr>
              <a:t>49</a:t>
            </a:r>
            <a:r>
              <a:rPr b="0" lang="it-IT" sz="1200" spc="-1" strike="noStrike" baseline="30000">
                <a:solidFill>
                  <a:srgbClr val="ffff00"/>
                </a:solidFill>
                <a:latin typeface="TimesNewRomanPS"/>
              </a:rPr>
              <a:t>th</a:t>
            </a:r>
            <a:r>
              <a:rPr b="0" i="1" lang="it-IT" sz="1200" spc="-1" strike="noStrike">
                <a:solidFill>
                  <a:srgbClr val="ffff00"/>
                </a:solidFill>
                <a:latin typeface="TimesNewRomanPS-Italic"/>
              </a:rPr>
              <a:t> ASTRO CONGRESS LOS ANGELES </a:t>
            </a:r>
            <a:r>
              <a:rPr b="0" lang="it-IT" sz="1200" spc="-1" strike="noStrike">
                <a:solidFill>
                  <a:srgbClr val="ffff00"/>
                </a:solidFill>
                <a:latin typeface="TimesNewRomanPS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6440" y="4941720"/>
            <a:ext cx="57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6108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82880" y="34290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97080" y="30481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00" y="5035680"/>
            <a:ext cx="632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ophagel toxicity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:  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vs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1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% (RR 4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ulmonary toxicity : no difference (RR 0,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Haematological toxicity: hig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26640" y="2133720"/>
            <a:ext cx="459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Median survival at 3 y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9999"/>
                </a:solidFill>
                <a:latin typeface="Comic Sans MS"/>
              </a:rPr>
              <a:t>18.1 </a:t>
            </a: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vs  </a:t>
            </a:r>
            <a:r>
              <a:rPr b="0" lang="it-IT" sz="3200" spc="-1" strike="noStrike">
                <a:solidFill>
                  <a:srgbClr val="ff3300"/>
                </a:solidFill>
                <a:latin typeface="Comic Sans MS"/>
              </a:rPr>
              <a:t>2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2666880"/>
            <a:ext cx="914400" cy="45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39760" y="3370320"/>
            <a:ext cx="3544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PFS and LRP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No difference in 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No difference for type of 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No difference in sub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5000" y="5300640"/>
            <a:ext cx="861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0" i="1" lang="it-IT" sz="2000" spc="-1" strike="noStrike">
                <a:solidFill>
                  <a:srgbClr val="ff3300"/>
                </a:solidFill>
                <a:latin typeface="Comic Sans MS"/>
              </a:rPr>
              <a:t>Concomitant CT-RT is recommended standard of care in good PS patie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3300"/>
                </a:solidFill>
                <a:latin typeface="Comic Sans MS"/>
              </a:rPr>
              <a:t>     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(and the esophageal toxicity rates are lowering in the newest tri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00360" y="292428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25960" cy="46688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Third  question: </a:t>
            </a:r>
            <a:br>
              <a:rPr sz="2800"/>
            </a:b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Oncologist or  Radiation oncologi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610480" cy="1942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28600" y="3352680"/>
            <a:ext cx="8610480" cy="1600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14400" y="3352680"/>
            <a:ext cx="548640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027320" y="189000"/>
            <a:ext cx="11242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Third  question: </a:t>
            </a:r>
            <a:br>
              <a:rPr sz="2800"/>
            </a:b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Oncologist, but Radiation onc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15000" cy="3391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581280" y="2819520"/>
            <a:ext cx="38124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8400" y="5300640"/>
            <a:ext cx="85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ducing treated volume [No E.N.I. (Bradley, Yuan), Gating, IGRT,ART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etter knowledge of radiobiology (SIB, altered fractionation,time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ulpting radiation dose distribution (IM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301320" cy="3353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24360" y="2781360"/>
            <a:ext cx="50328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56720" y="2781360"/>
            <a:ext cx="50292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First: Don’t harm</a:t>
            </a:r>
            <a:br>
              <a:rPr sz="2800"/>
            </a:b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LUNG T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5280" y="1447920"/>
            <a:ext cx="8748720" cy="3573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80880" y="1384200"/>
            <a:ext cx="8382240" cy="522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First: Don’t harm</a:t>
            </a:r>
            <a:br>
              <a:rPr sz="2800"/>
            </a:b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ESOPHAGEAL T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8467560" cy="477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5943600" cy="4467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-5040" y="6392880"/>
            <a:ext cx="28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Werner – Wasick, IJROBP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572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Kepka “Resources and management strategies for the use of radiotherapy in the treatment of lung cancer in Central and Eastern </a:t>
            </a:r>
            <a:r>
              <a:rPr b="0" lang="en-GB" sz="1200" spc="-1" strike="noStrike">
                <a:solidFill>
                  <a:srgbClr val="ff3300"/>
                </a:solidFill>
                <a:latin typeface="Comic Sans MS"/>
              </a:rPr>
              <a:t>European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countries: Results of an International Atomic Energy Agency (IAEA) </a:t>
            </a:r>
            <a:r>
              <a:rPr b="0" lang="en-GB" sz="1200" spc="-1" strike="noStrike">
                <a:solidFill>
                  <a:srgbClr val="ff3300"/>
                </a:solidFill>
                <a:latin typeface="Comic Sans MS"/>
              </a:rPr>
              <a:t>survey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i="1" lang="en-GB" sz="1200" spc="-1" strike="noStrike">
                <a:solidFill>
                  <a:srgbClr val="000000"/>
                </a:solidFill>
                <a:latin typeface="Comic Sans MS"/>
              </a:rPr>
              <a:t>Lung Cancer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, Volume 56, Issue 2, Pages 235-245,0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No questions, but facts  </a:t>
            </a:r>
            <a:br>
              <a:rPr sz="2800"/>
            </a:b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Sequential</a:t>
            </a: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 vs </a:t>
            </a:r>
            <a:r>
              <a:rPr b="0" lang="it-IT" sz="2800" spc="-1" strike="noStrike">
                <a:solidFill>
                  <a:srgbClr val="ff3300"/>
                </a:solidFill>
                <a:latin typeface="Comic Sans MS"/>
              </a:rPr>
              <a:t>concomitant</a:t>
            </a: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 CT-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3141720"/>
            <a:ext cx="3663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Kong “ Patterns of</a:t>
            </a:r>
            <a:r>
              <a:rPr b="0" lang="en-GB" sz="1200" spc="-1" strike="noStrike">
                <a:solidFill>
                  <a:srgbClr val="ff3300"/>
                </a:solidFill>
                <a:latin typeface="Comic Sans MS"/>
              </a:rPr>
              <a:t> practice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radiation therapy for non-small cell lung cancer among members of </a:t>
            </a:r>
            <a:r>
              <a:rPr b="0" lang="en-GB" sz="1200" spc="-1" strike="noStrike">
                <a:solidFill>
                  <a:srgbClr val="ff3300"/>
                </a:solidFill>
                <a:latin typeface="Comic Sans MS"/>
              </a:rPr>
              <a:t>ASTRO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”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J Clin Oncol, 2007 ASCO. Vol 25, No. 18S (June 20 Supplement) : 7693 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11812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european emerging countries ,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sequential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T-RT </a:t>
            </a:r>
            <a:r>
              <a:rPr b="0" lang="en-GB" sz="1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57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% of patients  / </a:t>
            </a:r>
            <a:r>
              <a:rPr b="0" lang="en-GB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ncomitant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T-RT </a:t>
            </a:r>
            <a:r>
              <a:rPr b="0" lang="en-GB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10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tro radiation oncologists ,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sequential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T-RT </a:t>
            </a:r>
            <a:r>
              <a:rPr b="0" lang="en-GB" sz="1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19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% of patients  / </a:t>
            </a:r>
            <a:r>
              <a:rPr b="0" lang="en-GB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ncomitant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T-RT </a:t>
            </a:r>
            <a:r>
              <a:rPr b="0" lang="en-GB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77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5300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In  Italy concomitant chemoradiation isn’t standard therap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but it might and should be in patients with good P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148360" y="2205000"/>
            <a:ext cx="952560" cy="12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042400" y="6141960"/>
            <a:ext cx="812520" cy="43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87280" y="2060640"/>
            <a:ext cx="658836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6678720"/>
            <a:ext cx="8783640" cy="1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pyright ©2001 BMJ Publishing Group Lt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6453360"/>
            <a:ext cx="6588360" cy="1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arbour, R. et al. BMJ 2001;323:334-3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28240"/>
            <a:ext cx="9144000" cy="59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66"/>
                </a:solidFill>
                <a:latin typeface="Comic Sans MS"/>
              </a:rPr>
              <a:t>EVIDENCE BASED MEDIC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3200400"/>
            <a:ext cx="259092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2133720"/>
            <a:ext cx="259092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274680"/>
            <a:ext cx="7696080" cy="48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Comic Sans MS"/>
              </a:rPr>
              <a:t>First question: RT vs CT-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385040" cy="4243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2240" y="6093000"/>
            <a:ext cx="86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Comic Sans MS"/>
              </a:rPr>
              <a:t>Sequentia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CT-RT: modest survival benefit, reducing distant metast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209680"/>
            <a:ext cx="527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6165720"/>
            <a:ext cx="3492360" cy="358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71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Comic Sans MS"/>
              </a:rPr>
              <a:t>First question: RT vs CT-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</a:rPr>
              <a:t>Concomitant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CT-RT: Improvement in local control translates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verall survival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1520" y="404640"/>
            <a:ext cx="4343400" cy="4054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465800" y="1523880"/>
            <a:ext cx="4678200" cy="3989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1000" y="1222200"/>
            <a:ext cx="395280" cy="30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1747800"/>
            <a:ext cx="380880" cy="152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6040" y="3032280"/>
            <a:ext cx="685800" cy="152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2852640"/>
            <a:ext cx="380880" cy="152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27640" y="4724280"/>
            <a:ext cx="525240" cy="171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96080" y="4924440"/>
            <a:ext cx="457200" cy="152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950080"/>
            <a:ext cx="3095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Comic Sans MS"/>
              </a:rPr>
              <a:t>First question: RT vs CT-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81880" cy="5715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885080" y="907920"/>
            <a:ext cx="838080" cy="606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12000" y="5373720"/>
            <a:ext cx="83844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6021360"/>
            <a:ext cx="87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nly 2 MA reported toxicity data: esophagitis (RR 1,77), neutropenia (RR 9,15),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neumonitis (RR 1,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85840"/>
            <a:ext cx="1008000" cy="217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812000" y="3213000"/>
            <a:ext cx="866880" cy="5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71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Second question: Timing</a:t>
            </a:r>
            <a:br>
              <a:rPr sz="2800"/>
            </a:b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Sequential</a:t>
            </a: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 vs </a:t>
            </a:r>
            <a:r>
              <a:rPr b="0" lang="it-IT" sz="2800" spc="-1" strike="noStrike">
                <a:solidFill>
                  <a:srgbClr val="ff3300"/>
                </a:solidFill>
                <a:latin typeface="Comic Sans MS"/>
              </a:rPr>
              <a:t>concomitant</a:t>
            </a: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 CT-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4480" y="907920"/>
            <a:ext cx="8991360" cy="4278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380360" y="2057400"/>
            <a:ext cx="468360" cy="65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11520" y="5105520"/>
            <a:ext cx="90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But split course radiotherapy and more frequent adjuvant chemotherapy in the concomitant ar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80360" y="2997360"/>
            <a:ext cx="380880" cy="57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3960" y="5575320"/>
            <a:ext cx="29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Grade 3 esophagitis 25 vs 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00" y="5954760"/>
            <a:ext cx="72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500" spc="-1" strike="noStrike">
                <a:solidFill>
                  <a:srgbClr val="000000"/>
                </a:solidFill>
                <a:latin typeface="Comic Sans MS"/>
              </a:rPr>
              <a:t>Induction CT doesn’t add anything to concomitant CT-RT except toxic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7640" y="2095560"/>
            <a:ext cx="9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WJLCG ‘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6280" y="320184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TOG 9410 ‘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9440" y="464976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ALGB 39801 ‘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7080" y="6066000"/>
            <a:ext cx="8964360" cy="78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elderbos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     III        CT-&gt;RT: Gemcitabine 1250 mg/m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ays 1,8,29, 36           78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            70                         16,2                    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EORTC 08962 ’06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and  Cisplatin(75 mg/m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) days  2,30 then RT, 66 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T+CT: Cisplatin 6mg/m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aily with RT as above            80                  61                        16,5                     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520" y="5183280"/>
            <a:ext cx="9042480" cy="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Huber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     III        CT-&gt;RT: Paclitaxel (200 mg/m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)and CBDCA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(AUC 6)                                                       14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BROCAT ‘04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n RT, 60 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T-&gt;CT - RT: CT as above, then  Concomitant Paclitaxel                                                    19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21 at 4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(50 mg/m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eekly) and RT as above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6360" y="88920"/>
            <a:ext cx="1218960" cy="8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71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Second question: Timing</a:t>
            </a:r>
            <a:br>
              <a:rPr sz="2800"/>
            </a:b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Sequential</a:t>
            </a: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 vs </a:t>
            </a:r>
            <a:r>
              <a:rPr b="0" lang="it-IT" sz="2800" spc="-1" strike="noStrike">
                <a:solidFill>
                  <a:srgbClr val="ff3300"/>
                </a:solidFill>
                <a:latin typeface="Comic Sans MS"/>
              </a:rPr>
              <a:t>concomitant</a:t>
            </a: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 CT-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3640" y="5567400"/>
            <a:ext cx="69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500" spc="-1" strike="noStrike">
                <a:solidFill>
                  <a:srgbClr val="009999"/>
                </a:solidFill>
                <a:latin typeface="Comic Sans MS"/>
              </a:rPr>
              <a:t>Sequential</a:t>
            </a:r>
            <a:r>
              <a:rPr b="1" lang="it-IT" sz="1500" spc="-1" strike="noStrike">
                <a:solidFill>
                  <a:srgbClr val="000000"/>
                </a:solidFill>
                <a:latin typeface="Comic Sans MS"/>
              </a:rPr>
              <a:t> CT-RT vs </a:t>
            </a:r>
            <a:r>
              <a:rPr b="1" lang="it-IT" sz="1500" spc="-1" strike="noStrike">
                <a:solidFill>
                  <a:srgbClr val="ff3300"/>
                </a:solidFill>
                <a:latin typeface="Comic Sans MS"/>
              </a:rPr>
              <a:t>Concurrent</a:t>
            </a:r>
            <a:r>
              <a:rPr b="1" lang="it-IT" sz="1500" spc="-1" strike="noStrike">
                <a:solidFill>
                  <a:srgbClr val="000000"/>
                </a:solidFill>
                <a:latin typeface="Comic Sans MS"/>
              </a:rPr>
              <a:t> CT-RT + </a:t>
            </a:r>
            <a:r>
              <a:rPr b="1" lang="it-IT" sz="1500" spc="-1" strike="noStrike">
                <a:solidFill>
                  <a:srgbClr val="99cc00"/>
                </a:solidFill>
                <a:latin typeface="Comic Sans MS"/>
              </a:rPr>
              <a:t>Consolidation</a:t>
            </a:r>
            <a:r>
              <a:rPr b="1" lang="it-IT" sz="1500" spc="-1" strike="noStrike">
                <a:solidFill>
                  <a:srgbClr val="000000"/>
                </a:solidFill>
                <a:latin typeface="Comic Sans MS"/>
              </a:rPr>
              <a:t> CT; different C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25560" y="5948280"/>
            <a:ext cx="83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500" spc="-1" strike="noStrike">
                <a:solidFill>
                  <a:srgbClr val="000000"/>
                </a:solidFill>
                <a:latin typeface="Comic Sans MS"/>
              </a:rPr>
              <a:t>Induction CT doesn’t add anything to concomitant CT-RT , but consolidation seems 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861400" cy="4038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238880" y="1066680"/>
            <a:ext cx="45720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15200" y="2286000"/>
            <a:ext cx="38088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1760" y="1104840"/>
            <a:ext cx="10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Czech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8560" y="2400480"/>
            <a:ext cx="93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Glot-GF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NPC 95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2120" y="369576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(L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3581280"/>
            <a:ext cx="38088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69480" y="5162400"/>
            <a:ext cx="91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500" spc="-1" strike="noStrike">
                <a:solidFill>
                  <a:srgbClr val="000000"/>
                </a:solidFill>
                <a:latin typeface="Comic Sans MS"/>
              </a:rPr>
              <a:t>Slow accrual; in sequential arm, unclear more frequent discontinuation of CT;</a:t>
            </a:r>
            <a:r>
              <a:rPr b="1" i="1" lang="it-IT" sz="1500" spc="-1" strike="noStrike" u="sng">
                <a:solidFill>
                  <a:srgbClr val="000000"/>
                </a:solidFill>
                <a:uFillTx/>
                <a:latin typeface="Comic Sans MS"/>
              </a:rPr>
              <a:t>concomitant</a:t>
            </a:r>
            <a:r>
              <a:rPr b="1" lang="it-IT" sz="1500" spc="-1" strike="noStrike">
                <a:solidFill>
                  <a:srgbClr val="000000"/>
                </a:solidFill>
                <a:latin typeface="Comic Sans MS"/>
              </a:rPr>
              <a:t>??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5013360"/>
            <a:ext cx="68058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3300"/>
                </a:solidFill>
                <a:latin typeface="Comic Sans MS"/>
              </a:rPr>
              <a:t>Survival advantage (~ 3 m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Second question: Timing…</a:t>
            </a:r>
            <a:br>
              <a:rPr sz="2800"/>
            </a:b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…a little bit more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6200640" cy="441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9640" y="4076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Comic Sans MS"/>
              </a:rPr>
              <a:t>According to CALGB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63560" y="5037120"/>
            <a:ext cx="29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cc00"/>
                </a:solidFill>
                <a:latin typeface="Comic Sans MS"/>
              </a:rPr>
              <a:t>According to SWOG 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Comic Sans MS"/>
              </a:rPr>
              <a:t>Swog  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201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Phase II 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isplatin</a:t>
            </a:r>
            <a:r>
              <a:rPr b="0" lang="en-GB" sz="1800" spc="-1" strike="noStrike">
                <a:solidFill>
                  <a:srgbClr val="ffff66"/>
                </a:solidFill>
                <a:latin typeface="Comic Sans MS"/>
              </a:rPr>
              <a:t> 50 mg/m</a:t>
            </a:r>
            <a:r>
              <a:rPr b="0" lang="en-GB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ffff66"/>
                </a:solidFill>
                <a:latin typeface="Comic Sans MS"/>
              </a:rPr>
              <a:t> on days 1, 8, 29, and 36 + 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etoposide</a:t>
            </a:r>
            <a:r>
              <a:rPr b="0" lang="en-GB" sz="1800" spc="-1" strike="noStrike">
                <a:solidFill>
                  <a:srgbClr val="ffff66"/>
                </a:solidFill>
                <a:latin typeface="Comic Sans MS"/>
              </a:rPr>
              <a:t> 50 mg/m</a:t>
            </a:r>
            <a:r>
              <a:rPr b="0" lang="en-GB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ffff66"/>
                </a:solidFill>
                <a:latin typeface="Comic Sans MS"/>
              </a:rPr>
              <a:t> on days 1 to 5 and 29 to 33 + 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1 Gy</a:t>
            </a:r>
            <a:r>
              <a:rPr b="0" lang="en-GB" sz="1800" spc="-1" strike="noStrike">
                <a:solidFill>
                  <a:srgbClr val="ffff66"/>
                </a:solidFill>
                <a:latin typeface="Comic Sans MS"/>
              </a:rPr>
              <a:t> concurrent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Comic Sans MS"/>
              </a:rPr>
              <a:t>Consolidation with </a:t>
            </a:r>
            <a:r>
              <a:rPr b="0" lang="en-GB" sz="1800" spc="-1" strike="noStrike">
                <a:solidFill>
                  <a:srgbClr val="99cc00"/>
                </a:solidFill>
                <a:latin typeface="Comic Sans MS"/>
              </a:rPr>
              <a:t>docetaxel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ff66"/>
                </a:solidFill>
                <a:latin typeface="Comic Sans MS"/>
              </a:rPr>
              <a:t>75 mg/m</a:t>
            </a:r>
            <a:r>
              <a:rPr b="0" lang="en-GB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ffff66"/>
                </a:solidFill>
                <a:latin typeface="Comic Sans MS"/>
              </a:rPr>
              <a:t> on days 71 and 75 or 100 mg/m2 on days 92 and 113  to intensify the CT effect using a different and non-cross-resistant agent after the initial regi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Comic Sans MS"/>
              </a:rPr>
              <a:t>1,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ffff66"/>
                </a:solidFill>
                <a:latin typeface="Comic Sans MS"/>
              </a:rPr>
              <a:t> and 3-year survival results: 76%,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54%</a:t>
            </a: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,</a:t>
            </a:r>
            <a:r>
              <a:rPr b="0" lang="en-GB" sz="1800" spc="-1" strike="noStrike">
                <a:solidFill>
                  <a:srgbClr val="ffff66"/>
                </a:solidFill>
                <a:latin typeface="Comic Sans MS"/>
              </a:rPr>
              <a:t> and 37%, respectively</a:t>
            </a:r>
            <a:r>
              <a:rPr b="0" lang="it-IT" sz="1800" spc="-1" strike="noStrike">
                <a:solidFill>
                  <a:srgbClr val="ff33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824960" cy="1886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019120" y="6375240"/>
            <a:ext cx="38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Gandara, Clin Lung Cancer 8, 116-121,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020000" y="620640"/>
            <a:ext cx="114300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9:25:31Z</dcterms:created>
  <dc:creator>user</dc:creator>
  <dc:description/>
  <dc:language>en-US</dc:language>
  <cp:lastModifiedBy>TC</cp:lastModifiedBy>
  <dcterms:modified xsi:type="dcterms:W3CDTF">2007-11-13T07:05:02Z</dcterms:modified>
  <cp:revision>47</cp:revision>
  <dc:subject/>
  <dc:title>Diapositiva 1</dc:title>
</cp:coreProperties>
</file>