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5EE-EB68-4204-9FA5-88A14915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76A-A258-453E-8EDF-FB9C7D9D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70F-D92A-4366-9A9B-709A2725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7F0-B9EC-461F-9FE5-CD3DE206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145F-372D-4DFA-83C0-DF7D227B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9F0-DECB-4D1D-8EBA-A1F78DE1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B651-F1D9-4062-8045-FFA004F0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6BB8-A8EE-481E-9985-9C964AB2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FB95-CA65-4DA6-8FA9-A57E1DBA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34FA-DE27-4987-8308-D100C1C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FFD7-B0E5-42FD-B38A-FEE41EDB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27A-08A1-461D-B605-0C539CE6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290C-F739-4448-A72B-80428D4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0309-3A4D-40A4-987F-66AA33C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7FC1-013A-4A7D-9917-28DCC906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C536-E164-4D11-A838-013343BA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70DC-C095-479E-8931-239AA0D5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9E77-FD6D-4E67-BBB4-E713988B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F109-CC0F-4C14-B482-5986AE76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076F-18EC-4BDD-9B2E-630D3828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F013-AEF3-47A8-A9D2-F73FE695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769F-6A27-4063-B901-934F264A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6AE-3026-40A0-9717-902C49CB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268E-31E7-407E-AFC7-4D78E69E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7C80-F651-4054-99DC-E43C295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E6C8-2070-4835-8B70-73032855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8B01-3BFC-468F-9106-E072E2E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4437-7476-40F4-A801-86E80621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B4DB9-4ADA-4675-B2B7-6099BE0D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1EB7-6ABB-4DBD-8C30-E308EDDB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6EC13-7E81-4F21-82A9-6DE9293E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94EC-2F61-4E83-8D71-2E81024A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6CA3-0DF4-4133-AE0F-50901BEF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B3E-38BE-4940-A9DE-1BF0FA6F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C87DE-DAEA-4749-A936-159D6AC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4B2B-E791-416B-B367-2B9AD7E6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C568-08E2-472D-9791-30274D2E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8576-4AB3-4B66-8C39-59A3E517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5C9F-B8B5-478B-AED4-DB856D1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057D-7D6F-4CBF-8A5F-2F2AFA3A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E14B-A22C-4EA6-B952-3092AC23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28AE1-5B3D-4D22-A5E4-D60DB833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FE20-7593-45C7-8FB6-934C4DA8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487-B277-4762-A6EE-1BC71470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6F1-F601-4981-A89C-9A95A398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D24-9386-454B-8F3C-BA6FC20B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442-50C9-457C-A596-1BEA74CE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831-3D46-4294-B9D5-A4A5F452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A622-B9AA-40CC-B9FB-6FBC0AC7FF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569D-668D-4F20-A1E8-70CE37DE977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86C1-C031-47DB-B4F7-43AD69E7FD7A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39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2d5781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d57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FBAA-67D7-4530-A5CD-BA0B3BA50A9D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379680" y="612720"/>
            <a:ext cx="5122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66"/>
                </a:solidFill>
                <a:latin typeface="Tahoma"/>
              </a:rPr>
              <a:t>Quale chemioterapia nell’approcc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66"/>
                </a:solidFill>
                <a:latin typeface="Tahoma"/>
              </a:rPr>
              <a:t>pre o post-oper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95200" y="4548240"/>
            <a:ext cx="542016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rof. Emilio Bajet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Dipartimento di Medicina Oncolog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S.C. Oncologia Medica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Fondazione IRCCS Istituto Nazionale dei Tum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Mi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487680" y="2952720"/>
          <a:ext cx="101124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7680" y="2952720"/>
                    <a:ext cx="10112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619520" y="2955960"/>
            <a:ext cx="1011240" cy="1004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14784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547280" y="23004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Chemioterapia adiuvante: recenti stud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randomizzati giappon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1268280"/>
            <a:ext cx="89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utore/stud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pol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rattamen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z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5aaO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ashimo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1-2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U+MMC+UFT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127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91.2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.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JCOG/2003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troll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123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86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akajim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1-2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U+MMC+UFT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288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85.8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JCOG/1999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troll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285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82.9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JCOG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3-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U+CDDP+UFT135      Studio in cors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troll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1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TS-GC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T3-4/N+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S1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515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SCO GI 200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controllo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5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amit Trial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3-T4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aclitaxel-&gt;UFT/S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alisi in cors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FT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1773360"/>
            <a:ext cx="8497800" cy="0"/>
          </a:xfrm>
          <a:prstGeom prst="line">
            <a:avLst/>
          </a:prstGeom>
          <a:ln w="28440">
            <a:solidFill>
              <a:srgbClr val="45c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6597720"/>
            <a:ext cx="8497800" cy="0"/>
          </a:xfrm>
          <a:prstGeom prst="line">
            <a:avLst/>
          </a:prstGeom>
          <a:ln w="28440">
            <a:solidFill>
              <a:srgbClr val="45c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17"/>
          <p:cNvPicPr/>
          <p:nvPr/>
        </p:nvPicPr>
        <p:blipFill>
          <a:blip r:embed="rId1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  <p:pic>
        <p:nvPicPr>
          <p:cNvPr id="354" name="" descr="19"/>
          <p:cNvPicPr/>
          <p:nvPr/>
        </p:nvPicPr>
        <p:blipFill>
          <a:blip r:embed="rId2"/>
          <a:stretch/>
        </p:blipFill>
        <p:spPr>
          <a:xfrm>
            <a:off x="0" y="0"/>
            <a:ext cx="4595760" cy="3446640"/>
          </a:xfrm>
          <a:prstGeom prst="rect">
            <a:avLst/>
          </a:prstGeom>
          <a:ln w="9360">
            <a:solidFill>
              <a:srgbClr val="45c984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5538960" y="14000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ASCO GI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914480" y="46368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Chemioradioterapia adiuv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70680" y="1409760"/>
            <a:ext cx="80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8/1991-6/1998: 556 pz (275 trattamento perioperatorio,281 chirurgia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8480" y="243828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63400" y="2736720"/>
            <a:ext cx="6094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4000" y="309240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/LV (1 cic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3280" y="342252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7560" y="4005360"/>
            <a:ext cx="177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oterap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/LV(2 cicl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03280" y="469116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62320" y="2743200"/>
            <a:ext cx="6858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6200" y="2060640"/>
            <a:ext cx="22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rurgia radica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59280" y="35002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89120" y="309240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LLOW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17880" y="617868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(Macdonald, NEJM, 200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640" y="53420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/LV (2 cicl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246560" y="2492280"/>
            <a:ext cx="4789440" cy="2978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49400" y="312840"/>
            <a:ext cx="70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Chemioradioterapia adiuvante: quest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5440" y="1305000"/>
            <a:ext cx="782316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buClr>
                <a:srgbClr val="45c984"/>
              </a:buClr>
              <a:buFont typeface="Wingdings" charset="2"/>
              <a:buChar char="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controllo locale documentato dallo studio Macdonald è dovuto all’effetto della R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buClr>
                <a:srgbClr val="45c984"/>
              </a:buClr>
              <a:buFont typeface="Wingdings" charset="2"/>
              <a:buChar char="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buClr>
                <a:srgbClr val="45c984"/>
              </a:buClr>
              <a:buFont typeface="Wingdings" charset="2"/>
              <a:buChar char="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a chirurgia adeguata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(D2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può dare le stesse possibilità di controllo loca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buClr>
                <a:srgbClr val="45c984"/>
              </a:buClr>
              <a:buFont typeface="Wingdings" charset="2"/>
              <a:buChar char="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buClr>
                <a:srgbClr val="45c984"/>
              </a:buClr>
              <a:buFont typeface="Wingdings" charset="2"/>
              <a:buChar char="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dispensabile una chemioterapia più efficace per il controllo della malattia a dist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buClr>
                <a:srgbClr val="45c984"/>
              </a:buClr>
              <a:buFont typeface="Wingdings" charset="2"/>
              <a:buChar char="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babilità di sopravvivenza non ottimale nel gruppo trattato  con chemioradioterapia rispetto ad altre casistic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buClr>
                <a:srgbClr val="45c984"/>
              </a:buClr>
              <a:buFont typeface="Wingdings" charset="2"/>
              <a:buChar char="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buClr>
                <a:srgbClr val="45c984"/>
              </a:buClr>
              <a:buFont typeface="Wingdings" charset="2"/>
              <a:buChar char="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carsa fattibilità della combinazione RT+CH</a:t>
            </a:r>
            <a:r>
              <a:rPr b="0" lang="it-IT" sz="2000" spc="-1" strike="noStrike">
                <a:solidFill>
                  <a:srgbClr val="45c9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58680" y="634536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(Carrato, Sem Oncol 2005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809720" y="2746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Trattamento  preoperator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776880"/>
            <a:ext cx="515916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2080" indent="-262080" algn="just">
              <a:lnSpc>
                <a:spcPct val="120000"/>
              </a:lnSpc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5c984"/>
                </a:solidFill>
                <a:latin typeface="Arial"/>
              </a:rPr>
              <a:t>Finalit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5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ownstag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5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adicalizzazione chirur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5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trollo delle micrometasta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5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alutazione della chemiosensibil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5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opravviv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40200" y="3790080"/>
            <a:ext cx="493236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 indent="-264960" algn="just">
              <a:lnSpc>
                <a:spcPct val="12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5c984"/>
                </a:solidFill>
                <a:latin typeface="Arial"/>
              </a:rPr>
              <a:t>Svantagg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15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 malattia resecabile un trattamento non efficace potrebbe ridurre la probabilità di resezi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5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orbidità postoperator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125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ancata stadiazione patologica con importanti informazioni prognostic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933480" y="1214280"/>
            <a:ext cx="741996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79520" y="301680"/>
            <a:ext cx="84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66"/>
                </a:solidFill>
                <a:latin typeface="Times New Roman"/>
              </a:rPr>
              <a:t>Perioperative Chemotherapy in Operable Gastric Cancer Final Results of Randomized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26160" y="1533600"/>
            <a:ext cx="48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7/1994-4/2002: 530 pz (250 CSC, 253 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058480" y="243828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463400" y="2736720"/>
            <a:ext cx="6094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29520" y="30924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CF X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87440" y="342252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3320" y="39704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rur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387440" y="4336920"/>
            <a:ext cx="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5840" y="49212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CF X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62320" y="2743200"/>
            <a:ext cx="6858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82000" y="31003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rur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387440" y="52513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0400" y="34290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65640" y="545148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Follow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33720" y="6292800"/>
            <a:ext cx="248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Cunningham, NEJM, 2006</a:t>
            </a: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933720" y="2379600"/>
            <a:ext cx="4964040" cy="2816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30560" y="2405160"/>
            <a:ext cx="511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hirurgia non standardizz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Probabilità di sopravvivenza 5 ann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SC :  36% (30%-43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 :        23% (17%- 29%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HR: 0.7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(95% CI:0.60-0.93 P=0.00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049560" y="30780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tudio MA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4800" y="151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1420920"/>
            <a:ext cx="797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45c98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o studio ha dimostrato che un trattamento  perioperatorio (ECF x 3 cicli prima e dopo la chirurgia) porta ad un miglioramento di probabilità di sopravvivenza a 5 anni del 13% (riduzione del rischio del 25%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45c98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45c98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imiti dello studio riguardano principalmente la fattibilità del programma (42% dei partecipanti ha completato l’intera terapia ed il 34% dei pazienti che hanno completato il trattamento preoperatorio non hanno effettuato la terapia postoperatori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45c98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45c98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buClr>
                <a:srgbClr val="45c984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l trattamento preoperatorio ha indotto un incremento di chirurgia radicale dal 66% al 69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182760" y="3382920"/>
            <a:ext cx="5961240" cy="3475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99" name="" descr="8"/>
          <p:cNvPicPr/>
          <p:nvPr/>
        </p:nvPicPr>
        <p:blipFill>
          <a:blip r:embed="rId2"/>
          <a:stretch/>
        </p:blipFill>
        <p:spPr>
          <a:xfrm>
            <a:off x="0" y="0"/>
            <a:ext cx="5029200" cy="3306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00" name=""/>
          <p:cNvSpPr/>
          <p:nvPr/>
        </p:nvSpPr>
        <p:spPr>
          <a:xfrm flipV="1">
            <a:off x="5935680" y="4731840"/>
            <a:ext cx="0" cy="15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525760" y="2017800"/>
            <a:ext cx="0" cy="581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131840" y="2017800"/>
            <a:ext cx="136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3730680" y="4732200"/>
            <a:ext cx="21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979960" y="4295880"/>
            <a:ext cx="3780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97040" y="1623960"/>
            <a:ext cx="3780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00960" y="343224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MO: Overall survi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 rot="1422000">
            <a:off x="5768640" y="1182600"/>
            <a:ext cx="24559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ill Sans Ultra Bold Condensed"/>
              </a:rPr>
              <a:t>MAG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ill Sans Ultra Bold Condensed"/>
              <a:ea typeface="Gill Sans Ultra Bold Condensed"/>
            </a:endParaRPr>
          </a:p>
        </p:txBody>
      </p:sp>
      <p:sp>
        <p:nvSpPr>
          <p:cNvPr id="408" name=""/>
          <p:cNvSpPr txBox="1"/>
          <p:nvPr/>
        </p:nvSpPr>
        <p:spPr>
          <a:xfrm rot="18703200">
            <a:off x="382320" y="4591080"/>
            <a:ext cx="24559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Gill Sans Ultra Bold Condensed"/>
              </a:rPr>
              <a:t>IT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Gill Sans Ultra Bold Condensed"/>
              <a:ea typeface="Gill Sans Ultra Bold Condensed"/>
            </a:endParaRPr>
          </a:p>
        </p:txBody>
      </p:sp>
      <p:sp>
        <p:nvSpPr>
          <p:cNvPr id="409" name=""/>
          <p:cNvSpPr/>
          <p:nvPr/>
        </p:nvSpPr>
        <p:spPr>
          <a:xfrm>
            <a:off x="841320" y="1928880"/>
            <a:ext cx="378000" cy="276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36920" y="4622760"/>
            <a:ext cx="37800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76400" y="287280"/>
            <a:ext cx="698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Arial"/>
              </a:rPr>
              <a:t>Studio Intergruppo I.T.A.C.A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Italian Trial of Adjuvant  Chemotherapy on Adenoarcinoma of the Stom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79640" y="1798560"/>
            <a:ext cx="6485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ratificazion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per centro ed interessamento linfonodale(N-/N</a:t>
            </a:r>
            <a:r>
              <a:rPr b="0" i="1" lang="it-IT" sz="2000" spc="-1" strike="noStrike" baseline="-25000">
                <a:solidFill>
                  <a:srgbClr val="ffffff"/>
                </a:solidFill>
                <a:latin typeface="Arial"/>
              </a:rPr>
              <a:t>+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14280" y="424980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5c984"/>
                </a:solidFill>
                <a:latin typeface="Times New Roman"/>
              </a:rPr>
              <a:t>Randomizz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78080" y="3211560"/>
            <a:ext cx="5697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CPT-11+FU/LV </a:t>
            </a:r>
            <a:r>
              <a:rPr b="0" i="1" lang="it-IT" sz="2000" spc="-1" strike="noStrike">
                <a:solidFill>
                  <a:srgbClr val="ffff66"/>
                </a:solidFill>
                <a:latin typeface="Times New Roman"/>
              </a:rPr>
              <a:t>(x 4 somm)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        TXT+CDDP </a:t>
            </a:r>
            <a:r>
              <a:rPr b="0" i="1" lang="it-IT" sz="2000" spc="-1" strike="noStrike">
                <a:solidFill>
                  <a:srgbClr val="ffff66"/>
                </a:solidFill>
                <a:latin typeface="Times New Roman"/>
              </a:rPr>
              <a:t>(x 3 cicl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5661000"/>
            <a:ext cx="5079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FU/LV (</a:t>
            </a:r>
            <a:r>
              <a:rPr b="0" lang="it-IT" sz="2000" spc="-1" strike="noStrike">
                <a:solidFill>
                  <a:srgbClr val="ffff66"/>
                </a:solidFill>
                <a:latin typeface="Times New Roman"/>
              </a:rPr>
              <a:t>de Gramont ) </a:t>
            </a:r>
            <a:r>
              <a:rPr b="0" i="1" lang="it-IT" sz="2000" spc="-1" strike="noStrike">
                <a:solidFill>
                  <a:srgbClr val="ffff66"/>
                </a:solidFill>
                <a:latin typeface="Times New Roman"/>
              </a:rPr>
              <a:t>x 9 so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708360" y="3715920"/>
            <a:ext cx="762120" cy="762120"/>
          </a:xfrm>
          <a:prstGeom prst="line">
            <a:avLst/>
          </a:prstGeom>
          <a:ln w="9360">
            <a:solidFill>
              <a:srgbClr val="45c9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5084640"/>
            <a:ext cx="762120" cy="762120"/>
          </a:xfrm>
          <a:prstGeom prst="line">
            <a:avLst/>
          </a:prstGeom>
          <a:ln w="9360">
            <a:solidFill>
              <a:srgbClr val="45c9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3960" y="2030400"/>
            <a:ext cx="70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57880" y="3522600"/>
            <a:ext cx="2905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5732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babilità di sopravvivenza dopo chirurgia radical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76440" y="1900080"/>
          <a:ext cx="807696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900080"/>
                    <a:ext cx="807696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8165880" y="2743200"/>
            <a:ext cx="36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 Narrow"/>
              </a:rPr>
              <a:t>I 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7760" y="629928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Times New Roman"/>
              </a:rPr>
              <a:t>(Hundal, NCDB,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151840" y="3429000"/>
            <a:ext cx="3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 Narrow"/>
              </a:rPr>
              <a:t>I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24920" y="417348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ff"/>
                </a:solidFill>
                <a:latin typeface="Arial Narrow"/>
              </a:rPr>
              <a:t>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191440" y="45990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II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089920" y="4986360"/>
            <a:ext cx="59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 Narrow"/>
              </a:rPr>
              <a:t>IIIB-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I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827360" y="420840"/>
            <a:ext cx="53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Terapia adiuvante: conclus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3720" y="1216080"/>
            <a:ext cx="8267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chirurgia radicale rappresenta la sola terapia con intento cur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5ffff"/>
                </a:solidFill>
                <a:latin typeface="Arial"/>
              </a:rPr>
              <a:t>La linfadenectomia considerata adeguata (</a:t>
            </a:r>
            <a:r>
              <a:rPr b="0" i="1" lang="it-IT" sz="2000" spc="-1" strike="noStrike">
                <a:solidFill>
                  <a:srgbClr val="e5ffff"/>
                </a:solidFill>
                <a:latin typeface="Arial"/>
              </a:rPr>
              <a:t>over</a:t>
            </a:r>
            <a:r>
              <a:rPr b="0" lang="it-IT" sz="2000" spc="-1" strike="noStrike">
                <a:solidFill>
                  <a:srgbClr val="e5ffff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e5ffff"/>
                </a:solidFill>
                <a:latin typeface="Arial"/>
              </a:rPr>
              <a:t>D1 o D2</a:t>
            </a:r>
            <a:r>
              <a:rPr b="0" lang="it-IT" sz="2000" spc="-1" strike="noStrike">
                <a:solidFill>
                  <a:srgbClr val="e5ffff"/>
                </a:solidFill>
                <a:latin typeface="Arial"/>
              </a:rPr>
              <a:t>) migliora ’accuratezza dello stadio e riduce le recidive locoregion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 metanalisi hanno mostrato una riduzione del rischio di mortalità (5-6%) con  l’utilizzo di un trattamento chemioterapico contenente fluorourac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centi dati inglesi a favore di un trattamento chemioterapico perioperatorio  necessitano di riconfe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ssuna  evidenza di beneficio da un trattamento medico preopera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442960" y="360360"/>
            <a:ext cx="42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Strategie terapeutiche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1698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Obiettivo primario: migliorare la probabilità di guarig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11160" y="2476440"/>
            <a:ext cx="775008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e  linee di azione prevedon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Adeguata prevenzione di malattia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agnosi preco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efinizione ottimale della resezione chirur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fficace terapia sistemica sia in  fase pre che postoperatoria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2286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erapia chirurgic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280" y="1635120"/>
            <a:ext cx="444528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45c98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0: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rimozione incompleta dei linfonodi perigastr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5c98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1: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rimozione completa dei linfonodi perigastr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5c98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2: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rimozione dei linfonodi perigastrici e linfonodi lungo le arterie gastrica sinistra, splenica, epatica comune e tripode celia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5c98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3: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D2 e linfonodi di 3° livello(legamento epatoduodenale, retrocefalopancreatici e radice mesenteric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5c98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4:  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D3 e linfonodi para-aort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759200" y="1811160"/>
            <a:ext cx="3629160" cy="44546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946880" y="399960"/>
            <a:ext cx="51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Ruolo della linfadenecto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6040" y="1401840"/>
            <a:ext cx="825192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fadenectomia D2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art.gastrica sin, art.epatica com, tronco celiaco, art.splenica, v. mesents sup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ha portato ad un miglioramento della sopravvivenza a 5 anni del 20-30% con mortalità e morbilità postoperatoria accettabile (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esperienza giappone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migliore efficacia terapeutica della linfadenectomia D2 vs D1 (in studi randomizzati) non è stata confermata da Autori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mericani, inglesi ed olande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mentre è documentata dalle esperienze giapponesi,  tedesca ed italia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linfadenectomia allargata D3 non ha indotto un miglioramento della prognosi rispetto a pazienti trattati con D2, riportando un incremento di morbilità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00720" y="6205680"/>
            <a:ext cx="49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(Cuschieri, BJ Cancer 1999; Hartgrink , JCO 200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73440" y="623880"/>
            <a:ext cx="54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Terapia Medica: controvers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7200" y="2081160"/>
            <a:ext cx="77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ntegrazione con la chirurg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Regime chemioterapico meglio tollerat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Radioterapia e tecnica (riduzione di effetti collateral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aratterizzazione biologica  (ruolo prognosti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46040" y="395280"/>
            <a:ext cx="82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Chemioterapia adiuvante: studi randomizz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080" y="1231920"/>
            <a:ext cx="846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Storicamente i primi studi 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giapponesi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che hanno confrontato MMC vs solo chirurgia hanno documentato un beneficio della chemioterapia in termini di OS. Questi studi erano numericamente piccoli e con risultati non definitiv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I risultati positivi degli studi giapponesi sono stati riconfermati anche da un gruppo 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spagnolo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, ma con casistiche limitate,  pertanto poco convincen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Gli studi occidentali con combinazioni  (FAM e simili) non hanno riportato alcun beneficio rispetto alla sola chirurg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nalisi  di studi separati per raggruppamenti geografici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Orientali 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OR=0.58; (95 % CI,0.44-0.76) Benefic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ffff66"/>
                </a:solidFill>
                <a:latin typeface="Tahoma"/>
              </a:rPr>
              <a:t>Occidentali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OR=0.96; (95% CI,0.83-1.12) Non benef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7440" y="289080"/>
            <a:ext cx="85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Chemioterapia adiuvante: regimi contenenti cisplat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ahoma"/>
              </a:rPr>
              <a:t>1989-199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8360" y="1268280"/>
            <a:ext cx="7993080" cy="0"/>
          </a:xfrm>
          <a:prstGeom prst="line">
            <a:avLst/>
          </a:prstGeom>
          <a:ln w="38160">
            <a:solidFill>
              <a:srgbClr val="45c9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0160" y="1397160"/>
            <a:ext cx="858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udio ITMO confronta la combinazione EAP seguita da FU/LV verso so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hirurgia. Ha reclutato 274 pazienti (resezione D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iduzione del rischio di mortalità del 7% (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= 0.704) e delle recid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l 17% (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= 0.29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udio francese confronta la combinazione di FU e CDDP verso so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hirurgia. Lo studio, prematuramente interrotto, ha reclutato 260 pazi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iduzione relativa del rischio di mortalità del 26% (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= 0.063) e dell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cid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el 30%(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= 0.0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udio GISCAD confronta il regime PELF verso FU/LV.  Lo studi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ha reclutato  400 pazienti. Riduzione del rischio di mortalità del 5%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5c98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carsa tollerabilità del regime intensivo, solo il 9% ha concluso il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trattamento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64000" y="41972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(Bouchè, Ann Oncol,2005)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86480" y="2398680"/>
            <a:ext cx="39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(Bajetta, Ann Oncol,2002 Buzzoni BJS, 200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58720" y="588816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(Cascinu, JNCI,200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1120" y="979560"/>
            <a:ext cx="785016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umero di linfonodi  (LFN) esaminati adeguato (mediana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2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babilità di sopravvivenza a 5 anni del 45-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cidenza di recidive a distanza (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30-35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cidenza di recidive locali (&lt;15-20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rrelazione tra numero LFN esaminati e recidività loca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rrelazione tra estensione dell’interessamento LFN e rischio di    localizzazioni a dist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aggiore beneficio in pazienti con elevato coinvolgimento LFN o   rapporto tra LFN interessati/esaminati &gt;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 algn="just">
              <a:buClr>
                <a:srgbClr val="990000"/>
              </a:buClr>
              <a:buFont typeface="Wingdings" charset="2"/>
              <a:buChar char="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carsa fattibilità in fase postoperatoria dei regimi intensivi studia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46240" y="254160"/>
            <a:ext cx="51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he cosa abbiamo impara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5:16Z</dcterms:created>
  <dc:creator>Istituto Nazionale Tumori</dc:creator>
  <dc:description/>
  <dc:language>en-US</dc:language>
  <cp:lastModifiedBy>TC</cp:lastModifiedBy>
  <dcterms:modified xsi:type="dcterms:W3CDTF">2007-11-11T11:30:20Z</dcterms:modified>
  <cp:revision>29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44848503</vt:r8>
  </property>
  <property fmtid="{D5CDD505-2E9C-101B-9397-08002B2CF9AE}" pid="3" name="_AuthorEmail">
    <vt:lpwstr>Maria.DiBartolomeo@istitutotumori.mi.it</vt:lpwstr>
  </property>
  <property fmtid="{D5CDD505-2E9C-101B-9397-08002B2CF9AE}" pid="4" name="_AuthorEmailDisplayName">
    <vt:lpwstr>Di Bartolomeo Maria</vt:lpwstr>
  </property>
  <property fmtid="{D5CDD505-2E9C-101B-9397-08002B2CF9AE}" pid="5" name="_EmailSubject">
    <vt:lpwstr/>
  </property>
  <property fmtid="{D5CDD505-2E9C-101B-9397-08002B2CF9AE}" pid="6" name="_PreviousAdHocReviewCycleID">
    <vt:r8>-1386433218</vt:r8>
  </property>
  <property fmtid="{D5CDD505-2E9C-101B-9397-08002B2CF9AE}" pid="7" name="_ReviewingToolsShownOnce">
    <vt:lpwstr/>
  </property>
</Properties>
</file>