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36E-97CE-4693-B9D1-EC6545D0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A26-5302-45F0-8CAE-AE34EF61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409-E7E8-4711-A75C-2808D1BB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D1A-E6C0-447B-B500-04FA1B53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A49-34EE-4402-80D6-A76FFD54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0B1-BA14-46ED-83CA-6D0F93D6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0AD-6124-4A34-B96E-01CDEFB9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F3A-1B33-4F97-BD80-54071EF3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7B0-1A7C-464A-89BC-9C9D4298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72C-B37D-4589-BA66-A061FE9A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BB9-6D3E-4823-950C-4CEBB6C2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5D2-D968-43AF-A12F-02DFD0D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620A-426C-46FB-87EC-4B6B63321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0" lang="it-IT" sz="2800" spc="-1" strike="noStrike">
                <a:solidFill>
                  <a:srgbClr val="ffff00"/>
                </a:solidFill>
                <a:latin typeface="Arial Black"/>
              </a:rPr>
              <a:t>Studio italiano multicentrico randomizzato di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 Black"/>
              </a:rPr>
              <a:t> RT accelerata con </a:t>
            </a:r>
            <a:r>
              <a:rPr b="0" i="1" lang="it-IT" sz="2800" spc="-1" strike="noStrike">
                <a:solidFill>
                  <a:srgbClr val="ffff00"/>
                </a:solidFill>
                <a:latin typeface="Arial Black"/>
              </a:rPr>
              <a:t>concomitant boost</a:t>
            </a:r>
            <a:r>
              <a:rPr b="0" lang="it-IT" sz="2800" spc="-1" strike="noStrike">
                <a:solidFill>
                  <a:srgbClr val="ffff00"/>
                </a:solidFill>
                <a:latin typeface="Arial Black"/>
              </a:rPr>
              <a:t> associata a mono-CT  o poli-CT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 Black"/>
              </a:rPr>
              <a:t>nei carcinomi spinocellulari del distretto cervico-facciale localmente avanzati: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it-IT" sz="2800" spc="-1" strike="noStrike">
                <a:solidFill>
                  <a:srgbClr val="ff9933"/>
                </a:solidFill>
                <a:latin typeface="Arial Black"/>
              </a:rPr>
              <a:t>analisi delle tossicità preliminari </a:t>
            </a:r>
            <a:br>
              <a:rPr sz="2800"/>
            </a:br>
            <a:r>
              <a:rPr b="0" lang="it-IT" sz="2800" spc="-1" strike="noStrike">
                <a:solidFill>
                  <a:srgbClr val="ff9933"/>
                </a:solidFill>
                <a:latin typeface="Arial Black"/>
              </a:rPr>
              <a:t>del Centro Coordinator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152360" cy="103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152360" cy="115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7431480" y="623736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IRO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02160" y="51084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Orl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 logo AIRC"/>
          <p:cNvPicPr/>
          <p:nvPr/>
        </p:nvPicPr>
        <p:blipFill>
          <a:blip r:embed="rId3"/>
          <a:stretch/>
        </p:blipFill>
        <p:spPr>
          <a:xfrm>
            <a:off x="395280" y="5661000"/>
            <a:ext cx="165564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79640" y="0"/>
          <a:ext cx="9001080" cy="38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0"/>
                    <a:ext cx="900108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771640" y="4149720"/>
          <a:ext cx="5977080" cy="2286000"/>
        </p:xfrm>
        <a:graphic>
          <a:graphicData uri="http://schemas.openxmlformats.org/drawingml/2006/table">
            <a:tbl>
              <a:tblPr/>
              <a:tblGrid>
                <a:gridCol w="1495440"/>
                <a:gridCol w="1494000"/>
                <a:gridCol w="1490760"/>
                <a:gridCol w="14968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DDP i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DDP-5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Media g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50000">
                          <a:srgbClr val="00ffff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198160" y="162864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% p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2400" y="119700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alo ponde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3240" y="465300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31160" y="40464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tut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CDDP i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Comic Sans MS"/>
              </a:rPr>
              <a:t>CDDP-5F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50920" y="1197000"/>
          <a:ext cx="8208360" cy="5502240"/>
        </p:xfrm>
        <a:graphic>
          <a:graphicData uri="http://schemas.openxmlformats.org/drawingml/2006/table">
            <a:tbl>
              <a:tblPr/>
              <a:tblGrid>
                <a:gridCol w="3182040"/>
                <a:gridCol w="1703520"/>
                <a:gridCol w="1651320"/>
                <a:gridCol w="167148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3+G4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t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DDP i.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CDDP-5F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sfa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ucos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terazioni saliva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sgeu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G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G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G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ringe/vo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rmat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95280" y="282600"/>
            <a:ext cx="87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 Black"/>
              </a:rPr>
              <a:t>Tossicità acuta loco-region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20720" y="28526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a 60 gg 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82120" y="2852640"/>
            <a:ext cx="133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a 60 gg 2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7920" y="5805360"/>
            <a:ext cx="133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00"/>
                </a:solidFill>
                <a:latin typeface="Comic Sans MS"/>
              </a:rPr>
              <a:t>a 60 gg 1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60360" y="5695920"/>
            <a:ext cx="5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76320" y="692280"/>
          <a:ext cx="9067680" cy="5537160"/>
        </p:xfrm>
        <a:graphic>
          <a:graphicData uri="http://schemas.openxmlformats.org/drawingml/2006/table">
            <a:tbl>
              <a:tblPr/>
              <a:tblGrid>
                <a:gridCol w="1400040"/>
                <a:gridCol w="758880"/>
                <a:gridCol w="896760"/>
                <a:gridCol w="935280"/>
                <a:gridCol w="792000"/>
                <a:gridCol w="865080"/>
                <a:gridCol w="863640"/>
                <a:gridCol w="792360"/>
                <a:gridCol w="863640"/>
                <a:gridCol w="900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t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D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.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DDP-5F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t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D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.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DDP-5F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t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D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.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DDP-5F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sfa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uc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ol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erosto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sgeu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3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T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nfop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ringe/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o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33cc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057120" y="18900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Tossicità a 4-6 me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692280"/>
            <a:ext cx="0" cy="554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692280"/>
            <a:ext cx="0" cy="554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88280" y="616572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G4 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60120" y="616572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G4 1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404640"/>
            <a:ext cx="77774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Tracheotomia post RT-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1341360"/>
            <a:ext cx="91944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708360" y="2565360"/>
            <a:ext cx="287280" cy="2890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2565360"/>
            <a:ext cx="28728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2520" y="2781360"/>
            <a:ext cx="2856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cc99"/>
                </a:solidFill>
                <a:latin typeface="Tahoma"/>
              </a:rPr>
              <a:t>1 pz orofari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Tahoma"/>
              </a:rPr>
              <a:t>(N+ III liv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6840" y="28526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cc99"/>
                </a:solidFill>
                <a:latin typeface="Tahoma"/>
              </a:rPr>
              <a:t>2 pz lari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9480" y="50608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3745080"/>
            <a:ext cx="864072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CT: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2pz  CDDP-5FU; 1 pz CDDP i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RT: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tecnica 3D; dose tot.: 1pz 70.8 Gy; 2 pz 72 Gy, Dm 70-74.4 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Tossicità: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2 pz: disfonia G3 e spazio respiratorio critico durante RT-CT; G3 e G2 a 2 m; 1 pz: disfonia G2 durante RT-CT e a 2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cc00"/>
                </a:solidFill>
                <a:latin typeface="Comic Sans MS"/>
              </a:rPr>
              <a:t>A 3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½</a:t>
            </a:r>
            <a:r>
              <a:rPr b="0" lang="it-IT" sz="1800" spc="-1" strike="noStrike">
                <a:solidFill>
                  <a:srgbClr val="ffcc00"/>
                </a:solidFill>
                <a:latin typeface="Comic Sans MS"/>
              </a:rPr>
              <a:t>m-5m, dispnea G4&gt; tracheoto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Follow-up: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2 pz chiusura tracheostoma a 3m e 24 m; 1pz deceduto per coma anos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2280" y="2124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cc99"/>
                </a:solidFill>
                <a:latin typeface="Tahoma"/>
              </a:rPr>
              <a:t>3 p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’associazione di frazionamento accelerato con cb più CDDP i.c. o CDDP+5FU è un trattamento fattibile seppur a spese di un’elevata tossicità acu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ucosite e disfagia insieme alla tossicità renale e midollare tardiva  presentano un’incidenza maggiore nel braccio di poliCT, mentre la tossicità midollare, renale acuta, la xerostomia e la disgeusia sono più frequenti e severe nel braccio di mono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’accelerazione con cb associata alla poliCT nei tumori  laringei avanzati è associata a un rischio significativo di tossicità &gt;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er le elevate tossicità attese sono necessari un’adeguata terapia di supporto e uno stretto monitoraggio dei pazie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 Black"/>
              </a:rPr>
              <a:t>Disegno dello stu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836640"/>
          <a:ext cx="8748720" cy="5281560"/>
        </p:xfrm>
        <a:graphic>
          <a:graphicData uri="http://schemas.openxmlformats.org/drawingml/2006/table">
            <a:tbl>
              <a:tblPr/>
              <a:tblGrid>
                <a:gridCol w="1152720"/>
                <a:gridCol w="1079280"/>
                <a:gridCol w="1152720"/>
                <a:gridCol w="1079280"/>
                <a:gridCol w="1081080"/>
                <a:gridCol w="1013040"/>
                <a:gridCol w="1095480"/>
                <a:gridCol w="1095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 1 se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 1 se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 2 se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 3 se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 4 se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 5 se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 6  se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8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RT c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72 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Gy/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Gy/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Gy/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Gy/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Gy/d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2 Gy/d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Gy/d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2 Gy/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DP i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DP i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DP i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DP i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DP i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DP i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D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D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D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603560" y="3500280"/>
            <a:ext cx="45972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7667640" y="2781360"/>
            <a:ext cx="288720" cy="1295280"/>
          </a:xfrm>
          <a:custGeom>
            <a:avLst/>
            <a:gdLst>
              <a:gd name="textAreaLeft" fmla="*/ 184680 w 288720"/>
              <a:gd name="textAreaRight" fmla="*/ 289080 w 2887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5"/>
                </a:lnTo>
                <a:cubicBezTo>
                  <a:pt x="10800" y="9925"/>
                  <a:pt x="5400" y="10825"/>
                  <a:pt x="0" y="10825"/>
                </a:cubicBezTo>
                <a:cubicBezTo>
                  <a:pt x="5400" y="10825"/>
                  <a:pt x="10800" y="11725"/>
                  <a:pt x="10800" y="126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1240" y="4653000"/>
            <a:ext cx="5418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39640" y="4365720"/>
            <a:ext cx="287280" cy="358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084640"/>
            <a:ext cx="289080" cy="36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1080" y="6093000"/>
            <a:ext cx="29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A: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CDDP 5 mg/mq/die i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er tutto il tra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6093000"/>
            <a:ext cx="55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B: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CDDP 20 mg/mq/die +5FU 200 mg/mq/b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die  per 5 gg ogni 21 g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4800" spc="-1" strike="noStrike">
                <a:solidFill>
                  <a:srgbClr val="ff9933"/>
                </a:solidFill>
                <a:latin typeface="Arial Black"/>
              </a:rPr>
              <a:t>Randomizzazione</a:t>
            </a:r>
            <a:br>
              <a:rPr sz="4800"/>
            </a:b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vvio 2005</a:t>
            </a:r>
            <a:br>
              <a:rPr sz="3600"/>
            </a:br>
            <a:br>
              <a:rPr sz="36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talia: randomizzati </a:t>
            </a:r>
            <a:r>
              <a:rPr b="0" lang="it-IT" sz="3200" spc="-1" strike="noStrike">
                <a:solidFill>
                  <a:srgbClr val="ff3300"/>
                </a:solidFill>
                <a:latin typeface="Comic Sans MS"/>
              </a:rPr>
              <a:t>35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pz </a:t>
            </a:r>
            <a:br>
              <a:rPr sz="3200"/>
            </a:b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valutabili </a:t>
            </a:r>
            <a:r>
              <a:rPr b="0" lang="it-IT" sz="3200" spc="-1" strike="noStrike">
                <a:solidFill>
                  <a:srgbClr val="ff3300"/>
                </a:solidFill>
                <a:latin typeface="Comic Sans MS"/>
              </a:rPr>
              <a:t>33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pz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INT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: randomizzati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27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pz</a:t>
            </a:r>
            <a:br>
              <a:rPr sz="3200"/>
            </a:b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valutabili 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25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pz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                                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2060640"/>
            <a:ext cx="838080" cy="1218960"/>
          </a:xfrm>
          <a:prstGeom prst="downArrow">
            <a:avLst>
              <a:gd name="adj1" fmla="val 50000"/>
              <a:gd name="adj2" fmla="val 36362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42920" y="673200"/>
          <a:ext cx="6956640" cy="6184800"/>
        </p:xfrm>
        <a:graphic>
          <a:graphicData uri="http://schemas.openxmlformats.org/drawingml/2006/table">
            <a:tbl>
              <a:tblPr/>
              <a:tblGrid>
                <a:gridCol w="2489400"/>
                <a:gridCol w="2158920"/>
                <a:gridCol w="2308320"/>
              </a:tblGrid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9900"/>
                          </a:solidFill>
                          <a:latin typeface="Comic Sans MS"/>
                        </a:rPr>
                        <a:t>N° pz / tot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 / 25 p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/25 p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9900"/>
                          </a:solidFill>
                          <a:latin typeface="Comic Sans MS"/>
                        </a:rPr>
                        <a:t>Età mediana aa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45 – 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40 – 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Comic Sans MS"/>
                          <a:ea typeface="Times New Roman"/>
                        </a:rPr>
                        <a:t>♂ 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Comic Sans MS"/>
                          <a:ea typeface="Times New Roman"/>
                        </a:rPr>
                        <a:t>: 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 :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9900"/>
                          </a:solidFill>
                          <a:latin typeface="Comic Sans MS"/>
                        </a:rPr>
                        <a:t>KPS media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9900"/>
                          </a:solidFill>
                          <a:latin typeface="Comic Sans MS"/>
                        </a:rPr>
                        <a:t>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0 (70 –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0 (90 –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Comic Sans MS"/>
                        </a:rPr>
                        <a:t>Sede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rofaringe: 6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pofaringe: 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ringe: 2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rofaringe: 7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pofaringe:  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ringe:  2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Comic Sans MS"/>
                        </a:rPr>
                        <a:t>UJCC Sta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 :  8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V: 9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 : 38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V: 6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9900"/>
                          </a:solidFill>
                          <a:latin typeface="Comic Sans MS"/>
                        </a:rPr>
                        <a:t>SNG/PEG pr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pz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9900"/>
                          </a:solidFill>
                          <a:latin typeface="Comic Sans MS"/>
                        </a:rPr>
                        <a:t>tracheo pr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pz (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057200" y="18900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CDDP i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0920" y="18900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CDDP- 5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292428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Follow-up mediano: 10 m  (range, 6-31m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Pz valutabili a 4/6 m: 25/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cc"/>
                </a:solidFill>
                <a:latin typeface="Comic Sans MS"/>
              </a:rPr>
              <a:t>Pz valutabili a 12 m: 13/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63640" y="3213000"/>
          <a:ext cx="69120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213000"/>
                    <a:ext cx="69120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74000" y="465300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49560" y="630864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CDDP i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04200" y="630864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CDDP- 5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78880" y="62064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% p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1960" y="1341360"/>
            <a:ext cx="22471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Comic Sans MS"/>
              </a:rPr>
              <a:t>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9900"/>
                </a:solidFill>
                <a:latin typeface="Comic Sans MS"/>
              </a:rPr>
              <a:t>No interruzioni 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9900"/>
                </a:solidFill>
                <a:latin typeface="Comic Sans MS"/>
              </a:rPr>
              <a:t>tossicità radioindot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835280" y="0"/>
          <a:ext cx="6913440" cy="389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0"/>
                    <a:ext cx="691344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37120" y="630864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u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8880" y="37893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% p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5480" y="306864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u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49560" y="306864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CDDP i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43160" y="306864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CDDP-5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042920" y="1052640"/>
          <a:ext cx="748980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052640"/>
                    <a:ext cx="748980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01200" y="220500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CDDP i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9160" y="357336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CDDP-5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5445000"/>
            <a:ext cx="4680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ediana giorni post CT –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CDDP i.c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: 10 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Comic Sans MS"/>
              </a:rPr>
              <a:t>CDDP–5FU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: 35 g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0"/>
            <a:ext cx="867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Black"/>
              </a:rPr>
              <a:t>Tossicità massima </a:t>
            </a: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(CTCAE v 3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87240" y="494172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% p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403280" y="1557360"/>
          <a:ext cx="6840720" cy="4870440"/>
        </p:xfrm>
        <a:graphic>
          <a:graphicData uri="http://schemas.openxmlformats.org/drawingml/2006/table">
            <a:tbl>
              <a:tblPr/>
              <a:tblGrid>
                <a:gridCol w="2160720"/>
                <a:gridCol w="1663560"/>
                <a:gridCol w="1322640"/>
                <a:gridCol w="1693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3+G4     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</a:tr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t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DDP i.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CDDP-5F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5400000"/>
                    </a:gra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BC                     AN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TL                       H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4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nfope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8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50000">
                          <a:srgbClr val="3333cc"/>
                        </a:gs>
                        <a:gs pos="100000">
                          <a:srgbClr val="0099cc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0" y="40464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 Black"/>
              </a:rPr>
              <a:t>Tossicità acuta ematolog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50000">
              <a:srgbClr val="3333cc"/>
            </a:gs>
            <a:gs pos="100000">
              <a:srgbClr val="1212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187280" y="1557360"/>
          <a:ext cx="7345440" cy="4284720"/>
        </p:xfrm>
        <a:graphic>
          <a:graphicData uri="http://schemas.openxmlformats.org/drawingml/2006/table">
            <a:tbl>
              <a:tblPr/>
              <a:tblGrid>
                <a:gridCol w="2883240"/>
                <a:gridCol w="1544400"/>
                <a:gridCol w="1495440"/>
                <a:gridCol w="142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3+G4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t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DDP i.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CDDP-5F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fe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ati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ol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ar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ausea/vom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95280" y="260280"/>
            <a:ext cx="896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 Black"/>
              </a:rPr>
              <a:t>Tossicità acuta siste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75120" y="31161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52720" y="32846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a 60 gg 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8:26:04Z</dcterms:created>
  <dc:creator>Cristiana Bergamini</dc:creator>
  <dc:description/>
  <dc:language>en-US</dc:language>
  <cp:lastModifiedBy>TC</cp:lastModifiedBy>
  <dcterms:modified xsi:type="dcterms:W3CDTF">2007-11-10T11:00:46Z</dcterms:modified>
  <cp:revision>1394</cp:revision>
  <dc:subject/>
  <dc:title>Ca spinocellulare haed and neck  1. localmente avanzati:  RT + CT con CDDP a basse dosi RT + poliCT con CDDP + 5-FU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05895476</vt:r8>
  </property>
  <property fmtid="{D5CDD505-2E9C-101B-9397-08002B2CF9AE}" pid="3" name="_AuthorEmail">
    <vt:lpwstr>Cristiana.Bergamini@istitutotumori.mi.it</vt:lpwstr>
  </property>
  <property fmtid="{D5CDD505-2E9C-101B-9397-08002B2CF9AE}" pid="4" name="_AuthorEmailDisplayName">
    <vt:lpwstr>Bergamini Cristiana</vt:lpwstr>
  </property>
  <property fmtid="{D5CDD505-2E9C-101B-9397-08002B2CF9AE}" pid="5" name="_EmailSubject">
    <vt:lpwstr>Medusa</vt:lpwstr>
  </property>
  <property fmtid="{D5CDD505-2E9C-101B-9397-08002B2CF9AE}" pid="6" name="_PreviousAdHocReviewCycleID">
    <vt:r8>-1346601840</vt:r8>
  </property>
  <property fmtid="{D5CDD505-2E9C-101B-9397-08002B2CF9AE}" pid="7" name="_ReviewingToolsShownOnce">
    <vt:lpwstr/>
  </property>
</Properties>
</file>