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666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666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666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666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6848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666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5800" y="41666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6848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85800" y="41666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313800" y="41666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941440" y="41666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666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666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 algn="just">
              <a:spcBef>
                <a:spcPts val="2999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1560" indent="-231480" algn="just">
              <a:spcBef>
                <a:spcPts val="2999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925560" indent="-185040" algn="just">
              <a:spcBef>
                <a:spcPts val="2999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296000" indent="-185040" algn="just">
              <a:spcBef>
                <a:spcPts val="2999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666440" indent="-185040" algn="just">
              <a:spcBef>
                <a:spcPts val="2999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666440" indent="-185040" algn="just">
              <a:spcBef>
                <a:spcPts val="29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666440" indent="-185040" algn="just">
              <a:spcBef>
                <a:spcPts val="29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228564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413000"/>
            <a:ext cx="914400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Comic Sans MS"/>
              </a:rPr>
              <a:t>Controversial Issues in Radiotherapy: 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Prophylactic nodal irradiation in early breast can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51200" cy="1595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979640" y="560520"/>
            <a:ext cx="5353200" cy="923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50920" y="3271680"/>
            <a:ext cx="4593960" cy="3252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435640" y="3284640"/>
            <a:ext cx="3240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99"/>
                </a:solidFill>
                <a:uFillTx/>
                <a:latin typeface="Comic Sans MS"/>
              </a:rPr>
              <a:t>Chair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na Manas (Madr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ilippo Bertoni  (Moden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203640" y="309600"/>
            <a:ext cx="2771640" cy="23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2131920"/>
            <a:ext cx="8713800" cy="2521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cc">
                  <a:alpha val="31372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473040"/>
            <a:ext cx="6043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SLN  sampl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TC  vs  micro-metastas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Immagine 3" descr="AIS.jpg"/>
          <p:cNvPicPr/>
          <p:nvPr/>
        </p:nvPicPr>
        <p:blipFill>
          <a:blip r:embed="rId1"/>
          <a:stretch/>
        </p:blipFill>
        <p:spPr>
          <a:xfrm>
            <a:off x="0" y="0"/>
            <a:ext cx="3809880" cy="188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59000" y="136692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Comic Sans MS"/>
              </a:rPr>
              <a:t>Firenze 20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70160" y="4424400"/>
            <a:ext cx="225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Mazzarol and Viale ( pers. comm.)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46200" y="2060640"/>
            <a:ext cx="6697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1600" spc="-1" strike="noStrike">
                <a:solidFill>
                  <a:srgbClr val="fcfca0"/>
                </a:solidFill>
                <a:latin typeface="Comic Sans MS"/>
              </a:rPr>
              <a:t>SLN path findings </a:t>
            </a:r>
            <a:r>
              <a:rPr b="1" lang="it-IT" sz="1600" spc="-1" strike="noStrike">
                <a:solidFill>
                  <a:srgbClr val="fcfca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cfca0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cfca0"/>
                </a:solidFill>
                <a:latin typeface="Comic Sans MS"/>
              </a:rPr>
              <a:t>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50000"/>
              </a:lnSpc>
              <a:spcBef>
                <a:spcPts val="2001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Macro-metastases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50.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50000"/>
              </a:lnSpc>
              <a:spcBef>
                <a:spcPts val="2001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Micro-metastases   1 – 2 mm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30.2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50000"/>
              </a:lnSpc>
              <a:spcBef>
                <a:spcPts val="2001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Micro-metastases   0.2- 1 mm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7.0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50000"/>
              </a:lnSpc>
              <a:spcBef>
                <a:spcPts val="2001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ITC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4.7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03840" y="6262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1160" y="6381720"/>
            <a:ext cx="32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( an important Italian surgeon from INTM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226120"/>
            <a:ext cx="86421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....axillary dissection may be more important  for  ITC  than for macrometastases..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.. </a:t>
            </a: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I don’t think  that axillary dissection is important for treatment and outcome in patients with lymph node involvement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..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889308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0000"/>
          </a:bodyPr>
          <a:p>
            <a:pPr marL="10260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Probability (%) of other LN mets. at the  axillary dissection  after positive SL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342720" indent="0" algn="just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342720" indent="0" algn="just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3573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40000"/>
              </a:lnSpc>
              <a:spcBef>
                <a:spcPts val="1749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...... avoidance of a local recurrence in the conserved breast after BCS and avoidance of a local recurrence elsewhere (eg, the chest wall or regional nodes) after mastectomy were of comparable relevance to 15-year breast cancer mortality....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40000"/>
              </a:lnSpc>
              <a:spcBef>
                <a:spcPts val="1749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Differences in 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local treatment that substantially affect local recurrence rates would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, in the hypothetical absence of any other causes of death, 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avoid about one breast cancer death over the next 15years for every four local recurrences avoided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, and should reduce 15-year overall mortality.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031760"/>
            <a:ext cx="8557920" cy="2325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15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on the other hand….</a:t>
            </a:r>
            <a:endParaRPr b="0" lang="en-US" sz="2800" spc="-1" strike="noStrike">
              <a:solidFill>
                <a:srgbClr val="9999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95280" y="174600"/>
            <a:ext cx="8426520" cy="1238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464680" cy="1974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124760" y="14796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54"/>
                </a:solidFill>
                <a:latin typeface="Comic Sans MS"/>
              </a:rPr>
              <a:t>CMAJ • APR. 13, 2004; 170 (8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5516640"/>
            <a:ext cx="8915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8000"/>
          </a:bodyPr>
          <a:p>
            <a:pPr marL="164520" indent="-16452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Are the statements of ASCO guidelines (or other guidelines) still adequat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64520" indent="-164520" algn="ctr">
              <a:lnSpc>
                <a:spcPts val="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64520" indent="-164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Is there a role for RT to the draining nodes after conservative surgery or mastectomy ?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95280" y="3552840"/>
            <a:ext cx="8464680" cy="1316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90040" y="356868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54"/>
                </a:solidFill>
                <a:latin typeface="Comic Sans MS"/>
              </a:rPr>
              <a:t>Radiother Oncol 84 (2007) 84–1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53480" y="189000"/>
            <a:ext cx="175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54"/>
                </a:solidFill>
                <a:latin typeface="Comic Sans MS"/>
              </a:rPr>
              <a:t>J Clin Oncol 2001; 19: 1539-6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442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……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.invited speakers ...... and  KEY  QUESTIONS</a:t>
            </a:r>
            <a:endParaRPr b="0" lang="en-US" sz="2400" spc="-1" strike="noStrike">
              <a:solidFill>
                <a:srgbClr val="9999ff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19640" y="765000"/>
            <a:ext cx="2216160" cy="18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2924280"/>
            <a:ext cx="85690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2251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Do all patients with early breast cancer need some type of prophylactic irradiation ?  When and where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indent="-146160">
              <a:lnSpc>
                <a:spcPct val="90000"/>
              </a:lnSpc>
              <a:spcBef>
                <a:spcPts val="1500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What about SCNs, axillary nodes and IMNs irradiation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indent="-146160">
              <a:lnSpc>
                <a:spcPct val="90000"/>
              </a:lnSpc>
              <a:spcBef>
                <a:spcPts val="1500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What about locoregional RT in patients with extensive axillary invasion or inadequate axillary dissection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>
              <a:lnSpc>
                <a:spcPct val="120000"/>
              </a:lnSpc>
              <a:spcBef>
                <a:spcPts val="2251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Might axillary node irradiation be effective as node dissection  in patients with a significant risk of occult nodal metastas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indent="-146160">
              <a:lnSpc>
                <a:spcPct val="80000"/>
              </a:lnSpc>
              <a:spcBef>
                <a:spcPts val="1500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What about locoregional RT after SLN sampling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>
              <a:lnSpc>
                <a:spcPct val="80000"/>
              </a:lnSpc>
              <a:spcBef>
                <a:spcPts val="2251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What’s coming up from the ongoing trials on prophylactic nodal irratiation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731520" indent="-146160">
              <a:lnSpc>
                <a:spcPct val="80000"/>
              </a:lnSpc>
              <a:spcBef>
                <a:spcPts val="2251"/>
              </a:spcBef>
              <a:buClr>
                <a:srgbClr val="9999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2:17:14Z</dcterms:created>
  <dc:creator>Cattedra di Radiologia Univ. Brescia</dc:creator>
  <dc:description/>
  <dc:language>en-US</dc:language>
  <cp:lastModifiedBy>TC</cp:lastModifiedBy>
  <cp:lastPrinted>2002-03-26T09:27:06Z</cp:lastPrinted>
  <dcterms:modified xsi:type="dcterms:W3CDTF">2007-11-10T14:05:19Z</dcterms:modified>
  <cp:revision>1168</cp:revision>
  <dc:subject/>
  <dc:title>Nessun titolo diapositiva</dc:title>
</cp:coreProperties>
</file>