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26B-9502-48E7-B564-4163D079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A7C-FE74-4FCE-8771-751488B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DAF-0092-4666-8429-09506BA4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1D1-983E-4350-88BD-C3E40F76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1C2-FE21-4D0B-9D41-384B54C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CA8-44E1-44AE-98C3-7E45E3DC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29A-1594-4A16-8147-CB08882B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F29-415B-4C3C-9C79-99D7AA97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3E3-43CB-4C85-B685-D580F59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367-B878-4D3C-B322-7263E12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728-BF81-4FCA-BAED-2C0014D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66F-53FE-403F-BB47-631BB75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D3D-417D-4484-8119-D94CC6CCBB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613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OMBINANT HUMAN TSH (rh-TSH) IN THE DECISION PROCESS IN PATIENTS WITH DTC AFTER TOTAL THYROIDEC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3933360"/>
            <a:ext cx="5545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Federica Vianello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epartment of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stituto Oncologico Veneto I.R.C.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ad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Conclusion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07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Study limi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The FU of our series is probably still too short for pts with D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 stimulated Tg cut-off of 2 mcg/L was arbitrary chosen in pts not ab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Patients need suitable surgery (total thyroidecto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7280" y="189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Conclusi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052640"/>
            <a:ext cx="8353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cordance betwe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imulated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Tg &lt;2 and WBS + only in thyroid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mong 194 pts with stimulated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g &lt;2 and WBS + only in thyroid bed, only 4 had an increased Tg during FU. All 4 pts underwent ablation and are NED at 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mong 138 pts with Tg &lt;2, considered at risk for T or N and who did not undergo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 ablation, all are NED at F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869000"/>
            <a:ext cx="8713800" cy="155700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In spite of the limits of our study it seems that the association of stimulated Tg measurement and dxWBS  allows to 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</a:rPr>
              <a:t>select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 pts who require 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I and to 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</a:rPr>
              <a:t>avoid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unecessary exposure to radiation for a large amount of p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9280" y="1557360"/>
          <a:ext cx="8785440" cy="5184720"/>
        </p:xfrm>
        <a:graphic>
          <a:graphicData uri="http://schemas.openxmlformats.org/drawingml/2006/table">
            <a:tbl>
              <a:tblPr/>
              <a:tblGrid>
                <a:gridCol w="443160"/>
                <a:gridCol w="985680"/>
                <a:gridCol w="996840"/>
                <a:gridCol w="717840"/>
                <a:gridCol w="642600"/>
                <a:gridCol w="714600"/>
                <a:gridCol w="927000"/>
                <a:gridCol w="1287360"/>
                <a:gridCol w="571680"/>
                <a:gridCol w="712800"/>
                <a:gridCol w="78588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,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1°Tg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31I m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h-T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li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x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li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b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b pN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h-T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3 pN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3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pN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p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pil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1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draw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.b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79280" y="189000"/>
            <a:ext cx="8713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13 pts</a:t>
            </a: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 Tg&lt;2 &amp; WBS+ T.Bed</a:t>
            </a: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 Proposed FU and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33cc"/>
                </a:solidFill>
                <a:latin typeface="Comic Sans MS"/>
              </a:rPr>
              <a:t>underwent 131I Ab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4 due to </a:t>
            </a:r>
            <a:r>
              <a:rPr b="0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of Tg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during FU                -9 due to pts or clin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260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omic Sans MS"/>
              </a:rPr>
              <a:t>47 pts</a:t>
            </a:r>
            <a:r>
              <a:rPr b="0" lang="it-IT" sz="2400" spc="-1" strike="noStrike">
                <a:solidFill>
                  <a:srgbClr val="ff33cc"/>
                </a:solidFill>
                <a:latin typeface="Comic Sans MS"/>
              </a:rPr>
              <a:t> Tg</a:t>
            </a:r>
            <a:r>
              <a:rPr b="0" lang="it-IT" sz="2400" spc="-1" strike="noStrike" u="sng">
                <a:solidFill>
                  <a:srgbClr val="ff33cc"/>
                </a:solidFill>
                <a:uFillTx/>
                <a:latin typeface="Comic Sans MS"/>
              </a:rPr>
              <a:t>&gt;</a:t>
            </a:r>
            <a:r>
              <a:rPr b="0" lang="it-IT" sz="2400" spc="-1" strike="noStrike">
                <a:solidFill>
                  <a:srgbClr val="ff33cc"/>
                </a:solidFill>
                <a:latin typeface="Comic Sans MS"/>
              </a:rPr>
              <a:t>2 </a:t>
            </a:r>
            <a:r>
              <a:rPr b="0" lang="it-IT" sz="24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33cc"/>
                </a:solidFill>
                <a:latin typeface="Comic Sans MS"/>
              </a:rPr>
              <a:t> underwent 131I Ab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125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THYROGLOB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g median value after rh-TSH pre-treatment was </a:t>
            </a:r>
            <a:r>
              <a:rPr b="1" lang="en-GB" sz="1800" spc="-1" strike="noStrike">
                <a:solidFill>
                  <a:srgbClr val="6699ff"/>
                </a:solidFill>
                <a:latin typeface="Comic Sans MS"/>
              </a:rPr>
              <a:t>14.4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mcg/l (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max 173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in the group of 41, while was </a:t>
            </a:r>
            <a:r>
              <a:rPr b="1" lang="en-GB" sz="1800" spc="-1" strike="noStrike">
                <a:solidFill>
                  <a:srgbClr val="6699ff"/>
                </a:solidFill>
                <a:latin typeface="Comic Sans MS"/>
              </a:rPr>
              <a:t>18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max 315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after withdraw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g median value after rh-TSH pre-treatment was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cc66ff"/>
                </a:solidFill>
                <a:latin typeface="Comic Sans MS"/>
              </a:rPr>
              <a:t>3.3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mcg/l (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max 4.8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while was </a:t>
            </a:r>
            <a:r>
              <a:rPr b="1" lang="en-GB" sz="1800" spc="-1" strike="noStrike">
                <a:solidFill>
                  <a:srgbClr val="cc66ff"/>
                </a:solidFill>
                <a:latin typeface="Comic Sans MS"/>
              </a:rPr>
              <a:t>2.8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max 5.5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after rh-TSH at the time of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baseline="30000">
                <a:solidFill>
                  <a:srgbClr val="ffff00"/>
                </a:solidFill>
                <a:latin typeface="Comic Sans MS"/>
              </a:rPr>
              <a:t>131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I W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DxWB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after TT) performed after rh-TSH (52 pts) was positive in t.bed in 49 pts, lateral neck in 12 and mediastinum 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TxWB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47 pts) was positive in t.bed in 44 (</a:t>
            </a:r>
            <a:r>
              <a:rPr b="1" lang="en-GB" sz="1800" spc="-1" strike="noStrike">
                <a:solidFill>
                  <a:srgbClr val="6699ff"/>
                </a:solidFill>
                <a:latin typeface="Comic Sans MS"/>
              </a:rPr>
              <a:t>+3 positivity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, lateral neck in 12 (</a:t>
            </a:r>
            <a:r>
              <a:rPr b="1" lang="en-GB" sz="1800" spc="-1" strike="noStrike">
                <a:solidFill>
                  <a:srgbClr val="6699ff"/>
                </a:solidFill>
                <a:latin typeface="Comic Sans MS"/>
              </a:rPr>
              <a:t>+2 positivity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and mediastinum i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ith a median follow-up of 31.05 months (range 0.7-57.26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7 pts with no signs of disease: Tg on suppression and US negative in all, and a second Tg test negative in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 pt with a negative FU for DTC died for another c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 pts with Tg+ during FU: 2 after a second Tg test, 7 on suppression. 4 of these 7 underwent a new cycle of radioiodine therapy after withdrawal and in the other 5 with Tg+ diagnostic exams are in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18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400" y="189000"/>
            <a:ext cx="23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99ff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99ff"/>
                </a:solidFill>
                <a:latin typeface="Comic Sans MS"/>
              </a:rPr>
              <a:t>41 after withd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ff"/>
                </a:solidFill>
                <a:latin typeface="Comic Sans MS"/>
              </a:rPr>
              <a:t>-6 after rh-T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11592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981080"/>
            <a:ext cx="769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aims of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 remnant ablation ar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well-known and were previously discus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ven if widely performed, th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real value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f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 ablation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improving relaps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survival rat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s still deba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particularly in low risk pat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therwise, it is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widely accep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that remnant ablation plays a major role in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nsuring the accuracy of long-term follow-up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by the measurement of TSH-stimulated serum Tg and by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 WBS, </a:t>
            </a: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which are not reliable if a large amount of thyroid tissue is present after thyroidectomy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92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131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 AB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28640"/>
            <a:ext cx="777240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e investigated the possibility to u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erum thyroglobulin measure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iagnostic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 W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th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election of patients candidate to thyroid remnant ablation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im of the stud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as to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est a more selective approach to the use of </a:t>
            </a:r>
            <a:r>
              <a:rPr b="0" lang="en-GB" sz="2000" spc="-1" strike="noStrike" baseline="30000">
                <a:solidFill>
                  <a:srgbClr val="ffff00"/>
                </a:solidFill>
                <a:latin typeface="Comic Sans MS"/>
              </a:rPr>
              <a:t>131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n pts who previously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underwent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 complete thyroidectomy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 without evident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local-regional residual </a:t>
            </a:r>
            <a:r>
              <a:rPr b="0" lang="en-GB" sz="2000" spc="-1" strike="noStrike">
                <a:solidFill>
                  <a:srgbClr val="ff33cc"/>
                </a:solidFill>
                <a:latin typeface="Comic Sans MS"/>
              </a:rPr>
              <a:t>diseas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or distant metastases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In this setting serum Thyroglobulin should be low even if TSH is elev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Aim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2205000"/>
            <a:ext cx="29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h-TSH (Thyrog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®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 a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1989000"/>
            <a:ext cx="4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549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9/2001 - 12/200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429000"/>
            <a:ext cx="8146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cc"/>
                </a:solidFill>
                <a:latin typeface="Comic Sans MS"/>
              </a:rPr>
              <a:t>247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ts entered the study and underwent diagnostic WBS and serum Tg measurement after rh-T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Highly selected se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l pts had complete thyroidec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l pts had negative Tg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 patients with pT4, pN1b, M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76520"/>
            <a:ext cx="815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cc"/>
                </a:solidFill>
                <a:latin typeface="Comic Sans MS"/>
              </a:rPr>
              <a:t>2263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pts with DTC referred to the Department of Radiotherapy of the Istituto Oncologico Veneto of Padova to perform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 ablation or therapy after thyroidec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2133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341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ff"/>
                </a:solidFill>
                <a:latin typeface="Comic Sans MS"/>
              </a:rPr>
              <a:t>Da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Comic Sans MS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28464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Blood work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measurement of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T3, FT4, TSH, Tg, Tg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341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ff"/>
                </a:solidFill>
                <a:latin typeface="Comic Sans MS"/>
              </a:rPr>
              <a:t>Da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ff"/>
                </a:solidFill>
                <a:latin typeface="Comic Sans MS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1341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Comic Sans MS"/>
              </a:rPr>
              <a:t>Da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ff"/>
                </a:solidFill>
                <a:latin typeface="Comic Sans MS"/>
              </a:rPr>
              <a:t>Fri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341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Comic Sans MS"/>
              </a:rPr>
              <a:t>Day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Comic Sans MS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341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99"/>
                </a:solidFill>
                <a:latin typeface="Comic Sans MS"/>
              </a:rPr>
              <a:t>Day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99"/>
                </a:solidFill>
                <a:latin typeface="Comic Sans MS"/>
              </a:rPr>
              <a:t>Sun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13413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3366"/>
                </a:solidFill>
                <a:latin typeface="Comic Sans MS"/>
              </a:rPr>
              <a:t>Day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3366"/>
                </a:solidFill>
                <a:latin typeface="Comic Sans MS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8900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Diagnostic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125360"/>
            <a:ext cx="8352000" cy="93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50133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rh-TSH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328464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Blood work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measurement o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dxW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08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cc00"/>
                </a:solidFill>
                <a:latin typeface="Comic Sans MS"/>
              </a:rPr>
              <a:t>5 mCi </a:t>
            </a:r>
            <a:r>
              <a:rPr b="0" i="1" lang="en-GB" sz="1800" spc="-1" strike="noStrike" baseline="30000">
                <a:solidFill>
                  <a:srgbClr val="00cc00"/>
                </a:solidFill>
                <a:latin typeface="Comic Sans MS"/>
              </a:rPr>
              <a:t>131</a:t>
            </a:r>
            <a:r>
              <a:rPr b="0" i="1" lang="en-GB" sz="1800" spc="-1" strike="noStrike">
                <a:solidFill>
                  <a:srgbClr val="00cc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0133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rh-TSH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321300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Blood work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measurement o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T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2133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213372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133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819520"/>
            <a:ext cx="8382240" cy="7596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941720"/>
            <a:ext cx="1224000" cy="79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941720"/>
            <a:ext cx="1224000" cy="79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437000"/>
            <a:ext cx="1944360" cy="1844640"/>
          </a:xfrm>
          <a:prstGeom prst="irregularSeal1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36000" y="4869000"/>
            <a:ext cx="1296720" cy="863640"/>
          </a:xfrm>
          <a:prstGeom prst="flowChartInputOutpu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159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47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linical Characteristics and TNM (VI^ ed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00000" y="1052640"/>
          <a:ext cx="7128000" cy="5184720"/>
        </p:xfrm>
        <a:graphic>
          <a:graphicData uri="http://schemas.openxmlformats.org/drawingml/2006/table">
            <a:tbl>
              <a:tblPr/>
              <a:tblGrid>
                <a:gridCol w="2967120"/>
                <a:gridCol w="2028960"/>
                <a:gridCol w="2131920"/>
              </a:tblGrid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2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66cc"/>
                          </a:solidFill>
                          <a:latin typeface="Comic Sans MS"/>
                          <a:ea typeface="Times New Roman"/>
                        </a:rPr>
                        <a:t>87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edian Age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7 (range 14-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otal thyroid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urgery on lymph-n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6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st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pil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ff99"/>
                          </a:solidFill>
                          <a:latin typeface="Comic Sans MS"/>
                          <a:ea typeface="Times New Roman"/>
                        </a:rPr>
                        <a:t>86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ll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Hurth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7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9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N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N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 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N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4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867280" y="6308640"/>
            <a:ext cx="280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atients usually ab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1557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66cc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99ff99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5010840" y="6014160"/>
            <a:ext cx="419040" cy="1008000"/>
          </a:xfrm>
          <a:custGeom>
            <a:avLst/>
            <a:gdLst>
              <a:gd name="textAreaLeft" fmla="*/ 139680 w 419040"/>
              <a:gd name="textAreaRight" fmla="*/ 358920 w 41904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3284640"/>
            <a:ext cx="3889440" cy="14486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tients wi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cc00"/>
                </a:solidFill>
                <a:latin typeface="Comic Sans MS"/>
              </a:rPr>
              <a:t>-Tg</a:t>
            </a:r>
            <a:r>
              <a:rPr b="0" lang="en-GB" sz="16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cc00"/>
                </a:solidFill>
                <a:latin typeface="Comic Sans MS"/>
              </a:rPr>
              <a:t>&lt;2 mcg/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cc00"/>
                </a:solidFill>
                <a:latin typeface="Comic Sans MS"/>
              </a:rPr>
              <a:t>-</a:t>
            </a:r>
            <a:r>
              <a:rPr b="0" lang="en-GB" sz="1600" spc="-1" strike="noStrike" baseline="30000">
                <a:solidFill>
                  <a:srgbClr val="00cc00"/>
                </a:solidFill>
                <a:latin typeface="Comic Sans MS"/>
              </a:rPr>
              <a:t>131</a:t>
            </a:r>
            <a:r>
              <a:rPr b="0" lang="en-GB" sz="1600" spc="-1" strike="noStrike">
                <a:solidFill>
                  <a:srgbClr val="00cc00"/>
                </a:solidFill>
                <a:latin typeface="Comic Sans MS"/>
              </a:rPr>
              <a:t>I WBS + only in the thyroid 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ere proposed to undergo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125360"/>
            <a:ext cx="3889440" cy="169200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tients with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cc"/>
                </a:solidFill>
                <a:latin typeface="Comic Sans MS"/>
              </a:rPr>
              <a:t>-Tg </a:t>
            </a:r>
            <a:r>
              <a:rPr b="0" lang="en-GB" sz="1600" spc="-1" strike="noStrike" u="sng">
                <a:solidFill>
                  <a:srgbClr val="ff33cc"/>
                </a:solidFill>
                <a:uFillTx/>
                <a:latin typeface="Comic Sans MS"/>
              </a:rPr>
              <a:t>&gt;</a:t>
            </a:r>
            <a:r>
              <a:rPr b="0" lang="en-GB" sz="1600" spc="-1" strike="noStrike">
                <a:solidFill>
                  <a:srgbClr val="ff33cc"/>
                </a:solidFill>
                <a:latin typeface="Comic Sans MS"/>
              </a:rPr>
              <a:t>2 mcg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cc"/>
                </a:solidFill>
                <a:latin typeface="Comic Sans MS"/>
              </a:rPr>
              <a:t>-</a:t>
            </a:r>
            <a:r>
              <a:rPr b="0" lang="en-GB" sz="1600" spc="-1" strike="noStrike" baseline="30000">
                <a:solidFill>
                  <a:srgbClr val="ff33cc"/>
                </a:solidFill>
                <a:latin typeface="Comic Sans MS"/>
              </a:rPr>
              <a:t>131</a:t>
            </a:r>
            <a:r>
              <a:rPr b="0" lang="en-GB" sz="1600" spc="-1" strike="noStrike">
                <a:solidFill>
                  <a:srgbClr val="ff33cc"/>
                </a:solidFill>
                <a:latin typeface="Comic Sans MS"/>
              </a:rPr>
              <a:t>I WBS + outside the thyroid 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ere proposed to undergo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1600" spc="-1" strike="noStrike" baseline="30000">
                <a:solidFill>
                  <a:srgbClr val="ffff00"/>
                </a:solidFill>
                <a:latin typeface="Comic Sans MS"/>
              </a:rPr>
              <a:t>131</a:t>
            </a: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I ablation or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373720"/>
            <a:ext cx="871380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In the entire series, 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I diagnostic WBS was positive out of the thyroid bed in </a:t>
            </a:r>
            <a:r>
              <a:rPr b="0" i="1" lang="en-GB" sz="1800" spc="-1" strike="noStrike">
                <a:solidFill>
                  <a:srgbClr val="ff33cc"/>
                </a:solidFill>
                <a:latin typeface="Comic Sans MS"/>
              </a:rPr>
              <a:t>15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patients. Of these, 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all but one had stimulated Tg </a:t>
            </a:r>
            <a:r>
              <a:rPr b="0" i="1" lang="en-GB" sz="1800" spc="-1" strike="noStrike" u="sng">
                <a:solidFill>
                  <a:srgbClr val="ffff00"/>
                </a:solidFill>
                <a:uFillTx/>
                <a:latin typeface="Comic Sans MS"/>
              </a:rPr>
              <a:t>&gt;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2 mcg/L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baseline="30000">
                <a:solidFill>
                  <a:srgbClr val="ffffff"/>
                </a:solidFill>
                <a:latin typeface="Comic Sans MS"/>
              </a:rPr>
              <a:t>131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I remnant ablation was proposed to </a:t>
            </a:r>
            <a:r>
              <a:rPr b="0" i="1" lang="en-GB" sz="1800" spc="-1" strike="noStrike">
                <a:solidFill>
                  <a:srgbClr val="ff33cc"/>
                </a:solidFill>
                <a:latin typeface="Comic Sans MS"/>
              </a:rPr>
              <a:t>53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out of 247 pts  (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21.4%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260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60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Th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140360" y="1268280"/>
          <a:ext cx="4824360" cy="3449880"/>
        </p:xfrm>
        <a:graphic>
          <a:graphicData uri="http://schemas.openxmlformats.org/drawingml/2006/table">
            <a:tbl>
              <a:tblPr/>
              <a:tblGrid>
                <a:gridCol w="1584000"/>
                <a:gridCol w="579600"/>
                <a:gridCol w="944640"/>
                <a:gridCol w="954000"/>
                <a:gridCol w="7621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47 pts (to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2 pts (Tg</a:t>
                      </a: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&gt;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95 (Tg&lt;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Basal 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Comic Sans MS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tim 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Comic Sans MS"/>
                        </a:rPr>
                        <a:t>13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dxW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teral n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diasti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360" y="3716280"/>
            <a:ext cx="287280" cy="36036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3860640"/>
            <a:ext cx="360360" cy="144720"/>
          </a:xfrm>
          <a:prstGeom prst="leftArrow">
            <a:avLst>
              <a:gd name="adj1" fmla="val 50000"/>
              <a:gd name="adj2" fmla="val 62251"/>
            </a:avLst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437000"/>
            <a:ext cx="360360" cy="144360"/>
          </a:xfrm>
          <a:prstGeom prst="leftArrow">
            <a:avLst>
              <a:gd name="adj1" fmla="val 50000"/>
              <a:gd name="adj2" fmla="val 62406"/>
            </a:avLst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32720" y="3860640"/>
            <a:ext cx="360360" cy="144720"/>
          </a:xfrm>
          <a:prstGeom prst="leftArrow">
            <a:avLst>
              <a:gd name="adj1" fmla="val 50000"/>
              <a:gd name="adj2" fmla="val 62251"/>
            </a:avLst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36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52 pts Tg </a:t>
            </a:r>
            <a:r>
              <a:rPr b="0" lang="en-US" sz="2000" spc="-1" strike="noStrike" u="sng">
                <a:solidFill>
                  <a:srgbClr val="ff33cc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 2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14 WBS + outside thyroid 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57200"/>
            <a:ext cx="4105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195 pts Tg &lt; 2 </a:t>
            </a:r>
            <a:r>
              <a:rPr b="0" lang="it-IT" sz="2000" spc="-1" strike="noStrike">
                <a:solidFill>
                  <a:srgbClr val="00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-1 WBS + outside thyroid bed (refused trea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1295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295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752480"/>
            <a:ext cx="388620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Proposed </a:t>
            </a:r>
            <a:r>
              <a:rPr b="0" i="1" lang="en-GB" sz="1800" spc="-1" strike="noStrike" baseline="30000">
                <a:solidFill>
                  <a:srgbClr val="ffff00"/>
                </a:solidFill>
                <a:latin typeface="Comic Sans MS"/>
              </a:rPr>
              <a:t>131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I ablation or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752480"/>
            <a:ext cx="434340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Proposed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5 No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2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47 </a:t>
            </a:r>
            <a:r>
              <a:rPr b="0" lang="en-US" sz="1800" spc="-1" strike="noStrike" baseline="30000">
                <a:solidFill>
                  <a:srgbClr val="ff33cc"/>
                </a:solidFill>
                <a:latin typeface="Comic Sans MS"/>
              </a:rPr>
              <a:t>131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20500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Comic Sans MS"/>
              </a:rPr>
              <a:t>182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omic Sans MS"/>
              </a:rPr>
              <a:t>1 WBS + outside thyroid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Comic Sans MS"/>
              </a:rPr>
              <a:t>13 </a:t>
            </a:r>
            <a:r>
              <a:rPr b="0" lang="en-US" sz="1800" spc="-1" strike="noStrike" baseline="30000">
                <a:solidFill>
                  <a:srgbClr val="00cc00"/>
                </a:solidFill>
                <a:latin typeface="Comic Sans MS"/>
              </a:rPr>
              <a:t>131</a:t>
            </a:r>
            <a:r>
              <a:rPr b="0" lang="en-US" sz="1800" spc="-1" strike="noStrike">
                <a:solidFill>
                  <a:srgbClr val="00cc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781360"/>
            <a:ext cx="19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2 refused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3 clinician’s decision due to comor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78136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41 after withdraw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6 after rh-T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2637000"/>
            <a:ext cx="18223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-4 due to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of Tg during F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-9 due to pts or clin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3716280"/>
            <a:ext cx="8839440" cy="703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Follow-u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g on suppression or stimulated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eck U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5084640"/>
            <a:ext cx="151128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82 FU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o ablation after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1 FU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2 FU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084640"/>
            <a:ext cx="28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37 FU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 died for another 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9 FU + Tg </a:t>
            </a:r>
            <a:r>
              <a:rPr b="0" lang="it-IT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other diagnostic and therapeutic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0133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5 FU – (Tg on suppress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6308640"/>
            <a:ext cx="3384360" cy="3682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3366ff"/>
                </a:solidFill>
                <a:latin typeface="Comic Sans MS"/>
              </a:rPr>
              <a:t>Our test failed in 5 pts (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0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50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4956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4956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765000"/>
            <a:ext cx="360360" cy="36036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2565360"/>
            <a:ext cx="360360" cy="36036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6237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FU (median 30 mths)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18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tients out of 195, with 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Tg test &lt; 2 mcg/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all and wit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dxWBS + only in thyroid b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all but one underwent follow-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989000"/>
          <a:ext cx="5545080" cy="3606840"/>
        </p:xfrm>
        <a:graphic>
          <a:graphicData uri="http://schemas.openxmlformats.org/drawingml/2006/table">
            <a:tbl>
              <a:tblPr/>
              <a:tblGrid>
                <a:gridCol w="797040"/>
                <a:gridCol w="1031760"/>
                <a:gridCol w="941400"/>
                <a:gridCol w="1486080"/>
                <a:gridCol w="128880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N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x (clinc N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36 (74.7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7 (9.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 (6.0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 (1.6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 (3.8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 (2.7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(1.6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3 (34.6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 (1.6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64.2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6610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* Usually not ablated if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Ø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T &lt; 1-1.5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781360"/>
            <a:ext cx="3132360" cy="2288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138 patient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with a medium or high risk for T, N and multifocality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ha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rmally undergo </a:t>
            </a:r>
            <a:r>
              <a:rPr b="0" lang="it-IT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131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 ablation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1:44:32Z</dcterms:created>
  <dc:creator>Federica</dc:creator>
  <dc:description/>
  <dc:language>en-US</dc:language>
  <cp:lastModifiedBy>TC</cp:lastModifiedBy>
  <dcterms:modified xsi:type="dcterms:W3CDTF">2007-11-11T08:23:17Z</dcterms:modified>
  <cp:revision>140</cp:revision>
  <dc:subject/>
  <dc:title>PRESENTAZIONE </dc:title>
</cp:coreProperties>
</file>