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98827-1B0E-4194-AD26-AD3B103F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E49B5-9B11-4150-9B39-1B7E255D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B61-2A45-426F-8C01-029A0B50A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B512C-9104-481C-97E5-65109E37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C40E-966C-45F2-9E93-728330601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AA4E-D0AA-474F-9A35-43D94D402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04C26-43BE-4A9D-8F2A-C42D6972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73B76-60F7-4E92-86A4-FAD0E3B23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10EC-7647-4BDE-B6FF-FEFD5BE0B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5D75-FF2B-4A19-8CA6-9F632674E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9F1C9-11EB-4DE9-9CEC-B57C93067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4148-E7F4-4EE1-B006-508CAC7B6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5C649-C51C-4611-B4AA-AC11FA3723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475920"/>
            <a:ext cx="793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00"/>
                </a:solidFill>
                <a:latin typeface="Arial"/>
              </a:rPr>
              <a:t>Integrated PET/CT imaging for 3D-CRT treatment planning in lung cancer: a report of 84 cases .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. Giorgetti et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1200" y="1958760"/>
            <a:ext cx="821844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Good numb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Confirmation of PET role for correct staging and probably better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All stage III patients? (if not, because N0 @ PET: non-surgical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Do you think that we still need ENI even in very well staged pati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3300"/>
                </a:solidFill>
                <a:latin typeface="Arial"/>
              </a:rPr>
              <a:t>FDG-PET/CT imaging for 3D-CRT planning in NSCLC: report of 52 cases and analysis of follow-up.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F. Mascioni et 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2071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Postoperative cases (7 pts) were PET positive in mediastinum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In patients who did sequential CT-RT did you take into account pre-CT or post-CT PET imaging for contouring? Any chang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3/45 patients N+ failed in mediastinal nodes: is it secondary to the false-negative rate of FDG-PET in detecting lymph node involvemen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4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3300"/>
                </a:solidFill>
                <a:latin typeface="Arial"/>
              </a:rPr>
              <a:t>Co-registered integrated 18FDG PET and CT images for target delineation in radiotherapy for non small cell lung cancer: what can we learn from each other mismatch?</a:t>
            </a: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 M. Massaccesi et 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6840" y="2574720"/>
            <a:ext cx="8218440" cy="34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The study compared only lung GTVs or was extended to nodal GTV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333399"/>
                </a:solidFill>
                <a:latin typeface="Arial"/>
              </a:rPr>
              <a:t>If extended: a 25% of maximum intensity level as thresold seems to be the best solution, is this valid for lung and lymph nodes or there is a differenc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8T16:28:13Z</dcterms:created>
  <dc:creator> </dc:creator>
  <dc:description/>
  <dc:language>en-US</dc:language>
  <cp:lastModifiedBy>TC</cp:lastModifiedBy>
  <dcterms:modified xsi:type="dcterms:W3CDTF">2007-11-10T09:52:49Z</dcterms:modified>
  <cp:revision>6</cp:revision>
  <dc:subject/>
  <dc:title>Diapositiva 1</dc:title>
</cp:coreProperties>
</file>