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24.jpeg" ContentType="image/jpe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6CA5-F7B4-4071-9411-A9EE52A1B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4465-E9D4-444C-B452-77950659B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82ED5-6D62-42B7-97E0-473B3363D40B}" type="slidenum"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footer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header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date/time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8403-8431-42E8-AF85-02DAB8079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5111E-BBDD-4867-8E3C-6D346FB0907F}" type="slidenum"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footer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header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date/time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51CB-FDCC-461F-8F4D-970FE74D4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new technologies have the potential to improve outcomes in any of three following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local control, by allowing ,or more accurately directed, or more homogeneous dose of radiation to be delivered to the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normal tissue complications, by reducing the dose received by nearby critical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er treatment delivery times compared with traditional treatment delivery techniques, thus potentially increasing the rate and numbers of patients t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DF2D-B327-4B62-807A-E6024D89F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1A45-B7A4-4E0F-BC11-413B4801B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CD8E7-B570-496B-94A3-0A4B756FE6A7}" type="slidenum"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footer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header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date/time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B6A7-C3EF-4D08-926D-9E8C46C14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FD50C-CB95-4F71-8A81-0F0CE73E395A}" type="slidenum"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footer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header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date/time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B3CD-F066-453B-B274-E226127E7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7FA1-CCFB-457C-8D73-F5CC72E52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4D10-50DE-4A83-B7C0-6B83A6272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854C-EB0A-4488-9D62-F757F11C5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new technologies have the potential to improve outcomes in any of three following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local control, by allowing ,or more accurately directed, or more homogeneous dose of radiation to be delivered to the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normal tissue complications, by reducing the dose received by nearby critical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er treatment delivery times compared with traditional treatment delivery techniques, thus potentially increasing the rate and numbers of patients t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8F1C-19BA-458D-8C60-AD1A64209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27830-AC1E-4ABE-B72B-EDEE625D5780}" type="slidenum"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footer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header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Times New Roman"/>
                <a:ea typeface="MS Gothic"/>
              </a:rPr>
              <a:t>&lt;date/time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85A2-8497-4ADB-90A6-C196442A5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09A8-0203-4FD5-AB6D-C7F4E1C1A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30400" y="703440"/>
            <a:ext cx="4587840" cy="3439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23400" y="4354200"/>
            <a:ext cx="50007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DFF4-721E-4401-9CE6-5A07B943D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C6A-6528-4404-B4CA-25000A12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39D-A841-48E3-A7E9-CE87D078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907-FB06-41A2-8993-05951667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10A-D731-43F7-A66B-A89B09FB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3C0-BDD3-4EE7-B8C7-43DDD879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420-E05C-48E1-927D-E7163392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07B-4C0E-41CA-8D65-67A3CFBB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9884-B1D8-45D6-A224-BA30EAFC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75C6-7C8E-4406-86FB-52DAFECA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993-C149-4B0F-BBD7-312723D3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A57-B50F-4C24-B623-FAA90012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34B-69E2-4A02-9291-5B08AFB4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94F1-EFE5-4040-9E02-DF0E7E93FF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5257800"/>
            <a:ext cx="1676520" cy="1589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4191120"/>
            <a:ext cx="335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ovanni Ivald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184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65040"/>
            <a:ext cx="868680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ff33"/>
                </a:solidFill>
                <a:latin typeface="Comic Sans MS"/>
              </a:rPr>
              <a:t>Prophylactic nodal irradiation in early breast canc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ff33"/>
                </a:solidFill>
                <a:latin typeface="Comic Sans MS"/>
              </a:rPr>
              <a:t>Cons 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90920" y="2666880"/>
            <a:ext cx="4038480" cy="1408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918480" y="502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7548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18720" y="6500880"/>
            <a:ext cx="3024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irenze, 10-13 NOVEMB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ff33"/>
                </a:solidFill>
                <a:latin typeface="Comic Sans MS"/>
              </a:rPr>
              <a:t>RT after Mastectomy </a:t>
            </a:r>
            <a:br>
              <a:rPr sz="4000"/>
            </a:br>
            <a:br>
              <a:rPr sz="4000"/>
            </a:br>
            <a:r>
              <a:rPr b="1" lang="it-IT" sz="3600" spc="-1" strike="noStrike" u="sng">
                <a:solidFill>
                  <a:srgbClr val="ffffff"/>
                </a:solidFill>
                <a:uFillTx/>
                <a:latin typeface="Comic Sans MS"/>
              </a:rPr>
              <a:t>Negative</a:t>
            </a:r>
            <a:r>
              <a:rPr b="1" lang="it-IT" sz="3600" spc="-1" strike="noStrike">
                <a:solidFill>
                  <a:srgbClr val="ffffff"/>
                </a:solidFill>
                <a:latin typeface="Comic Sans MS"/>
              </a:rPr>
              <a:t> randomized t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84880" y="1752480"/>
            <a:ext cx="31096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" rIns="28800" tIns="14400" bIns="14400" anchor="t">
            <a:norm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95440" y="1752480"/>
            <a:ext cx="2989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" rIns="28800" tIns="14400" bIns="14400" anchor="t">
            <a:norm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0720" y="1752480"/>
            <a:ext cx="1674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" rIns="28800" tIns="14400" bIns="14400" anchor="t">
            <a:norm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6072120"/>
            <a:ext cx="167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-15120" bIns="-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17524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494560" y="17524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95440" y="1752480"/>
            <a:ext cx="2989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-15120" bIns="-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0720" y="1752480"/>
            <a:ext cx="167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-15120" bIns="-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84880" y="1752480"/>
            <a:ext cx="310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-15120" bIns="-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0720" y="254628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494560" y="254628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0720" y="3133800"/>
            <a:ext cx="0" cy="588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4560" y="3133800"/>
            <a:ext cx="0" cy="588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0720" y="3722760"/>
            <a:ext cx="0" cy="58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94560" y="3722760"/>
            <a:ext cx="0" cy="58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0720" y="4308480"/>
            <a:ext cx="0" cy="588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494560" y="4308480"/>
            <a:ext cx="0" cy="588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0720" y="4897440"/>
            <a:ext cx="0" cy="58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494560" y="4897440"/>
            <a:ext cx="0" cy="58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0720" y="5483160"/>
            <a:ext cx="0" cy="588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94560" y="5483160"/>
            <a:ext cx="0" cy="588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95440" y="6072120"/>
            <a:ext cx="1435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-15120" bIns="-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30760" y="6072120"/>
            <a:ext cx="1554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-15120" bIns="-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84880" y="6072120"/>
            <a:ext cx="1555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-15120" bIns="-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40440" y="6072120"/>
            <a:ext cx="1554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-15120" bIns="-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09480" y="2571840"/>
            <a:ext cx="7773840" cy="3875040"/>
            <a:chOff x="609480" y="2571840"/>
            <a:chExt cx="7773840" cy="3875040"/>
          </a:xfrm>
        </p:grpSpPr>
        <p:sp>
          <p:nvSpPr>
            <p:cNvPr id="220" name=""/>
            <p:cNvSpPr/>
            <p:nvPr/>
          </p:nvSpPr>
          <p:spPr>
            <a:xfrm>
              <a:off x="6829200" y="5483160"/>
              <a:ext cx="1554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73640" y="5483160"/>
              <a:ext cx="15555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19520" y="5483160"/>
              <a:ext cx="1554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4200" y="5483160"/>
              <a:ext cx="14353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480" y="5483160"/>
              <a:ext cx="16747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29200" y="4897440"/>
              <a:ext cx="15541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81/80%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73640" y="4897440"/>
              <a:ext cx="15555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4/18%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9520" y="4897440"/>
              <a:ext cx="15541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Comic Sans MS"/>
                </a:rPr>
                <a:t>RT/CFP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84200" y="4897440"/>
              <a:ext cx="14353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Comic Sans MS"/>
                </a:rPr>
                <a:t>212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480" y="4897440"/>
              <a:ext cx="16747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29200" y="4308480"/>
              <a:ext cx="1554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65/69%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73640" y="4308480"/>
              <a:ext cx="15555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7/24%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19520" y="4308480"/>
              <a:ext cx="1554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Comic Sans MS"/>
                </a:rPr>
                <a:t>RT/CAF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84200" y="4308480"/>
              <a:ext cx="14353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Comic Sans MS"/>
                </a:rPr>
                <a:t>99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9480" y="4308480"/>
              <a:ext cx="16747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29200" y="3722760"/>
              <a:ext cx="15541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53/53%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73640" y="3722760"/>
              <a:ext cx="15555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13/25%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19520" y="3722760"/>
              <a:ext cx="15541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Comic Sans MS"/>
                </a:rPr>
                <a:t>RT /CMF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4200" y="3722760"/>
              <a:ext cx="14353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Comic Sans MS"/>
                </a:rPr>
                <a:t>159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9480" y="3722760"/>
              <a:ext cx="16747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it-IT" sz="2100" spc="-1" strike="noStrike">
                  <a:solidFill>
                    <a:srgbClr val="ffffff"/>
                  </a:solidFill>
                  <a:latin typeface="Comic Sans MS"/>
                </a:rPr>
                <a:t>Piedmont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29200" y="3133800"/>
              <a:ext cx="1554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3640" y="3133800"/>
              <a:ext cx="15555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19520" y="3133800"/>
              <a:ext cx="1554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84200" y="3133800"/>
              <a:ext cx="14353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29200" y="2571840"/>
              <a:ext cx="1554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 fontScale="79000"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it-IT" sz="2100" spc="-1" strike="noStrike">
                  <a:solidFill>
                    <a:srgbClr val="ffffff"/>
                  </a:solidFill>
                  <a:latin typeface="Comic Sans MS"/>
                </a:rPr>
                <a:t>S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it-IT" sz="21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i="1" lang="it-IT" sz="2100" spc="-1" strike="noStrike">
                  <a:solidFill>
                    <a:srgbClr val="ffffff"/>
                  </a:solidFill>
                  <a:latin typeface="Comic Sans MS"/>
                </a:rPr>
                <a:t>RT/noRT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73640" y="2647800"/>
              <a:ext cx="15555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it-IT" sz="2100" spc="-1" strike="noStrike">
                  <a:solidFill>
                    <a:srgbClr val="ffffff"/>
                  </a:solidFill>
                  <a:latin typeface="Comic Sans MS"/>
                </a:rPr>
                <a:t>LR RT/noRT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19520" y="2917800"/>
              <a:ext cx="15541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it-IT" sz="2100" spc="-1" strike="noStrike">
                  <a:solidFill>
                    <a:srgbClr val="ffffff"/>
                  </a:solidFill>
                  <a:latin typeface="Comic Sans MS"/>
                </a:rPr>
                <a:t>Random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4200" y="2647800"/>
              <a:ext cx="14353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it-IT" sz="2100" spc="-1" strike="noStrike">
                  <a:solidFill>
                    <a:srgbClr val="ffffff"/>
                  </a:solidFill>
                  <a:latin typeface="Comic Sans MS"/>
                </a:rPr>
                <a:t>N. patients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03360" y="3429000"/>
              <a:ext cx="57913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4640" y="4849920"/>
              <a:ext cx="16149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i="1" lang="it-IT" sz="2100" spc="-1" strike="noStrike">
                  <a:solidFill>
                    <a:srgbClr val="ffffff"/>
                  </a:solidFill>
                  <a:latin typeface="Comic Sans MS"/>
                </a:rPr>
                <a:t>Mayo Clinic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87640" y="5440320"/>
              <a:ext cx="13114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Comic Sans MS"/>
                </a:rPr>
                <a:t>RT/CMF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32040" y="5440320"/>
              <a:ext cx="6044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Comic Sans MS"/>
                </a:rPr>
                <a:t>206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400" y="5440320"/>
              <a:ext cx="9734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7/17%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34040" y="5452920"/>
              <a:ext cx="124452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66/72%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85240" y="4273560"/>
              <a:ext cx="117612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Comic Sans MS"/>
                </a:rPr>
                <a:t>Helsinki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2720" y="5440320"/>
              <a:ext cx="1726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i="1" lang="it-IT" sz="2100" spc="-1" strike="noStrike">
                  <a:solidFill>
                    <a:srgbClr val="ffffff"/>
                  </a:solidFill>
                  <a:latin typeface="Comic Sans MS"/>
                </a:rPr>
                <a:t>Dana Farber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58760" y="6043680"/>
              <a:ext cx="7995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Comic Sans MS"/>
                </a:rPr>
                <a:t>SSBG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05040" y="6043680"/>
              <a:ext cx="6044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Comic Sans MS"/>
                </a:rPr>
                <a:t>770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77320" y="6043680"/>
              <a:ext cx="17888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Comic Sans MS"/>
                </a:rPr>
                <a:t>RT/CMF/TAM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6400" y="5970600"/>
              <a:ext cx="9734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6/18%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68240" y="5970600"/>
              <a:ext cx="112572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66/65%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6560" y="151920"/>
            <a:ext cx="878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ff33"/>
                </a:solidFill>
                <a:latin typeface="Comic Sans MS"/>
              </a:rPr>
              <a:t>Clinical Study. Critic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ffff"/>
                </a:solidFill>
                <a:uFillTx/>
                <a:latin typeface="Comic Sans MS"/>
              </a:rPr>
              <a:t>Difficult to compare LRR rate in different stud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Adequacy of axillary clearence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- number of N removed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- number of N+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- % of N+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878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ff33"/>
                </a:solidFill>
                <a:latin typeface="Comic Sans MS"/>
              </a:rPr>
              <a:t>Axillary clea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560" y="1179360"/>
            <a:ext cx="838188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7600" y="1508040"/>
            <a:ext cx="8882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anish Breast Cancer Cooperative Group 82b Trial. N Engl J Me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997;337:949–55. (prem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Median nodes studied: 7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anish Breast Cancer Cooperative Group DBCG 82c randomised trial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ancet 1999;353:1641–8. (post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Median nodes studied: 7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agaz J: 20-year results of the British Columbia randomized trial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J Natl Cancer Inst 2005;97:116–26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Median nodes studied: 11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Gentilini O.: Lesson from a single institution (EIO)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nn Oncol 18: 1342-1347, 2007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Median nodes studied: 23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6560" y="151920"/>
            <a:ext cx="878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ff33"/>
                </a:solidFill>
                <a:latin typeface="Comic Sans MS"/>
              </a:rPr>
              <a:t>Clinical Study. Critic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11280"/>
            <a:ext cx="838188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Difficult to compare LRR rate in different stud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Poor or no-selection based on prognostic predictive factors in use today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- +/- angiolinphatic invas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- Er, Pgr receptor stat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Different LRF definition (eg SC is DF ?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6560" y="-76680"/>
            <a:ext cx="878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ff33"/>
                </a:solidFill>
                <a:latin typeface="Comic Sans MS"/>
              </a:rPr>
              <a:t>Clinical Study. Critic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Difficult to compare LRR rate in different stud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Suboptimal systemic therap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- no chemotherapy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- CMF low dose intens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- no antracycline, taxane, trastuzumab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uboptimal RT technique and different volumes trea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axilla+/-supraclav+/-thoracic wall+/-IMC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Higher local control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Higher local control is always equal to better overall survival 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General consensus: postoperative RT is justified by a </a:t>
            </a:r>
            <a:r>
              <a:rPr b="1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&gt;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20% 10 yrs loco-regional recurrence rat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i="1" lang="it-IT" sz="1400" spc="-1" strike="noStrike">
                <a:solidFill>
                  <a:srgbClr val="ffff00"/>
                </a:solidFill>
                <a:latin typeface="Comic Sans MS"/>
              </a:rPr>
              <a:t>(St Gallen 2006, H. Bartelink, The Breast 12, 2003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00" y="158760"/>
            <a:ext cx="790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ff33"/>
                </a:solidFill>
                <a:latin typeface="Comic Sans MS"/>
              </a:rPr>
              <a:t>Prophylactic nodal irradiation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ff33"/>
                </a:solidFill>
                <a:latin typeface="Comic Sans MS"/>
              </a:rPr>
              <a:t>in early breast canc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DBCG 82 b&amp;c” randomized trials</a:t>
            </a:r>
            <a:r>
              <a:rPr b="1" lang="it-IT" sz="3200" spc="-1" strike="noStrike">
                <a:solidFill>
                  <a:srgbClr val="00ff00"/>
                </a:solidFill>
                <a:latin typeface="Comic Sans MS"/>
              </a:rPr>
              <a:t> vs “EIO”</a:t>
            </a:r>
            <a:br>
              <a:rPr sz="3200"/>
            </a:b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1–3 N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394240" y="1676520"/>
            <a:ext cx="34448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3809880" cy="37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588240" y="205740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Unicode MS"/>
              </a:rPr>
              <a:t>DBCG 82 b&amp;c randomized trial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75480" y="1182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40520" y="990720"/>
            <a:ext cx="376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Unicode MS"/>
              </a:rPr>
              <a:t>IEO 650 stage I-III post mas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 Unicode MS"/>
              </a:rPr>
              <a:t>no R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167652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r+ and/or Pgr+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6960" y="434340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r- and Pgr-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361960" y="4495680"/>
            <a:ext cx="60948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8153280" y="2819520"/>
            <a:ext cx="457200" cy="3045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8001000" y="5562720"/>
            <a:ext cx="457200" cy="3045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63200" y="39258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 yrs 20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25640" y="51055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 yrs 10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38880" y="228600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 yrs 7.6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27760" y="662292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Comic Sans MS"/>
              </a:rPr>
              <a:t>(EIO).Gentilini O.:Ann Oncol 18: 1342-1347, 200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DBCG 82 b&amp;c” randomized trials</a:t>
            </a:r>
            <a:r>
              <a:rPr b="1" lang="it-IT" sz="3200" spc="-1" strike="noStrike">
                <a:solidFill>
                  <a:srgbClr val="00ff00"/>
                </a:solidFill>
                <a:latin typeface="Comic Sans MS"/>
              </a:rPr>
              <a:t> vs “IEO”</a:t>
            </a:r>
            <a:br>
              <a:rPr sz="3200"/>
            </a:br>
            <a:r>
              <a:rPr b="1" lang="it-IT" sz="32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 4 N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6920" y="210816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Unicode MS"/>
              </a:rPr>
              <a:t>DBCG 82 b&amp;c randomized trial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09480" y="2541600"/>
            <a:ext cx="4114800" cy="370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394240" y="1676520"/>
            <a:ext cx="34448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7010280" y="165276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r+ and/or Pgr+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01880" y="42814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r- and Pgr-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8077320" y="5181480"/>
            <a:ext cx="457200" cy="3049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077320" y="2743200"/>
            <a:ext cx="457200" cy="3049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438280" y="4114800"/>
            <a:ext cx="457200" cy="3049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16840" y="990720"/>
            <a:ext cx="376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Unicode MS"/>
              </a:rPr>
              <a:t>IEO 650 stage I-III post mas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 Unicode MS"/>
              </a:rPr>
              <a:t>no R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58560" y="36576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 yrs 40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40680" y="22860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 yrs 7.6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17720" y="45720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 yrs 20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1440" y="66229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Comic Sans MS"/>
              </a:rPr>
              <a:t>(EIO).Gentilini O.:Ann Oncol 18: 1342-1347, 200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76320" y="152280"/>
            <a:ext cx="9296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66ff33"/>
                </a:solidFill>
                <a:latin typeface="Comic Sans MS"/>
                <a:ea typeface="Arial"/>
              </a:rPr>
              <a:t>Complications of locoregional  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320" y="1235160"/>
            <a:ext cx="944856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ib fracture (3%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Pierce SM Int J Rad Onc Biol Phys 1992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ermanent brachial plexopathy (1%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Higher with supraclav field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Pierce SM Int J Rad Onc Biol Phys 1992); 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Olsen NK Int J Rad Onc Biol Phys 1993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m edema (7% with AC – 38% with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C+R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Kissin MW Br J Surg 1986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nemonitis (5% increasing with increas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dal region irradiated and concurrent C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(Marks LB, Int J Rad Onc Biol Phys 2000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6320" y="1549440"/>
            <a:ext cx="906768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rdiovascular disease: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ischemic heart disease by V of hear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d association with antracyclin an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rastuzumab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cond malignacies: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in-field sarcom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lung cancer (RR 2-3 in pts &gt; 10 yrs surv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leukemia (RR 0.8-3.7)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contralateral breast cancer by age of RT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RR  1-1.6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66ff33"/>
                </a:solidFill>
                <a:latin typeface="Comic Sans MS"/>
                <a:ea typeface="Arial"/>
              </a:rPr>
              <a:t>Complications of locoregional 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488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28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ROLE OF RADIOTHERAPY 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IN EARLY BREAST CANC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733920" y="25146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514600"/>
            <a:ext cx="2971800" cy="5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868400"/>
            <a:ext cx="8458200" cy="50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Post-mastectom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Post-Breast Conserving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Treat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12444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21200" cy="23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488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272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ff33"/>
                </a:solidFill>
                <a:latin typeface="Comic Sans MS"/>
              </a:rPr>
              <a:t>EFFECT ON LONG TERM SURVIVAL OF RADIOTHERAPY FOR EARLY BREAST CANC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ff33"/>
                </a:solidFill>
                <a:latin typeface="Comic Sans MS"/>
              </a:rPr>
              <a:t>EBCTCG Meta-analysis of 20 yrs outcome of 20,000 in 40 trial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733920" y="25146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514600"/>
            <a:ext cx="2971800" cy="5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2362320"/>
            <a:ext cx="9144000" cy="540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2/3 (68.4%) reduction in local recurre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mic Sans MS"/>
              </a:rPr>
              <a:t>(2p&lt;0.0001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8.9% reduction in breast cancer death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mic Sans MS"/>
              </a:rPr>
              <a:t>(2p=0.0001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it-IT" sz="2800" spc="-1" strike="noStrike" u="sng">
                <a:solidFill>
                  <a:srgbClr val="ffff00"/>
                </a:solidFill>
                <a:uFillTx/>
                <a:latin typeface="Comic Sans MS"/>
              </a:rPr>
              <a:t>18.2% increase in non breast cancer death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ffff00"/>
                </a:solidFill>
                <a:uFillTx/>
                <a:latin typeface="Comic Sans MS"/>
              </a:rPr>
              <a:t>(2p=0.0003</a:t>
            </a:r>
            <a:r>
              <a:rPr b="0" lang="it-IT" sz="2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Overall 3.6% reduction in deaths from any cau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mic Sans MS"/>
              </a:rPr>
              <a:t>                                             </a:t>
            </a:r>
            <a:r>
              <a:rPr b="0" lang="it-IT" sz="2600" spc="-1" strike="noStrike">
                <a:solidFill>
                  <a:srgbClr val="ffffff"/>
                </a:solidFill>
                <a:latin typeface="Comic Sans MS"/>
              </a:rPr>
              <a:t>(2p=0.06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                                       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29200" y="6600960"/>
            <a:ext cx="411480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00"/>
                </a:solidFill>
                <a:latin typeface="Comic Sans MS"/>
              </a:rPr>
              <a:t>EBCTCG Lancet May 20, 200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0" t="2528" r="9285" b="0"/>
          <a:stretch/>
        </p:blipFill>
        <p:spPr>
          <a:xfrm>
            <a:off x="1873080" y="380880"/>
            <a:ext cx="5213520" cy="146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583240" y="2421000"/>
            <a:ext cx="3024360" cy="41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1981080" y="1844640"/>
            <a:ext cx="47516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 Unicode MS"/>
                <a:ea typeface="MS Gothic"/>
              </a:rPr>
              <a:t>Lancet May 2000, vol 355: 1757-7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304920" y="2743200"/>
            <a:ext cx="4481280" cy="352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457200" y="1981080"/>
          <a:ext cx="8381880" cy="3581640"/>
        </p:xfrm>
        <a:graphic>
          <a:graphicData uri="http://schemas.openxmlformats.org/drawingml/2006/table">
            <a:tbl>
              <a:tblPr/>
              <a:tblGrid>
                <a:gridCol w="4952880"/>
                <a:gridCol w="1567080"/>
                <a:gridCol w="1861920"/>
              </a:tblGrid>
              <a:tr h="60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T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T and RT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n Breast cancer death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8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5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rm edem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5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rm edema requiring intervention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7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terstitial pneumoniti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ardiac event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1740b3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1740b3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8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1740b3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1753560" y="6095880"/>
            <a:ext cx="71467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i="1" lang="en-GB" sz="1600" spc="-1" strike="noStrike">
                <a:solidFill>
                  <a:srgbClr val="ffff00"/>
                </a:solidFill>
                <a:latin typeface="Tahoma"/>
              </a:rPr>
              <a:t>Ragaz J et al, British Columbia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i="1" lang="en-GB" sz="1600" spc="-1" strike="noStrike">
                <a:solidFill>
                  <a:srgbClr val="ffff00"/>
                </a:solidFill>
                <a:latin typeface="Tahoma"/>
              </a:rPr>
              <a:t>Journal of the National Cancer Institute</a:t>
            </a:r>
            <a:r>
              <a:rPr b="1" lang="en-GB" sz="1600" spc="-1" strike="noStrike">
                <a:solidFill>
                  <a:srgbClr val="ffff00"/>
                </a:solidFill>
                <a:latin typeface="Tahoma"/>
              </a:rPr>
              <a:t>, Vol. 97, No. 2, January 19, 2005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471600"/>
            <a:ext cx="830592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Non breast cancer death and other toxicit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High Risk Premenopausal Post Mastectomy </a:t>
            </a:r>
            <a:r>
              <a:rPr b="1" lang="en-GB" sz="20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 CT vs Locoreg R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66ff33"/>
                </a:solidFill>
                <a:latin typeface="Comic Sans MS"/>
              </a:rPr>
              <a:t>British Columbia trial 318 pati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33"/>
                </a:solidFill>
                <a:latin typeface="Comic Sans MS"/>
                <a:ea typeface="Arial"/>
              </a:rPr>
              <a:t>Effect of RT on contralateral breast cancer incidence and  non-breast-cancer mortality </a:t>
            </a:r>
            <a:br>
              <a:rPr sz="2800"/>
            </a:br>
            <a:r>
              <a:rPr b="0" lang="en-GB" sz="2800" spc="-1" strike="noStrike">
                <a:solidFill>
                  <a:srgbClr val="66ff33"/>
                </a:solidFill>
                <a:latin typeface="Comic Sans MS"/>
                <a:ea typeface="Arial"/>
              </a:rPr>
              <a:t>15-year out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4835520"/>
            <a:ext cx="868680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65530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MS Gothic"/>
              </a:rPr>
              <a:t>EBCTCG, </a:t>
            </a:r>
            <a:r>
              <a:rPr b="1" i="1" lang="en-GB" sz="1400" spc="-1" strike="noStrike">
                <a:solidFill>
                  <a:srgbClr val="ffff00"/>
                </a:solidFill>
                <a:latin typeface="Arial Unicode MS"/>
                <a:ea typeface="MS Gothic"/>
              </a:rPr>
              <a:t>Lancet 2005;366:2087-2106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6104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-15228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  <a:ea typeface="Arial"/>
              </a:rPr>
              <a:t>Incidence of second cancers and mortality from causes other than breast cancer-Effect of 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1581" t="1192" r="0" b="0"/>
          <a:stretch/>
        </p:blipFill>
        <p:spPr>
          <a:xfrm>
            <a:off x="109440" y="831960"/>
            <a:ext cx="8999640" cy="57974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324480" y="662940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Gothic"/>
              </a:rPr>
              <a:t>EBCTCG, </a:t>
            </a:r>
            <a:r>
              <a:rPr b="1" i="1" lang="en-GB" sz="1200" spc="-1" strike="noStrike">
                <a:solidFill>
                  <a:srgbClr val="ffff00"/>
                </a:solidFill>
                <a:latin typeface="Arial"/>
                <a:ea typeface="MS Gothic"/>
              </a:rPr>
              <a:t>Lancet 2005;366:2087-2106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76320" y="1371600"/>
            <a:ext cx="9067680" cy="243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76320" y="2700360"/>
            <a:ext cx="9069120" cy="195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76320" y="3962520"/>
            <a:ext cx="9069120" cy="196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76320" y="4191120"/>
            <a:ext cx="9069120" cy="199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76320" y="6416640"/>
            <a:ext cx="9069120" cy="212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30" name="" descr=""/>
          <p:cNvPicPr/>
          <p:nvPr/>
        </p:nvPicPr>
        <p:blipFill>
          <a:blip r:embed="rId7"/>
          <a:stretch/>
        </p:blipFill>
        <p:spPr>
          <a:xfrm>
            <a:off x="76320" y="4648320"/>
            <a:ext cx="9072360" cy="214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-169920" y="239760"/>
            <a:ext cx="935064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33"/>
                </a:solidFill>
                <a:latin typeface="Book Antiqua"/>
              </a:rPr>
              <a:t>“</a:t>
            </a:r>
            <a:r>
              <a:rPr b="1" lang="it-IT" sz="2400" spc="-1" strike="noStrike">
                <a:solidFill>
                  <a:srgbClr val="66ff33"/>
                </a:solidFill>
                <a:latin typeface="Book Antiqua"/>
              </a:rPr>
              <a:t>Post Mastectomy Radiotherapy Clinical Practice Guideline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33"/>
                </a:solidFill>
                <a:latin typeface="Book Antiqua"/>
              </a:rPr>
              <a:t>of the  American Society  of Clinical Oncology”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33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66ff33"/>
                </a:solidFill>
                <a:latin typeface="Book Antiqua"/>
              </a:rPr>
              <a:t>(ASCO Board of Directors, November 2000 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Book Antiqua"/>
              </a:rPr>
              <a:t>1 – 3 N+ axillar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2222640"/>
            <a:ext cx="883908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Patients with 1 – 3 N+ axillary: PMRT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it-IT" sz="2800" spc="-1" strike="noStrike">
                <a:solidFill>
                  <a:srgbClr val="fe9b03"/>
                </a:solidFill>
                <a:latin typeface="Book Antiqua"/>
              </a:rPr>
              <a:t>	</a:t>
            </a:r>
            <a:r>
              <a:rPr b="1" lang="it-IT" sz="2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it-IT" sz="2800" spc="-1" strike="noStrike" u="sng">
                <a:solidFill>
                  <a:srgbClr val="ffff00"/>
                </a:solidFill>
                <a:uFillTx/>
                <a:latin typeface="Book Antiqua"/>
              </a:rPr>
              <a:t>insufficient evidence</a:t>
            </a:r>
            <a:r>
              <a:rPr b="1" lang="it-IT" sz="2800" spc="-1" strike="noStrike">
                <a:solidFill>
                  <a:srgbClr val="ffff00"/>
                </a:solidFill>
                <a:latin typeface="Book Antiqua"/>
              </a:rPr>
              <a:t> of a benefi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e9b03"/>
                </a:solidFill>
                <a:latin typeface="Book Antiqua"/>
              </a:rPr>
              <a:t>  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e9b03"/>
                </a:solidFill>
                <a:latin typeface="Book Antiqua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supraclavicular RT for 1 – 3 N+ axillary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it-IT" sz="2800" spc="-1" strike="noStrike">
                <a:solidFill>
                  <a:srgbClr val="fe9b03"/>
                </a:solidFill>
                <a:latin typeface="Book Antiqua"/>
              </a:rPr>
              <a:t>	</a:t>
            </a:r>
            <a:r>
              <a:rPr b="1" lang="it-IT" sz="2800" spc="-1" strike="noStrike">
                <a:solidFill>
                  <a:srgbClr val="fe9b03"/>
                </a:solidFill>
                <a:latin typeface="Book Antiqua"/>
              </a:rPr>
              <a:t> </a:t>
            </a:r>
            <a:r>
              <a:rPr b="1" lang="it-IT" sz="2800" spc="-1" strike="noStrike" u="sng">
                <a:solidFill>
                  <a:srgbClr val="ffff00"/>
                </a:solidFill>
                <a:uFillTx/>
                <a:latin typeface="Book Antiqua"/>
              </a:rPr>
              <a:t>insufficient evidence</a:t>
            </a:r>
            <a:r>
              <a:rPr b="1" lang="it-IT" sz="2800" spc="-1" strike="noStrike">
                <a:solidFill>
                  <a:srgbClr val="ffff00"/>
                </a:solidFill>
                <a:latin typeface="Book Antiqua"/>
              </a:rPr>
              <a:t> to reccomend or not RT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e9b03"/>
                </a:solidFill>
                <a:latin typeface="Book Antiqua"/>
              </a:rPr>
              <a:t>  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RT to the IMN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it-IT" sz="2800" spc="-1" strike="noStrike">
                <a:solidFill>
                  <a:srgbClr val="fe9b03"/>
                </a:solidFill>
                <a:latin typeface="Book Antiqua"/>
              </a:rPr>
              <a:t>	</a:t>
            </a:r>
            <a:r>
              <a:rPr b="1" lang="it-IT" sz="2800" spc="-1" strike="noStrike">
                <a:solidFill>
                  <a:srgbClr val="fe9b03"/>
                </a:solidFill>
                <a:latin typeface="Book Antiqua"/>
              </a:rPr>
              <a:t> </a:t>
            </a:r>
            <a:r>
              <a:rPr b="1" lang="it-IT" sz="2800" spc="-1" strike="noStrike" u="sng">
                <a:solidFill>
                  <a:srgbClr val="ffff00"/>
                </a:solidFill>
                <a:uFillTx/>
                <a:latin typeface="Book Antiqua"/>
              </a:rPr>
              <a:t>insufficient evidence</a:t>
            </a:r>
            <a:r>
              <a:rPr b="1" lang="it-IT" sz="2800" spc="-1" strike="noStrike">
                <a:solidFill>
                  <a:srgbClr val="ffff00"/>
                </a:solidFill>
                <a:latin typeface="Book Antiqua"/>
              </a:rPr>
              <a:t> to reccomend or not R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52280" y="1279440"/>
            <a:ext cx="8763120" cy="60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MA20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: after BCS, high  risk node positive and node negative randomly allocated to receive standard breast  radiotherapy versus loco-regional radiotherapy patients are stratified according to number of involved node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European 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SUPREMO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: patient with an expected intermediate risk (i.e., 1–3 nodes positive or ductal carcinoma grade III) of loco-regional recurrence after mastectomy are randomized to chest wall RT versus no R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ational Cancer Institute of Canada Clinical Trials Group 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MA25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andomly assign patients with 1–3 positive nodes to receive either loco-regional RT or no RT after mastectomy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study closed because of lack of accrua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2412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ff33"/>
                </a:solidFill>
                <a:latin typeface="Comic Sans MS"/>
              </a:rPr>
              <a:t>Trials dedidicated to solve the issue of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rophylactic nodal irradi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9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7488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49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omic Sans MS"/>
              </a:rPr>
              <a:t>IMPROVING LRC AND SURVIVA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733920" y="25146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2514600"/>
            <a:ext cx="2971800" cy="5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1219320"/>
            <a:ext cx="8610480" cy="51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1. RT technique </a:t>
            </a:r>
            <a:r>
              <a:rPr b="0" lang="pl-PL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ptimisation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2. Volume selec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3. Patient selection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7488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733920" y="25146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2514600"/>
            <a:ext cx="2971800" cy="5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1206360"/>
            <a:ext cx="8610480" cy="61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marL="457200" indent="-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3. Patient selection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- Extent of axillary dissection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&lt; 6 nodes removed if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ll negative; &lt; 10 nodes removed if any (+) node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- Number and % of N+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50%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 Gross residual disease in axill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- Max size of the N+ (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&gt;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2.0 cm?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- Age (premenopausal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- Er and Pgr (absenc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- Angiolinphatic invasion (presence)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49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omic Sans MS"/>
              </a:rPr>
              <a:t>IMPROVING LRC AND SURVIVA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999520" y="3733920"/>
            <a:ext cx="34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MS Gothic"/>
              </a:rPr>
              <a:t>Thank you 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488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8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ROLE OF RADIOTHERAPY 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IN EARLY BREAST CANC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733920" y="25146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514600"/>
            <a:ext cx="2971800" cy="5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868400"/>
            <a:ext cx="8458200" cy="356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Post-Breast Conserving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Treat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Post-mastectomy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410080" y="1654200"/>
            <a:ext cx="312444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1" name=""/>
          <p:cNvGrpSpPr/>
          <p:nvPr/>
        </p:nvGrpSpPr>
        <p:grpSpPr>
          <a:xfrm>
            <a:off x="5943600" y="2285640"/>
            <a:ext cx="990720" cy="1067040"/>
            <a:chOff x="5943600" y="2285640"/>
            <a:chExt cx="990720" cy="1067040"/>
          </a:xfrm>
        </p:grpSpPr>
        <p:sp>
          <p:nvSpPr>
            <p:cNvPr id="72" name=""/>
            <p:cNvSpPr/>
            <p:nvPr/>
          </p:nvSpPr>
          <p:spPr>
            <a:xfrm>
              <a:off x="5943600" y="2286000"/>
              <a:ext cx="0" cy="106668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3600" y="2286000"/>
              <a:ext cx="228600" cy="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43600" y="3352680"/>
              <a:ext cx="228600" cy="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705720" y="2285640"/>
              <a:ext cx="228600" cy="1067040"/>
              <a:chOff x="6705720" y="2285640"/>
              <a:chExt cx="228600" cy="1067040"/>
            </a:xfrm>
          </p:grpSpPr>
          <p:sp>
            <p:nvSpPr>
              <p:cNvPr id="76" name=""/>
              <p:cNvSpPr/>
              <p:nvPr/>
            </p:nvSpPr>
            <p:spPr>
              <a:xfrm>
                <a:off x="6933960" y="2286000"/>
                <a:ext cx="0" cy="1066680"/>
              </a:xfrm>
              <a:prstGeom prst="line">
                <a:avLst/>
              </a:prstGeom>
              <a:ln w="44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705720" y="3352320"/>
                <a:ext cx="228600" cy="0"/>
              </a:xfrm>
              <a:prstGeom prst="line">
                <a:avLst/>
              </a:prstGeom>
              <a:ln w="44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05720" y="2285640"/>
                <a:ext cx="228600" cy="0"/>
              </a:xfrm>
              <a:prstGeom prst="line">
                <a:avLst/>
              </a:prstGeom>
              <a:ln w="44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13320" y="4135320"/>
            <a:ext cx="3121200" cy="234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0" name=""/>
          <p:cNvGrpSpPr/>
          <p:nvPr/>
        </p:nvGrpSpPr>
        <p:grpSpPr>
          <a:xfrm>
            <a:off x="6934320" y="4724280"/>
            <a:ext cx="532800" cy="990720"/>
            <a:chOff x="6934320" y="4724280"/>
            <a:chExt cx="532800" cy="990720"/>
          </a:xfrm>
        </p:grpSpPr>
        <p:sp>
          <p:nvSpPr>
            <p:cNvPr id="81" name=""/>
            <p:cNvSpPr/>
            <p:nvPr/>
          </p:nvSpPr>
          <p:spPr>
            <a:xfrm>
              <a:off x="6934320" y="4724280"/>
              <a:ext cx="0" cy="99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34320" y="4724280"/>
              <a:ext cx="1227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34320" y="5715000"/>
              <a:ext cx="1227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7344360" y="4724280"/>
              <a:ext cx="122760" cy="990720"/>
              <a:chOff x="7344360" y="4724280"/>
              <a:chExt cx="122760" cy="990720"/>
            </a:xfrm>
          </p:grpSpPr>
          <p:sp>
            <p:nvSpPr>
              <p:cNvPr id="85" name=""/>
              <p:cNvSpPr/>
              <p:nvPr/>
            </p:nvSpPr>
            <p:spPr>
              <a:xfrm>
                <a:off x="7466760" y="4724280"/>
                <a:ext cx="0" cy="9907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344360" y="5715000"/>
                <a:ext cx="1227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344360" y="4724280"/>
                <a:ext cx="1227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6781680" y="4724280"/>
            <a:ext cx="152640" cy="838440"/>
            <a:chOff x="6781680" y="4724280"/>
            <a:chExt cx="152640" cy="838440"/>
          </a:xfrm>
        </p:grpSpPr>
        <p:sp>
          <p:nvSpPr>
            <p:cNvPr id="89" name=""/>
            <p:cNvSpPr/>
            <p:nvPr/>
          </p:nvSpPr>
          <p:spPr>
            <a:xfrm>
              <a:off x="6781680" y="4724280"/>
              <a:ext cx="152640" cy="838440"/>
            </a:xfrm>
            <a:prstGeom prst="rect">
              <a:avLst/>
            </a:prstGeom>
            <a:noFill/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0" y="4724280"/>
              <a:ext cx="76320" cy="76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81680" y="4800600"/>
              <a:ext cx="152640" cy="152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81680" y="4952880"/>
              <a:ext cx="152640" cy="152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81680" y="5105520"/>
              <a:ext cx="152640" cy="152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1680" y="5257800"/>
              <a:ext cx="152640" cy="152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81680" y="5410080"/>
              <a:ext cx="152640" cy="152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934320" y="4266720"/>
            <a:ext cx="533160" cy="381600"/>
            <a:chOff x="6934320" y="4266720"/>
            <a:chExt cx="533160" cy="381600"/>
          </a:xfrm>
        </p:grpSpPr>
        <p:sp>
          <p:nvSpPr>
            <p:cNvPr id="97" name=""/>
            <p:cNvSpPr/>
            <p:nvPr/>
          </p:nvSpPr>
          <p:spPr>
            <a:xfrm>
              <a:off x="6934320" y="4267080"/>
              <a:ext cx="533160" cy="381240"/>
            </a:xfrm>
            <a:prstGeom prst="rect">
              <a:avLst/>
            </a:prstGeom>
            <a:noFill/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934320" y="4267080"/>
              <a:ext cx="228600" cy="152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086600" y="4419360"/>
              <a:ext cx="38088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7315200" y="4572000"/>
              <a:ext cx="152280" cy="76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6934320" y="4266720"/>
              <a:ext cx="533160" cy="304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943600" y="1828440"/>
            <a:ext cx="837720" cy="381240"/>
            <a:chOff x="5943600" y="1828440"/>
            <a:chExt cx="837720" cy="381240"/>
          </a:xfrm>
        </p:grpSpPr>
        <p:sp>
          <p:nvSpPr>
            <p:cNvPr id="103" name=""/>
            <p:cNvSpPr/>
            <p:nvPr/>
          </p:nvSpPr>
          <p:spPr>
            <a:xfrm>
              <a:off x="5943600" y="1828800"/>
              <a:ext cx="837720" cy="380880"/>
            </a:xfrm>
            <a:prstGeom prst="rect">
              <a:avLst/>
            </a:prstGeom>
            <a:noFill/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943600" y="1828440"/>
              <a:ext cx="358920" cy="152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82640" y="1981080"/>
              <a:ext cx="598320" cy="228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6541920" y="2133000"/>
              <a:ext cx="239040" cy="75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43600" y="1828800"/>
              <a:ext cx="83772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34320" y="2286000"/>
            <a:ext cx="152280" cy="838080"/>
            <a:chOff x="6934320" y="2286000"/>
            <a:chExt cx="152280" cy="838080"/>
          </a:xfrm>
        </p:grpSpPr>
        <p:sp>
          <p:nvSpPr>
            <p:cNvPr id="109" name=""/>
            <p:cNvSpPr/>
            <p:nvPr/>
          </p:nvSpPr>
          <p:spPr>
            <a:xfrm>
              <a:off x="6934320" y="2286000"/>
              <a:ext cx="152280" cy="838080"/>
            </a:xfrm>
            <a:prstGeom prst="rect">
              <a:avLst/>
            </a:prstGeom>
            <a:noFill/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10280" y="2286000"/>
              <a:ext cx="75960" cy="75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34320" y="2361960"/>
              <a:ext cx="152280" cy="15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34320" y="2514240"/>
              <a:ext cx="152280" cy="152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2666880"/>
              <a:ext cx="152280" cy="15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34320" y="2819160"/>
              <a:ext cx="152280" cy="15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34320" y="2971440"/>
              <a:ext cx="152280" cy="152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152280" y="2590920"/>
          <a:ext cx="8915040" cy="4038120"/>
        </p:xfrm>
        <a:graphic>
          <a:graphicData uri="http://schemas.openxmlformats.org/drawingml/2006/table">
            <a:tbl>
              <a:tblPr/>
              <a:tblGrid>
                <a:gridCol w="4376160"/>
                <a:gridCol w="1864440"/>
                <a:gridCol w="1377720"/>
                <a:gridCol w="1296720"/>
              </a:tblGrid>
              <a:tr h="579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35 pt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vent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ll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 RT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x RT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xillary metastasi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4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gional N metastasi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cal Recurrenc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econd ipsilat breast cancer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8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1740b3"/>
                      </a:solidFill>
                    </a:lnT>
                    <a:lnB w="1440">
                      <a:solidFill>
                        <a:srgbClr val="1740b3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tant met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1740b3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1740b3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2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1740b3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1740b3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9" name=""/>
          <p:cNvGrpSpPr/>
          <p:nvPr/>
        </p:nvGrpSpPr>
        <p:grpSpPr>
          <a:xfrm>
            <a:off x="228600" y="914400"/>
            <a:ext cx="8839080" cy="1441080"/>
            <a:chOff x="228600" y="914400"/>
            <a:chExt cx="8839080" cy="1441080"/>
          </a:xfrm>
        </p:grpSpPr>
        <p:sp>
          <p:nvSpPr>
            <p:cNvPr id="350" name=""/>
            <p:cNvSpPr/>
            <p:nvPr/>
          </p:nvSpPr>
          <p:spPr>
            <a:xfrm>
              <a:off x="228600" y="914400"/>
              <a:ext cx="8839080" cy="14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66ff33"/>
                  </a:solidFill>
                  <a:latin typeface="Times New Roman"/>
                </a:rPr>
                <a:t>T &lt; 1.2 cm cN0, &gt; 45 yrs (median F.U. 85 months)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66ff33"/>
                  </a:solidFill>
                  <a:latin typeface="Times New Roman"/>
                </a:rPr>
                <a:t>Axillary RT    No treatment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95680" y="1295280"/>
              <a:ext cx="685800" cy="685800"/>
            </a:xfrm>
            <a:prstGeom prst="line">
              <a:avLst/>
            </a:prstGeom>
            <a:ln w="88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657240" y="1295280"/>
              <a:ext cx="685800" cy="685800"/>
            </a:xfrm>
            <a:prstGeom prst="line">
              <a:avLst/>
            </a:prstGeom>
            <a:ln w="88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3755160" y="187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EIO 053 tri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7632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  <a:ea typeface="Arial"/>
              </a:rPr>
              <a:t>Relevance of breast cancer laterality to cause-specific mortality among irradiated women </a:t>
            </a:r>
            <a:r>
              <a:rPr b="1" lang="en-GB" sz="2400" spc="-1" strike="noStrike">
                <a:solidFill>
                  <a:srgbClr val="66ff33"/>
                </a:solidFill>
                <a:latin typeface="Symbol"/>
                <a:ea typeface="Symbol"/>
              </a:rPr>
              <a:t>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  <a:ea typeface="Arial"/>
              </a:rPr>
              <a:t> 10 years post diagnosis and 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65674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C Darby Lancet Oncol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5; 6: 557–65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763120" cy="56131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80880" y="2057400"/>
            <a:ext cx="8229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2438280"/>
            <a:ext cx="8229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6440" y="1904760"/>
            <a:ext cx="8399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fr-FR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section of internal mammary nodes does not improve the survival of breast cancer patients. 30-year results of a randomised trial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42667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ahoma"/>
              </a:rPr>
              <a:t>U.Veronesi, </a:t>
            </a: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E. Marubini, L. Mariani, </a:t>
            </a:r>
            <a:r>
              <a:rPr b="1" lang="it-IT" sz="3200" spc="-1" strike="noStrike">
                <a:solidFill>
                  <a:srgbClr val="ffff00"/>
                </a:solidFill>
                <a:latin typeface="Tahoma"/>
              </a:rPr>
              <a:t>et al.</a:t>
            </a: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Eur J Cancer, 35(9):1320-1325, 1999.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0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71440" y="366840"/>
            <a:ext cx="8669520" cy="62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Tahoma"/>
              </a:rPr>
              <a:t>Are there factors predictive of IMN localization?</a:t>
            </a:r>
            <a:r>
              <a:rPr b="1" lang="it-IT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280" y="1125360"/>
            <a:ext cx="8991720" cy="56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x. nodes po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1/233 (21.9%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x. nodes ne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7/430   (3.9%)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&lt;0.00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VI positiv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1/180 (22.8%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VI negativ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7/483   (5.6%)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&lt;0.00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&lt; 35 year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8/48   (16.7%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5-50 year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8/314 (12.1%)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=0.04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&gt; 50 year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2/301   (7.3%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&lt; 1 cm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2/103   (1.9%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-2 cm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3/353   (9.3%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=0.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&gt; 2 cm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3/206 (16.0%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40000" y="44280"/>
            <a:ext cx="51055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Positiv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IMN/N° cases (%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333360"/>
            <a:ext cx="25052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Tahoma"/>
              </a:rPr>
              <a:t>Variable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371600"/>
            <a:ext cx="85345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R po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7/551 (10.3%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R ne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1/112   (9.8%)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=0.868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gR po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2/500 (10.4%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gR ne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6/163   (9.8%)  p=0.83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uctal inf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8/547 (10.6%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bular inf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4/47     (8.5%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th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6/69     (8.7%)  p=0.65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ade 1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7/122   (5.7%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ade 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1/286 (10.8%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14316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ade 3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0/246 (12.2%)  p=0.15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71640" y="380880"/>
            <a:ext cx="51055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Positiv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ahoma"/>
              </a:rPr>
              <a:t>IMN/N° cases (%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563400"/>
            <a:ext cx="25052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Tahoma"/>
              </a:rPr>
              <a:t>Variable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Tahoma"/>
              </a:rPr>
              <a:t>All 68 patients with positive internal mammary nodes received radiotherapy on the internal mammary ch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1760" y="-7920"/>
            <a:ext cx="901224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Conservative Therapy </a:t>
            </a:r>
            <a:br>
              <a:rPr sz="4000"/>
            </a:b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for early stage breast canc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8000" y="1828800"/>
            <a:ext cx="8945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90000"/>
              </a:lnSpc>
              <a:buNone/>
              <a:tabLst>
                <a:tab algn="l" pos="0"/>
                <a:tab algn="l" pos="264960"/>
                <a:tab algn="l" pos="1179360"/>
                <a:tab algn="l" pos="2384280"/>
                <a:tab algn="l" pos="3597120"/>
                <a:tab algn="l" pos="4809960"/>
                <a:tab algn="l" pos="6022800"/>
                <a:tab algn="l" pos="7254720"/>
                <a:tab algn="l" pos="8448840"/>
                <a:tab algn="l" pos="9661680"/>
                <a:tab algn="l" pos="10874520"/>
              </a:tabLst>
            </a:pPr>
            <a:r>
              <a:rPr b="1" lang="en-GB" sz="35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Phase 1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            Breast preservation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0"/>
                <a:tab algn="l" pos="264960"/>
                <a:tab algn="l" pos="1179360"/>
                <a:tab algn="l" pos="2384280"/>
                <a:tab algn="l" pos="3597120"/>
                <a:tab algn="l" pos="4809960"/>
                <a:tab algn="l" pos="6022800"/>
                <a:tab algn="l" pos="7254720"/>
                <a:tab algn="l" pos="8448840"/>
                <a:tab algn="l" pos="9661680"/>
                <a:tab algn="l" pos="1087452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0"/>
                <a:tab algn="l" pos="264960"/>
                <a:tab algn="l" pos="1179360"/>
                <a:tab algn="l" pos="2384280"/>
                <a:tab algn="l" pos="3597120"/>
                <a:tab algn="l" pos="4809960"/>
                <a:tab algn="l" pos="6022800"/>
                <a:tab algn="l" pos="7254720"/>
                <a:tab algn="l" pos="8448840"/>
                <a:tab algn="l" pos="9661680"/>
                <a:tab algn="l" pos="10874520"/>
              </a:tabLst>
            </a:pP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0"/>
                <a:tab algn="l" pos="264960"/>
                <a:tab algn="l" pos="1179360"/>
                <a:tab algn="l" pos="2384280"/>
                <a:tab algn="l" pos="3597120"/>
                <a:tab algn="l" pos="4809960"/>
                <a:tab algn="l" pos="6022800"/>
                <a:tab algn="l" pos="7254720"/>
                <a:tab algn="l" pos="8448840"/>
                <a:tab algn="l" pos="9661680"/>
                <a:tab algn="l" pos="10874520"/>
              </a:tabLst>
            </a:pP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Phase 2           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00"/>
                </a:solidFill>
                <a:latin typeface="Tahoma"/>
              </a:rPr>
              <a:t>Lymphonodes </a:t>
            </a:r>
            <a:r>
              <a:rPr b="1" i="1" lang="en-GB" sz="35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en-GB" sz="35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00"/>
                </a:solidFill>
                <a:latin typeface="Tahoma"/>
              </a:rPr>
              <a:t>preservation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0"/>
                <a:tab algn="l" pos="264960"/>
                <a:tab algn="l" pos="1179360"/>
                <a:tab algn="l" pos="2384280"/>
                <a:tab algn="l" pos="3597120"/>
                <a:tab algn="l" pos="4809960"/>
                <a:tab algn="l" pos="6022800"/>
                <a:tab algn="l" pos="7254720"/>
                <a:tab algn="l" pos="8448840"/>
                <a:tab algn="l" pos="9661680"/>
                <a:tab algn="l" pos="10874520"/>
              </a:tabLst>
            </a:pP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Phase 3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           Reduction of 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0"/>
                <a:tab algn="l" pos="264960"/>
                <a:tab algn="l" pos="1179360"/>
                <a:tab algn="l" pos="2384280"/>
                <a:tab algn="l" pos="3597120"/>
                <a:tab algn="l" pos="4809960"/>
                <a:tab algn="l" pos="6022800"/>
                <a:tab algn="l" pos="7254720"/>
                <a:tab algn="l" pos="8448840"/>
                <a:tab algn="l" pos="9661680"/>
                <a:tab algn="l" pos="10874520"/>
              </a:tabLst>
            </a:pP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radiotherapy       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0"/>
                <a:tab algn="l" pos="264960"/>
                <a:tab algn="l" pos="1179360"/>
                <a:tab algn="l" pos="2384280"/>
                <a:tab algn="l" pos="3597120"/>
                <a:tab algn="l" pos="4809960"/>
                <a:tab algn="l" pos="6022800"/>
                <a:tab algn="l" pos="7254720"/>
                <a:tab algn="l" pos="8448840"/>
                <a:tab algn="l" pos="9661680"/>
                <a:tab algn="l" pos="1087452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2514600"/>
            <a:ext cx="242568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4114800"/>
            <a:ext cx="242568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8360" y="2438280"/>
            <a:ext cx="241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ccff"/>
                </a:solidFill>
                <a:latin typeface="Tahoma"/>
                <a:ea typeface="MS Gothic"/>
              </a:rPr>
              <a:t>1968-1985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0960" y="4114800"/>
            <a:ext cx="241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ccff"/>
                </a:solidFill>
                <a:latin typeface="Tahoma"/>
                <a:ea typeface="MS Gothic"/>
              </a:rPr>
              <a:t>1985-200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23800" y="1496880"/>
            <a:ext cx="8089920" cy="27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62080" y="5715000"/>
            <a:ext cx="242712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6960" y="5769000"/>
            <a:ext cx="18846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ccff"/>
                </a:solidFill>
                <a:latin typeface="Tahoma"/>
                <a:ea typeface="MS Gothic"/>
              </a:rPr>
              <a:t>2000-…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SLN and axillary status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EIO EXPER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815 patients with complete axillary dissec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377 patients with negative SL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20 patients with axillary mets at the I Berg’s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Concordance: 97.5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Specificity: 100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(SLN-ve/ALD –ve)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Sensitivity: 95.6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Negative predictive value: 94.7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(true neg/true neg+false neg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1400" y="147240"/>
            <a:ext cx="878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66ff33"/>
                </a:solidFill>
                <a:latin typeface="Comic Sans MS"/>
                <a:ea typeface="Arial Unicode MS"/>
              </a:rPr>
              <a:t>SNB after breast surgery </a:t>
            </a:r>
            <a:br>
              <a:rPr sz="4000"/>
            </a:br>
            <a:r>
              <a:rPr b="1" lang="en-GB" sz="4000" spc="-1" strike="noStrike">
                <a:solidFill>
                  <a:srgbClr val="66ff33"/>
                </a:solidFill>
                <a:latin typeface="Comic Sans MS"/>
                <a:ea typeface="Arial Unicode MS"/>
              </a:rPr>
              <a:t>EIO:(543 patient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10920" y="2661840"/>
            <a:ext cx="7877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ff"/>
                </a:solidFill>
                <a:latin typeface="Comic Sans MS"/>
              </a:rPr>
              <a:t>Median follow-up: 2 yrs (6-84 mts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ff"/>
                </a:solidFill>
                <a:latin typeface="Comic Sans MS"/>
              </a:rPr>
              <a:t>Axillary reapparance: 4 (0.7%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ff"/>
                </a:solidFill>
                <a:latin typeface="Comic Sans MS"/>
              </a:rPr>
              <a:t>(3 axillary dissections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1760" y="-7920"/>
            <a:ext cx="901224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Conservative Therapy </a:t>
            </a:r>
            <a:br>
              <a:rPr sz="4000"/>
            </a:b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for early stage breast canc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8000" y="1828800"/>
            <a:ext cx="8945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90000"/>
              </a:lnSpc>
              <a:buNone/>
              <a:tabLst>
                <a:tab algn="l" pos="0"/>
                <a:tab algn="l" pos="264960"/>
                <a:tab algn="l" pos="1179360"/>
                <a:tab algn="l" pos="2384280"/>
                <a:tab algn="l" pos="3597120"/>
                <a:tab algn="l" pos="4809960"/>
                <a:tab algn="l" pos="6022800"/>
                <a:tab algn="l" pos="7254720"/>
                <a:tab algn="l" pos="8448840"/>
                <a:tab algn="l" pos="9661680"/>
                <a:tab algn="l" pos="10874520"/>
              </a:tabLst>
            </a:pPr>
            <a:r>
              <a:rPr b="1" lang="en-GB" sz="35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Phase 1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            Breast preservation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0"/>
                <a:tab algn="l" pos="264960"/>
                <a:tab algn="l" pos="1179360"/>
                <a:tab algn="l" pos="2384280"/>
                <a:tab algn="l" pos="3597120"/>
                <a:tab algn="l" pos="4809960"/>
                <a:tab algn="l" pos="6022800"/>
                <a:tab algn="l" pos="7254720"/>
                <a:tab algn="l" pos="8448840"/>
                <a:tab algn="l" pos="9661680"/>
                <a:tab algn="l" pos="1087452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0"/>
                <a:tab algn="l" pos="264960"/>
                <a:tab algn="l" pos="1179360"/>
                <a:tab algn="l" pos="2384280"/>
                <a:tab algn="l" pos="3597120"/>
                <a:tab algn="l" pos="4809960"/>
                <a:tab algn="l" pos="6022800"/>
                <a:tab algn="l" pos="7254720"/>
                <a:tab algn="l" pos="8448840"/>
                <a:tab algn="l" pos="9661680"/>
                <a:tab algn="l" pos="10874520"/>
              </a:tabLst>
            </a:pP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0"/>
                <a:tab algn="l" pos="264960"/>
                <a:tab algn="l" pos="1179360"/>
                <a:tab algn="l" pos="2384280"/>
                <a:tab algn="l" pos="3597120"/>
                <a:tab algn="l" pos="4809960"/>
                <a:tab algn="l" pos="6022800"/>
                <a:tab algn="l" pos="7254720"/>
                <a:tab algn="l" pos="8448840"/>
                <a:tab algn="l" pos="9661680"/>
                <a:tab algn="l" pos="10874520"/>
              </a:tabLst>
            </a:pP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Phase 2           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Lymphonodes 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preservation 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0"/>
                <a:tab algn="l" pos="264960"/>
                <a:tab algn="l" pos="1179360"/>
                <a:tab algn="l" pos="2384280"/>
                <a:tab algn="l" pos="3597120"/>
                <a:tab algn="l" pos="4809960"/>
                <a:tab algn="l" pos="6022800"/>
                <a:tab algn="l" pos="7254720"/>
                <a:tab algn="l" pos="8448840"/>
                <a:tab algn="l" pos="9661680"/>
                <a:tab algn="l" pos="10874520"/>
              </a:tabLst>
            </a:pP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Phase 3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i="1" lang="en-GB" sz="3500" spc="-1" strike="noStrike">
                <a:solidFill>
                  <a:srgbClr val="ffff00"/>
                </a:solidFill>
                <a:latin typeface="Tahoma"/>
              </a:rPr>
              <a:t>Reduction of 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0"/>
                <a:tab algn="l" pos="264960"/>
                <a:tab algn="l" pos="1179360"/>
                <a:tab algn="l" pos="2384280"/>
                <a:tab algn="l" pos="3597120"/>
                <a:tab algn="l" pos="4809960"/>
                <a:tab algn="l" pos="6022800"/>
                <a:tab algn="l" pos="7254720"/>
                <a:tab algn="l" pos="8448840"/>
                <a:tab algn="l" pos="9661680"/>
                <a:tab algn="l" pos="10874520"/>
              </a:tabLst>
            </a:pPr>
            <a:r>
              <a:rPr b="1" i="1" lang="en-GB" sz="3500" spc="-1" strike="noStrike">
                <a:solidFill>
                  <a:srgbClr val="ffff00"/>
                </a:solidFill>
                <a:latin typeface="Tahoma"/>
              </a:rPr>
              <a:t>                                      </a:t>
            </a:r>
            <a:r>
              <a:rPr b="1" i="1" lang="en-GB" sz="3500" spc="-1" strike="noStrike">
                <a:solidFill>
                  <a:srgbClr val="ffff00"/>
                </a:solidFill>
                <a:latin typeface="Tahoma"/>
              </a:rPr>
              <a:t>radiotherapy</a:t>
            </a:r>
            <a:r>
              <a:rPr b="1" i="1" lang="en-GB" sz="35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0"/>
                <a:tab algn="l" pos="264960"/>
                <a:tab algn="l" pos="1179360"/>
                <a:tab algn="l" pos="2384280"/>
                <a:tab algn="l" pos="3597120"/>
                <a:tab algn="l" pos="4809960"/>
                <a:tab algn="l" pos="6022800"/>
                <a:tab algn="l" pos="7254720"/>
                <a:tab algn="l" pos="8448840"/>
                <a:tab algn="l" pos="9661680"/>
                <a:tab algn="l" pos="1087452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514600"/>
            <a:ext cx="242568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4114800"/>
            <a:ext cx="242568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8360" y="2438280"/>
            <a:ext cx="241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ccff"/>
                </a:solidFill>
                <a:latin typeface="Tahoma"/>
                <a:ea typeface="MS Gothic"/>
              </a:rPr>
              <a:t>1968-1985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0960" y="4114800"/>
            <a:ext cx="241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ccff"/>
                </a:solidFill>
                <a:latin typeface="Tahoma"/>
                <a:ea typeface="MS Gothic"/>
              </a:rPr>
              <a:t>1985-200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3800" y="1496880"/>
            <a:ext cx="8089920" cy="27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62080" y="5715000"/>
            <a:ext cx="242712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6960" y="5769000"/>
            <a:ext cx="18846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ccff"/>
                </a:solidFill>
                <a:latin typeface="Tahoma"/>
                <a:ea typeface="MS Gothic"/>
              </a:rPr>
              <a:t>2000-…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990720" y="762120"/>
          <a:ext cx="81532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81532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4952880" y="1219320"/>
            <a:ext cx="3276720" cy="2133360"/>
            <a:chOff x="4952880" y="1219320"/>
            <a:chExt cx="3276720" cy="2133360"/>
          </a:xfrm>
        </p:grpSpPr>
        <p:sp>
          <p:nvSpPr>
            <p:cNvPr id="141" name=""/>
            <p:cNvSpPr/>
            <p:nvPr/>
          </p:nvSpPr>
          <p:spPr>
            <a:xfrm>
              <a:off x="4952880" y="1219320"/>
              <a:ext cx="3124440" cy="2133360"/>
            </a:xfrm>
            <a:prstGeom prst="wedgeEllipseCallout">
              <a:avLst>
                <a:gd name="adj1" fmla="val -43291"/>
                <a:gd name="adj2" fmla="val 6287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2880" y="1751040"/>
              <a:ext cx="3276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mic Sans MS"/>
                </a:rPr>
                <a:t>Radiotherapy is always the answer !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0" y="1523880"/>
            <a:ext cx="4876920" cy="5334120"/>
            <a:chOff x="0" y="1523880"/>
            <a:chExt cx="4876920" cy="5334120"/>
          </a:xfrm>
        </p:grpSpPr>
        <p:grpSp>
          <p:nvGrpSpPr>
            <p:cNvPr id="144" name=""/>
            <p:cNvGrpSpPr/>
            <p:nvPr/>
          </p:nvGrpSpPr>
          <p:grpSpPr>
            <a:xfrm>
              <a:off x="0" y="1676520"/>
              <a:ext cx="3962520" cy="5181480"/>
              <a:chOff x="0" y="1676520"/>
              <a:chExt cx="3962520" cy="5181480"/>
            </a:xfrm>
          </p:grpSpPr>
          <p:graphicFrame>
            <p:nvGraphicFramePr>
              <p:cNvPr id="145" name=""/>
              <p:cNvGraphicFramePr/>
              <p:nvPr/>
            </p:nvGraphicFramePr>
            <p:xfrm>
              <a:off x="0" y="1676520"/>
              <a:ext cx="3962520" cy="5181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1676520"/>
                        <a:ext cx="3962520" cy="5181480"/>
                      </a:xfrm>
                      <a:prstGeom prst="rect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47" name=""/>
              <p:cNvSpPr/>
              <p:nvPr/>
            </p:nvSpPr>
            <p:spPr>
              <a:xfrm>
                <a:off x="1828800" y="1752480"/>
                <a:ext cx="1676520" cy="152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676520" y="1523880"/>
              <a:ext cx="3200400" cy="1600200"/>
            </a:xfrm>
            <a:prstGeom prst="wedgeEllipseCallout">
              <a:avLst>
                <a:gd name="adj1" fmla="val -10814"/>
                <a:gd name="adj2" fmla="val 52875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00"/>
                  </a:solidFill>
                  <a:latin typeface="Comic Sans MS"/>
                </a:rPr>
                <a:t>Primum non nocere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9760" y="-38160"/>
            <a:ext cx="79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ff33"/>
                </a:solidFill>
                <a:latin typeface="Comic Sans MS"/>
              </a:rPr>
              <a:t>Prophylactic nodal irradiation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ff33"/>
                </a:solidFill>
                <a:latin typeface="Comic Sans MS"/>
              </a:rPr>
              <a:t>RT after Mastectomy</a:t>
            </a:r>
            <a:r>
              <a:rPr b="1" lang="it-IT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1" lang="it-IT" sz="3600" spc="-1" strike="noStrike" u="sng">
                <a:solidFill>
                  <a:srgbClr val="ffffff"/>
                </a:solidFill>
                <a:uFillTx/>
                <a:latin typeface="Comic Sans MS"/>
              </a:rPr>
              <a:t>Positive</a:t>
            </a:r>
            <a:r>
              <a:rPr b="1" lang="it-IT" sz="3600" spc="-1" strike="noStrike">
                <a:solidFill>
                  <a:srgbClr val="ffffff"/>
                </a:solidFill>
                <a:latin typeface="Comic Sans MS"/>
              </a:rPr>
              <a:t> randomized trial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5811840"/>
            <a:ext cx="16747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" rIns="28800" tIns="14400" bIns="14400" anchor="t">
            <a:norm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73640" y="1905120"/>
            <a:ext cx="31100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" rIns="28800" tIns="14400" bIns="14400" anchor="t">
            <a:norm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9051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3680" y="19051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4560" y="1905120"/>
            <a:ext cx="298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-15120" bIns="-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698920"/>
            <a:ext cx="0" cy="587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3680" y="2698920"/>
            <a:ext cx="0" cy="587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286080"/>
            <a:ext cx="0" cy="588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3680" y="3286080"/>
            <a:ext cx="0" cy="588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875040"/>
            <a:ext cx="0" cy="58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3680" y="3875040"/>
            <a:ext cx="0" cy="58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4460760"/>
            <a:ext cx="0" cy="588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3680" y="4460760"/>
            <a:ext cx="0" cy="588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049720"/>
            <a:ext cx="0" cy="58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3680" y="5049720"/>
            <a:ext cx="0" cy="58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5635800"/>
            <a:ext cx="0" cy="588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3680" y="5635800"/>
            <a:ext cx="0" cy="588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15120" bIns="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4560" y="6224760"/>
            <a:ext cx="1434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-15120" bIns="-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6224760"/>
            <a:ext cx="1554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-15120" bIns="-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73640" y="6224760"/>
            <a:ext cx="1555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-15120" bIns="-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29560" y="6224760"/>
            <a:ext cx="1554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-15120" bIns="-15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33520" y="2835360"/>
            <a:ext cx="7773840" cy="2955960"/>
            <a:chOff x="533520" y="2835360"/>
            <a:chExt cx="7773840" cy="2955960"/>
          </a:xfrm>
        </p:grpSpPr>
        <p:sp>
          <p:nvSpPr>
            <p:cNvPr id="173" name=""/>
            <p:cNvSpPr/>
            <p:nvPr/>
          </p:nvSpPr>
          <p:spPr>
            <a:xfrm>
              <a:off x="6753240" y="5205240"/>
              <a:ext cx="155412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Comic Sans MS"/>
                </a:rPr>
                <a:t>45/36%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97320" y="5205240"/>
              <a:ext cx="155592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Comic Sans MS"/>
                </a:rPr>
                <a:t>8/35%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43200" y="5205240"/>
              <a:ext cx="155412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Comic Sans MS"/>
                </a:rPr>
                <a:t>RT/no RT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08240" y="5205240"/>
              <a:ext cx="143496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Comic Sans MS"/>
                </a:rPr>
                <a:t>318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3520" y="5205240"/>
              <a:ext cx="167472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Comic Sans MS"/>
                </a:rPr>
                <a:t>Vancouver, BC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53240" y="4616280"/>
              <a:ext cx="1554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Comic Sans MS"/>
                </a:rPr>
                <a:t>54/46%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97320" y="4616280"/>
              <a:ext cx="15559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Comic Sans MS"/>
                </a:rPr>
                <a:t>13/33%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43200" y="4616280"/>
              <a:ext cx="1554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Comic Sans MS"/>
                </a:rPr>
                <a:t>RT/no RT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08240" y="4616280"/>
              <a:ext cx="1434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Comic Sans MS"/>
                </a:rPr>
                <a:t>1375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3520" y="4616280"/>
              <a:ext cx="16747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Comic Sans MS"/>
                </a:rPr>
                <a:t>DBCCG 82c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53240" y="4030560"/>
              <a:ext cx="15541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Comic Sans MS"/>
                </a:rPr>
                <a:t>54/45%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97320" y="4030560"/>
              <a:ext cx="15559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Comic Sans MS"/>
                </a:rPr>
                <a:t>9/32%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43200" y="4030560"/>
              <a:ext cx="15541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Comic Sans MS"/>
                </a:rPr>
                <a:t>RT/no RT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08240" y="4030560"/>
              <a:ext cx="14349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Comic Sans MS"/>
                </a:rPr>
                <a:t>1708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520" y="4030560"/>
              <a:ext cx="16747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Comic Sans MS"/>
                </a:rPr>
                <a:t>DBCCG 82b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53240" y="3095640"/>
              <a:ext cx="15541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Comic Sans MS"/>
                </a:rPr>
                <a:t>10-y OS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97320" y="3095640"/>
              <a:ext cx="1555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Comic Sans MS"/>
                </a:rPr>
                <a:t>10-y LRR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43200" y="3095640"/>
              <a:ext cx="15541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it-IT" sz="2100" spc="-1" strike="noStrike">
                  <a:solidFill>
                    <a:srgbClr val="ffffff"/>
                  </a:solidFill>
                  <a:latin typeface="Comic Sans MS"/>
                </a:rPr>
                <a:t>Random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08240" y="2835360"/>
              <a:ext cx="1434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14400" bIns="144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it-IT" sz="2100" spc="-1" strike="noStrike">
                  <a:solidFill>
                    <a:srgbClr val="ffffff"/>
                  </a:solidFill>
                  <a:latin typeface="Comic Sans MS"/>
                </a:rPr>
                <a:t>N. patients</a:t>
              </a:r>
              <a:endParaRPr b="0" lang="en-US" sz="2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8280" y="3726000"/>
              <a:ext cx="56390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12:45:35Z</dcterms:created>
  <dc:creator>Z00763</dc:creator>
  <dc:description/>
  <dc:language>en-US</dc:language>
  <cp:lastModifiedBy>TC</cp:lastModifiedBy>
  <dcterms:modified xsi:type="dcterms:W3CDTF">2007-11-10T16:22:28Z</dcterms:modified>
  <cp:revision>422</cp:revision>
  <dc:subject/>
  <dc:title>Presentazione di PowerPoint</dc:title>
</cp:coreProperties>
</file>