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92C-05F3-44E4-9C56-EAB2F597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F03-181C-43C7-9251-51A8875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F50-753D-441E-AC50-67AC34B4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AE4-4131-4878-897F-3BB4D219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07B-8EEB-4F47-B0AD-94A7F659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9CA-C012-4C36-8233-7BA2AAD6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338-BD66-4397-9E6B-B9B32C2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236-AE2C-4899-8453-154CF050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346-1756-4165-AB59-5A05DA4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76F-63FA-498C-90AB-CFB8931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80F-62A9-417F-96BF-4D0F67F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95F-E564-4FDE-84A5-D2A500B3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15C-7DAF-4FEC-AD3C-57AD896EE6D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2161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FICA NUOVI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ZIONE BILANCIO CONSUNTIV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GRUPPI DI ST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UTO ART 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OSSONO ESSERE COSTITUITI GRUPPI DI STUDIO A TERMINE E FINALIZZATI AD UN ARGOMENTO SPECIF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MENTO ART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ITO…PROMUOVERE E SVILUPPARE LA RICERCA…SU UN ARGOMENTO SPECIFICO IN UN PERIODO DI TENPO PREDEFINI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AMENTO FINANZI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 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r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C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04840" y="633240"/>
          <a:ext cx="6935760" cy="559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633240"/>
                    <a:ext cx="6935760" cy="55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71640" y="1773360"/>
            <a:ext cx="792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556000" y="1125360"/>
          <a:ext cx="403200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25360"/>
                    <a:ext cx="403200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24000" y="1268280"/>
          <a:ext cx="495612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268280"/>
                    <a:ext cx="49561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627280" y="981000"/>
          <a:ext cx="352908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981000"/>
                    <a:ext cx="35290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IRO GIOVANI (PREMI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81080" y="2176560"/>
            <a:ext cx="91440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ULTATO VOT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RESIDENTE ELET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139680" y="189000"/>
          <a:ext cx="9283680" cy="63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9680" y="189000"/>
                    <a:ext cx="9283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E ED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EDI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ZO CORVO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E IN RADIATION ONC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FANO MAG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RO PALA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BERTO RICAR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CENZO VAL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 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7560" y="278280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6000" y="1701720"/>
          <a:ext cx="8748360" cy="4535280"/>
        </p:xfrm>
        <a:graphic>
          <a:graphicData uri="http://schemas.openxmlformats.org/drawingml/2006/table">
            <a:tbl>
              <a:tblPr/>
              <a:tblGrid>
                <a:gridCol w="4834440"/>
                <a:gridCol w="1527840"/>
                <a:gridCol w="1193040"/>
                <a:gridCol w="1193040"/>
              </a:tblGrid>
              <a:tr h="88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ONGRES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EL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BS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IRO CONGRESSO NAZIONALE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eneva"/>
                        </a:rPr>
                        <a:t>PESCARA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IRO CONGRESSO NAZIONALE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eneva"/>
                        </a:rPr>
                        <a:t>TORINO 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IRO CONGRESSO NAZIONALE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eneva"/>
                        </a:rPr>
                        <a:t>VICENZA 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IRO CONGRESSO NAZIONALE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eneva"/>
                        </a:rPr>
                        <a:t>LECCE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IRO CONGRESSO NAZIONALE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Geneva"/>
                        </a:rPr>
                        <a:t>FIRENZ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3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LAZION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DELLE ISCR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VISTA TUMORI (NUOVA COMMISSIONE EDI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(N° DEI PARTECIPANTI E RELAT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UPPI REG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GGIORNAMENTO AL NUOVO STATUTO (GRUPPI DI ST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AMENTO FINANZIARIO DELLA SOCIETA’ ED IMPEGNI DI 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I CON LE ALTRE ASSOCIAZIONI/ISTIT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RM (SEDE COMUNE, CONGRESSO CONGIUNTO CON ISCRIZIONE GRATUITA PER SOCI), AIOM, AIRB, SNR, FIRR, FISM, ESTRO, COLLEGIO MED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RO GIOV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RESSI NAZIONALI FU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EA DEI S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4:50:06Z</dcterms:created>
  <dc:creator>Lorenzo</dc:creator>
  <dc:description/>
  <dc:language>en-US</dc:language>
  <cp:lastModifiedBy>TC</cp:lastModifiedBy>
  <dcterms:modified xsi:type="dcterms:W3CDTF">2007-11-12T08:03:05Z</dcterms:modified>
  <cp:revision>219</cp:revision>
  <dc:subject/>
  <dc:title>Diapositiva 1</dc:title>
</cp:coreProperties>
</file>