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600A-B6A0-4DEA-8D9D-61DC10387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4716-644F-428F-B9F6-98F32E60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BDE5-11FE-43D2-BBD9-7F456B17F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E7B1-6F52-4E3F-8214-A47F344B1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B1BF-1F63-47A9-9E8C-8BA5432D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DBAA-C4A2-4EE0-BB52-731F6AA7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D0D8-902F-43AC-9AD1-D539AFC2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E12E-574A-4F33-BF5F-1FA481DF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A455-78C9-4F9C-944A-C3146286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2013-C1D0-425C-AA7B-65D39E0D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34BC-4CBF-4315-86F3-6A5CA8CF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3075-1D86-46EC-8443-3FD49C24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C495-16E6-4656-8566-9F3948B8F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14:05:25Z</dcterms:created>
  <dc:creator>TC</dc:creator>
  <dc:description/>
  <dc:language>en-US</dc:language>
  <cp:lastModifiedBy>TC</cp:lastModifiedBy>
  <dcterms:modified xsi:type="dcterms:W3CDTF">2007-11-12T14:05:30Z</dcterms:modified>
  <cp:revision>1</cp:revision>
  <dc:subject/>
  <dc:title>Diapositiva 1</dc:title>
</cp:coreProperties>
</file>