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10.jpeg" ContentType="image/jpeg"/>
  <Override PartName="/ppt/media/image8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C46-7EC8-4FCD-BD11-7616FC8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FC4-1968-453E-8A39-9228A32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B04-26E9-4866-8457-FB88DE4F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5C2-6C11-4A69-B617-395324E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CD6-D639-4124-819A-451E5A1F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F89-076D-4EC4-A1C3-C4545B3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FD6-45DE-4592-AE79-CFEEE93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044-2026-46D9-B8A6-71FC0BA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5FD-A855-4AF7-AF74-CC82FF7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E11-0751-4C44-8C76-E4BB5AF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E2-0209-476F-BB97-97D9680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8D2-7CCD-4B09-B494-5176A7C7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265-D434-432B-B213-D1FFDC1EE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98432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bff53"/>
                </a:solidFill>
                <a:latin typeface="Book Antiqua"/>
              </a:rPr>
              <a:t>La PET/TC nella stadiazione e nella definizione dei volumi di trattamento radioterapico dei carcinomi del distretto cervico-cefa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4437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Radioterapia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Fisica Sanitaria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Medicina Nucle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57336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L.Deantonio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D.Beldì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G.Gambaro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P.La Mattina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G.Loi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M.Brambilla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E.Inglese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1" lang="fr-CH" sz="2000" spc="-1" strike="noStrike">
                <a:solidFill>
                  <a:srgbClr val="ffffff"/>
                </a:solidFill>
                <a:latin typeface="Book Antiqua"/>
              </a:rPr>
              <a:t>, M.Krengli </a:t>
            </a:r>
            <a:r>
              <a:rPr b="1" lang="fr-CH" sz="20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404640"/>
          <a:ext cx="8280360" cy="1368720"/>
        </p:xfrm>
        <a:graphic>
          <a:graphicData uri="http://schemas.openxmlformats.org/drawingml/2006/table">
            <a:tbl>
              <a:tblPr/>
              <a:tblGrid>
                <a:gridCol w="1366920"/>
                <a:gridCol w="5616360"/>
                <a:gridCol w="1297080"/>
              </a:tblGrid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AZIENDA OSPEDALIERA “MAGGIORE DELLA CARITA’ “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UNIVERSITA’ DEL PIEMONTE ORIENTALE “A. AVOGADRO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.C.D.U.   RADIOTERAP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Direttore Prof. Marco Kreng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39640" y="476280"/>
          <a:ext cx="12240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12240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74040" y="476280"/>
          <a:ext cx="103968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4040" y="476280"/>
                    <a:ext cx="1039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38040" y="4998960"/>
            <a:ext cx="1871640" cy="180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4000" y="5300640"/>
            <a:ext cx="35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XVII Congresso Nazionale AIRO Fire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0 – 13 Novembre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030320"/>
            <a:ext cx="3816360" cy="3046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Risultat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415120"/>
            <a:ext cx="8280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In 4/22 pz (18%) è stato modificato il piano di 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276640"/>
            <a:ext cx="17924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outT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5 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9880" y="2241720"/>
            <a:ext cx="2328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C&amp;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.2 cc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64240" y="2243160"/>
            <a:ext cx="232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out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1 cc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26920" y="3068640"/>
            <a:ext cx="1800360" cy="10080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450864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Daisn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et al.</a:t>
            </a: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Radiology 2004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: il 13% del volume PET coincide con quello d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TC, mentre l’80% del volume TC coincide  con           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   quello P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149720"/>
            <a:ext cx="849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7% : media percentuale volumi PET non inclusi nei volumi 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021360"/>
            <a:ext cx="883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476280"/>
                <a:tab algn="l" pos="95256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Koshy and Paulino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H&amp;N 2005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: integrazione con FDG-PET modifica il            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trattamento radioterapico in 25% dei ca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7280" y="77148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T-GTV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T-GTV  26 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Conclusioni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1560" y="19886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ato più suggestivo è l’inclusione di tessuto metabol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ttivo (27%) nel volume di trattamento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GEOGRAPHICAL MI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852640"/>
            <a:ext cx="7929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a nostra esperienza e la letteratura mostra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uolo potenzialmente rilevante della PET/TC nella stadiazione e nella pianificazione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etodica come valore aggiu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 dati non sono peraltro ancora sufficienti per considerare tale metodica come “standar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16564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er il futuro sono necessari ulteriori studi che abbiano come obiettiv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alutazione delle diverse sottosedi (orofaringe, rinofaringe, ec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udio del SUV (margini della lesion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rrelazione dato istolo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10717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ariazioni dei parametri T, N e M nel 36% dei ca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ariazioni dello stadio nel 27% dei ca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5410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a PET/T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Interesse nei confronti della metodica per l’importanza d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8140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Precisa stadiazi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8140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Precisa localizz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Il fine è garanti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8140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Miglior approccio terapeut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8140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Ottimizzazione della tecnica in caso di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3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Disponibili metodiche di elevata precisione, radiazioni con dive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effetto biologico e possibilità di “dose pain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Da qui necessità di associare tecniche morfologiche (TC, RM)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metodiche funzionali (PET, SPECT, M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Book Antiqua"/>
              </a:rPr>
              <a:t>A tutt’oggi relativamente pochi studi sull’uso di tale metodica nella pianificazione del trattamento 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copo del lavor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fronto delle immagini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-FDG-PET con le immagini TC nella stadiazione del tumore primitivo, delle metastasi linfonodali ed a dist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lutazione della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-FDG-PET nella definizione dei volumi di trattamento radioterap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1125000"/>
            <a:ext cx="3384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ttose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59280" y="1628640"/>
          <a:ext cx="4038480" cy="19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28640"/>
                    <a:ext cx="403848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1280" y="4438800"/>
          <a:ext cx="4038480" cy="208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438800"/>
                    <a:ext cx="40384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938920" y="1125360"/>
            <a:ext cx="208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di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4019400"/>
            <a:ext cx="2386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tolo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115920"/>
            <a:ext cx="339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asi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4419720"/>
          <a:ext cx="3300480" cy="2079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419720"/>
                    <a:ext cx="3300480" cy="20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86280" y="4019400"/>
            <a:ext cx="2386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t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98520" y="1622520"/>
            <a:ext cx="389232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765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22 pazienti: 18 M, 4 F con KPS 80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Risultat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189160" y="2276640"/>
          <a:ext cx="4543560" cy="4431960"/>
        </p:xfrm>
        <a:graphic>
          <a:graphicData uri="http://schemas.openxmlformats.org/drawingml/2006/table">
            <a:tbl>
              <a:tblPr/>
              <a:tblGrid>
                <a:gridCol w="485640"/>
                <a:gridCol w="1292400"/>
                <a:gridCol w="1347840"/>
                <a:gridCol w="141768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P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E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T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Rin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3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T4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Stadio 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av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3 N2c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00"/>
                          </a:solidFill>
                          <a:latin typeface="Book Antiqua"/>
                        </a:rPr>
                        <a:t>T3 N1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00"/>
                          </a:solidFill>
                          <a:latin typeface="Book Antiqua"/>
                        </a:rPr>
                        <a:t>Stadio 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p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3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T4 N2b M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Stadio I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r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1 N0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T2 N0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Stadio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r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2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00"/>
                          </a:solidFill>
                          <a:latin typeface="Book Antiqua"/>
                        </a:rPr>
                        <a:t>T1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p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4a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00"/>
                          </a:solidFill>
                          <a:latin typeface="Book Antiqua"/>
                        </a:rPr>
                        <a:t>T3 N2b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p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1 N0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T1 N1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Stadio 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pofari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2 N0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tadio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T2 N1 M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cc"/>
                          </a:solidFill>
                          <a:latin typeface="Book Antiqua"/>
                        </a:rPr>
                        <a:t>Stadio 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757600" y="2625840"/>
            <a:ext cx="1087200" cy="3715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589720"/>
            <a:ext cx="1087560" cy="3715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55800" y="3716280"/>
            <a:ext cx="1087560" cy="3715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5760" y="1523880"/>
            <a:ext cx="87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Koshy e Paulino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et al.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H&amp;N 2005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: la PET ha alterato il TNM in 13/36 pz e lo 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stadio in 5/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836640"/>
            <a:ext cx="799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fferenze nella classificazione TNM tra TC e PET: 8/22 (36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fferenze nello stadio: 6/22 pazienti (27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70680" y="5445000"/>
            <a:ext cx="265320" cy="19368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70680" y="5877000"/>
            <a:ext cx="265320" cy="1936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07280" y="5445000"/>
            <a:ext cx="1728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Book Antiqua"/>
              </a:rPr>
              <a:t>Sovrastadiazi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7280" y="5878440"/>
            <a:ext cx="1728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ottostadiazi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589560" cy="338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2776680" cy="3290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Risultati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92720" y="2779560"/>
            <a:ext cx="3159000" cy="331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0044200">
            <a:off x="2700000" y="3789000"/>
            <a:ext cx="1041480" cy="216000"/>
          </a:xfrm>
          <a:prstGeom prst="leftArrow">
            <a:avLst>
              <a:gd name="adj1" fmla="val 50000"/>
              <a:gd name="adj2" fmla="val 12054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915600">
            <a:off x="5363640" y="3860280"/>
            <a:ext cx="1041480" cy="216000"/>
          </a:xfrm>
          <a:prstGeom prst="leftArrow">
            <a:avLst>
              <a:gd name="adj1" fmla="val 50000"/>
              <a:gd name="adj2" fmla="val 12054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671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Ca indifferenziato della Rinofaringe T3 N2b M0 (TC) T4 N2b M0 (P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 Antiqua"/>
              </a:rPr>
              <a:t>Ca squamocellulare G2 dell’ipofaringe T3 N2b M0 (TC) T4 N2b M1 (P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283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328920"/>
            <a:ext cx="4083120" cy="297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12603600">
            <a:off x="971640" y="3051000"/>
            <a:ext cx="1039680" cy="216000"/>
          </a:xfrm>
          <a:prstGeom prst="leftArrow">
            <a:avLst>
              <a:gd name="adj1" fmla="val 50000"/>
              <a:gd name="adj2" fmla="val 12033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2603600">
            <a:off x="5508720" y="4149720"/>
            <a:ext cx="1039680" cy="216000"/>
          </a:xfrm>
          <a:prstGeom prst="leftArrow">
            <a:avLst>
              <a:gd name="adj1" fmla="val 50000"/>
              <a:gd name="adj2" fmla="val 12033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313080" cy="3457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 squamocellulare G1 dell’ipofaringe T1 N0 M0 (TC) T1 N1 M0 (P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133400">
            <a:off x="7884720" y="3933360"/>
            <a:ext cx="1041480" cy="216000"/>
          </a:xfrm>
          <a:prstGeom prst="leftArrow">
            <a:avLst>
              <a:gd name="adj1" fmla="val 50000"/>
              <a:gd name="adj2" fmla="val 12054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410508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d"/>
            </a:gs>
            <a:gs pos="50000">
              <a:srgbClr val="000099"/>
            </a:gs>
            <a:gs pos="100000">
              <a:srgbClr val="0000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44480" y="1599840"/>
            <a:ext cx="77882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edia dei volumi GTV-TC 20.0 cc, GTV-PET 17.2 cc (p=0.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Risultati</a:t>
            </a: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575080"/>
            <a:ext cx="835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lnSpc>
                <a:spcPct val="100000"/>
              </a:lnSpc>
              <a:tabLst>
                <a:tab algn="l" pos="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Schwartz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et al.</a:t>
            </a:r>
            <a:r>
              <a:rPr b="0" i="1" lang="it-IT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IJROBP 2005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: non differenze statisticamente significative         nel confronto dei  GTV di 19 pz con carcinomi di capo-c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7558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3720" indent="-27637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Scarfon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et al.</a:t>
            </a:r>
            <a:r>
              <a:rPr b="0" i="1" lang="it-IT" sz="20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JNM 2004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: non differenze statisticamente significative dal      confronto di 5 p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3720" indent="-27637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6324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3720" indent="-27637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Heron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Book Antiqua"/>
              </a:rPr>
              <a:t>et al.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Book Antiqua"/>
              </a:rPr>
              <a:t>IJROBP 2004</a:t>
            </a:r>
            <a:r>
              <a:rPr b="0" lang="it-IT" sz="16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it-IT" sz="2000" spc="-1" strike="noStrike">
                <a:solidFill>
                  <a:srgbClr val="ffffff"/>
                </a:solidFill>
                <a:latin typeface="Book Antiqua"/>
              </a:rPr>
              <a:t> : riduzione statisticamente significativa (p=0.002) del GTV-PET in un campione di 21 p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11:22Z</dcterms:created>
  <dc:creator>cecilia</dc:creator>
  <dc:description/>
  <dc:language>en-US</dc:language>
  <cp:lastModifiedBy>TC</cp:lastModifiedBy>
  <dcterms:modified xsi:type="dcterms:W3CDTF">2007-11-10T11:46:44Z</dcterms:modified>
  <cp:revision>124</cp:revision>
  <dc:subject/>
  <dc:title>Diapositiva 1</dc:title>
</cp:coreProperties>
</file>