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1DB-4D54-4B3A-B74A-38C04D0B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0AE-E56B-49ED-B658-2808055E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318-FD9E-40D0-B48F-2CDB6CD1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935-2B83-4D68-A285-4B83F2DC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1A60-8C72-4A9D-96C1-568F1AF8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E91A-CA39-4C14-8556-1A49486B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7E38-FFDE-490E-A611-85050C8E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605B-6B74-4E36-9C39-D3281F90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58BF-FB39-4B60-A2F0-26221B80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364A-0C0F-4550-AB03-FA414CBB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F9C9-40FA-4B3A-A2A9-312E1A20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BFB-EFD7-494D-92F3-D8ECFA50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EBBD-844F-42EA-A6DB-9FA8220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A1E1-F68A-4557-9730-D8FB3AB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1530-C930-4059-AA5D-FAAC19EC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C8C8-9CEA-4804-BDEB-AD771D0A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C98B-D7BC-4DF7-94B9-AF702B09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7D9-0D55-4ACA-AEF7-87DAE2AE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A1F-0DEA-480C-8409-0A1CA443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F2E-AEFE-4CFF-950C-6B7F8CDC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8D0-E4FE-4B43-A645-EE052AD7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5BF-12BA-482E-B019-BFDD36A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1B9-0707-467A-9825-55458DA2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0E73-94B1-41C4-A8B5-6469C50A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2C19-CFDA-4789-9E23-93B13A40C2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622C-BFA6-4F64-B820-0C5759D58D7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2276280"/>
            <a:ext cx="4897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eaeaea"/>
                </a:solidFill>
                <a:latin typeface="Comic Sans MS"/>
              </a:rPr>
              <a:t>Quando il boost può</a:t>
            </a:r>
            <a:br>
              <a:rPr sz="3200"/>
            </a:br>
            <a:r>
              <a:rPr b="1" lang="it-IT" sz="3200" spc="-1" strike="noStrike">
                <a:solidFill>
                  <a:srgbClr val="eaeaea"/>
                </a:solidFill>
                <a:latin typeface="Comic Sans MS"/>
              </a:rPr>
              <a:t> non essere indicato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192720" y="4941360"/>
            <a:ext cx="295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. Fatig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U.O. Radioterapia Università di Pi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630864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Firenze, Novembre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80360" y="2852640"/>
            <a:ext cx="1582560" cy="1586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0" t="0" r="0" b="23621"/>
          <a:stretch/>
        </p:blipFill>
        <p:spPr>
          <a:xfrm>
            <a:off x="1403280" y="4581360"/>
            <a:ext cx="1609920" cy="172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1280" y="404640"/>
            <a:ext cx="8532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La pianificazione del boost nel trattamento adiuva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del carcinoma mammario: indicazioni e controver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63280" y="2565000"/>
            <a:ext cx="60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lto gr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nvasione vascol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ecettori negativ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elevato indice mito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perespressione p5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42560" y="1916280"/>
            <a:ext cx="77058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isultati a 5 anni dello studio EORTC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ffff99"/>
                </a:solidFill>
                <a:latin typeface="Comic Sans MS"/>
              </a:rPr>
              <a:t>Età superiore a 50 anni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considerata     un riferimento per suddividere  le pazienti tra</a:t>
            </a: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 boost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non bo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616572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Bartelink H.: N. Engl. J. Med.,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4581360"/>
            <a:ext cx="7056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Comic Sans MS"/>
              </a:rPr>
              <a:t>Valutazione estetica a 3 anni: Risultato buono/eccell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99"/>
                </a:solidFill>
                <a:latin typeface="Comic Sans MS"/>
              </a:rPr>
              <a:t>nell’86% delle pazienti senza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99"/>
                </a:solidFill>
                <a:latin typeface="Comic Sans MS"/>
              </a:rPr>
              <a:t>nel 71% di quelle con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4508640"/>
            <a:ext cx="7272360" cy="1439640"/>
          </a:xfrm>
          <a:prstGeom prst="rect">
            <a:avLst/>
          </a:pr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1260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Comic Sans MS"/>
              </a:rPr>
              <a:t>Recidiva locale a 10 anni:</a:t>
            </a:r>
            <a:br>
              <a:rPr sz="2800"/>
            </a:br>
            <a:r>
              <a:rPr b="1" lang="it-IT" sz="2800" spc="-1" strike="noStrike">
                <a:solidFill>
                  <a:srgbClr val="eaeaea"/>
                </a:solidFill>
                <a:latin typeface="Comic Sans MS"/>
              </a:rPr>
              <a:t>10.2% senza boost</a:t>
            </a:r>
            <a:br>
              <a:rPr sz="2800"/>
            </a:br>
            <a:r>
              <a:rPr b="1" lang="it-IT" sz="2800" spc="-1" strike="noStrike">
                <a:solidFill>
                  <a:srgbClr val="eaeaea"/>
                </a:solidFill>
                <a:latin typeface="Comic Sans MS"/>
              </a:rPr>
              <a:t>6.2% con boost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18896"/>
          <a:stretch/>
        </p:blipFill>
        <p:spPr>
          <a:xfrm>
            <a:off x="971640" y="1916280"/>
            <a:ext cx="7920000" cy="464472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227640" y="2852640"/>
            <a:ext cx="1635120" cy="432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2781360"/>
            <a:ext cx="1439640" cy="433440"/>
          </a:xfrm>
          <a:prstGeom prst="ellipse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710480" cy="1179360"/>
          </a:xfrm>
          <a:prstGeom prst="rect">
            <a:avLst/>
          </a:prstGeom>
          <a:noFill/>
          <a:ln w="19080">
            <a:solidFill>
              <a:srgbClr val="00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Incidenza di recidiva per età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 follow-up a 10 anni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26027"/>
          <a:stretch/>
        </p:blipFill>
        <p:spPr>
          <a:xfrm>
            <a:off x="900000" y="1989000"/>
            <a:ext cx="7848720" cy="460872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2953" t="4656" r="0" b="57142"/>
          <a:stretch/>
        </p:blipFill>
        <p:spPr>
          <a:xfrm>
            <a:off x="250920" y="2276640"/>
            <a:ext cx="8640720" cy="424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27280" y="2492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lt; 40 anni: da 24% a 1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270828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1-50 anni:  da 12.5% a 8.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84360" y="2349360"/>
            <a:ext cx="1871640" cy="863640"/>
          </a:xfrm>
          <a:prstGeom prst="ellipse">
            <a:avLst/>
          </a:prstGeom>
          <a:noFill/>
          <a:ln w="1908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59640" y="2492280"/>
            <a:ext cx="2160360" cy="1008000"/>
          </a:xfrm>
          <a:prstGeom prst="ellipse">
            <a:avLst/>
          </a:prstGeom>
          <a:noFill/>
          <a:ln w="1908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692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cidenza recidiva per e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1772" t="54175" r="0" b="7618"/>
          <a:stretch/>
        </p:blipFill>
        <p:spPr>
          <a:xfrm>
            <a:off x="250920" y="2060640"/>
            <a:ext cx="8713800" cy="424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43280" y="234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1-60 anni: da 7.8% a 4.9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48360" y="2349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&gt; 60 anni:  da 7.3 a 3.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27280" y="2276640"/>
            <a:ext cx="2232000" cy="792000"/>
          </a:xfrm>
          <a:prstGeom prst="ellipse">
            <a:avLst/>
          </a:prstGeom>
          <a:noFill/>
          <a:ln w="1908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48360" y="2205000"/>
            <a:ext cx="1871640" cy="1008000"/>
          </a:xfrm>
          <a:prstGeom prst="ellipse">
            <a:avLst/>
          </a:prstGeom>
          <a:noFill/>
          <a:ln w="1908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765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cidenza recidiva per e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745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Comic Sans MS"/>
              </a:rPr>
              <a:t>Valutazione risultato estetico boost/no boos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7128000" cy="4608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16360" y="2205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Fibrosi severa o moderata: dal 13% al 28% con bo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6000" y="2060640"/>
            <a:ext cx="3745080" cy="936720"/>
          </a:xfrm>
          <a:prstGeom prst="ellipse">
            <a:avLst/>
          </a:prstGeom>
          <a:noFill/>
          <a:ln w="1908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116000" y="2420640"/>
            <a:ext cx="770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l boost  migliora il controllo locale  in tutti i gruppi di età (significatività statisti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La differenza  assoluta di incidenza della recidiva locale  tra boost e no boost è maggiore nelle pazienti più giovan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620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EORTC 22881-108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Fattori implicati nel controllo locale della neoplasia mamm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7850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et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Comic Sans MS"/>
              </a:rPr>
              <a:t>stato dei margi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gr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dimensioni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ecettori negati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lta frazione di cresc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aeaea"/>
                </a:solidFill>
                <a:latin typeface="Comic Sans MS"/>
              </a:rPr>
              <a:t>Boost e margini di exeres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siduo  microscopic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ischio di recidiv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 flipV="1" rot="27600">
            <a:off x="1835280" y="2491920"/>
            <a:ext cx="841320" cy="647640"/>
          </a:xfrm>
          <a:custGeom>
            <a:avLst/>
            <a:gdLst>
              <a:gd name="textAreaLeft" fmla="*/ 0 w 841320"/>
              <a:gd name="textAreaRight" fmla="*/ 841680 w 84132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54" stAng="10800000" swAng="5400000"/>
                <a:lnTo>
                  <a:pt x="15589" y="3206"/>
                </a:lnTo>
                <a:lnTo>
                  <a:pt x="15589" y="0"/>
                </a:lnTo>
                <a:lnTo>
                  <a:pt x="21600" y="6079"/>
                </a:lnTo>
                <a:lnTo>
                  <a:pt x="15589" y="12158"/>
                </a:lnTo>
                <a:lnTo>
                  <a:pt x="15589" y="8952"/>
                </a:lnTo>
                <a:lnTo>
                  <a:pt x="12427" y="8952"/>
                </a:lnTo>
                <a:arcTo wR="6681" hR="3208" stAng="16200000" swAng="-5400000"/>
                <a:lnTo>
                  <a:pt x="5746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5445000"/>
            <a:ext cx="6120000" cy="1152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5445000"/>
            <a:ext cx="58323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assenza di residuo, 50 Gy suffici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 controllare la malatt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3357720"/>
            <a:ext cx="59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ositività microscopica dei marg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vato fallimento di RT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04000" y="3500280"/>
            <a:ext cx="444600" cy="792360"/>
          </a:xfrm>
          <a:custGeom>
            <a:avLst/>
            <a:gdLst>
              <a:gd name="textAreaLeft" fmla="*/ 59400 w 444600"/>
              <a:gd name="textAreaRight" fmla="*/ 385200 w 44460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3280" y="45086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euschatz:   Cancer,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3280" y="4437000"/>
            <a:ext cx="338472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80000" y="5445000"/>
            <a:ext cx="3671640" cy="115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2163 pts stadio I-II con margini inden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378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843000">
            <a:off x="1490400" y="3844440"/>
            <a:ext cx="976320" cy="287280"/>
          </a:xfrm>
          <a:prstGeom prst="leftArrow">
            <a:avLst>
              <a:gd name="adj1" fmla="val 50000"/>
              <a:gd name="adj2" fmla="val 8496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3867120" y="3989520"/>
            <a:ext cx="976320" cy="287280"/>
          </a:xfrm>
          <a:prstGeom prst="leftArrow">
            <a:avLst>
              <a:gd name="adj1" fmla="val 50000"/>
              <a:gd name="adj2" fmla="val 84962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4247600">
            <a:off x="6603840" y="3844440"/>
            <a:ext cx="976320" cy="287640"/>
          </a:xfrm>
          <a:prstGeom prst="leftArrow">
            <a:avLst>
              <a:gd name="adj1" fmla="val 50000"/>
              <a:gd name="adj2" fmla="val 848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6530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tecto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47242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65300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Quadrantecto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43640" y="4653000"/>
            <a:ext cx="24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Quadrantectomia + RT (50 G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 rot="5283000">
            <a:off x="7769880" y="5126040"/>
            <a:ext cx="587520" cy="1224000"/>
          </a:xfrm>
          <a:custGeom>
            <a:avLst/>
            <a:gdLst>
              <a:gd name="textAreaLeft" fmla="*/ 195840 w 587520"/>
              <a:gd name="textAreaRight" fmla="*/ 503280 w 58752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5589720"/>
            <a:ext cx="31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duzione recidiva lo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l 39% al 1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38440" y="53352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SAPB B-06 (1976-198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Comic Sans MS"/>
              </a:rPr>
              <a:t>Boost e margini di exeresi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Pezner (1994): 153 pts stadio I-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it-IT" sz="2800" spc="-1" strike="noStrike">
                <a:solidFill>
                  <a:srgbClr val="ffff66"/>
                </a:solidFill>
                <a:latin typeface="Comic Sans MS"/>
              </a:rPr>
              <a:t>Margini inden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it-IT" sz="2800" spc="-1" strike="noStrike">
                <a:solidFill>
                  <a:srgbClr val="ffff66"/>
                </a:solidFill>
                <a:latin typeface="Comic Sans MS"/>
              </a:rPr>
              <a:t>Ch. conservativa + 50 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6049800" y="2887560"/>
            <a:ext cx="585720" cy="372960"/>
          </a:xfrm>
          <a:custGeom>
            <a:avLst/>
            <a:gdLst>
              <a:gd name="textAreaLeft" fmla="*/ 91440 w 585720"/>
              <a:gd name="textAreaRight" fmla="*/ 512640 w 585720"/>
              <a:gd name="textAreaTop" fmla="*/ 93240 h 372960"/>
              <a:gd name="textAreaBottom" fmla="*/ 279720 h 372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284720" cy="1008000"/>
          </a:xfrm>
          <a:prstGeom prst="ellipse">
            <a:avLst/>
          </a:prstGeom>
          <a:solidFill>
            <a:srgbClr val="66ccff"/>
          </a:solidFill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ontrollo locale a 5 a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96-97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46530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Douglas (2006):  205 pts stadio I-II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666000">
            <a:off x="4105080" y="4182480"/>
            <a:ext cx="585720" cy="372960"/>
          </a:xfrm>
          <a:custGeom>
            <a:avLst/>
            <a:gdLst>
              <a:gd name="textAreaLeft" fmla="*/ 91440 w 585720"/>
              <a:gd name="textAreaRight" fmla="*/ 512640 w 585720"/>
              <a:gd name="textAreaTop" fmla="*/ 93240 h 372960"/>
              <a:gd name="textAreaBottom" fmla="*/ 279720 h 372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5661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ccff"/>
                </a:solidFill>
                <a:latin typeface="Comic Sans MS"/>
              </a:rPr>
              <a:t>Maggior incidenza di recidive in pts di età &lt; 50aa. (13% vs 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5661000"/>
            <a:ext cx="802800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8028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Comic Sans MS"/>
              </a:rPr>
              <a:t>Analisi univariata parametri di rischio   per recidiva locale   </a:t>
            </a:r>
            <a:r>
              <a:rPr b="1" lang="it-IT" sz="2800" spc="-1" strike="noStrike">
                <a:solidFill>
                  <a:srgbClr val="eaeaea"/>
                </a:solidFill>
                <a:latin typeface="Tahoma"/>
              </a:rPr>
              <a:t> (</a:t>
            </a:r>
            <a:r>
              <a:rPr b="1" lang="it-IT" sz="2800" spc="-1" strike="noStrike">
                <a:solidFill>
                  <a:srgbClr val="eaeaea"/>
                </a:solidFill>
                <a:latin typeface="Comic Sans MS"/>
              </a:rPr>
              <a:t>EORTC 22881-10882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6000" y="2349360"/>
            <a:ext cx="7608960" cy="31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Giovane età                      </a:t>
            </a:r>
            <a:r>
              <a:rPr b="0" i="1" lang="it-IT" sz="2800" spc="-1" strike="noStrike">
                <a:solidFill>
                  <a:srgbClr val="ffffff"/>
                </a:solidFill>
                <a:latin typeface="Comic Sans MS"/>
              </a:rPr>
              <a:t> p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&lt; .0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lto grading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Maggiori dimensioni di T    </a:t>
            </a:r>
            <a:r>
              <a:rPr b="0" i="1" lang="it-IT" sz="2800" spc="-1" strike="noStrike">
                <a:solidFill>
                  <a:srgbClr val="ffffff"/>
                </a:solidFill>
                <a:latin typeface="Comic Sans MS"/>
              </a:rPr>
              <a:t>p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= .00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ER e PgR negativi               </a:t>
            </a:r>
            <a:r>
              <a:rPr b="0" i="1" lang="it-IT" sz="2800" spc="-1" strike="noStrike">
                <a:solidFill>
                  <a:srgbClr val="ffffff"/>
                </a:solidFill>
                <a:latin typeface="Comic Sans MS"/>
              </a:rPr>
              <a:t>p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=.00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Margini  inferiori a 5 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558972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Età, alto grading e stato premenopausale statisticamente significa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445000"/>
            <a:ext cx="626436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Comic Sans MS"/>
              </a:rPr>
              <a:t>Analisi multivariata parametri di rischio</a:t>
            </a:r>
            <a:r>
              <a:rPr b="1" lang="it-IT" sz="40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eaeaea"/>
                </a:solidFill>
                <a:latin typeface="Comic Sans MS"/>
              </a:rPr>
              <a:t>per recidiva locale</a:t>
            </a:r>
            <a:r>
              <a:rPr b="1" lang="it-IT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eaeaea"/>
                </a:solidFill>
                <a:latin typeface="Comic Sans MS"/>
              </a:rPr>
              <a:t>EORTC 22881-10882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280" y="2492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Et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Dimensioni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Elevato gr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124000" y="4508640"/>
            <a:ext cx="5256360" cy="165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84360" y="494172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’età rimane il più importante fattore prognostico p= .0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74960" y="487080"/>
            <a:ext cx="594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zienti trattate e stima di recid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 diverse fasce di et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71640" y="2060640"/>
          <a:ext cx="7921440" cy="4546440"/>
        </p:xfrm>
        <a:graphic>
          <a:graphicData uri="http://schemas.openxmlformats.org/drawingml/2006/table">
            <a:tbl>
              <a:tblPr/>
              <a:tblGrid>
                <a:gridCol w="2933640"/>
                <a:gridCol w="1906560"/>
                <a:gridCol w="3081240"/>
              </a:tblGrid>
              <a:tr h="107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glia di età (anni) per il trattam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olazione tratt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idiva locale a 5 anni in tutta la popolazione in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No bo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essu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Comic Sans MS"/>
                        </a:rPr>
                        <a:t>6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zienti &lt;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zienti &lt;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zienti &lt;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zienti &lt;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Boost  a tutte le pazienti (&lt;7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t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3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7667640" y="5445000"/>
            <a:ext cx="1225440" cy="649440"/>
          </a:xfrm>
          <a:prstGeom prst="rect">
            <a:avLst/>
          </a:prstGeom>
          <a:solidFill>
            <a:srgbClr val="00ccff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40720" y="5516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.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5373720"/>
            <a:ext cx="431640" cy="792000"/>
          </a:xfrm>
          <a:custGeom>
            <a:avLst/>
            <a:gdLst>
              <a:gd name="textAreaLeft" fmla="*/ 57600 w 431640"/>
              <a:gd name="textAreaRight" fmla="*/ 374040 w 431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3213000"/>
            <a:ext cx="431640" cy="3456000"/>
          </a:xfrm>
          <a:custGeom>
            <a:avLst/>
            <a:gdLst>
              <a:gd name="textAreaLeft" fmla="*/ 57600 w 431640"/>
              <a:gd name="textAreaRight" fmla="*/ 374040 w 431640"/>
              <a:gd name="textAreaTop" fmla="*/ 674280 h 3456000"/>
              <a:gd name="textAreaBottom" fmla="*/ 243576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32" stAng="-5400000" swAng="-5400000"/>
                <a:lnTo>
                  <a:pt x="0" y="11008"/>
                </a:lnTo>
                <a:arcTo wR="21600" hR="8432" stAng="10800000" swAng="-3082388"/>
                <a:lnTo>
                  <a:pt x="15168" y="21217"/>
                </a:lnTo>
                <a:lnTo>
                  <a:pt x="21600" y="18152"/>
                </a:lnTo>
                <a:lnTo>
                  <a:pt x="15168" y="14321"/>
                </a:lnTo>
                <a:lnTo>
                  <a:pt x="15168" y="16481"/>
                </a:lnTo>
                <a:arcTo wR="21600" hR="8432" stAng="7717612" swAng="2875214"/>
                <a:lnTo>
                  <a:pt x="253" y="9720"/>
                </a:lnTo>
                <a:arcTo wR="21600" hR="8432" stAng="-10592825" swAng="5192825"/>
                <a:close/>
              </a:path>
              <a:path fill="darkenLess" w="21600" h="21600">
                <a:moveTo>
                  <a:pt x="21600" y="0"/>
                </a:moveTo>
                <a:arcTo wR="21600" hR="8432" stAng="-5400000" swAng="-5400000"/>
                <a:lnTo>
                  <a:pt x="0" y="8432"/>
                </a:lnTo>
                <a:arcTo wR="21600" hR="8432" stAng="10800000" swAng="-207175"/>
                <a:lnTo>
                  <a:pt x="253" y="9720"/>
                </a:lnTo>
                <a:arcTo wR="21600" hR="8432" stAng="-10592825" swAng="519282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rcRect l="0" t="0" r="0" b="13229"/>
          <a:stretch/>
        </p:blipFill>
        <p:spPr>
          <a:xfrm>
            <a:off x="324000" y="1125360"/>
            <a:ext cx="8569080" cy="5492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003640" y="3068640"/>
            <a:ext cx="349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pravvivenza glob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entrambi i gruppi: 81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2360" y="2997360"/>
            <a:ext cx="3600360" cy="1008000"/>
          </a:xfrm>
          <a:prstGeom prst="rect">
            <a:avLst/>
          </a:prstGeom>
          <a:noFill/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Recidiva locale e sopravvivenz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Aspett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glior controllo loc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370120" y="3782880"/>
            <a:ext cx="833400" cy="414360"/>
          </a:xfrm>
          <a:custGeom>
            <a:avLst/>
            <a:gdLst>
              <a:gd name="textAreaLeft" fmla="*/ 129960 w 833400"/>
              <a:gd name="textAreaRight" fmla="*/ 729360 w 83340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74920" y="4653000"/>
            <a:ext cx="67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mento della sopravvivenz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particolare nelle pazienti più giov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95640" y="4581360"/>
            <a:ext cx="6769080" cy="151164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omic Sans MS"/>
              </a:rPr>
              <a:t>Conclusion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Una </a:t>
            </a: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dose boost di 16 Gy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riduce l’incidenza di recidiva locale nella totalità delle pazienti da </a:t>
            </a:r>
            <a:r>
              <a:rPr b="0" lang="it-IT" sz="2400" spc="-1" strike="noStrike">
                <a:solidFill>
                  <a:srgbClr val="ffff99"/>
                </a:solidFill>
                <a:latin typeface="Comic Sans MS"/>
              </a:rPr>
              <a:t>6.9% a 3.8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99"/>
                </a:solidFill>
                <a:latin typeface="Comic Sans MS"/>
              </a:rPr>
              <a:t>Il beneficio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è più pronunciato nelle pazienti giovani, ma </a:t>
            </a:r>
            <a:r>
              <a:rPr b="0" lang="it-IT" sz="2400" spc="-1" strike="noStrike">
                <a:solidFill>
                  <a:srgbClr val="ffcc99"/>
                </a:solidFill>
                <a:latin typeface="Comic Sans MS"/>
              </a:rPr>
              <a:t>si mantiene fino a 60 an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Comic Sans MS"/>
              </a:rPr>
              <a:t>Omettendo il boost oltre 60 ann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l’incremento di recidiva nelle pazienti sarebbe solo </a:t>
            </a:r>
            <a:r>
              <a:rPr b="0" lang="it-IT" sz="2400" spc="-1" strike="noStrike">
                <a:solidFill>
                  <a:srgbClr val="66ffff"/>
                </a:solidFill>
                <a:latin typeface="Comic Sans MS"/>
              </a:rPr>
              <a:t>0.6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15640" y="1557360"/>
            <a:ext cx="7777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vitare la recidiva locale, anche  se         non incide significativamente sulla sopravvivenza, può risultare un beneficio per la  singola pazi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751280" y="6021360"/>
            <a:ext cx="37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BCTCG: Lancet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3280" y="5877000"/>
            <a:ext cx="3889440" cy="7920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00080" y="4149720"/>
            <a:ext cx="82332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 4 recidive evitate, si  potrebbe risparmi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 morte per neoplasia mamme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i successivi 15 an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0" t="0" r="0" b="4200"/>
          <a:stretch/>
        </p:blipFill>
        <p:spPr>
          <a:xfrm>
            <a:off x="1403280" y="1989000"/>
            <a:ext cx="7158240" cy="4659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124000" y="836640"/>
            <a:ext cx="190512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razie !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405144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31640" y="404640"/>
            <a:ext cx="727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attamento convenzionale nella neoplasia mammaria stadio I-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519280" y="2492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adrantecto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3789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T su mammella residua (45-50 G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515772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Boost sul letto tumorale (10-16 G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652720" y="2851200"/>
            <a:ext cx="934920" cy="649080"/>
          </a:xfrm>
          <a:custGeom>
            <a:avLst/>
            <a:gdLst>
              <a:gd name="textAreaLeft" fmla="*/ 0 w 934920"/>
              <a:gd name="textAreaRight" fmla="*/ 935280 w 9349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 rot="5180400">
            <a:off x="1585800" y="4111200"/>
            <a:ext cx="1001880" cy="646200"/>
          </a:xfrm>
          <a:custGeom>
            <a:avLst/>
            <a:gdLst>
              <a:gd name="textAreaLeft" fmla="*/ 0 w 1001880"/>
              <a:gd name="textAreaRight" fmla="*/ 1002240 w 1001880"/>
              <a:gd name="textAreaTop" fmla="*/ -360 h 646200"/>
              <a:gd name="textAreaBottom" fmla="*/ 646200 h 646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0" b="8504"/>
          <a:stretch/>
        </p:blipFill>
        <p:spPr>
          <a:xfrm>
            <a:off x="1332000" y="1916280"/>
            <a:ext cx="720072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3691" r="0" b="0"/>
          <a:stretch/>
        </p:blipFill>
        <p:spPr>
          <a:xfrm>
            <a:off x="1692360" y="2006640"/>
            <a:ext cx="6696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39720" y="1981080"/>
            <a:ext cx="6993000" cy="43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84872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8558" t="0" r="0" b="22163"/>
          <a:stretch/>
        </p:blipFill>
        <p:spPr>
          <a:xfrm>
            <a:off x="900000" y="1903320"/>
            <a:ext cx="7780320" cy="46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Neuschatz: 498 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579320" y="54936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Comic Sans MS"/>
              </a:rPr>
              <a:t>Boost e margini di exer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306864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h conservativa + 50 Gy WB + boost da 10 a 20 Gy in funzione di ampiezza  e stato dei marg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5589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ollow-up a 10 a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5445000"/>
            <a:ext cx="3313080" cy="8636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63640" y="407664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99"/>
                </a:solidFill>
                <a:latin typeface="Comic Sans MS"/>
              </a:rPr>
              <a:t>Maggior dose boost riduce la recidiva locale a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5 anni </a:t>
            </a:r>
            <a:r>
              <a:rPr b="0" lang="it-IT" sz="2000" spc="-1" strike="noStrike">
                <a:solidFill>
                  <a:srgbClr val="ffff99"/>
                </a:solidFill>
                <a:latin typeface="Comic Sans MS"/>
              </a:rPr>
              <a:t>indipendentemente dallo stato dei marg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00720" y="5734080"/>
            <a:ext cx="688680" cy="341280"/>
          </a:xfrm>
          <a:custGeom>
            <a:avLst/>
            <a:gdLst>
              <a:gd name="textAreaLeft" fmla="*/ 107640 w 688680"/>
              <a:gd name="textAreaRight" fmla="*/ 602640 w 688680"/>
              <a:gd name="textAreaTop" fmla="*/ 85320 h 341280"/>
              <a:gd name="textAreaBottom" fmla="*/ 255960 h 34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5173920" y="2178720"/>
            <a:ext cx="814320" cy="86652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520"/>
              <a:gd name="textAreaBottom" fmla="*/ 86688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92720" y="544500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e margini </a:t>
            </a:r>
            <a:r>
              <a:rPr b="0" lang="it-IT" sz="2000" spc="-1" strike="noStrike">
                <a:solidFill>
                  <a:srgbClr val="ffff99"/>
                </a:solidFill>
                <a:latin typeface="Comic Sans MS"/>
              </a:rPr>
              <a:t>positiv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, aumento recidiva locale indipendente dalla dos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5229360"/>
            <a:ext cx="3708360" cy="1368360"/>
          </a:xfrm>
          <a:prstGeom prst="rect">
            <a:avLst/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Comic Sans MS"/>
              </a:rPr>
              <a:t>Boost </a:t>
            </a:r>
            <a:br>
              <a:rPr sz="3600"/>
            </a:br>
            <a:r>
              <a:rPr b="1" lang="it-IT" sz="3600" spc="-1" strike="noStrike">
                <a:solidFill>
                  <a:srgbClr val="eaeaea"/>
                </a:solidFill>
                <a:latin typeface="Comic Sans MS"/>
              </a:rPr>
              <a:t>Argomenti  </a:t>
            </a:r>
            <a:r>
              <a:rPr b="1" lang="it-IT" sz="3600" spc="-1" strike="noStrike">
                <a:solidFill>
                  <a:srgbClr val="ffff00"/>
                </a:solidFill>
                <a:latin typeface="Comic Sans MS"/>
              </a:rPr>
              <a:t>pro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898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 recidiva  locale espone ad un maggior rischio di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alattia a distanza</a:t>
            </a: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de di recidiva prevalente nell’area    del tumore primario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r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cidiva vera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Nuova lesione prim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5084640"/>
            <a:ext cx="4897440" cy="10810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ffff"/>
                </a:solidFill>
                <a:latin typeface="Comic Sans MS"/>
              </a:rPr>
              <a:t>Boost</a:t>
            </a:r>
            <a:br>
              <a:rPr sz="3200"/>
            </a:br>
            <a:r>
              <a:rPr b="1" lang="it-IT" sz="3200" spc="-1" strike="noStrike">
                <a:solidFill>
                  <a:srgbClr val="eaeaea"/>
                </a:solidFill>
                <a:latin typeface="Comic Sans MS"/>
              </a:rPr>
              <a:t>Argomenti </a:t>
            </a:r>
            <a:r>
              <a:rPr b="1" lang="it-IT" sz="3200" spc="-1" strike="noStrike">
                <a:solidFill>
                  <a:srgbClr val="66ffff"/>
                </a:solidFill>
                <a:latin typeface="Comic Sans MS"/>
              </a:rPr>
              <a:t>contro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6920" y="2491920"/>
            <a:ext cx="7543800" cy="34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ccff"/>
                </a:solidFill>
                <a:latin typeface="Comic Sans MS"/>
              </a:rPr>
              <a:t>Risultato estetico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più scadente con bo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Omettere il boost riduce </a:t>
            </a:r>
            <a:r>
              <a:rPr b="0" lang="it-IT" sz="3200" spc="-1" strike="noStrike">
                <a:solidFill>
                  <a:srgbClr val="33ccff"/>
                </a:solidFill>
                <a:latin typeface="Comic Sans MS"/>
              </a:rPr>
              <a:t>tempi e costi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 del trattam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Comic Sans MS"/>
              </a:rPr>
              <a:t>Boost sul letto tumorale 10-16 Gy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rovers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Effettuarlo sempre o n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’è un rapporto costo-benefici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ale tecn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Quale livello di dos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Fattori implicati nel controllo locale della neoplasia mammar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7850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et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dimensioni 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gr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stato dei margi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ecettori negati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lta frazione di cresc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EORTC 22881-10882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8980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5318 pts con stadio I-II, margini inden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 rot="7318800">
            <a:off x="2670480" y="2953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3339000">
            <a:off x="5550120" y="2953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3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WB 50 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3860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WB 50 Gy + 16 Gy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472428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ecidiva locale a 5 anni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7.3%                 p&lt; .001                       4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797360"/>
            <a:ext cx="7199280" cy="100800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86920" y="1988640"/>
            <a:ext cx="712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Recidiva a 5 anni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In pts &lt; 40 aa: dal 19.5% al 10.2% (p= .002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omic Sans MS"/>
              </a:rPr>
              <a:t>In pts &gt; 50 aa: dal 4% al 2.5% (p= .14)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5229360"/>
            <a:ext cx="4105440" cy="1197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530064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iduzione assoluta di recidiva 10 volte più elevata nelle </a:t>
            </a:r>
            <a:r>
              <a:rPr b="1" i="1" lang="en-US" sz="2200" spc="-1" strike="noStrike">
                <a:solidFill>
                  <a:srgbClr val="000000"/>
                </a:solidFill>
                <a:latin typeface="Comic Sans MS"/>
              </a:rPr>
              <a:t>pazienti giovani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5734080"/>
            <a:ext cx="3097440" cy="9349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5805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essun vantaggio sulla sopravvive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970920" y="4653000"/>
            <a:ext cx="720720" cy="431640"/>
          </a:xfrm>
          <a:custGeom>
            <a:avLst/>
            <a:gdLst>
              <a:gd name="textAreaLeft" fmla="*/ 112320 w 720720"/>
              <a:gd name="textAreaRight" fmla="*/ 630720 w 720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6093000"/>
            <a:ext cx="758880" cy="414000"/>
          </a:xfrm>
          <a:custGeom>
            <a:avLst/>
            <a:gdLst>
              <a:gd name="textAreaLeft" fmla="*/ 118440 w 758880"/>
              <a:gd name="textAreaRight" fmla="*/ 664200 w 758880"/>
              <a:gd name="textAreaTop" fmla="*/ 103320 h 414000"/>
              <a:gd name="textAreaBottom" fmla="*/ 310680 h 414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7120" y="6922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mic Sans MS"/>
              </a:rPr>
              <a:t>EORTC 22881-108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52240" y="3860640"/>
            <a:ext cx="6695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Comic Sans MS"/>
              </a:rPr>
              <a:t>Il beneficio  terapeutico del bo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ff99"/>
                </a:solidFill>
                <a:latin typeface="Comic Sans MS"/>
              </a:rPr>
              <a:t>nel controllo locale  è </a:t>
            </a:r>
            <a:r>
              <a:rPr b="0" lang="it-IT" sz="2800" spc="-1" strike="noStrike">
                <a:solidFill>
                  <a:srgbClr val="ffcc00"/>
                </a:solidFill>
                <a:latin typeface="Comic Sans MS"/>
              </a:rPr>
              <a:t>età dipendente*</a:t>
            </a:r>
            <a:r>
              <a:rPr b="0" lang="it-IT" sz="1800" spc="-1" strike="noStrike">
                <a:solidFill>
                  <a:srgbClr val="ffff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6:31:12Z</dcterms:created>
  <dc:creator>Fatigante</dc:creator>
  <dc:description/>
  <dc:language>en-US</dc:language>
  <cp:lastModifiedBy>TC</cp:lastModifiedBy>
  <dcterms:modified xsi:type="dcterms:W3CDTF">2007-11-11T08:45:54Z</dcterms:modified>
  <cp:revision>60</cp:revision>
  <dc:subject/>
  <dc:title>Quando il boost può non essere indicato?</dc:title>
</cp:coreProperties>
</file>