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0DC5-5BC5-49BD-99B2-9F25D8E28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reover considering this metaanalysis often quoted to justify nodal irradiation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ut another criticism is that in this metanalysi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oreover radioterapy on the axilla after surgery determines 9% of lymphoed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ongratulade with dr kunkler but i can not agree with him and now I explain you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garding the case of more than 3 lymph nodes,  I show you these results apparently in favour of nodal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look at the results in details we discover Please, allow me to congratulate the statistician for the reliability of this stu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126D-A906-4CC6-9952-EFCF1BDE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B95-FE0F-404D-902C-FE85F797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928-FB29-4170-AC30-70CB110B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134-E56A-4CFF-801D-47FE6253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A11-BA3D-45FC-B26D-16C16F5A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A02-E95D-49D5-ACFF-7692BE40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442-A5CF-4BF3-981E-0AD687CD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DE3-E113-465D-A1C4-C39529DD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050-5131-41A5-9EDA-C8B42666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B162-5D2D-4400-A41F-BDD98D26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80B-7EA9-434F-84FA-F3194488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C0F-5DFD-4070-9314-3001DCA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A3A8-6DF9-4879-9255-EE62B910A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0951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versial Issues in Radiotherapy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hylactic nodal irradiation in early breast 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06600"/>
            <a:ext cx="640080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enzo L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Flo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FLORENCE, Acta Oncol., 45(5), 564-70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185 patients with T1-T2 breast cancer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9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3 P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nly 4.8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atients with &gt; 3 PAN developed NR as the only site of recurrence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aving 1 to 3 PAN was not associated with an increased risk of N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it is not necessary to prescribe nodal irradiation to patients with negative or 1 to 3 PAN. Regarding patients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3 PAN, the number of isolated NR is also small to routinely justify a node irra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4 positive axillary lymph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Breast Cancer Trialists’ Collaborative Group (EBCTC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cet. Dec 17; 366(9503):2087-106,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year local recurrence (reduction 1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-year breast cancer mortality risks (reduction 5.4%, SE 1.7, 2p=0.0002; overall mortality reduction 5.3%, SE 1.8, 2p=0.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gree, but this metanalysis com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-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4 positive axillary lymph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e critic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ETANALYSIS CHT WAS IN 80% C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BSOLETE SCHED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we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HRACYCLI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ROVES DF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cet. 2005 May 14-20;365(9472):1687-71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ROVES DF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8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ak, Lancet. Oncol. 2004 Jun;5(6):372-8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UZUMA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ROVES DF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cart, N. Engl. J. Med., 2005 Oct 20;353(16):1659-7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4 positive axillary lymph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te sequa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illary lymphoedema was 9% after axillary sampling plus radi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ham P., Australas Radiol., 50(6):578-82, 200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nn J.J., Int. J. Radiat. Oncol. Biol. Phys., 56(2):604, 200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NCLUSION 2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≥ 4 positive axillary lymph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0718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from new 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incidence of isolated nodal recur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from nodal ir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% of benefits obtained from RT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We suggest not to irradiate regional lymph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with more than 3 positive axillary lymph n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095120"/>
            <a:ext cx="8496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versial Issues in Radiotherapy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hylactic nodal irradiation in early breast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306600"/>
            <a:ext cx="640080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enzo L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Flo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TE SEQUAELE</a:t>
            </a:r>
            <a:br>
              <a:rPr sz="2000"/>
            </a:b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 Darby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Lancet Onco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2005; 6: 557–6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TIENTS irradiated  (1973–8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ardiac mortality was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·20 (95% CI 1·04–1·38) less than 10 years afterward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·42 (1·11–1·82) 10–14 years afterw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·58 (1·29–1·95) after 15 years or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 women irradiated 1983–9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e cardiac mortality ratio was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·04 (0·91–1·18) less than 10 years afterward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1·27 (0·99–1·63) 10 or more years afterw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irradiated  1993–200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e cardiac mortality ratio was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0·96 (0·82–1·12)  with none yet followed for 10 yea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mong women irradiated for bre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ancer who subsequently developed an ipsilateral or contralateral lung canc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the lung cancer mortality ratio (ipsilateral versus contralateral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r women diagnosed during 1973–82 and irradiated was  1·17 (0·62–2·19), 2·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(1·00–4·00), and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2·71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(1·65–4·48), respectively, less than 10 years, 10–14 years, and </a:t>
            </a: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or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years afterw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arly breast ca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1120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ve surgery plus RT to the whole breast vs mastectomy achieves the same results in terms of local recurrence and surv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onesi U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 Engl J Med, 347,1227-1232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sher B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N Engl J Med, 347, 1233-1241, 2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i L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adiother Oncol, 82(3), 287-93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versial issu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nodal irradiation, especially when the axillary lymph nodes are posi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to 3 positive axillary lymph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axillary lymph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451640" y="5084640"/>
            <a:ext cx="108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934920"/>
            <a:ext cx="8856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per S., Int. J. Radiation Oncology Biol. Phys., 45 (5),1157–1166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of recurr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of 691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0.7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ipsilateral supraclavicular lymp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ipsilateral axillar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0.4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nal mammar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NF is uncom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ong all subsets of patients with negative 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–3 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ymph nodes treated with conservative surgery, axillary dissection and only tangential RT fiel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iving only tangential RT (without a separate nodal fiel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s generally acceptable for patients with 0–3 positiv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27000"/>
            <a:ext cx="9144000" cy="9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-3 positive axillary lymph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42560" y="1052280"/>
            <a:ext cx="889308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ll I., Int. J. Radiation Oncology Biol. Phys., 56 (3), 658–670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of recurr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5 and 10-year rates of axillary failure we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6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5 and 10-year rates of supraclavicular failure we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.9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within the regional lymph nodes as an isolated site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rst relapse is uncom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patients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ge I–II breast can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eated with breast-conserving therapy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NI did not aff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rate of axillary failure or supraclavicular failure in patients with 1–3 positiv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6600"/>
            <a:ext cx="914400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-3 positive axillary lymph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6240"/>
            <a:ext cx="91440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-3 positive axillary lymph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ruthi G., The Breast Journal, 13 (1), 12–18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of recurr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of 202 patient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4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ed in the ipsilateral br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ipsilateral supraclavicular lymph nodes (S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%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ipsilateral axillary and/or internal mammar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low incidence of SCF in patients with 1 to 3 positive nodes treated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east radiation al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ter breast conserving surgery and adequate axillary dissec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i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RT is unnecessary in this co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bout internal mammary no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67292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wble B., Int. J. Radiation Oncology Biol. Phys., 47 (4), 883–894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83 women with Stage I–II breast cancer underwent wide excision and axillary node dissection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des re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ries w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able to identify a significant benefit for IMN irrad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erms of distant metastases or cause-specific survival for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tire patient 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ticular for patients with positive axillary nodes and medially located le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1-3 positive axillary lymph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604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T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EATING REGIONAL LYMPH NODES IN PATIENT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TO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SITIVE AXILLARY LYMPH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564000" y="443700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44000" y="1125000"/>
            <a:ext cx="8820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ll I., Int. J. Radiation Oncology Biol. Phys., 56 (3), 658–670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I reduc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0-year actuarial rate of any RNF from 11% to 2%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0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e of Axilla Failure from 5% to 0%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027) in patients with 4 positiv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480" indent="-6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e of SCF from 11% to 2% as well, although the differenc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s not statistically signific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1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sitive axillary lymph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11640" y="580536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ll I., Int. J. Radiation Oncology Biol. Phys., 56 (3), 658–670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clusion presented in this paper were drawn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 patients with ≥ 4 positive no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9 (74%) treated with R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(26%) without R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RECUR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nodal failures (2 SCF, 1 AF, and 1 SCF and 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LL DONE” TO THE STATISTICI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≥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4 positive axillary lymph no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2995560"/>
            <a:ext cx="144720" cy="1081080"/>
          </a:xfrm>
          <a:custGeom>
            <a:avLst/>
            <a:gdLst>
              <a:gd name="textAreaLeft" fmla="*/ 0 w 144720"/>
              <a:gd name="textAreaRight" fmla="*/ 52200 w 14472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4560" y="3319560"/>
            <a:ext cx="22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7:01:16Z</dcterms:created>
  <dc:creator>Lorenzo</dc:creator>
  <dc:description/>
  <dc:language>en-US</dc:language>
  <cp:lastModifiedBy>TC</cp:lastModifiedBy>
  <dcterms:modified xsi:type="dcterms:W3CDTF">2007-11-10T09:57:55Z</dcterms:modified>
  <cp:revision>102</cp:revision>
  <dc:subject/>
  <dc:title>titolo</dc:title>
</cp:coreProperties>
</file>