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5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 – ESTRO symposium, after IS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l responsibility, cooperation between Europe and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sonally – many friends and colleagues; impressed by the standard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lk – star gazing but – reality, not dreams; learning from the past and recognizing the changing world and influences. Would like to make you aware – in the context of evidence based medicine which is the theme of this sympo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chnology racing a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ing or foll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ieve practice should be evidence 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it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re the influences that shape develop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 aware of the infl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y out appropriate research with honesty and clear a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ybe can’t escape external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66720" y="5817600"/>
            <a:ext cx="4876920" cy="494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84240" bIns="84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57280" y="1447920"/>
            <a:ext cx="6896160" cy="18072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1872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57280" y="3427200"/>
            <a:ext cx="6896160" cy="18072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1872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66720" y="5817600"/>
            <a:ext cx="4876920" cy="494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84240" bIns="84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57280" y="1447920"/>
            <a:ext cx="3365280" cy="18072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1872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91040" y="1447920"/>
            <a:ext cx="3365280" cy="18072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1872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57280" y="3427200"/>
            <a:ext cx="3365280" cy="18072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1872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1040" y="3427200"/>
            <a:ext cx="3365280" cy="18072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1872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66720" y="5817600"/>
            <a:ext cx="4876920" cy="494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84240" bIns="84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57280" y="1447920"/>
            <a:ext cx="2220480" cy="18072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1872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89000" y="1447920"/>
            <a:ext cx="2220480" cy="18072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1872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1080" y="1447920"/>
            <a:ext cx="2220480" cy="18072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1872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57280" y="3427200"/>
            <a:ext cx="2220480" cy="18072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1872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89000" y="3427200"/>
            <a:ext cx="2220480" cy="18072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1872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1080" y="3427200"/>
            <a:ext cx="2220480" cy="18072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1872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66720" y="5817600"/>
            <a:ext cx="4876920" cy="494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84240" bIns="84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57280" y="1447920"/>
            <a:ext cx="6896160" cy="37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66720" y="5817600"/>
            <a:ext cx="4876920" cy="494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84240" bIns="84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57280" y="1447920"/>
            <a:ext cx="6896160" cy="37890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1872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66720" y="5817600"/>
            <a:ext cx="4876920" cy="494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84240" bIns="84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57280" y="1447920"/>
            <a:ext cx="3365280" cy="37890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1872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91040" y="1447920"/>
            <a:ext cx="3365280" cy="37890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1872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66720" y="5817600"/>
            <a:ext cx="4876920" cy="494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84240" bIns="84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66720" y="5817600"/>
            <a:ext cx="487692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66720" y="5817600"/>
            <a:ext cx="4876920" cy="494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84240" bIns="84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57280" y="1447920"/>
            <a:ext cx="3365280" cy="18072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1872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1040" y="1447920"/>
            <a:ext cx="3365280" cy="37890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1872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57280" y="3427200"/>
            <a:ext cx="3365280" cy="18072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1872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66720" y="5817600"/>
            <a:ext cx="4876920" cy="494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84240" bIns="84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57280" y="1447920"/>
            <a:ext cx="3365280" cy="37890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1872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1040" y="1447920"/>
            <a:ext cx="3365280" cy="18072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1872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91040" y="3427200"/>
            <a:ext cx="3365280" cy="18072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1872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66720" y="5817600"/>
            <a:ext cx="4876920" cy="494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84240" bIns="84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57280" y="1447920"/>
            <a:ext cx="3365280" cy="18072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1872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91040" y="1447920"/>
            <a:ext cx="3365280" cy="18072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1872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57280" y="3427200"/>
            <a:ext cx="6896160" cy="1807200"/>
          </a:xfrm>
          <a:prstGeom prst="rect">
            <a:avLst/>
          </a:prstGeom>
          <a:noFill/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1872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33800" y="1231920"/>
            <a:ext cx="1076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91b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66720" y="5817600"/>
            <a:ext cx="4876920" cy="494280"/>
          </a:xfrm>
          <a:prstGeom prst="rect">
            <a:avLst/>
          </a:prstGeom>
          <a:solidFill>
            <a:srgbClr val="4949d1"/>
          </a:solidFill>
          <a:ln w="0">
            <a:noFill/>
          </a:ln>
        </p:spPr>
        <p:txBody>
          <a:bodyPr lIns="84240" rIns="84240" tIns="84240" bIns="84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57280" y="1447920"/>
            <a:ext cx="6896160" cy="3789000"/>
          </a:xfrm>
          <a:prstGeom prst="rect">
            <a:avLst/>
          </a:prstGeom>
          <a:solidFill>
            <a:srgbClr val="91b3d5"/>
          </a:solidFill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187200" indent="0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2800" spc="-1" strike="noStrike">
                <a:solidFill>
                  <a:srgbClr val="001b72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  <a:p>
            <a:pPr lvl="1" marL="187200" indent="-93600">
              <a:lnSpc>
                <a:spcPct val="89000"/>
              </a:lnSpc>
              <a:spcBef>
                <a:spcPts val="1049"/>
              </a:spcBef>
              <a:buClr>
                <a:srgbClr val="001b72"/>
              </a:buClr>
              <a:buFont typeface="Arial Narrow"/>
              <a:buChar char="–"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2800" spc="-1" strike="noStrike">
                <a:solidFill>
                  <a:srgbClr val="001b72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  <a:p>
            <a:pPr lvl="2" marL="187200" indent="-93600">
              <a:lnSpc>
                <a:spcPct val="89000"/>
              </a:lnSpc>
              <a:spcBef>
                <a:spcPts val="1049"/>
              </a:spcBef>
              <a:buClr>
                <a:srgbClr val="001b72"/>
              </a:buClr>
              <a:buFont typeface="Arial Narrow"/>
              <a:buChar char="•"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2800" spc="-1" strike="noStrike">
                <a:solidFill>
                  <a:srgbClr val="001b72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  <a:p>
            <a:pPr lvl="3" marL="187200" indent="-93600">
              <a:lnSpc>
                <a:spcPct val="89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–"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2800" spc="-1" strike="noStrike">
                <a:solidFill>
                  <a:srgbClr val="001b72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  <a:p>
            <a:pPr lvl="4" marL="187200" indent="-93600">
              <a:lnSpc>
                <a:spcPct val="89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»"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2800" spc="-1" strike="noStrike">
                <a:solidFill>
                  <a:srgbClr val="001b72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  <a:p>
            <a:pPr lvl="5" marL="187200" indent="-93600">
              <a:lnSpc>
                <a:spcPct val="89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»"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2800" spc="-1" strike="noStrike">
                <a:solidFill>
                  <a:srgbClr val="001b72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  <a:p>
            <a:pPr lvl="6" marL="187200" indent="-93600">
              <a:lnSpc>
                <a:spcPct val="89000"/>
              </a:lnSpc>
              <a:spcBef>
                <a:spcPts val="1049"/>
              </a:spcBef>
              <a:buClr>
                <a:srgbClr val="0000cc"/>
              </a:buClr>
              <a:buFont typeface="Arial"/>
              <a:buChar char="»"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2800" spc="-1" strike="noStrike">
                <a:solidFill>
                  <a:srgbClr val="001b72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1879560" y="1411200"/>
            <a:ext cx="20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1523880"/>
            <a:ext cx="20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46040" y="762120"/>
            <a:ext cx="20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3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990720" y="884160"/>
            <a:ext cx="7848000" cy="5287680"/>
            <a:chOff x="990720" y="884160"/>
            <a:chExt cx="7848000" cy="528768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4751280" y="884160"/>
              <a:ext cx="1899000" cy="15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2801880" y="4292640"/>
              <a:ext cx="2565720" cy="17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1065960" y="2663280"/>
              <a:ext cx="2490120" cy="173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1065960" y="4366800"/>
              <a:ext cx="194940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5"/>
            <a:stretch/>
          </p:blipFill>
          <p:spPr>
            <a:xfrm>
              <a:off x="6801480" y="2070720"/>
              <a:ext cx="1842840" cy="21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6"/>
            <a:stretch/>
          </p:blipFill>
          <p:spPr>
            <a:xfrm>
              <a:off x="2965320" y="2047320"/>
              <a:ext cx="1949400" cy="239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>
              <a:off x="3109680" y="891720"/>
              <a:ext cx="1880280" cy="184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8"/>
            <a:stretch/>
          </p:blipFill>
          <p:spPr>
            <a:xfrm>
              <a:off x="4845600" y="3630960"/>
              <a:ext cx="2181960" cy="155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9"/>
            <a:stretch/>
          </p:blipFill>
          <p:spPr>
            <a:xfrm>
              <a:off x="990720" y="885600"/>
              <a:ext cx="2640960" cy="18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0"/>
            <a:stretch/>
          </p:blipFill>
          <p:spPr>
            <a:xfrm>
              <a:off x="4613040" y="4588920"/>
              <a:ext cx="1735560" cy="15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1"/>
            <a:stretch/>
          </p:blipFill>
          <p:spPr>
            <a:xfrm>
              <a:off x="7043400" y="3996720"/>
              <a:ext cx="1795320" cy="19998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8" name=""/>
            <p:cNvGraphicFramePr/>
            <p:nvPr/>
          </p:nvGraphicFramePr>
          <p:xfrm>
            <a:off x="4839480" y="2070720"/>
            <a:ext cx="2062800" cy="18702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839480" y="2070720"/>
                      <a:ext cx="2062800" cy="187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0" name="" descr=""/>
            <p:cNvPicPr/>
            <p:nvPr/>
          </p:nvPicPr>
          <p:blipFill>
            <a:blip r:embed="rId14"/>
            <a:stretch/>
          </p:blipFill>
          <p:spPr>
            <a:xfrm>
              <a:off x="6122160" y="4736880"/>
              <a:ext cx="1358280" cy="131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5"/>
            <a:stretch/>
          </p:blipFill>
          <p:spPr>
            <a:xfrm>
              <a:off x="6348600" y="959400"/>
              <a:ext cx="2408400" cy="127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990720" y="609480"/>
            <a:ext cx="7848360" cy="57150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0" y="5817600"/>
            <a:ext cx="4572000" cy="494280"/>
          </a:xfrm>
          <a:prstGeom prst="rect">
            <a:avLst/>
          </a:prstGeom>
          <a:solidFill>
            <a:srgbClr val="4949d1"/>
          </a:solidFill>
          <a:ln w="0">
            <a:noFill/>
          </a:ln>
        </p:spPr>
        <p:txBody>
          <a:bodyPr lIns="84240" rIns="84240" tIns="84240" bIns="84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Impact"/>
              </a:rPr>
              <a:t>Developments in radiotherapy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57280" y="2252520"/>
            <a:ext cx="6896160" cy="1396440"/>
          </a:xfrm>
          <a:prstGeom prst="rect">
            <a:avLst/>
          </a:prstGeom>
          <a:solidFill>
            <a:srgbClr val="91b3d5"/>
          </a:solidFill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442800" indent="0">
              <a:lnSpc>
                <a:spcPct val="10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GB" sz="2800" spc="-1" strike="noStrike">
                <a:solidFill>
                  <a:srgbClr val="001b72"/>
                </a:solidFill>
                <a:latin typeface="Arial Narrow"/>
              </a:rPr>
              <a:t>Technology</a:t>
            </a: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  <a:p>
            <a:pPr marL="442800" indent="0">
              <a:lnSpc>
                <a:spcPct val="10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GB" sz="2800" spc="-1" strike="noStrike">
                <a:solidFill>
                  <a:srgbClr val="001b72"/>
                </a:solidFill>
                <a:latin typeface="Arial Narrow"/>
              </a:rPr>
              <a:t>Clinical need</a:t>
            </a: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  <p:sp>
        <p:nvSpPr>
          <p:cNvPr id="65" name=""/>
          <p:cNvSpPr/>
          <p:nvPr/>
        </p:nvSpPr>
        <p:spPr>
          <a:xfrm>
            <a:off x="1476360" y="1131840"/>
            <a:ext cx="6896160" cy="713160"/>
          </a:xfrm>
          <a:prstGeom prst="rect">
            <a:avLst/>
          </a:prstGeom>
          <a:solidFill>
            <a:srgbClr val="91b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6680" rIns="166680" tIns="166680" bIns="166680" anchor="t">
            <a:spAutoFit/>
          </a:bodyPr>
          <a:p>
            <a:pPr marL="442800" indent="-353880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GB" sz="2800" spc="-1" strike="noStrike">
                <a:solidFill>
                  <a:srgbClr val="001b72"/>
                </a:solidFill>
                <a:latin typeface="Arial Narrow"/>
              </a:rPr>
              <a:t>Driving force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76360" y="3009960"/>
            <a:ext cx="4057560" cy="2854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457280" y="1987560"/>
            <a:ext cx="6896160" cy="1738440"/>
          </a:xfrm>
          <a:prstGeom prst="rect">
            <a:avLst/>
          </a:prstGeom>
          <a:solidFill>
            <a:srgbClr val="91b3d5"/>
          </a:solidFill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1872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GB" sz="2800" spc="-1" strike="noStrike">
                <a:solidFill>
                  <a:srgbClr val="3365fb"/>
                </a:solidFill>
                <a:latin typeface="Arial Narrow"/>
              </a:rPr>
              <a:t>Biology</a:t>
            </a:r>
            <a:r>
              <a:rPr b="1" lang="en-GB" sz="2800" spc="-1" strike="noStrike">
                <a:solidFill>
                  <a:srgbClr val="001b72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  <a:p>
            <a:pPr marL="1872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 Narrow"/>
              </a:rPr>
              <a:t>Physics</a:t>
            </a: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  <a:p>
            <a:pPr marL="1872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 Narrow"/>
              </a:rPr>
              <a:t>Clinical</a:t>
            </a: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  <p:sp>
        <p:nvSpPr>
          <p:cNvPr id="68" name=""/>
          <p:cNvSpPr/>
          <p:nvPr/>
        </p:nvSpPr>
        <p:spPr>
          <a:xfrm>
            <a:off x="1531800" y="574560"/>
            <a:ext cx="6578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 Narrow"/>
              </a:rPr>
              <a:t>Potential advantages of particle RT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92720" y="1987560"/>
            <a:ext cx="3276720" cy="1738440"/>
          </a:xfrm>
          <a:prstGeom prst="rect">
            <a:avLst/>
          </a:prstGeom>
          <a:solidFill>
            <a:srgbClr val="91b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6680" rIns="166680" tIns="166680" bIns="166680" anchor="t">
            <a:spAutoFit/>
          </a:bodyPr>
          <a:p>
            <a:pPr marL="187200" indent="-93600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 Narrow"/>
              </a:rPr>
              <a:t>Biology</a:t>
            </a:r>
            <a:r>
              <a:rPr b="1" lang="en-GB" sz="2800" spc="-1" strike="noStrike">
                <a:solidFill>
                  <a:srgbClr val="001b72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187200" indent="-93600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 Narrow"/>
              </a:rPr>
              <a:t>Physic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187200" indent="-93600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 Narrow"/>
              </a:rPr>
              <a:t>Clinica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1328760"/>
            <a:ext cx="6578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 Narrow"/>
              </a:rPr>
              <a:t>Protons</a:t>
            </a:r>
            <a:r>
              <a:rPr b="1" lang="en-GB" sz="28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en-GB" sz="28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en-GB" sz="28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en-GB" sz="2800" spc="-1" strike="noStrike">
                <a:solidFill>
                  <a:srgbClr val="000066"/>
                </a:solidFill>
                <a:latin typeface="Arial Narrow"/>
              </a:rPr>
              <a:t>  Carbon ion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227280" y="5817600"/>
            <a:ext cx="2916360" cy="494280"/>
          </a:xfrm>
          <a:prstGeom prst="rect">
            <a:avLst/>
          </a:prstGeom>
          <a:solidFill>
            <a:srgbClr val="4949d1"/>
          </a:solidFill>
          <a:ln w="0">
            <a:noFill/>
          </a:ln>
        </p:spPr>
        <p:txBody>
          <a:bodyPr lIns="84240" rIns="84240" tIns="84240" bIns="84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Particle therapy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5fb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5fb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5fb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3582" t="2485" r="5723" b="0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27280" y="5817600"/>
            <a:ext cx="2916360" cy="494280"/>
          </a:xfrm>
          <a:prstGeom prst="rect">
            <a:avLst/>
          </a:prstGeom>
          <a:solidFill>
            <a:srgbClr val="4949d1"/>
          </a:solidFill>
          <a:ln w="0">
            <a:noFill/>
          </a:ln>
        </p:spPr>
        <p:txBody>
          <a:bodyPr lIns="84240" rIns="84240" tIns="84240" bIns="84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Particle therapy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" name=""/>
          <p:cNvSpPr/>
          <p:nvPr/>
        </p:nvSpPr>
        <p:spPr>
          <a:xfrm>
            <a:off x="1476360" y="1131840"/>
            <a:ext cx="6896160" cy="713160"/>
          </a:xfrm>
          <a:prstGeom prst="rect">
            <a:avLst/>
          </a:prstGeom>
          <a:solidFill>
            <a:srgbClr val="91b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6680" rIns="166680" tIns="166680" bIns="166680" anchor="t">
            <a:spAutoFit/>
          </a:bodyPr>
          <a:p>
            <a:pPr marL="442800" indent="-353880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GB" sz="2800" spc="-1" strike="noStrike">
                <a:solidFill>
                  <a:srgbClr val="001b72"/>
                </a:solidFill>
                <a:latin typeface="Arial Narrow"/>
              </a:rPr>
              <a:t>Clinical need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57280" y="2346120"/>
            <a:ext cx="6896160" cy="1482480"/>
          </a:xfrm>
          <a:prstGeom prst="rect">
            <a:avLst/>
          </a:prstGeom>
          <a:solidFill>
            <a:srgbClr val="91b3d5"/>
          </a:solidFill>
          <a:ln w="0">
            <a:noFill/>
          </a:ln>
        </p:spPr>
        <p:txBody>
          <a:bodyPr lIns="166680" rIns="166680" tIns="166680" bIns="166680" anchor="ctr">
            <a:normAutofit/>
          </a:bodyPr>
          <a:p>
            <a:pPr marL="187200" indent="0">
              <a:lnSpc>
                <a:spcPct val="6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GB" sz="2800" spc="-1" strike="noStrike">
                <a:solidFill>
                  <a:srgbClr val="001b72"/>
                </a:solidFill>
                <a:latin typeface="Arial Narrow"/>
              </a:rPr>
              <a:t>improved tumour control  → survival</a:t>
            </a: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  <a:p>
            <a:pPr marL="187200" indent="0">
              <a:lnSpc>
                <a:spcPct val="6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  <a:p>
            <a:pPr marL="187200" indent="0">
              <a:lnSpc>
                <a:spcPct val="6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GB" sz="2800" spc="-1" strike="noStrike">
                <a:solidFill>
                  <a:srgbClr val="001b72"/>
                </a:solidFill>
                <a:latin typeface="Arial Narrow"/>
              </a:rPr>
              <a:t>reduce toxicity of radiation</a:t>
            </a: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491160" y="260280"/>
            <a:ext cx="2328840" cy="1638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87360" y="1844640"/>
            <a:ext cx="7258320" cy="2989080"/>
          </a:xfrm>
          <a:prstGeom prst="rect">
            <a:avLst/>
          </a:prstGeom>
          <a:solidFill>
            <a:srgbClr val="91b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6680" rIns="166680" tIns="166680" bIns="166680" anchor="t">
            <a:spAutoFit/>
          </a:bodyPr>
          <a:p>
            <a:pPr marL="187200" indent="-93600"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2333520"/>
                <a:tab algn="dec" pos="3494160"/>
                <a:tab algn="l" pos="4844880"/>
                <a:tab algn="dec" pos="547200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87200" indent="-93600"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2333520"/>
                <a:tab algn="dec" pos="3494160"/>
                <a:tab algn="l" pos="4844880"/>
                <a:tab algn="dec" pos="547200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87200" indent="-93600"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2333520"/>
                <a:tab algn="dec" pos="3494160"/>
                <a:tab algn="l" pos="4844880"/>
                <a:tab algn="dec" pos="547200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87200" indent="-93600"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2333520"/>
                <a:tab algn="dec" pos="3494160"/>
                <a:tab algn="l" pos="4844880"/>
                <a:tab algn="dec" pos="547200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87200" indent="-93600"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2333520"/>
                <a:tab algn="dec" pos="3494160"/>
                <a:tab algn="l" pos="4844880"/>
                <a:tab algn="dec" pos="547200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87200" indent="-93600"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2333520"/>
                <a:tab algn="dec" pos="3494160"/>
                <a:tab algn="l" pos="4844880"/>
                <a:tab algn="dec" pos="547200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87200" indent="-93600"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2333520"/>
                <a:tab algn="dec" pos="3494160"/>
                <a:tab algn="l" pos="4844880"/>
                <a:tab algn="dec" pos="547200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87200" indent="-93600"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2333520"/>
                <a:tab algn="dec" pos="3494160"/>
                <a:tab algn="l" pos="4844880"/>
                <a:tab algn="dec" pos="547200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87200" indent="-93600"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2333520"/>
                <a:tab algn="dec" pos="3494160"/>
                <a:tab algn="l" pos="4844880"/>
                <a:tab algn="dec" pos="547200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561960"/>
            <a:ext cx="686916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Clinical evidence for benefit of protons &amp; carbon ion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51280" y="3170160"/>
            <a:ext cx="4606920" cy="501840"/>
          </a:xfrm>
          <a:prstGeom prst="rect">
            <a:avLst/>
          </a:prstGeom>
          <a:solidFill>
            <a:srgbClr val="337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6680" rIns="166680" tIns="166680" bIns="166680" anchor="t">
            <a:spAutoFit/>
          </a:bodyPr>
          <a:p>
            <a:pPr marL="187200" indent="-93600">
              <a:lnSpc>
                <a:spcPct val="69000"/>
              </a:lnSpc>
              <a:spcBef>
                <a:spcPts val="601"/>
              </a:spcBef>
              <a:tabLst>
                <a:tab algn="l" pos="0"/>
                <a:tab algn="l" pos="2333520"/>
                <a:tab algn="dec" pos="3494160"/>
                <a:tab algn="l" pos="4844880"/>
                <a:tab algn="dec" pos="547200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51280" y="4265640"/>
            <a:ext cx="4608360" cy="501480"/>
          </a:xfrm>
          <a:prstGeom prst="rect">
            <a:avLst/>
          </a:prstGeom>
          <a:solidFill>
            <a:srgbClr val="337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6680" rIns="166680" tIns="166680" bIns="166680" anchor="t">
            <a:spAutoFit/>
          </a:bodyPr>
          <a:p>
            <a:pPr marL="187200" indent="-93600">
              <a:lnSpc>
                <a:spcPct val="69000"/>
              </a:lnSpc>
              <a:spcBef>
                <a:spcPts val="601"/>
              </a:spcBef>
              <a:tabLst>
                <a:tab algn="l" pos="0"/>
                <a:tab algn="l" pos="2333520"/>
                <a:tab algn="dec" pos="3494160"/>
                <a:tab algn="l" pos="4844880"/>
                <a:tab algn="dec" pos="547200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51280" y="3718080"/>
            <a:ext cx="4608360" cy="501480"/>
          </a:xfrm>
          <a:prstGeom prst="rect">
            <a:avLst/>
          </a:prstGeom>
          <a:solidFill>
            <a:srgbClr val="337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6680" rIns="166680" tIns="166680" bIns="166680" anchor="t">
            <a:spAutoFit/>
          </a:bodyPr>
          <a:p>
            <a:pPr marL="187200" indent="-93600">
              <a:lnSpc>
                <a:spcPct val="69000"/>
              </a:lnSpc>
              <a:spcBef>
                <a:spcPts val="601"/>
              </a:spcBef>
              <a:tabLst>
                <a:tab algn="l" pos="0"/>
                <a:tab algn="l" pos="2333520"/>
                <a:tab algn="dec" pos="3494160"/>
                <a:tab algn="l" pos="4844880"/>
                <a:tab algn="dec" pos="547200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73320" y="1822320"/>
            <a:ext cx="7200720" cy="30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6680" rIns="166680" tIns="166680" bIns="166680" anchor="t">
            <a:spAutoFit/>
          </a:bodyPr>
          <a:p>
            <a:pPr marL="187200" indent="-93600"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1973160"/>
                <a:tab algn="dec" pos="3494160"/>
                <a:tab algn="l" pos="4299120"/>
                <a:tab algn="dec" pos="4927680"/>
                <a:tab algn="l" pos="5748480"/>
                <a:tab algn="dec" pos="637236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  <a:ea typeface="Arial"/>
              </a:rPr>
              <a:t>                         </a:t>
            </a:r>
            <a:r>
              <a:rPr b="1" lang="en-GB" sz="2400" spc="-1" strike="noStrike">
                <a:solidFill>
                  <a:srgbClr val="000066"/>
                </a:solidFill>
                <a:latin typeface="Arial Narrow"/>
                <a:ea typeface="Arial"/>
              </a:rPr>
              <a:t>% 5yr local control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87200" indent="-93600"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1973160"/>
                <a:tab algn="dec" pos="3494160"/>
                <a:tab algn="l" pos="4299120"/>
                <a:tab algn="dec" pos="4927680"/>
                <a:tab algn="l" pos="5748480"/>
                <a:tab algn="dec" pos="637236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  <a:ea typeface="Arial"/>
              </a:rPr>
              <a:t>best conventional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1" lang="en-GB" sz="2000" spc="-1" strike="noStrike">
                <a:solidFill>
                  <a:srgbClr val="ffff66"/>
                </a:solidFill>
                <a:latin typeface="Arial Narrow"/>
                <a:ea typeface="Arial"/>
              </a:rPr>
              <a:t> </a:t>
            </a:r>
            <a:r>
              <a:rPr b="1" lang="en-GB" sz="2400" spc="-1" strike="noStrike">
                <a:solidFill>
                  <a:srgbClr val="ffcc00"/>
                </a:solidFill>
                <a:latin typeface="Arial Narrow"/>
              </a:rPr>
              <a:t>protons*</a:t>
            </a:r>
            <a:r>
              <a:rPr b="1" lang="en-GB" sz="24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1" lang="en-GB" sz="2400" spc="-1" strike="noStrike">
                <a:solidFill>
                  <a:srgbClr val="66ff99"/>
                </a:solidFill>
                <a:latin typeface="Arial Narrow"/>
                <a:ea typeface="Arial"/>
              </a:rPr>
              <a:t>carbon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Arial Narrow"/>
                <a:ea typeface="Arial"/>
              </a:rPr>
              <a:t>Tumour</a:t>
            </a:r>
            <a:r>
              <a:rPr b="1" lang="en-GB" sz="2000" spc="-1" strike="noStrike">
                <a:solidFill>
                  <a:srgbClr val="3333ff"/>
                </a:solidFill>
                <a:latin typeface="Arial Narrow"/>
                <a:ea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  <a:ea typeface="Arial"/>
              </a:rPr>
              <a:t>        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  <a:ea typeface="Arial"/>
              </a:rPr>
              <a:t>treatment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  <a:ea typeface="Arial"/>
              </a:rPr>
              <a:t>       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  <a:ea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  <a:ea typeface="Arial"/>
              </a:rPr>
              <a:t>  </a:t>
            </a:r>
            <a:r>
              <a:rPr b="1" lang="en-GB" sz="2400" spc="-1" strike="noStrike">
                <a:solidFill>
                  <a:srgbClr val="66ff99"/>
                </a:solidFill>
                <a:latin typeface="Arial Narrow"/>
                <a:ea typeface="Arial"/>
              </a:rPr>
              <a:t>ions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  <a:ea typeface="Arial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Arial Narrow"/>
                <a:ea typeface="Arial"/>
              </a:rPr>
              <a:t>	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187200" indent="-93600">
              <a:lnSpc>
                <a:spcPct val="119000"/>
              </a:lnSpc>
              <a:spcBef>
                <a:spcPts val="901"/>
              </a:spcBef>
              <a:tabLst>
                <a:tab algn="l" pos="0"/>
                <a:tab algn="l" pos="1973160"/>
                <a:tab algn="dec" pos="3494160"/>
                <a:tab algn="l" pos="4299120"/>
                <a:tab algn="dec" pos="4927680"/>
                <a:tab algn="l" pos="5748480"/>
                <a:tab algn="dec" pos="637236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 Narrow"/>
                <a:ea typeface="Arial"/>
              </a:rPr>
              <a:t>chordoma</a:t>
            </a:r>
            <a:r>
              <a:rPr b="1" lang="en-GB" sz="2400" spc="-1" strike="noStrike">
                <a:solidFill>
                  <a:srgbClr val="000066"/>
                </a:solidFill>
                <a:latin typeface="Arial Narrow"/>
                <a:ea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 Narrow"/>
                <a:ea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 Narrow"/>
                <a:ea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  <a:ea typeface="Arial"/>
              </a:rPr>
              <a:t>65</a:t>
            </a:r>
            <a:r>
              <a:rPr b="1" lang="en-GB" sz="2400" spc="-1" strike="noStrike">
                <a:solidFill>
                  <a:srgbClr val="000066"/>
                </a:solidFill>
                <a:latin typeface="Arial Narrow"/>
                <a:ea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 Narrow"/>
                <a:ea typeface="Arial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Arial Narrow"/>
                <a:ea typeface="Arial"/>
              </a:rPr>
              <a:t>60</a:t>
            </a:r>
            <a:r>
              <a:rPr b="1" lang="en-GB" sz="2400" spc="-1" strike="noStrike">
                <a:solidFill>
                  <a:srgbClr val="ffcc00"/>
                </a:solidFill>
                <a:latin typeface="Arial Narrow"/>
                <a:ea typeface="Arial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Arial Narrow"/>
                <a:ea typeface="Arial"/>
              </a:rPr>
              <a:t>	</a:t>
            </a:r>
            <a:r>
              <a:rPr b="1" lang="en-GB" sz="2400" spc="-1" strike="noStrike">
                <a:solidFill>
                  <a:srgbClr val="66ff99"/>
                </a:solidFill>
                <a:latin typeface="Arial Narrow"/>
                <a:ea typeface="Arial"/>
              </a:rPr>
              <a:t>60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87200" indent="-93600">
              <a:lnSpc>
                <a:spcPct val="119000"/>
              </a:lnSpc>
              <a:spcBef>
                <a:spcPts val="901"/>
              </a:spcBef>
              <a:tabLst>
                <a:tab algn="l" pos="0"/>
                <a:tab algn="l" pos="1973160"/>
                <a:tab algn="dec" pos="3494160"/>
                <a:tab algn="l" pos="4299120"/>
                <a:tab algn="dec" pos="4927680"/>
                <a:tab algn="l" pos="5748480"/>
                <a:tab algn="dec" pos="637236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 Narrow"/>
                <a:ea typeface="Arial"/>
              </a:rPr>
              <a:t>chondrosarcoma</a:t>
            </a:r>
            <a:r>
              <a:rPr b="1" lang="en-GB" sz="2400" spc="-1" strike="noStrike">
                <a:solidFill>
                  <a:srgbClr val="000066"/>
                </a:solidFill>
                <a:latin typeface="Arial Narrow"/>
                <a:ea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  <a:ea typeface="Arial"/>
              </a:rPr>
              <a:t>95</a:t>
            </a:r>
            <a:r>
              <a:rPr b="1" lang="en-GB" sz="2400" spc="-1" strike="noStrike">
                <a:solidFill>
                  <a:srgbClr val="000066"/>
                </a:solidFill>
                <a:latin typeface="Arial Narrow"/>
                <a:ea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 Narrow"/>
                <a:ea typeface="Arial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Arial Narrow"/>
                <a:ea typeface="Arial"/>
              </a:rPr>
              <a:t>95</a:t>
            </a:r>
            <a:r>
              <a:rPr b="1" lang="en-GB" sz="2400" spc="-1" strike="noStrike">
                <a:solidFill>
                  <a:srgbClr val="000066"/>
                </a:solidFill>
                <a:latin typeface="Arial Narrow"/>
                <a:ea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 Narrow"/>
                <a:ea typeface="Arial"/>
              </a:rPr>
              <a:t>	</a:t>
            </a:r>
            <a:r>
              <a:rPr b="1" lang="en-GB" sz="2400" spc="-1" strike="noStrike">
                <a:solidFill>
                  <a:srgbClr val="66ff99"/>
                </a:solidFill>
                <a:latin typeface="Arial Narrow"/>
                <a:ea typeface="Arial"/>
              </a:rPr>
              <a:t>80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187200" indent="-93600">
              <a:lnSpc>
                <a:spcPct val="119000"/>
              </a:lnSpc>
              <a:spcBef>
                <a:spcPts val="901"/>
              </a:spcBef>
              <a:tabLst>
                <a:tab algn="l" pos="0"/>
                <a:tab algn="l" pos="1973160"/>
                <a:tab algn="dec" pos="3494160"/>
                <a:tab algn="l" pos="4299120"/>
                <a:tab algn="dec" pos="4927680"/>
                <a:tab algn="l" pos="5748480"/>
                <a:tab algn="dec" pos="637236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 Narrow"/>
                <a:ea typeface="Arial"/>
              </a:rPr>
              <a:t>ocular melanoma </a:t>
            </a:r>
            <a:r>
              <a:rPr b="1" lang="en-GB" sz="2400" spc="-1" strike="noStrike">
                <a:solidFill>
                  <a:srgbClr val="000066"/>
                </a:solidFill>
                <a:latin typeface="Arial Narrow"/>
                <a:ea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  <a:ea typeface="Arial"/>
              </a:rPr>
              <a:t>95</a:t>
            </a:r>
            <a:r>
              <a:rPr b="1" lang="en-GB" sz="2400" spc="-1" strike="noStrike">
                <a:solidFill>
                  <a:srgbClr val="000066"/>
                </a:solidFill>
                <a:latin typeface="Arial Narrow"/>
                <a:ea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 Narrow"/>
                <a:ea typeface="Arial"/>
              </a:rPr>
              <a:t>	</a:t>
            </a:r>
            <a:r>
              <a:rPr b="1" lang="en-GB" sz="2400" spc="-1" strike="noStrike">
                <a:solidFill>
                  <a:srgbClr val="ffcc00"/>
                </a:solidFill>
                <a:latin typeface="Arial Narrow"/>
                <a:ea typeface="Arial"/>
              </a:rPr>
              <a:t>97</a:t>
            </a:r>
            <a:r>
              <a:rPr b="1" lang="en-GB" sz="2400" spc="-1" strike="noStrike">
                <a:solidFill>
                  <a:srgbClr val="000066"/>
                </a:solidFill>
                <a:latin typeface="Arial Narrow"/>
                <a:ea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 Narrow"/>
                <a:ea typeface="Arial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 Narrow"/>
                <a:ea typeface="Arial"/>
              </a:rPr>
              <a:t> </a:t>
            </a:r>
            <a:r>
              <a:rPr b="1" lang="en-GB" sz="2400" spc="-1" strike="noStrike">
                <a:solidFill>
                  <a:srgbClr val="66ff99"/>
                </a:solidFill>
                <a:latin typeface="Arial Narrow"/>
                <a:ea typeface="Arial"/>
              </a:rPr>
              <a:t>95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27280" y="5817600"/>
            <a:ext cx="2916360" cy="494280"/>
          </a:xfrm>
          <a:prstGeom prst="rect">
            <a:avLst/>
          </a:prstGeom>
          <a:solidFill>
            <a:srgbClr val="4949d1"/>
          </a:solidFill>
          <a:ln w="0">
            <a:noFill/>
          </a:ln>
        </p:spPr>
        <p:txBody>
          <a:bodyPr lIns="84240" rIns="84240" tIns="84240" bIns="84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Particle therapy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532440" y="6289560"/>
            <a:ext cx="225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Arial Narrow"/>
              </a:rPr>
              <a:t>Brada et al 2007 (updated)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cc"/>
                </a:solidFill>
                <a:latin typeface="Arial Narrow"/>
              </a:rPr>
              <a:t>JCO, 25 (8), 965-970, 2007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95920" y="507852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Arial Narrow"/>
              </a:rPr>
              <a:t>* </a:t>
            </a:r>
            <a:r>
              <a:rPr b="1" lang="en-GB" sz="1800" spc="-1" strike="noStrike">
                <a:solidFill>
                  <a:srgbClr val="0000cc"/>
                </a:solidFill>
                <a:latin typeface="Arial Narrow"/>
              </a:rPr>
              <a:t>weighted mean of published studie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60440" y="1197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</a:rPr>
              <a:t>Tumour contro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77080" y="549360"/>
            <a:ext cx="194148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6880" y="130320"/>
            <a:ext cx="1584360" cy="431640"/>
          </a:xfrm>
          <a:prstGeom prst="wedgeEllipseCallout">
            <a:avLst>
              <a:gd name="adj1" fmla="val -13425"/>
              <a:gd name="adj2" fmla="val 15257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Forte"/>
              </a:rPr>
              <a:t>Lack of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27280" y="5817600"/>
            <a:ext cx="2916360" cy="494280"/>
          </a:xfrm>
          <a:prstGeom prst="rect">
            <a:avLst/>
          </a:prstGeom>
          <a:solidFill>
            <a:srgbClr val="4949d1"/>
          </a:solidFill>
          <a:ln w="0">
            <a:noFill/>
          </a:ln>
        </p:spPr>
        <p:txBody>
          <a:bodyPr lIns="84240" rIns="84240" tIns="84240" bIns="84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Particle therapy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71400" y="1378080"/>
            <a:ext cx="6786360" cy="4178520"/>
          </a:xfrm>
          <a:prstGeom prst="rect">
            <a:avLst/>
          </a:prstGeom>
          <a:solidFill>
            <a:srgbClr val="91b3d5"/>
          </a:solidFill>
          <a:ln w="0">
            <a:noFill/>
          </a:ln>
        </p:spPr>
        <p:txBody>
          <a:bodyPr lIns="166680" rIns="166680" tIns="166680" bIns="166680" anchor="t">
            <a:normAutofit/>
          </a:bodyPr>
          <a:p>
            <a:pPr marL="1872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860640"/>
                <a:tab algn="r" pos="4397400"/>
                <a:tab algn="l" pos="5195880"/>
                <a:tab algn="r" pos="583416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umour site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1b72"/>
              </a:solidFill>
              <a:latin typeface="Arial Narrow"/>
            </a:endParaRPr>
          </a:p>
          <a:p>
            <a:pPr marL="1872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860640"/>
                <a:tab algn="r" pos="4397400"/>
                <a:tab algn="l" pos="5195880"/>
                <a:tab algn="r" pos="583416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Head and neck tumours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1b72"/>
              </a:solidFill>
              <a:latin typeface="Arial Narrow"/>
            </a:endParaRPr>
          </a:p>
          <a:p>
            <a:pPr marL="1872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860640"/>
                <a:tab algn="r" pos="4397400"/>
                <a:tab algn="l" pos="5195880"/>
                <a:tab algn="r" pos="583416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Prostate cancer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1b72"/>
              </a:solidFill>
              <a:latin typeface="Arial Narrow"/>
            </a:endParaRPr>
          </a:p>
          <a:p>
            <a:pPr marL="1872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860640"/>
                <a:tab algn="r" pos="4397400"/>
                <a:tab algn="l" pos="5195880"/>
                <a:tab algn="r" pos="583416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Ocular tumours</a:t>
            </a:r>
            <a:endParaRPr b="1" lang="en-US" sz="2400" spc="-1" strike="noStrike">
              <a:solidFill>
                <a:srgbClr val="001b72"/>
              </a:solidFill>
              <a:latin typeface="Arial Narrow"/>
            </a:endParaRPr>
          </a:p>
          <a:p>
            <a:pPr marL="1872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860640"/>
                <a:tab algn="r" pos="4397400"/>
                <a:tab algn="l" pos="5195880"/>
                <a:tab algn="r" pos="583416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Gastrointestinal cancer</a:t>
            </a:r>
            <a:endParaRPr b="1" lang="en-US" sz="2400" spc="-1" strike="noStrike">
              <a:solidFill>
                <a:srgbClr val="001b72"/>
              </a:solidFill>
              <a:latin typeface="Arial Narrow"/>
            </a:endParaRPr>
          </a:p>
          <a:p>
            <a:pPr marL="1872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860640"/>
                <a:tab algn="r" pos="4397400"/>
                <a:tab algn="l" pos="5195880"/>
                <a:tab algn="r" pos="583416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Lung cancer</a:t>
            </a:r>
            <a:endParaRPr b="1" lang="en-US" sz="2400" spc="-1" strike="noStrike">
              <a:solidFill>
                <a:srgbClr val="001b72"/>
              </a:solidFill>
              <a:latin typeface="Arial Narrow"/>
            </a:endParaRPr>
          </a:p>
          <a:p>
            <a:pPr marL="1872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860640"/>
                <a:tab algn="r" pos="4397400"/>
                <a:tab algn="l" pos="5195880"/>
                <a:tab algn="r" pos="583416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NS tumours</a:t>
            </a:r>
            <a:endParaRPr b="1" lang="en-US" sz="2400" spc="-1" strike="noStrike">
              <a:solidFill>
                <a:srgbClr val="001b72"/>
              </a:solidFill>
              <a:latin typeface="Arial Narrow"/>
            </a:endParaRPr>
          </a:p>
          <a:p>
            <a:pPr marL="1872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860640"/>
                <a:tab algn="r" pos="4397400"/>
                <a:tab algn="l" pos="5195880"/>
                <a:tab algn="r" pos="583416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Sarcomas</a:t>
            </a:r>
            <a:endParaRPr b="1" lang="en-US" sz="2400" spc="-1" strike="noStrike">
              <a:solidFill>
                <a:srgbClr val="001b72"/>
              </a:solidFill>
              <a:latin typeface="Arial Narrow"/>
            </a:endParaRPr>
          </a:p>
          <a:p>
            <a:pPr marL="1872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3860640"/>
                <a:tab algn="r" pos="4397400"/>
                <a:tab algn="l" pos="5195880"/>
                <a:tab algn="r" pos="583416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hildhood tumours</a:t>
            </a:r>
            <a:endParaRPr b="1" lang="en-US" sz="2400" spc="-1" strike="noStrike">
              <a:solidFill>
                <a:srgbClr val="001b72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1531800" y="574560"/>
            <a:ext cx="657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 Narrow"/>
              </a:rPr>
              <a:t>Reports of treatmen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3582" t="2485" r="5723" b="0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27280" y="5817600"/>
            <a:ext cx="2916360" cy="494280"/>
          </a:xfrm>
          <a:prstGeom prst="rect">
            <a:avLst/>
          </a:prstGeom>
          <a:solidFill>
            <a:srgbClr val="4949d1"/>
          </a:solidFill>
          <a:ln w="0">
            <a:noFill/>
          </a:ln>
        </p:spPr>
        <p:txBody>
          <a:bodyPr lIns="84240" rIns="84240" tIns="84240" bIns="84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Particle therapy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1131840"/>
            <a:ext cx="6896160" cy="713160"/>
          </a:xfrm>
          <a:prstGeom prst="rect">
            <a:avLst/>
          </a:prstGeom>
          <a:solidFill>
            <a:srgbClr val="91b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6680" rIns="166680" tIns="166680" bIns="166680" anchor="t">
            <a:spAutoFit/>
          </a:bodyPr>
          <a:p>
            <a:pPr marL="442800" indent="-353880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GB" sz="2800" spc="-1" strike="noStrike">
                <a:solidFill>
                  <a:srgbClr val="001b72"/>
                </a:solidFill>
                <a:latin typeface="Arial Narrow"/>
              </a:rPr>
              <a:t>Clinical need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57280" y="2346120"/>
            <a:ext cx="6896160" cy="1482480"/>
          </a:xfrm>
          <a:prstGeom prst="rect">
            <a:avLst/>
          </a:prstGeom>
          <a:solidFill>
            <a:srgbClr val="91b3d5"/>
          </a:solidFill>
          <a:ln w="0">
            <a:noFill/>
          </a:ln>
        </p:spPr>
        <p:txBody>
          <a:bodyPr lIns="166680" rIns="166680" tIns="166680" bIns="166680" anchor="ctr">
            <a:normAutofit/>
          </a:bodyPr>
          <a:p>
            <a:pPr marL="187200" indent="0">
              <a:lnSpc>
                <a:spcPct val="6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GB" sz="2800" spc="-1" strike="noStrike">
                <a:solidFill>
                  <a:srgbClr val="001b72"/>
                </a:solidFill>
                <a:latin typeface="Arial Narrow"/>
              </a:rPr>
              <a:t>improved tumour control  → survival</a:t>
            </a: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  <a:p>
            <a:pPr marL="187200" indent="0">
              <a:lnSpc>
                <a:spcPct val="6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  <a:p>
            <a:pPr marL="187200" indent="0">
              <a:lnSpc>
                <a:spcPct val="69000"/>
              </a:lnSpc>
              <a:spcBef>
                <a:spcPts val="1049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en-GB" sz="2800" spc="-1" strike="noStrike">
                <a:solidFill>
                  <a:srgbClr val="001b72"/>
                </a:solidFill>
                <a:latin typeface="Arial Narrow"/>
              </a:rPr>
              <a:t>reduce toxicity of radiation</a:t>
            </a:r>
            <a:endParaRPr b="1" lang="en-US" sz="2800" spc="-1" strike="noStrike">
              <a:solidFill>
                <a:srgbClr val="001b72"/>
              </a:solidFill>
              <a:latin typeface="Arial Narrow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3582" t="2485" r="5723" b="0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95200" y="306360"/>
            <a:ext cx="8885160" cy="65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52560" y="2565360"/>
            <a:ext cx="2965320" cy="1009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14400" y="5210280"/>
            <a:ext cx="3193920" cy="1191240"/>
          </a:xfrm>
          <a:prstGeom prst="rect">
            <a:avLst/>
          </a:prstGeom>
          <a:solidFill>
            <a:srgbClr val="8fb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 Narrow"/>
              </a:rPr>
              <a:t>Work supported by: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 Narrow"/>
              </a:rPr>
              <a:t>NHS Executiv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 Narrow"/>
              </a:rPr>
              <a:t>Cancer Research UK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 Narrow"/>
              </a:rPr>
              <a:t>Neuro-oncology Research Fund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438960" y="2565360"/>
            <a:ext cx="2209680" cy="2286000"/>
            <a:chOff x="6438960" y="2565360"/>
            <a:chExt cx="2209680" cy="2286000"/>
          </a:xfrm>
        </p:grpSpPr>
        <p:grpSp>
          <p:nvGrpSpPr>
            <p:cNvPr id="101" name=""/>
            <p:cNvGrpSpPr/>
            <p:nvPr/>
          </p:nvGrpSpPr>
          <p:grpSpPr>
            <a:xfrm>
              <a:off x="6438960" y="2565360"/>
              <a:ext cx="2209680" cy="2286000"/>
              <a:chOff x="6438960" y="2565360"/>
              <a:chExt cx="2209680" cy="2286000"/>
            </a:xfrm>
          </p:grpSpPr>
          <p:sp>
            <p:nvSpPr>
              <p:cNvPr id="102" name=""/>
              <p:cNvSpPr/>
              <p:nvPr/>
            </p:nvSpPr>
            <p:spPr>
              <a:xfrm>
                <a:off x="6438960" y="2565360"/>
                <a:ext cx="2209680" cy="2286000"/>
              </a:xfrm>
              <a:prstGeom prst="rect">
                <a:avLst/>
              </a:prstGeom>
              <a:solidFill>
                <a:srgbClr val="e7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473520" y="3811680"/>
                <a:ext cx="2174760" cy="977760"/>
              </a:xfrm>
              <a:prstGeom prst="rect">
                <a:avLst/>
              </a:prstGeom>
              <a:solidFill>
                <a:srgbClr val="e7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336699"/>
                    </a:solidFill>
                    <a:latin typeface="바탕"/>
                  </a:rPr>
                  <a:t>THE ROYAL</a:t>
                </a:r>
                <a:endParaRPr b="0" lang="en-US" sz="2000" spc="-1" strike="noStrike">
                  <a:solidFill>
                    <a:srgbClr val="0000cc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336699"/>
                    </a:solidFill>
                    <a:latin typeface="바탕"/>
                  </a:rPr>
                  <a:t>MARSDEN</a:t>
                </a:r>
                <a:endParaRPr b="0" lang="en-US" sz="2400" spc="-1" strike="noStrike">
                  <a:solidFill>
                    <a:srgbClr val="0000cc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336699"/>
                    </a:solidFill>
                    <a:latin typeface="Times New Roman"/>
                  </a:rPr>
                  <a:t>NHS Foundation Trust</a:t>
                </a:r>
                <a:endParaRPr b="0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6840360" y="2605320"/>
              <a:ext cx="1406160" cy="120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914400" y="4387680"/>
            <a:ext cx="3193920" cy="642600"/>
          </a:xfrm>
          <a:prstGeom prst="rect">
            <a:avLst/>
          </a:prstGeom>
          <a:solidFill>
            <a:srgbClr val="8fb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 Narrow"/>
              </a:rPr>
              <a:t>Academic Radiotherapy Unit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 Narrow"/>
              </a:rPr>
              <a:t>Lung Unit, Neuro-oncology Unit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5279760"/>
            <a:ext cx="2666880" cy="1174320"/>
          </a:xfrm>
          <a:prstGeom prst="rect">
            <a:avLst/>
          </a:prstGeom>
          <a:solidFill>
            <a:srgbClr val="91b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84240" bIns="8424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177840"/>
                <a:tab algn="r" pos="285768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400" spc="-1" strike="noStrike">
                <a:solidFill>
                  <a:srgbClr val="001b72"/>
                </a:solidFill>
                <a:latin typeface="Impact"/>
              </a:rPr>
              <a:t>	</a:t>
            </a:r>
            <a:r>
              <a:rPr b="0" lang="en-US" sz="2400" spc="-1" strike="noStrike">
                <a:solidFill>
                  <a:srgbClr val="001b72"/>
                </a:solidFill>
                <a:latin typeface="Impact"/>
              </a:rPr>
              <a:t>Michael Brada</a:t>
            </a:r>
            <a:r>
              <a:rPr b="0" lang="en-US" sz="1800" spc="-1" strike="noStrike">
                <a:solidFill>
                  <a:srgbClr val="001b72"/>
                </a:solidFill>
                <a:latin typeface="Impact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001b72"/>
                </a:solidFill>
                <a:latin typeface="Impact"/>
              </a:rPr>
              <a:t>	</a:t>
            </a:r>
            <a:r>
              <a:rPr b="0" lang="en-US" sz="1800" spc="-1" strike="noStrike">
                <a:solidFill>
                  <a:srgbClr val="001b72"/>
                </a:solidFill>
                <a:latin typeface="Impact"/>
              </a:rPr>
              <a:t>XVII AIRO Firenze</a:t>
            </a:r>
            <a:br>
              <a:rPr sz="1800"/>
            </a:br>
            <a:r>
              <a:rPr b="0" lang="en-US" sz="1800" spc="-1" strike="noStrike">
                <a:solidFill>
                  <a:srgbClr val="001b72"/>
                </a:solidFill>
                <a:latin typeface="Impact"/>
              </a:rPr>
              <a:t>	</a:t>
            </a:r>
            <a:r>
              <a:rPr b="0" lang="en-US" sz="1800" spc="-1" strike="noStrike">
                <a:solidFill>
                  <a:srgbClr val="001b72"/>
                </a:solidFill>
                <a:latin typeface="Impact"/>
              </a:rPr>
              <a:t>12 Novembre 2007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73400"/>
            <a:ext cx="8675640" cy="1768320"/>
          </a:xfrm>
          <a:prstGeom prst="rect">
            <a:avLst/>
          </a:prstGeom>
          <a:solidFill>
            <a:srgbClr val="91b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6680" rIns="166680" tIns="166680" bIns="166680" anchor="ctr">
            <a:spAutoFit/>
          </a:bodyPr>
          <a:p>
            <a:pPr>
              <a:lnSpc>
                <a:spcPct val="89000"/>
              </a:lnSpc>
              <a:spcBef>
                <a:spcPts val="1199"/>
              </a:spcBef>
              <a:tabLst>
                <a:tab algn="l" pos="0"/>
                <a:tab algn="l" pos="126216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2000" spc="-1" strike="noStrike">
                <a:solidFill>
                  <a:srgbClr val="001b72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001b72"/>
                </a:solidFill>
                <a:latin typeface="Impact"/>
              </a:rPr>
              <a:t>Ions: a new gold standard for radiotherapy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126216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200" spc="-1" strike="noStrike">
                <a:solidFill>
                  <a:srgbClr val="001b72"/>
                </a:solidFill>
                <a:latin typeface="Impact"/>
              </a:rPr>
              <a:t>	</a:t>
            </a:r>
            <a:r>
              <a:rPr b="0" lang="en-US" sz="2800" spc="-1" strike="noStrike">
                <a:solidFill>
                  <a:srgbClr val="001b72"/>
                </a:solidFill>
                <a:latin typeface="Impact"/>
              </a:rPr>
              <a:t>Indications from clinical experienc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50040" y="5603760"/>
            <a:ext cx="576000" cy="144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12:10:20Z</dcterms:created>
  <dc:creator>adminmbrada</dc:creator>
  <dc:description/>
  <dc:language>en-US</dc:language>
  <cp:lastModifiedBy>TC</cp:lastModifiedBy>
  <dcterms:modified xsi:type="dcterms:W3CDTF">2007-11-12T09:02:23Z</dcterms:modified>
  <cp:revision>97</cp:revision>
  <dc:subject/>
  <dc:title>Hadron therapy</dc:title>
</cp:coreProperties>
</file>