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A374-A545-4DC4-9A20-0DE9BB91B6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Horst KD Stanford University, CA 94305, USA.</a:t>
            </a:r>
            <a:br>
              <a:rPr sz="1000"/>
            </a:br>
            <a:br>
              <a:rPr sz="10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Horst KD Stanford University, CA 94305, U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Division of Radiation Oncology, University of British Columbia, British Columbia Cancer Agency, Surrey, Canada.</a:t>
            </a:r>
            <a:br>
              <a:rPr sz="700"/>
            </a:b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Division of Radiation Oncology, University of British Columbia, British Columbia Cancer Agency, Surrey, Canada.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 Retrosp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CF1-15C8-4A1F-BB01-7288F2B2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08C-D7E3-4A8D-87F2-0AF3C1DD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23E-1FA9-44B0-85AF-48A93520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295-22D2-4F1C-A0C6-8ECE0E90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37F-DF05-415F-AE8C-2E30D8E7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96D-DB69-448C-8549-228333F3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01E-E9EF-4DEE-B286-B05FEF04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976-9073-41C4-81AA-A6F54A31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B78-3B24-404F-BFA0-DFE6D847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C83-7102-4FC8-9E49-AF9FD6CE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2AC-1265-45F5-850C-BDD76CB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1F1-18E3-4F3F-943E-F3633A72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3636-C460-407B-B3FA-5C1A3E3EAA9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907560"/>
            <a:ext cx="6480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9999"/>
                </a:solidFill>
                <a:latin typeface="Comic Sans MS"/>
              </a:rPr>
              <a:t>AIRO 2007</a:t>
            </a:r>
            <a:br>
              <a:rPr sz="4000"/>
            </a:br>
            <a:r>
              <a:rPr b="1" lang="it-IT" sz="2000" spc="-1" strike="noStrike">
                <a:solidFill>
                  <a:srgbClr val="009999"/>
                </a:solidFill>
                <a:latin typeface="Comic Sans MS"/>
              </a:rPr>
              <a:t>La pianificazione del boost nel trattamento adiuvante del carcinoma mammario: indicazioni e controversie</a:t>
            </a: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149360"/>
            <a:ext cx="8351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cc66"/>
                </a:solidFill>
                <a:latin typeface="Comic Sans MS"/>
              </a:rPr>
              <a:t>Evidenze nuove e vecchie della let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M. Guenzi               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3520" y="549360"/>
            <a:ext cx="1828800" cy="280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12000" y="6021360"/>
            <a:ext cx="863640" cy="55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557360"/>
          <a:ext cx="4475160" cy="2592360"/>
        </p:xfrm>
        <a:graphic>
          <a:graphicData uri="http://schemas.openxmlformats.org/drawingml/2006/table">
            <a:tbl>
              <a:tblPr/>
              <a:tblGrid>
                <a:gridCol w="1292040"/>
                <a:gridCol w="3183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% Local relap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-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592200" y="57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292720" y="620640"/>
          <a:ext cx="3394080" cy="3487680"/>
        </p:xfrm>
        <a:graphic>
          <a:graphicData uri="http://schemas.openxmlformats.org/drawingml/2006/table">
            <a:tbl>
              <a:tblPr/>
              <a:tblGrid>
                <a:gridCol w="1800360"/>
                <a:gridCol w="1593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Tumor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Local relap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 - 1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 - 2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1 - 3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3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95280" y="4437000"/>
            <a:ext cx="8280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Comic Sans MS"/>
              </a:rPr>
              <a:t>Ag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400" spc="-1" strike="noStrike">
                <a:solidFill>
                  <a:srgbClr val="009999"/>
                </a:solidFill>
                <a:latin typeface="Comic Sans MS"/>
              </a:rPr>
              <a:t>tumor siz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the most  important and statistically significant factors for </a:t>
            </a:r>
            <a:r>
              <a:rPr b="1" lang="en-GB" sz="2400" spc="-1" strike="noStrike">
                <a:solidFill>
                  <a:srgbClr val="009999"/>
                </a:solidFill>
                <a:latin typeface="Comic Sans MS"/>
              </a:rPr>
              <a:t>higher rates of LR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lso </a:t>
            </a:r>
            <a:r>
              <a:rPr b="1" lang="en-GB" sz="2400" spc="-1" strike="noStrike">
                <a:solidFill>
                  <a:srgbClr val="009999"/>
                </a:solidFill>
                <a:latin typeface="Comic Sans MS"/>
              </a:rPr>
              <a:t>margin status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400" spc="-1" strike="noStrike">
                <a:solidFill>
                  <a:srgbClr val="009999"/>
                </a:solidFill>
                <a:latin typeface="Comic Sans MS"/>
              </a:rPr>
              <a:t>systemic therapy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could influence LR risk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989000"/>
            <a:ext cx="3025800" cy="72072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3357720"/>
            <a:ext cx="3313080" cy="93492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356520"/>
            <a:ext cx="30243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Cefaro GA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858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Monotype Corsiva"/>
              </a:rPr>
              <a:t>per individuare le pazienti candi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835280" y="1699920"/>
            <a:ext cx="698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Predictors of local recurrence after breast-conservation therapy</a:t>
            </a: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Horst K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in Breast Cancer. 2005 Feb;5(6):425-38</a:t>
            </a:r>
            <a:br>
              <a:rPr sz="2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.......... Predictors of positive repeat excision findings after conservative surgery include </a:t>
            </a: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young ag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resence of an </a:t>
            </a: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extensive intraductal compone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close or positive margi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prior ex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6444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 al boos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7640" y="1197000"/>
            <a:ext cx="6985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Effect of margins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 on ipsilateral breast tumor recurrence after breast conservation therapy for lymph node-negative breast carcinoma.</a:t>
            </a:r>
            <a:br>
              <a:rPr sz="2400"/>
            </a:b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Leong C et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Cancer. 2004 May 1;100(9):1823-32.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835280" y="3141720"/>
            <a:ext cx="691344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980 – 1994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452 women (N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dian follow-up of 8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R: 34 /452 pts (7.5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rude 5-year rates of IBT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gative margin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3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positive margins 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      </a:t>
            </a:r>
            <a:r>
              <a:rPr b="0" lang="it-IT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 11.9%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eterminate margins 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6.9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333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63640" y="134100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variate analysis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ignificantly higher risk of IB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99"/>
                </a:solidFill>
                <a:latin typeface="Comic Sans MS"/>
              </a:rPr>
              <a:t>ag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at diagnosis (P &lt; 0.05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99"/>
                </a:solidFill>
                <a:latin typeface="Comic Sans MS"/>
              </a:rPr>
              <a:t>margin stat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P = 0.005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ltivariate analysis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both age and margin status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independent predictors of IB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e of 24 patients with an 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EIC and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margins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were found to have developed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BT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eong C et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ncer.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858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4920" y="1341360"/>
            <a:ext cx="6769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Survival and breast relapse in 3834 patients with T1-T2 breast cancer after conserving surgery and adjuvant treatment.</a:t>
            </a: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i L et al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diother Oncol. 2007 Mar;82(3):287-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79280" y="4365360"/>
            <a:ext cx="66358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3834 pts pT1-T2 breast canc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n age 55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n FU 7.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8584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03280" y="1341000"/>
            <a:ext cx="7283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age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 presentation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urgical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margins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chemotherapy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se of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tamoxifen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by multivariate analyses as </a:t>
            </a: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breast relapse predi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vi L Radiother Oncol.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3357720"/>
            <a:ext cx="505080" cy="1152360"/>
          </a:xfrm>
          <a:prstGeom prst="downArrow">
            <a:avLst>
              <a:gd name="adj1" fmla="val 50000"/>
              <a:gd name="adj2" fmla="val 5703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5712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280" y="1196640"/>
            <a:ext cx="6769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Comic Sans MS"/>
              </a:rPr>
              <a:t>The impact of boost on the local recurrence rate in breast conserving therapy: results from the </a:t>
            </a:r>
            <a:r>
              <a:rPr b="1" lang="it-IT" sz="2000" spc="-1" strike="noStrike">
                <a:solidFill>
                  <a:srgbClr val="009999"/>
                </a:solidFill>
                <a:latin typeface="Comic Sans MS"/>
              </a:rPr>
              <a:t>EORTC</a:t>
            </a:r>
            <a:r>
              <a:rPr b="0" lang="it-IT" sz="2000" spc="-1" strike="noStrike">
                <a:solidFill>
                  <a:srgbClr val="009999"/>
                </a:solidFill>
                <a:latin typeface="Comic Sans MS"/>
              </a:rPr>
              <a:t> boost-no boost trial.</a:t>
            </a:r>
            <a:br>
              <a:rPr sz="2000"/>
            </a:br>
            <a:r>
              <a:rPr b="0" lang="it-IT" sz="2000" spc="-1" strike="noStrike">
                <a:solidFill>
                  <a:srgbClr val="009999"/>
                </a:solidFill>
                <a:latin typeface="Comic Sans MS"/>
              </a:rPr>
              <a:t>H Jones IJROBP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23640" y="2708280"/>
            <a:ext cx="6480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1720 pts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entral patholog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margin -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162 pts (7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margin +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02 pts (  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rgin clos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332 pts (2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LR a 10 year </a:t>
            </a:r>
            <a:r>
              <a:rPr b="1" lang="it-IT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 9.4% vs 11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3336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</a:t>
            </a:r>
            <a:r>
              <a:rPr b="1" lang="it-IT" sz="3600" spc="-1" strike="noStrike">
                <a:solidFill>
                  <a:srgbClr val="00cc00"/>
                </a:solidFill>
                <a:latin typeface="Comic Sans MS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3645000"/>
            <a:ext cx="433440" cy="1944720"/>
          </a:xfrm>
          <a:custGeom>
            <a:avLst/>
            <a:gdLst>
              <a:gd name="textAreaLeft" fmla="*/ 57960 w 433440"/>
              <a:gd name="textAreaRight" fmla="*/ 375480 w 433440"/>
              <a:gd name="textAreaTop" fmla="*/ 340200 h 1944720"/>
              <a:gd name="textAreaBottom" fmla="*/ 14101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573408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Margin status was not associated with increased risk of local recur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95280" y="1125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Comic Sans MS"/>
              </a:rPr>
              <a:t>EIC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ts are more likely to have  residual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tumor outside the reference tu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re likely to 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fail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2565360"/>
            <a:ext cx="433440" cy="504720"/>
          </a:xfrm>
          <a:prstGeom prst="downArrow">
            <a:avLst>
              <a:gd name="adj1" fmla="val 50185"/>
              <a:gd name="adj2" fmla="val 24534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63640" y="3213000"/>
          <a:ext cx="6923160" cy="3384720"/>
        </p:xfrm>
        <a:graphic>
          <a:graphicData uri="http://schemas.openxmlformats.org/drawingml/2006/table">
            <a:tbl>
              <a:tblPr/>
              <a:tblGrid>
                <a:gridCol w="1224000"/>
                <a:gridCol w="1470240"/>
                <a:gridCol w="1161720"/>
                <a:gridCol w="1473480"/>
                <a:gridCol w="1593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LR % EIC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LR % EIC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D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FU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Wazer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-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Fowble 19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-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Polgàr 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-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059280" y="4076640"/>
            <a:ext cx="865080" cy="2521080"/>
          </a:xfrm>
          <a:prstGeom prst="ellipse">
            <a:avLst/>
          </a:prstGeom>
          <a:noFill/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1268280"/>
            <a:ext cx="68515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Boost radiotherapy in young women with ductal carcinoma 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in situ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: a multicentre, 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retrospective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 study of the Rare Cancer Network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mlin a et al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ncet Oncol, 2006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8000" y="3644640"/>
            <a:ext cx="684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73 pts Tis N0, age &gt;/=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7 (15%)  no RT afte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66 (45%) RT - no boost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median dose 50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50 (40%) RT + bo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33360"/>
            <a:ext cx="8064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</a:t>
            </a:r>
            <a:r>
              <a:rPr b="1" lang="it-IT" sz="3200" spc="-1" strike="noStrike">
                <a:solidFill>
                  <a:srgbClr val="00cc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</a:t>
            </a:r>
            <a:r>
              <a:rPr b="1" lang="it-IT" sz="4000" spc="-1" strike="noStrike">
                <a:solidFill>
                  <a:srgbClr val="00cc00"/>
                </a:solidFill>
                <a:latin typeface="Arial"/>
              </a:rPr>
              <a:t>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1628280"/>
            <a:ext cx="6696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dian follow-up 72 months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R 55 (15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ocal relapse-free survival at 10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6% for  no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72% for RT – no bo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86% for those RT + bo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&lt;0.0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6165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mlin a et al 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869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In the absence of randomised trial, boost radiotherapy should be considered in addition to surgery for breast-conserving treatment for D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9640" y="2664000"/>
            <a:ext cx="5029200" cy="3333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35640" y="1341360"/>
            <a:ext cx="3779640" cy="86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Monotype Corsiva"/>
              </a:rPr>
              <a:t>Not to bo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1058760"/>
            <a:ext cx="3348000" cy="1656000"/>
          </a:xfrm>
          <a:prstGeom prst="cloudCallout">
            <a:avLst>
              <a:gd name="adj1" fmla="val -45685"/>
              <a:gd name="adj2" fmla="val 59685"/>
            </a:avLst>
          </a:prstGeom>
          <a:noFill/>
          <a:ln w="38160">
            <a:solidFill>
              <a:srgbClr val="ffcc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39400">
            <a:off x="826560" y="981000"/>
            <a:ext cx="2748240" cy="1606680"/>
          </a:xfrm>
          <a:prstGeom prst="cloudCallout">
            <a:avLst>
              <a:gd name="adj1" fmla="val 61560"/>
              <a:gd name="adj2" fmla="val 61870"/>
            </a:avLst>
          </a:prstGeom>
          <a:noFill/>
          <a:ln w="38160">
            <a:solidFill>
              <a:srgbClr val="ffcc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347840"/>
            <a:ext cx="2195640" cy="86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Monotype Corsiva"/>
              </a:rPr>
              <a:t>To bo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6165720"/>
            <a:ext cx="6265800" cy="67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...</a:t>
            </a:r>
            <a:r>
              <a:rPr b="1" i="1" lang="en-US" sz="3600" spc="-1" strike="noStrike">
                <a:solidFill>
                  <a:srgbClr val="009999"/>
                </a:solidFill>
                <a:latin typeface="Monotype Corsiva"/>
              </a:rPr>
              <a:t>this is the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b2b2"/>
                </a:solidFill>
                <a:latin typeface="Monotype Corsiva"/>
              </a:rPr>
              <a:t>ruolo del boost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00"/>
                </a:solidFill>
                <a:latin typeface="Monotype Corsiva"/>
              </a:rPr>
              <a:t>le pazienti ad esso candidate</a:t>
            </a:r>
            <a:r>
              <a:rPr b="1" lang="it-IT" sz="3200" spc="-1" strike="noStrike">
                <a:solidFill>
                  <a:srgbClr val="000000"/>
                </a:solidFill>
                <a:latin typeface="Monotype Corsiv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b2b2"/>
                </a:solidFill>
                <a:latin typeface="Monotype Corsiva"/>
              </a:rPr>
              <a:t>i volumi da comprendere nel CTV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b2b2"/>
                </a:solidFill>
                <a:latin typeface="Monotype Corsiva"/>
              </a:rPr>
              <a:t>la dose  che si ritiene ut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b2b2"/>
                </a:solidFill>
                <a:latin typeface="Monotype Corsiva"/>
              </a:rPr>
              <a:t>le modalità di trat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	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 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Pazienti giovani &lt;40?  &lt;5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	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 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Margini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	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 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T voluminosi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	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	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	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	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 </a:t>
            </a: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E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9999"/>
                </a:solidFill>
                <a:latin typeface="Comic Sans MS"/>
              </a:rPr>
              <a:t>………</a:t>
            </a:r>
            <a:r>
              <a:rPr b="1" lang="it-IT" sz="3200" spc="-1" strike="noStrike">
                <a:solidFill>
                  <a:srgbClr val="009999"/>
                </a:solidFill>
                <a:latin typeface="Comic Sans MS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76280"/>
            <a:ext cx="504720" cy="4896000"/>
          </a:xfrm>
          <a:custGeom>
            <a:avLst/>
            <a:gdLst>
              <a:gd name="textAreaLeft" fmla="*/ 67320 w 504720"/>
              <a:gd name="textAreaRight" fmla="*/ 437400 w 504720"/>
              <a:gd name="textAreaTop" fmla="*/ 856800 h 4896000"/>
              <a:gd name="textAreaBottom" fmla="*/ 354960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58560" y="1341000"/>
            <a:ext cx="7561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Definizione del CT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volumi da comprendere e le modalità per identificar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CTV</a:t>
            </a:r>
            <a:r>
              <a:rPr b="0" lang="it-IT" sz="28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tto ope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 target volume for boost is usually defined as the 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tumor bed with 1 to 2 cm safety margi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lgar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26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cc00"/>
                </a:solidFill>
                <a:latin typeface="Monotype Corsiva"/>
              </a:rPr>
              <a:t>i volumi da comprendere nel CTV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7280" y="1483920"/>
            <a:ext cx="7499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Placing the boost in breast-conservation radiotherapy: A review of the role, indications and techniques for breast-boost radiotherapy</a:t>
            </a: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ham P,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in Oncol (R Coll Radiol).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rgical 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clip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re strongly recommended to facilitate localisatio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Breast boost--why, how, when...?</a:t>
            </a:r>
            <a:r>
              <a:rPr b="0" lang="it-IT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ammer J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rahlenther Onkol. 175:478-83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Six clip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re ideal number marking the upper, lower, left and right border, and the dorsal and ventral tumor bed limits, but often 4 to 5 clips give the same information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”</a:t>
            </a:r>
            <a:r>
              <a:rPr b="1" lang="it-IT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50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0148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cc00"/>
                </a:solidFill>
                <a:latin typeface="Monotype Corsiva"/>
              </a:rPr>
              <a:t>i volumi da comprendere nel CTV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26160" y="1600200"/>
            <a:ext cx="3681360" cy="218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5229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Dense breast, no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0864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Dense breast, clips + repere s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549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Comic Sans MS"/>
              </a:rPr>
              <a:t>Tc di Centragg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6200" y="71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11640" y="476280"/>
            <a:ext cx="9540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00244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Monotype Corsiva"/>
              </a:rPr>
              <a:t>ruolo del bo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Monotype Corsiva"/>
              </a:rPr>
              <a:t>le pazienti ad esso candid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i volumi da comprendere nel CTV</a:t>
            </a:r>
            <a:r>
              <a:rPr b="0" lang="it-IT" sz="3200" spc="-1" strike="noStrike">
                <a:solidFill>
                  <a:srgbClr val="009999"/>
                </a:solidFill>
                <a:latin typeface="Monotype Corsiv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Monotype Corsiva"/>
              </a:rPr>
              <a:t>la dose  che si ritiene ut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Monotype Corsiva"/>
              </a:rPr>
              <a:t>le modalità di trat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052640"/>
            <a:ext cx="431640" cy="23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415800 h 2376360"/>
              <a:gd name="textAreaBottom" fmla="*/ 172296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32560" y="467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933720"/>
            <a:ext cx="518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Monotype Corsiva"/>
              </a:rPr>
              <a:t>informazioni anamnes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Monotype Corsiva"/>
              </a:rPr>
              <a:t>mammografia pre-ope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immagini 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Monotype Corsiva"/>
              </a:rPr>
              <a:t>cicatrice / tecnica chiru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270828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Tumor bed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margine tessuto mammario 1 -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72360" y="2852640"/>
            <a:ext cx="576360" cy="2089080"/>
          </a:xfrm>
          <a:custGeom>
            <a:avLst/>
            <a:gdLst>
              <a:gd name="textAreaLeft" fmla="*/ 77040 w 576360"/>
              <a:gd name="textAreaRight" fmla="*/ 499320 w 576360"/>
              <a:gd name="textAreaTop" fmla="*/ 365400 h 2089080"/>
              <a:gd name="textAreaBottom" fmla="*/ 15145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6237000"/>
            <a:ext cx="8351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 Polgar, Pathology Oncology Research, 20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1146240"/>
            <a:ext cx="7726680" cy="4803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80000" y="3213000"/>
            <a:ext cx="1295280" cy="72072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3068640"/>
            <a:ext cx="1295280" cy="43164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3213000"/>
            <a:ext cx="1079280" cy="64944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2637000"/>
            <a:ext cx="1224000" cy="43164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492280"/>
            <a:ext cx="863640" cy="72072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2637000"/>
            <a:ext cx="720720" cy="57600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3933720"/>
            <a:ext cx="1079280" cy="136836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3933720"/>
            <a:ext cx="792000" cy="12970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860640"/>
            <a:ext cx="2303640" cy="43200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858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Monotype Corsiva"/>
              </a:rPr>
              <a:t>la dose  che si ritiene utile………..</a:t>
            </a:r>
            <a:r>
              <a:rPr b="1" i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99"/>
                </a:solidFill>
                <a:latin typeface="Comic Sans MS"/>
              </a:rPr>
              <a:t>Impact of the boost dose on local control and survival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99"/>
                </a:solidFill>
                <a:latin typeface="Comic Sans MS"/>
              </a:rPr>
              <a:t>patients with early stage breast cancer aft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9999"/>
                </a:solidFill>
                <a:uFillTx/>
                <a:latin typeface="Comic Sans MS"/>
              </a:rPr>
              <a:t>m</a:t>
            </a:r>
            <a:r>
              <a:rPr b="1" lang="it-IT" sz="2400" spc="-1" strike="noStrike" u="sng">
                <a:solidFill>
                  <a:srgbClr val="009999"/>
                </a:solidFill>
                <a:uFillTx/>
                <a:latin typeface="Comic Sans MS"/>
              </a:rPr>
              <a:t>icroscopically incomplete lumpectomy</a:t>
            </a:r>
            <a:r>
              <a:rPr b="1" lang="it-IT" sz="2000" spc="-1" strike="noStrike">
                <a:solidFill>
                  <a:srgbClr val="009999"/>
                </a:solidFill>
                <a:latin typeface="Comic Sans MS"/>
              </a:rPr>
              <a:t>: 10 years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99"/>
                </a:solidFill>
                <a:latin typeface="Comic Sans MS"/>
              </a:rPr>
              <a:t>of the randomised EORTC boost trial 22881/10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99"/>
                </a:solidFill>
                <a:latin typeface="Comic Sans MS"/>
              </a:rPr>
              <a:t>Poortmans P, Radiother Onco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51 pts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0 G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R 17.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6 G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R 10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non significant trend towards a lower LR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increased risk of fibrosis</a:t>
            </a:r>
            <a:r>
              <a:rPr b="1" lang="it-IT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333360"/>
            <a:ext cx="93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Comic Sans MS"/>
              </a:rPr>
              <a:t>la dose  che si ritiene utile………..</a:t>
            </a:r>
            <a:r>
              <a:rPr b="1" i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393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400536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55280" y="620280"/>
            <a:ext cx="7859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b2b2b2"/>
                </a:solidFill>
                <a:latin typeface="Comic Sans MS"/>
              </a:rPr>
              <a:t>ruolo del boo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b2b2b2"/>
                </a:solidFill>
                <a:latin typeface="Comic Sans MS"/>
              </a:rPr>
              <a:t>le pazienti ad esso candida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b2b2b2"/>
                </a:solidFill>
                <a:latin typeface="Comic Sans MS"/>
              </a:rPr>
              <a:t>i volumi da comprendere nel CT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9999"/>
                </a:solidFill>
                <a:latin typeface="Comic Sans MS"/>
              </a:rPr>
              <a:t>la dose  che si ritiene uti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b2b2b2"/>
                </a:solidFill>
                <a:latin typeface="Comic Sans MS"/>
              </a:rPr>
              <a:t>le modalità di trat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4076640"/>
            <a:ext cx="59770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9999"/>
                </a:solidFill>
                <a:latin typeface="Comic Sans MS"/>
              </a:rPr>
              <a:t>10 G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9999"/>
                </a:solidFill>
                <a:latin typeface="Comic Sans MS"/>
              </a:rPr>
              <a:t>16 G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9999"/>
                </a:solidFill>
                <a:latin typeface="Comic Sans MS"/>
              </a:rPr>
              <a:t>26 Gy ? </a:t>
            </a: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(EORTC Margini 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276640"/>
            <a:ext cx="468360" cy="2519280"/>
          </a:xfrm>
          <a:custGeom>
            <a:avLst/>
            <a:gdLst>
              <a:gd name="textAreaLeft" fmla="*/ 62640 w 468360"/>
              <a:gd name="textAreaRight" fmla="*/ 405720 w 468360"/>
              <a:gd name="textAreaTop" fmla="*/ 440640 h 2519280"/>
              <a:gd name="textAreaBottom" fmla="*/ 182664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76000" y="3357360"/>
            <a:ext cx="721044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boost    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R 4.8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ton boost      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R 4.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terstitial boost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R 2.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009999"/>
                </a:solidFill>
                <a:latin typeface="Comic Sans MS"/>
              </a:rPr>
              <a:t>grade of fibro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n the whole breast as well as at the primary tumour bed, as scored by the treating radiation oncologist, was </a:t>
            </a:r>
            <a:r>
              <a:rPr b="1" lang="en-GB" sz="2400" spc="-1" strike="noStrike">
                <a:solidFill>
                  <a:srgbClr val="009999"/>
                </a:solidFill>
                <a:latin typeface="Comic Sans MS"/>
              </a:rPr>
              <a:t>similar in the three group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1052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Comic Sans MS"/>
              </a:rPr>
              <a:t>The influence of the boost technique on local control in breast conserving treatment in the EORTC 'boost versus no boost' randomised trial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diother Oncol. 2004 Jul;72(1):25-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3336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Monotype Corsiva"/>
              </a:rPr>
              <a:t>le modalità di trattamento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Comic Sans MS"/>
              </a:rPr>
              <a:t>per meglio definire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1671480"/>
            <a:ext cx="748836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ruolo del boo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le pazienti ad esso candid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i volumi da comprendere nel CTV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la dose  che si ritiene ut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</a:rPr>
              <a:t>le modalità di trattamento.</a:t>
            </a: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157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Comic Sans MS"/>
              </a:rPr>
              <a:t>uno sguardo a qualche studio prospettic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9999"/>
                </a:solidFill>
                <a:latin typeface="Monotype Corsiva"/>
              </a:rPr>
              <a:t>…</a:t>
            </a:r>
            <a:r>
              <a:rPr b="1" lang="it-IT" sz="3600" spc="-1" strike="noStrike">
                <a:solidFill>
                  <a:srgbClr val="009999"/>
                </a:solidFill>
                <a:latin typeface="Monotype Corsiva"/>
              </a:rPr>
              <a:t>..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Comic Sans MS"/>
              </a:rPr>
              <a:t>Breast Cancer: to boost or not to bo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Comic Sans MS"/>
              </a:rPr>
              <a:t>and how 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nsensus Meet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J Hammer, E Van Lim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esa, Jun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Boost in conservative treatment: 6 year results of randomized trial.</a:t>
            </a:r>
            <a:br>
              <a:rPr sz="2800"/>
            </a:b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Breast Cancer Res treat 50:345,199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2332080"/>
          <a:ext cx="8229600" cy="3733920"/>
        </p:xfrm>
        <a:graphic>
          <a:graphicData uri="http://schemas.openxmlformats.org/drawingml/2006/table">
            <a:tbl>
              <a:tblPr/>
              <a:tblGrid>
                <a:gridCol w="1646280"/>
                <a:gridCol w="1162080"/>
                <a:gridCol w="1655640"/>
                <a:gridCol w="1944720"/>
                <a:gridCol w="182088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u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° P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 Follow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st dose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cn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R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st vs no bo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p-Valu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z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3 vs 6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0.10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Role of 10 Gy boost in the conservative treatment of early breast cancer: results of a randomized clinical trial in Lyon, France</a:t>
            </a:r>
            <a:br>
              <a:rPr sz="2800"/>
            </a:b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JCO 15:963-968,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2205000"/>
          <a:ext cx="8497800" cy="3900600"/>
        </p:xfrm>
        <a:graphic>
          <a:graphicData uri="http://schemas.openxmlformats.org/drawingml/2006/table">
            <a:tbl>
              <a:tblPr/>
              <a:tblGrid>
                <a:gridCol w="1225440"/>
                <a:gridCol w="1008000"/>
                <a:gridCol w="1150920"/>
                <a:gridCol w="1297080"/>
                <a:gridCol w="1511280"/>
                <a:gridCol w="2305080"/>
              </a:tblGrid>
              <a:tr h="19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°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 Follow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st dose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cni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R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st vs no bo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y actu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R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vs no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p-Valu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 vs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0.0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6 vs 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0.04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628560"/>
            <a:ext cx="83628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5,318 pts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icroscop.complete excision + RT of 50 Gy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oost dose of 16 Gy (2,661 patients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 boost dose (2,657patients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dian follow-up of 10.8 years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362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Local recurrence  </a:t>
            </a:r>
            <a:r>
              <a:rPr b="0" lang="it-IT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 278 patients with no bo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165 patients with bo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 1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umulative incidence LR </a:t>
            </a: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10.2% versus 6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P &lt; .0001).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508464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re was no statistically significant interaction betweeen the magnitude of the relative risk reduction and patient’s 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The relative risk reduction was significant in all ag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29600" cy="5472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280" y="6093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H. Bartelink, JC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6000" y="5300640"/>
            <a:ext cx="720720" cy="433440"/>
          </a:xfrm>
          <a:prstGeom prst="ellipse">
            <a:avLst/>
          </a:prstGeom>
          <a:noFill/>
          <a:ln w="22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4941720"/>
            <a:ext cx="3529080" cy="574920"/>
          </a:xfrm>
          <a:prstGeom prst="ellipse">
            <a:avLst/>
          </a:prstGeom>
          <a:noFill/>
          <a:ln w="22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6121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82760" y="6370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6206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&lt;/= 41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a 23.9% a 13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62064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41-50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a 12.5 % a 8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47000" y="3429000"/>
            <a:ext cx="20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51-60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a 7.8% a 4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350208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60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a 7.3% a 3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6093000"/>
            <a:ext cx="4248360" cy="360360"/>
          </a:xfrm>
          <a:prstGeom prst="ellips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47160" cy="5550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780000" y="836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Severe fibrosis : 4.4%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              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1.6% no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7640" y="1844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Severe-moderate fibrosis: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28%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13% no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6193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58920" y="5950080"/>
            <a:ext cx="1657440" cy="431640"/>
          </a:xfrm>
          <a:prstGeom prst="ellips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815840" cy="237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4000" y="3789360"/>
            <a:ext cx="84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9999"/>
                </a:solidFill>
                <a:latin typeface="Monotype Corsiva"/>
              </a:rPr>
              <a:t>ruolo del boost</a:t>
            </a:r>
            <a:r>
              <a:rPr b="1" i="1" lang="it-IT" sz="3200" spc="-1" strike="noStrike">
                <a:solidFill>
                  <a:srgbClr val="009999"/>
                </a:solidFill>
                <a:latin typeface="Monotype Corsiv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9999"/>
                </a:solidFill>
                <a:latin typeface="Monotype Corsiva"/>
              </a:rPr>
              <a:t>le pazienti ad esso candida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9999"/>
                </a:solidFill>
                <a:latin typeface="Monotype Corsiva"/>
              </a:rPr>
              <a:t>i volumi da comprendere nel CTV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9999"/>
                </a:solidFill>
                <a:latin typeface="Monotype Corsiva"/>
              </a:rPr>
              <a:t>la dose  che si ritiene uti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9999"/>
                </a:solidFill>
                <a:latin typeface="Monotype Corsiva"/>
              </a:rPr>
              <a:t>le modalità di trattamen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2349360"/>
            <a:ext cx="612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Comic Sans MS"/>
              </a:rPr>
              <a:t>Evidenze nuove e vecchie della let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404640"/>
            <a:ext cx="61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9999"/>
                </a:solidFill>
                <a:latin typeface="Comic Sans MS"/>
              </a:rPr>
              <a:t>La pianificazione del boost nel trattamento  adiuvante del carcinoma mammar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9999"/>
                </a:solidFill>
                <a:latin typeface="Comic Sans MS"/>
              </a:rPr>
              <a:t>indicazioni e controver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692360" y="1773360"/>
            <a:ext cx="7200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ruolo del boo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 </a:t>
            </a: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le pazienti ad esso candid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i volumi da comprendere nel CTV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la dose  che si ritiene uti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le modalità di tratt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3336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Monotype Corsiva"/>
              </a:rPr>
              <a:t>indicazioni e controversie</a:t>
            </a:r>
            <a:r>
              <a:rPr b="0" lang="en-US" sz="4000" spc="-1" strike="noStrike">
                <a:solidFill>
                  <a:srgbClr val="009999"/>
                </a:solidFill>
                <a:latin typeface="Monotype Corsiva"/>
              </a:rPr>
              <a:t>  s</a:t>
            </a:r>
            <a:r>
              <a:rPr b="1" lang="en-US" sz="4000" spc="-1" strike="noStrike">
                <a:solidFill>
                  <a:srgbClr val="009999"/>
                </a:solidFill>
                <a:latin typeface="Monotype Corsiva"/>
              </a:rPr>
              <a:t>u 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8920" y="1197000"/>
            <a:ext cx="7273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Comic Sans MS"/>
              </a:rPr>
              <a:t> </a:t>
            </a:r>
            <a:br>
              <a:rPr sz="4800"/>
            </a:br>
            <a:r>
              <a:rPr b="1" lang="en-US" sz="3600" spc="-1" strike="noStrike">
                <a:solidFill>
                  <a:srgbClr val="009999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2060640"/>
            <a:ext cx="7127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stectomy specimens  of pts with T1-2 br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nce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63640" y="2997360"/>
          <a:ext cx="6923160" cy="1714320"/>
        </p:xfrm>
        <a:graphic>
          <a:graphicData uri="http://schemas.openxmlformats.org/drawingml/2006/table">
            <a:tbl>
              <a:tblPr/>
              <a:tblGrid>
                <a:gridCol w="3765600"/>
                <a:gridCol w="1311120"/>
                <a:gridCol w="917640"/>
                <a:gridCol w="9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mor removed…with a margin of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 pts with residual fo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the remaining bre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95280" y="40464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Monotype Corsiva"/>
              </a:rPr>
              <a:t>ruolo del boost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1700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99"/>
                </a:solidFill>
                <a:latin typeface="Comic Sans MS"/>
              </a:rPr>
              <a:t>Holland et al Cancer, 1985, IJROBP,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4869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minente 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residual carci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s confined to the </a:t>
            </a: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same quad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5734080"/>
            <a:ext cx="67672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so more aggressive RT of the tumor be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Comic Sans MS"/>
              </a:rPr>
              <a:t>quadrant might be able to better control residual f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5157720"/>
            <a:ext cx="792360" cy="1224000"/>
          </a:xfrm>
          <a:custGeom>
            <a:avLst/>
            <a:gdLst>
              <a:gd name="textAreaLeft" fmla="*/ 106200 w 792360"/>
              <a:gd name="textAreaRight" fmla="*/ 686160 w 79236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280" y="1341000"/>
            <a:ext cx="5977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Sede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delle ricadute locali con o senza </a:t>
            </a: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RT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(dati pubblicati dal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03280" y="2997360"/>
          <a:ext cx="6121440" cy="3458880"/>
        </p:xfrm>
        <a:graphic>
          <a:graphicData uri="http://schemas.openxmlformats.org/drawingml/2006/table">
            <a:tbl>
              <a:tblPr/>
              <a:tblGrid>
                <a:gridCol w="1403280"/>
                <a:gridCol w="2052720"/>
                <a:gridCol w="2665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 LR  letto 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 LR altrove nella mamm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r. cons.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%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%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r. cons. NO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%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9%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68360" y="21276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ruolo del  boost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84872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ruolo del boost</a:t>
            </a:r>
            <a:r>
              <a:rPr b="1" lang="it-IT" sz="3600" spc="-1" strike="noStrike">
                <a:solidFill>
                  <a:srgbClr val="009999"/>
                </a:solidFill>
                <a:latin typeface="Monotype Corsiva"/>
              </a:rPr>
              <a:t>,</a:t>
            </a:r>
            <a:r>
              <a:rPr b="1" lang="it-IT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b2b2"/>
                </a:solidFill>
                <a:latin typeface="Monotype Corsiva"/>
              </a:rPr>
              <a:t>le pazienti ad esso candid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b2b2"/>
                </a:solidFill>
                <a:latin typeface="Monotype Corsiva"/>
              </a:rPr>
              <a:t>i volumi da comprendere nel CTV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b2b2"/>
                </a:solidFill>
                <a:latin typeface="Monotype Corsiva"/>
              </a:rPr>
              <a:t>la dose  che si ritiene ut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b2b2"/>
                </a:solidFill>
                <a:latin typeface="Monotype Corsiva"/>
              </a:rPr>
              <a:t>le modalità di trat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Eliminare i focolai residui post chirurgici  d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letto tumorale, riducendo le ricadute loc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981000"/>
            <a:ext cx="720720" cy="4394160"/>
          </a:xfrm>
          <a:custGeom>
            <a:avLst/>
            <a:gdLst>
              <a:gd name="textAreaLeft" fmla="*/ 96480 w 720720"/>
              <a:gd name="textAreaRight" fmla="*/ 624240 w 720720"/>
              <a:gd name="textAreaTop" fmla="*/ 768960 h 4394160"/>
              <a:gd name="textAreaBottom" fmla="*/ 3186000 h 43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63640" y="1989000"/>
            <a:ext cx="6912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boost non aggiunge tossicità al trattamento e ha un modesto impatto sul risultato estetico: queste considerazioni ne giustificano 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l’applicazione alla pressochè totalità dei cas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 sebbene si possano ipotizzare </a:t>
            </a: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sottogruppi di pazienti selezionate per le quali la sua efficacia potrebbe perdere evi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9999"/>
                </a:solidFill>
                <a:latin typeface="Comic Sans MS"/>
              </a:rPr>
              <a:t>Linee Guida AIRO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60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le pazienti candidate al boos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Monotype Corsiva"/>
              </a:rPr>
              <a:t>per individuare le pazienti candidate al boos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8000" y="2276280"/>
            <a:ext cx="6912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Predictors of local recurrence after conservative surgery and whole-breast irradiatio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Breast Cancer Res Treat. 2006 Mar 23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efaro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dian follow-up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3.1 months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R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 33/802 pts (4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07:00:50Z</dcterms:created>
  <dc:creator>Guenzi</dc:creator>
  <dc:description/>
  <dc:language>en-US</dc:language>
  <cp:lastModifiedBy>TC</cp:lastModifiedBy>
  <dcterms:modified xsi:type="dcterms:W3CDTF">2007-11-11T07:17:29Z</dcterms:modified>
  <cp:revision>137</cp:revision>
  <dc:subject/>
  <dc:title>AIROBOOST07</dc:title>
</cp:coreProperties>
</file>