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6.wmf" ContentType="image/x-wmf"/>
  <Override PartName="/ppt/media/image25.wmf" ContentType="image/x-wmf"/>
  <Override PartName="/ppt/media/image4.png" ContentType="image/png"/>
  <Override PartName="/ppt/media/image13.jpeg" ContentType="image/jpeg"/>
  <Override PartName="/ppt/media/image6.wmf" ContentType="image/x-wmf"/>
  <Override PartName="/ppt/media/image11.png" ContentType="image/png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27.jpeg" ContentType="image/jpeg"/>
  <Override PartName="/ppt/media/image5.wmf" ContentType="image/x-wmf"/>
  <Override PartName="/ppt/media/image10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18.png" ContentType="image/png"/>
  <Override PartName="/ppt/media/image17.png" ContentType="image/png"/>
  <Override PartName="/ppt/media/image20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852F-2C2A-4776-8882-2800B741206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variazioni volumetriche non sempre correlano con la risposta patologica o con la sopravviv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metodiche di imaging funzionale potrebbero rendere possibile una valutazione dell’efficacia del trattamento più precoce e accurata rispetto alle metodiche di imaging morfolo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variazioni volumetriche non sempre correlano con la risposta patologica o con la sopravviv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metodiche di imaging funzionale potrebbero rendere possibile una valutazione dell’efficacia del trattamento più precoce e accurata rispetto alle metodiche di imaging morfolo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variazioni volumetriche non sempre correlano con la risposta patologica o con la sopravviv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metodiche di imaging funzionale potrebbero rendere possibile una valutazione dell’efficacia del trattamento più precoce e accurata rispetto alle metodiche di imaging morfolo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variazioni volumetriche non sempre correlano con la risposta patologica o con la sopravviv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metodiche di imaging funzionale potrebbero rendere possibile una valutazione dell’efficacia del trattamento più precoce e accurata rispetto alle metodiche di imaging morfolo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variazioni volumetriche non sempre correlano con la risposta patologica o con la sopravviv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metodiche di imaging funzionale potrebbero rendere possibile una valutazione dell’efficacia del trattamento più precoce e accurata rispetto alle metodiche di imaging morfolo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variazioni volumetriche non sempre correlano con la risposta patologica o con la sopravviv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metodiche di imaging funzionale potrebbero rendere possibile una valutazione dell’efficacia del trattamento più precoce e accurata rispetto alle metodiche di imaging morfolo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variazioni volumetriche non sempre correlano con la risposta patologica o con la sopravviv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metodiche di imaging funzionale potrebbero rendere possibile una valutazione dell’efficacia del trattamento più precoce e accurata rispetto alle metodiche di imaging morfolo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variazioni volumetriche non sempre correlano con la risposta patologica o con la sopravviv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metodiche di imaging funzionale potrebbero rendere possibile una valutazione dell’efficacia del trattamento più precoce e accurata rispetto alle metodiche di imaging morfolo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variazioni volumetriche non sempre correlano con la risposta patologica o con la sopravviv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metodiche di imaging funzionale potrebbero rendere possibile una valutazione dell’efficacia del trattamento più precoce e accurata rispetto alle metodiche di imaging morfolo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variazioni volumetriche non sempre correlano con la risposta patologica o con la sopravviv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metodiche di imaging funzionale potrebbero rendere possibile una valutazione dell’efficacia del trattamento più precoce e accurata rispetto alle metodiche di imaging morfolo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variazioni volumetriche non sempre correlano con la risposta patologica o con la sopravviv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metodiche di imaging funzionale potrebbero rendere possibile una valutazione dell’efficacia del trattamento più precoce e accurata rispetto alle metodiche di imaging morfolo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variazioni volumetriche non sempre correlano con la risposta patologica o con la sopravviv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metodiche di imaging funzionale potrebbero rendere possibile una valutazione dell’efficacia del trattamento più precoce e accurata rispetto alle metodiche di imaging morfolo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variazioni volumetriche non sempre correlano con la risposta patologica o con la sopravviv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metodiche di imaging funzionale potrebbero rendere possibile una valutazione dell’efficacia del trattamento più precoce e accurata rispetto alle metodiche di imaging morfolo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variazioni volumetriche non sempre correlano con la risposta patologica o con la sopravviv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metodiche di imaging funzionale potrebbero rendere possibile una valutazione dell’efficacia del trattamento più precoce e accurata rispetto alle metodiche di imaging morfolo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66D-7EC2-44C3-BFE7-8BF7D84B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3233-F5E5-4199-9B42-BD7D3F47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3C4-44F9-4381-B6B1-2ED6A590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3FC-3EF9-41A7-8C6F-221AF040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1EAD-F293-42C3-962B-77A16713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7B97-6DAF-4CEC-9963-1DF1971A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4816-5A0E-4D3B-882A-60A6A7CF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69AC-F13D-4193-AE31-7C24957F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9808-16AD-40F2-A63C-E346CC1F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9508-DA07-451F-9AEF-6B131273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C311-BEB3-4F0C-AC8B-ED8405A0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8F0-DC7E-4277-BC71-B2E1F27A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0633-F593-4B79-96E5-35F8CE14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5D77-E071-4B4A-BD2E-092FDEC8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8888-F3DF-48E7-BDB8-376040D8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BA9A-27ED-41C1-9440-A256997A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3EB5-7A31-4B31-9C68-C7C2D0AB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29F-45E6-4381-AF44-46A94B2B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DFB-3D0F-4608-8517-6AF6D432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E9E9-F361-4D99-93FD-53935511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D35-2848-4DDD-9FE7-121A5F62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4CF-15B5-4243-942B-47996EFF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91EB-91BD-4B07-8235-FE4094F6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1DE-3CDB-4618-892C-D419A909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E0D1-1DCA-4575-8377-181A94D68713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1197000"/>
            <a:ext cx="5400720" cy="7308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80000" y="6380280"/>
            <a:ext cx="5400360" cy="7308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686800" y="-27000"/>
            <a:ext cx="539640" cy="6858000"/>
          </a:xfrm>
          <a:prstGeom prst="rect">
            <a:avLst/>
          </a:prstGeom>
          <a:solidFill>
            <a:srgbClr val="0033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43D6-F96E-4FD4-9323-3C1BD1704D67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4292640"/>
            <a:ext cx="5400720" cy="7308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686800" y="-27000"/>
            <a:ext cx="539640" cy="6858000"/>
          </a:xfrm>
          <a:prstGeom prst="rect">
            <a:avLst/>
          </a:prstGeom>
          <a:solidFill>
            <a:srgbClr val="0033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package" Target="../embeddings/oleObject1.xlsx"/><Relationship Id="rId7" Type="http://schemas.openxmlformats.org/officeDocument/2006/relationships/image" Target="../media/image21.wmf"/><Relationship Id="rId8" Type="http://schemas.openxmlformats.org/officeDocument/2006/relationships/package" Target="../embeddings/oleObject2.xlsx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package" Target="../embeddings/oleObject1.xlsx"/><Relationship Id="rId7" Type="http://schemas.openxmlformats.org/officeDocument/2006/relationships/image" Target="../media/image23.wmf"/><Relationship Id="rId8" Type="http://schemas.openxmlformats.org/officeDocument/2006/relationships/package" Target="../embeddings/oleObject2.xlsx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package" Target="../embeddings/oleObject1.xlsx"/><Relationship Id="rId7" Type="http://schemas.openxmlformats.org/officeDocument/2006/relationships/image" Target="../media/image25.wmf"/><Relationship Id="rId8" Type="http://schemas.openxmlformats.org/officeDocument/2006/relationships/package" Target="../embeddings/oleObject2.xlsx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3.jpeg"/><Relationship Id="rId7" Type="http://schemas.openxmlformats.org/officeDocument/2006/relationships/image" Target="../media/image27.jpe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4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package" Target="../embeddings/oleObject1.xlsx"/><Relationship Id="rId7" Type="http://schemas.openxmlformats.org/officeDocument/2006/relationships/image" Target="../media/image19.wmf"/><Relationship Id="rId8" Type="http://schemas.openxmlformats.org/officeDocument/2006/relationships/package" Target="../embeddings/oleObject2.xlsx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476280"/>
            <a:ext cx="936360" cy="93672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1310400"/>
            <a:ext cx="6626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00"/>
                </a:solidFill>
                <a:latin typeface="Tahoma"/>
              </a:rPr>
              <a:t>Confronto tra 18F-FDG-PET e TA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00"/>
                </a:solidFill>
                <a:latin typeface="Tahoma"/>
              </a:rPr>
              <a:t>per la valutazione della risposta preco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00"/>
                </a:solidFill>
                <a:latin typeface="Tahoma"/>
              </a:rPr>
              <a:t>durante radio-chemioterap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00"/>
                </a:solidFill>
                <a:latin typeface="Tahoma"/>
              </a:rPr>
              <a:t>in pazienti affetti d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00"/>
                </a:solidFill>
                <a:latin typeface="Tahoma"/>
              </a:rPr>
              <a:t>tumore del polmone non a piccole cell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4531680"/>
            <a:ext cx="640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M. Massacce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. Valentini, 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.L. Calcagni, 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. Meduri, 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. Mazzeo, 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. Barba, 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.M. De Gaetano, 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. Rufini, A. 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iordano, 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. Bonom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14560" y="5340240"/>
            <a:ext cx="48625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ipartimento di Bioimmagini e Scienze Radiologic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stituti di </a:t>
            </a:r>
            <a:r>
              <a:rPr b="0" lang="it-IT" sz="1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Radioterapia, </a:t>
            </a:r>
            <a:r>
              <a:rPr b="0" lang="it-IT" sz="1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Medicina Nucleare e </a:t>
            </a:r>
            <a:r>
              <a:rPr b="0" lang="it-IT" sz="1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Radiologi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iversità Cattolica del Sacro Cuo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o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467960" y="4187880"/>
            <a:ext cx="2049480" cy="2090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597800" y="514440"/>
            <a:ext cx="934920" cy="860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52360" y="522360"/>
            <a:ext cx="934920" cy="865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92360" y="561960"/>
            <a:ext cx="5616360" cy="876960"/>
          </a:xfrm>
          <a:prstGeom prst="rect">
            <a:avLst/>
          </a:prstGeom>
          <a:solidFill>
            <a:srgbClr val="0033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Congresso Nazionale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AI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Firenze, 10-13 Novembre 200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1852280" y="13525560"/>
            <a:ext cx="4559400" cy="30463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12068280" y="13741560"/>
            <a:ext cx="4559040" cy="30463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12283920" y="13957200"/>
            <a:ext cx="4559400" cy="30466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17434080" y="13443120"/>
            <a:ext cx="5580000" cy="340992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4500720" y="1703520"/>
            <a:ext cx="3303360" cy="3166920"/>
            <a:chOff x="4500720" y="1703520"/>
            <a:chExt cx="3303360" cy="3166920"/>
          </a:xfrm>
        </p:grpSpPr>
        <p:graphicFrame>
          <p:nvGraphicFramePr>
            <p:cNvPr id="267" name=""/>
            <p:cNvGraphicFramePr/>
            <p:nvPr/>
          </p:nvGraphicFramePr>
          <p:xfrm>
            <a:off x="4500720" y="1703520"/>
            <a:ext cx="3303360" cy="31669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500720" y="1703520"/>
                      <a:ext cx="3303360" cy="3166920"/>
                    </a:xfrm>
                    <a:prstGeom prst="rect">
                      <a:avLst/>
                    </a:prstGeom>
                    <a:ln cap="sq" w="12600">
                      <a:solidFill>
                        <a:srgbClr val="0033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69" name=""/>
            <p:cNvSpPr/>
            <p:nvPr/>
          </p:nvSpPr>
          <p:spPr>
            <a:xfrm>
              <a:off x="5435640" y="1857240"/>
              <a:ext cx="194472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GTV</a:t>
              </a:r>
              <a:r>
                <a:rPr b="1" lang="it-IT" sz="2000" spc="-1" strike="noStrike" baseline="-25000">
                  <a:solidFill>
                    <a:srgbClr val="000000"/>
                  </a:solidFill>
                  <a:latin typeface="Tahoma"/>
                </a:rPr>
                <a:t>PET </a:t>
              </a: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(∆</a:t>
              </a:r>
              <a:r>
                <a:rPr b="0" lang="it-IT" sz="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%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19640" y="4508640"/>
              <a:ext cx="936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Pre-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10440" y="4492800"/>
              <a:ext cx="12952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Durante-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916360" y="508356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Tahoma"/>
              </a:rPr>
              <a:t>Mean GTV-PET=90.3 cc (range 38 cc-183 cc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ahoma"/>
              </a:rPr>
              <a:t>Mean GTV-PET=49.3 cc (range 0 cc– 193 cc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42920" y="5078520"/>
            <a:ext cx="18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80"/>
                </a:solidFill>
                <a:latin typeface="Tahoma"/>
              </a:rPr>
              <a:t>Pre-RT </a:t>
            </a:r>
            <a:r>
              <a:rPr b="1" lang="it-IT" sz="2000" spc="-1" strike="noStrike">
                <a:solidFill>
                  <a:srgbClr val="a50021"/>
                </a:solidFill>
                <a:latin typeface="Tahoma"/>
              </a:rPr>
              <a:t>Durante 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5280" y="404640"/>
            <a:ext cx="87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Risulta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06520" y="1700280"/>
            <a:ext cx="3633480" cy="3168360"/>
            <a:chOff x="506520" y="1700280"/>
            <a:chExt cx="3633480" cy="3168360"/>
          </a:xfrm>
        </p:grpSpPr>
        <p:graphicFrame>
          <p:nvGraphicFramePr>
            <p:cNvPr id="276" name=""/>
            <p:cNvGraphicFramePr/>
            <p:nvPr/>
          </p:nvGraphicFramePr>
          <p:xfrm>
            <a:off x="506520" y="1700280"/>
            <a:ext cx="3633480" cy="3168360"/>
          </p:xfrm>
          <a:graphic>
            <a:graphicData uri="http://schemas.openxmlformats.org/presentationml/2006/ole">
              <p:oleObj progId="Excel.Sheet.12" r:id="rId8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06520" y="1700280"/>
                      <a:ext cx="3633480" cy="3168360"/>
                    </a:xfrm>
                    <a:prstGeom prst="rect">
                      <a:avLst/>
                    </a:prstGeom>
                    <a:ln cap="sq" w="12600">
                      <a:solidFill>
                        <a:srgbClr val="0033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78" name=""/>
            <p:cNvSpPr/>
            <p:nvPr/>
          </p:nvSpPr>
          <p:spPr>
            <a:xfrm>
              <a:off x="1849320" y="1797120"/>
              <a:ext cx="179928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GTV</a:t>
              </a:r>
              <a:r>
                <a:rPr b="1" lang="it-IT" sz="2000" spc="-1" strike="noStrike" baseline="-25000">
                  <a:solidFill>
                    <a:srgbClr val="000000"/>
                  </a:solidFill>
                  <a:latin typeface="Tahoma"/>
                </a:rPr>
                <a:t>P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12440" y="4508280"/>
              <a:ext cx="1027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Pre-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42960" y="4511520"/>
              <a:ext cx="1421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Durante-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1955880" y="2276640"/>
            <a:ext cx="0" cy="2160360"/>
          </a:xfrm>
          <a:prstGeom prst="line">
            <a:avLst/>
          </a:prstGeom>
          <a:ln cap="sq"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51160" y="2263680"/>
            <a:ext cx="0" cy="2160720"/>
          </a:xfrm>
          <a:prstGeom prst="line">
            <a:avLst/>
          </a:prstGeom>
          <a:ln cap="sq"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80000" y="2276640"/>
            <a:ext cx="0" cy="2160360"/>
          </a:xfrm>
          <a:prstGeom prst="line">
            <a:avLst/>
          </a:prstGeom>
          <a:ln cap="sq"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19920" y="2282760"/>
            <a:ext cx="0" cy="2160720"/>
          </a:xfrm>
          <a:prstGeom prst="line">
            <a:avLst/>
          </a:prstGeom>
          <a:ln cap="sq"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1852280" y="13525560"/>
            <a:ext cx="4559400" cy="30463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2068280" y="13741560"/>
            <a:ext cx="4559040" cy="30463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12283920" y="13957200"/>
            <a:ext cx="4559400" cy="30466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7434080" y="13443120"/>
            <a:ext cx="5580000" cy="34099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916360" y="508356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Tahoma"/>
              </a:rPr>
              <a:t>Mean Imax=20631 counts (range 6044-35212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ahoma"/>
              </a:rPr>
              <a:t>Mean Imax=11517 counts (range 4477-30787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42920" y="5078520"/>
            <a:ext cx="18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80"/>
                </a:solidFill>
                <a:latin typeface="Tahoma"/>
              </a:rPr>
              <a:t>Pre-RT </a:t>
            </a:r>
            <a:r>
              <a:rPr b="1" lang="it-IT" sz="2000" spc="-1" strike="noStrike">
                <a:solidFill>
                  <a:srgbClr val="a50021"/>
                </a:solidFill>
                <a:latin typeface="Tahoma"/>
              </a:rPr>
              <a:t>Durante 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404640"/>
            <a:ext cx="87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Risulta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93560" y="1700280"/>
            <a:ext cx="3646440" cy="3166920"/>
            <a:chOff x="493560" y="1700280"/>
            <a:chExt cx="3646440" cy="3166920"/>
          </a:xfrm>
        </p:grpSpPr>
        <p:graphicFrame>
          <p:nvGraphicFramePr>
            <p:cNvPr id="293" name=""/>
            <p:cNvGraphicFramePr/>
            <p:nvPr/>
          </p:nvGraphicFramePr>
          <p:xfrm>
            <a:off x="493560" y="1700280"/>
            <a:ext cx="3646440" cy="31669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93560" y="1700280"/>
                      <a:ext cx="3646440" cy="3166920"/>
                    </a:xfrm>
                    <a:prstGeom prst="rect">
                      <a:avLst/>
                    </a:prstGeom>
                    <a:ln cap="sq" w="12600">
                      <a:solidFill>
                        <a:srgbClr val="0033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5" name=""/>
            <p:cNvSpPr/>
            <p:nvPr/>
          </p:nvSpPr>
          <p:spPr>
            <a:xfrm>
              <a:off x="1736640" y="1797120"/>
              <a:ext cx="136512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1" lang="it-IT" sz="2000" spc="-1" strike="noStrike" baseline="-25000">
                  <a:solidFill>
                    <a:srgbClr val="000000"/>
                  </a:solidFill>
                  <a:latin typeface="Tahoma"/>
                </a:rPr>
                <a:t>ma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63400" y="4487760"/>
              <a:ext cx="1184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Pre-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21000" y="4491000"/>
              <a:ext cx="1638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Durante-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491000" y="1700280"/>
            <a:ext cx="3320640" cy="3166920"/>
            <a:chOff x="4491000" y="1700280"/>
            <a:chExt cx="3320640" cy="3166920"/>
          </a:xfrm>
        </p:grpSpPr>
        <p:graphicFrame>
          <p:nvGraphicFramePr>
            <p:cNvPr id="299" name=""/>
            <p:cNvGraphicFramePr/>
            <p:nvPr/>
          </p:nvGraphicFramePr>
          <p:xfrm>
            <a:off x="4491000" y="1700280"/>
            <a:ext cx="3320640" cy="3166920"/>
          </p:xfrm>
          <a:graphic>
            <a:graphicData uri="http://schemas.openxmlformats.org/presentationml/2006/ole">
              <p:oleObj progId="Excel.Sheet.12" r:id="rId8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491000" y="1700280"/>
                      <a:ext cx="3320640" cy="3166920"/>
                    </a:xfrm>
                    <a:prstGeom prst="rect">
                      <a:avLst/>
                    </a:prstGeom>
                    <a:ln cap="sq" w="12600">
                      <a:solidFill>
                        <a:srgbClr val="0033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4717800" y="1762200"/>
              <a:ext cx="295848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1" lang="it-IT" sz="2000" spc="-1" strike="noStrike" baseline="-25000">
                  <a:solidFill>
                    <a:srgbClr val="000000"/>
                  </a:solidFill>
                  <a:latin typeface="Tahoma"/>
                </a:rPr>
                <a:t>max</a:t>
              </a: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 (</a:t>
              </a:r>
              <a:r>
                <a:rPr b="1" lang="it-IT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∆</a:t>
              </a: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%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98880" y="4487760"/>
              <a:ext cx="1241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Pre-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91760" y="4487760"/>
              <a:ext cx="1716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Durante-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919920" y="2282760"/>
            <a:ext cx="0" cy="2160720"/>
          </a:xfrm>
          <a:prstGeom prst="line">
            <a:avLst/>
          </a:prstGeom>
          <a:ln cap="sq"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22840" y="2276640"/>
            <a:ext cx="0" cy="2160360"/>
          </a:xfrm>
          <a:prstGeom prst="line">
            <a:avLst/>
          </a:prstGeom>
          <a:ln cap="sq"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2276640"/>
            <a:ext cx="0" cy="2160360"/>
          </a:xfrm>
          <a:prstGeom prst="line">
            <a:avLst/>
          </a:prstGeom>
          <a:ln cap="sq"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89000" y="2276640"/>
            <a:ext cx="0" cy="2160360"/>
          </a:xfrm>
          <a:prstGeom prst="line">
            <a:avLst/>
          </a:prstGeom>
          <a:ln cap="sq"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11852280" y="13525560"/>
            <a:ext cx="4559400" cy="30463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2068280" y="13741560"/>
            <a:ext cx="4559040" cy="30463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12283920" y="13957200"/>
            <a:ext cx="4559400" cy="30466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17434080" y="13443120"/>
            <a:ext cx="5580000" cy="34099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916360" y="508356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Tahoma"/>
              </a:rPr>
              <a:t>Mean TBR= 8.4 (range 4.1-12.2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ahoma"/>
              </a:rPr>
              <a:t>Mean TBR= 5.3 (range 1.8-7.8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42920" y="5078520"/>
            <a:ext cx="18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80"/>
                </a:solidFill>
                <a:latin typeface="Tahoma"/>
              </a:rPr>
              <a:t>Pre-RT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a50021"/>
                </a:solidFill>
                <a:latin typeface="Tahoma"/>
              </a:rPr>
              <a:t>Durante 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404640"/>
            <a:ext cx="87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Risulta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493560" y="1700280"/>
          <a:ext cx="3646800" cy="31654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3560" y="1700280"/>
                    <a:ext cx="3646800" cy="3165480"/>
                  </a:xfrm>
                  <a:prstGeom prst="rect">
                    <a:avLst/>
                  </a:prstGeom>
                  <a:ln cap="sq" w="12600">
                    <a:solidFill>
                      <a:srgbClr val="00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1325520" y="1844640"/>
            <a:ext cx="1687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TB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015920" y="4518000"/>
            <a:ext cx="158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e-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181240" y="4508640"/>
            <a:ext cx="18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Durante-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500720" y="1700280"/>
            <a:ext cx="3310920" cy="3165480"/>
            <a:chOff x="4500720" y="1700280"/>
            <a:chExt cx="3310920" cy="3165480"/>
          </a:xfrm>
        </p:grpSpPr>
        <p:graphicFrame>
          <p:nvGraphicFramePr>
            <p:cNvPr id="321" name=""/>
            <p:cNvGraphicFramePr/>
            <p:nvPr/>
          </p:nvGraphicFramePr>
          <p:xfrm>
            <a:off x="4500720" y="1700280"/>
            <a:ext cx="3310920" cy="3165480"/>
          </p:xfrm>
          <a:graphic>
            <a:graphicData uri="http://schemas.openxmlformats.org/presentationml/2006/ole">
              <p:oleObj progId="Excel.Sheet.12" r:id="rId8" spid="">
                <p:embed/>
                <p:pic>
                  <p:nvPicPr>
                    <p:cNvPr id="32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500720" y="1700280"/>
                      <a:ext cx="3310920" cy="3165480"/>
                    </a:xfrm>
                    <a:prstGeom prst="rect">
                      <a:avLst/>
                    </a:prstGeom>
                    <a:ln w="9360">
                      <a:solidFill>
                        <a:srgbClr val="0033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23" name=""/>
            <p:cNvSpPr/>
            <p:nvPr/>
          </p:nvSpPr>
          <p:spPr>
            <a:xfrm>
              <a:off x="4714920" y="4498920"/>
              <a:ext cx="1447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Pre-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58200" y="4498920"/>
              <a:ext cx="19944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Durante-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98120" y="1764000"/>
              <a:ext cx="2094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TBR(∆</a:t>
              </a:r>
              <a:r>
                <a:rPr b="0" lang="it-IT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%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673280" y="2266920"/>
            <a:ext cx="0" cy="2160720"/>
          </a:xfrm>
          <a:prstGeom prst="line">
            <a:avLst/>
          </a:prstGeom>
          <a:ln cap="sq"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65480" y="2257560"/>
            <a:ext cx="0" cy="2160360"/>
          </a:xfrm>
          <a:prstGeom prst="line">
            <a:avLst/>
          </a:prstGeom>
          <a:ln cap="sq"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22840" y="2276640"/>
            <a:ext cx="0" cy="2160360"/>
          </a:xfrm>
          <a:prstGeom prst="line">
            <a:avLst/>
          </a:prstGeom>
          <a:ln cap="sq"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48360" y="2276640"/>
            <a:ext cx="0" cy="2160360"/>
          </a:xfrm>
          <a:prstGeom prst="line">
            <a:avLst/>
          </a:prstGeom>
          <a:ln cap="sq"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1852280" y="13525560"/>
            <a:ext cx="4559400" cy="30463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12068280" y="13741560"/>
            <a:ext cx="4559040" cy="30463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12283920" y="13957200"/>
            <a:ext cx="4559400" cy="30466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17434080" y="13443120"/>
            <a:ext cx="5580000" cy="34099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6"/>
          <a:srcRect l="6631" t="28890" r="53048" b="35618"/>
          <a:stretch/>
        </p:blipFill>
        <p:spPr>
          <a:xfrm>
            <a:off x="2411280" y="2049480"/>
            <a:ext cx="2305080" cy="17701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7"/>
          <a:srcRect l="8288" t="31661" r="53048" b="35618"/>
          <a:stretch/>
        </p:blipFill>
        <p:spPr>
          <a:xfrm>
            <a:off x="4859280" y="2054160"/>
            <a:ext cx="2305080" cy="1768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8"/>
          <a:stretch/>
        </p:blipFill>
        <p:spPr>
          <a:xfrm>
            <a:off x="4859280" y="4005360"/>
            <a:ext cx="2305080" cy="17971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9"/>
          <a:stretch/>
        </p:blipFill>
        <p:spPr>
          <a:xfrm>
            <a:off x="2411280" y="4005360"/>
            <a:ext cx="2305080" cy="17971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64000" y="206064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Durante-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059280" y="20606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e-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59280" y="39877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Pre-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437080" y="3986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Durante-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08000" y="1557360"/>
            <a:ext cx="5759640" cy="46800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564000" y="17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Tahoma"/>
              </a:rPr>
              <a:t>“</a:t>
            </a:r>
            <a:r>
              <a:rPr b="0" lang="it-IT" sz="1800" spc="-1" strike="noStrike">
                <a:solidFill>
                  <a:srgbClr val="003300"/>
                </a:solidFill>
                <a:latin typeface="Tahoma"/>
              </a:rPr>
              <a:t>Responde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64000" y="5877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Tahoma"/>
              </a:rPr>
              <a:t>“</a:t>
            </a:r>
            <a:r>
              <a:rPr b="0" lang="it-IT" sz="1800" spc="-1" strike="noStrike">
                <a:solidFill>
                  <a:srgbClr val="003300"/>
                </a:solidFill>
                <a:latin typeface="Tahoma"/>
              </a:rPr>
              <a:t>Responde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04640"/>
            <a:ext cx="87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Risulta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11852280" y="13525560"/>
            <a:ext cx="4559400" cy="30463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12068280" y="13741560"/>
            <a:ext cx="4559040" cy="30463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12283920" y="13957200"/>
            <a:ext cx="4559400" cy="30466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17434080" y="13443120"/>
            <a:ext cx="5580000" cy="3409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"/>
          <a:stretch/>
        </p:blipFill>
        <p:spPr>
          <a:xfrm>
            <a:off x="2425680" y="2133720"/>
            <a:ext cx="2244600" cy="18716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857680" y="21099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e-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7"/>
          <a:stretch/>
        </p:blipFill>
        <p:spPr>
          <a:xfrm>
            <a:off x="2411280" y="4064040"/>
            <a:ext cx="2303640" cy="18558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8"/>
          <a:stretch/>
        </p:blipFill>
        <p:spPr>
          <a:xfrm>
            <a:off x="4944960" y="4076640"/>
            <a:ext cx="2291040" cy="18144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843280" y="40766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Pre-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435640" y="40608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Durante-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9"/>
          <a:stretch/>
        </p:blipFill>
        <p:spPr>
          <a:xfrm>
            <a:off x="4944960" y="2162160"/>
            <a:ext cx="2219400" cy="18194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5175360" y="2165400"/>
            <a:ext cx="15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Durante-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08000" y="1557360"/>
            <a:ext cx="5759640" cy="46800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564000" y="17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lang="it-IT" sz="1800" spc="-1" strike="noStrike">
                <a:solidFill>
                  <a:srgbClr val="a50021"/>
                </a:solidFill>
                <a:latin typeface="Tahoma"/>
              </a:rPr>
              <a:t>Non Responde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5280" y="404640"/>
            <a:ext cx="87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Risulta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64000" y="5877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Tahoma"/>
              </a:rPr>
              <a:t>“</a:t>
            </a:r>
            <a:r>
              <a:rPr b="0" lang="it-IT" sz="1800" spc="-1" strike="noStrike">
                <a:solidFill>
                  <a:srgbClr val="003300"/>
                </a:solidFill>
                <a:latin typeface="Tahoma"/>
              </a:rPr>
              <a:t>Responde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1852280" y="13525560"/>
            <a:ext cx="4559400" cy="30463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12068280" y="13741560"/>
            <a:ext cx="4559040" cy="30463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12283920" y="13957200"/>
            <a:ext cx="4559400" cy="30466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17434080" y="13443120"/>
            <a:ext cx="5580000" cy="34099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68360" y="1361160"/>
            <a:ext cx="7559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Tahoma"/>
              </a:rPr>
              <a:t>I nostri dati preliminari suggeriscono che un esame 18F-FDG PET effettuato dopo circa 15 giorni dall’inizio di RT-CT possa rilevare variazioni dell’attività metabolica tumor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8360" y="4437000"/>
            <a:ext cx="7775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00"/>
                </a:solidFill>
                <a:latin typeface="Tahoma"/>
              </a:rPr>
              <a:t>La risposta metabolica durante RT può predire l’outcome clinic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8360" y="5445000"/>
            <a:ext cx="65390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3300"/>
                </a:solidFill>
                <a:latin typeface="Tahoma"/>
              </a:rPr>
              <a:t>Ottimizzazione della strategia terapeutic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8360" y="3654360"/>
            <a:ext cx="8064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3300"/>
                </a:solidFill>
                <a:latin typeface="Tahoma"/>
              </a:rPr>
              <a:t>Quali sono gli indicatori miglior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404640"/>
            <a:ext cx="87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Conclusio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404640"/>
            <a:ext cx="87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Premess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61080" y="249336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a50021"/>
                </a:solidFill>
                <a:latin typeface="Tahoma"/>
              </a:rPr>
              <a:t>Therasse P;  J Natl Cancer Inst 2000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535040"/>
            <a:ext cx="813744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valutazione della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risposta a RT-C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con le tecniche di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imaging tradizional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i basa sulla stima delle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variazioni di 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348000" y="2781360"/>
            <a:ext cx="2879640" cy="2198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508720" y="4127400"/>
            <a:ext cx="2808360" cy="2141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6720" y="3043800"/>
            <a:ext cx="273528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uttavia le variazioni volumetriche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n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empre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correlano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 la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risposta patologic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o con la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opravvive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9080" y="5733360"/>
            <a:ext cx="179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a50021"/>
                </a:solidFill>
                <a:latin typeface="Tahoma"/>
              </a:rPr>
              <a:t>Werner-Wasik M; . IJROBP 2001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6560" y="1293840"/>
            <a:ext cx="77774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 pazienti affetti da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NSCLC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ottoposti a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RT-C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tale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correlazion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è stata osservata per la risposta valutata con esame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FDG-PE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eseguito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dopo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il termine del tratt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635280" y="3059280"/>
            <a:ext cx="2808360" cy="2241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648400" y="3933720"/>
            <a:ext cx="2884320" cy="2200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703920" y="2515680"/>
            <a:ext cx="14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a50021"/>
                </a:solidFill>
                <a:latin typeface="Tahoma"/>
              </a:rPr>
              <a:t>MacManus MP; JCO 2003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a50021"/>
                </a:solidFill>
                <a:latin typeface="Tahoma"/>
              </a:rPr>
              <a:t>Ryu JS; Lung Cancer 2002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3213000"/>
            <a:ext cx="302436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Variazion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ell’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attività metabolic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embrano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precedere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ariazioni d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volume tumor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537300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a50021"/>
                </a:solidFill>
                <a:latin typeface="Tahoma"/>
              </a:rPr>
              <a:t>Price P ; Eur J Cancer 1995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404640"/>
            <a:ext cx="87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Premess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6560" y="1609560"/>
            <a:ext cx="7993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radioterapia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generalmente causa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alterazioni infiammatorie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ocali e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l’accumulo di glucosio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a livello delle zone di flogosi è un fenomeno no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56727" b="0"/>
          <a:stretch/>
        </p:blipFill>
        <p:spPr>
          <a:xfrm>
            <a:off x="4788000" y="3284640"/>
            <a:ext cx="2808360" cy="295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57947" t="0" r="0" b="0"/>
          <a:stretch/>
        </p:blipFill>
        <p:spPr>
          <a:xfrm>
            <a:off x="1042920" y="3284640"/>
            <a:ext cx="2730600" cy="2950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404640"/>
            <a:ext cx="87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Premess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03280" y="1623960"/>
            <a:ext cx="648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lutare con un esa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8F-FDG PET-TAC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nteg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seguito precocement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uran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un trattamento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T-CT concomitan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 l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variazioni delle dimensioni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ell’attività metabolica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umorale, in pazienti affetti 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umore del polmone non microci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404640"/>
            <a:ext cx="87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Obietti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9640" y="2386080"/>
            <a:ext cx="8280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628640"/>
            <a:ext cx="7705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agnosi istologica di carcinoma polmonare non a piccole cellu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adio-chemioterapia come prima opzione terapeu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720" y="5402160"/>
            <a:ext cx="2159280" cy="307080"/>
          </a:xfrm>
          <a:prstGeom prst="rect">
            <a:avLst/>
          </a:prstGeom>
          <a:solidFill>
            <a:srgbClr val="3333ff">
              <a:alpha val="50000"/>
            </a:srgbClr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PET-TAC Pre-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266920" y="4605120"/>
            <a:ext cx="0" cy="215640"/>
          </a:xfrm>
          <a:prstGeom prst="line">
            <a:avLst/>
          </a:prstGeom>
          <a:ln cap="sq" w="12600">
            <a:solidFill>
              <a:srgbClr val="cbcb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1852280" y="13525560"/>
            <a:ext cx="4559400" cy="3046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2068280" y="13741560"/>
            <a:ext cx="4559040" cy="3046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2283920" y="13957200"/>
            <a:ext cx="4559400" cy="3046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7434080" y="13443120"/>
            <a:ext cx="5580000" cy="3409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404640"/>
            <a:ext cx="87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Materiali e metod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2720" y="457668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74960" y="457668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65400" y="457668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59080" y="457668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49520" y="457668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6800" y="457668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9040" y="457668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19480" y="457668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13160" y="457668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3600" y="457668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91240" y="457668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83120" y="457668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73560" y="457668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7240" y="457668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57680" y="457668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42080" y="4576680"/>
            <a:ext cx="9828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35760" y="457668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4760" y="4576680"/>
            <a:ext cx="9828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19880" y="457668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08880" y="4576680"/>
            <a:ext cx="9828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70920" y="457668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62800" y="457668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78680" y="457668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5416560"/>
            <a:ext cx="2871720" cy="307080"/>
          </a:xfrm>
          <a:prstGeom prst="rect">
            <a:avLst/>
          </a:prstGeom>
          <a:solidFill>
            <a:srgbClr val="000066">
              <a:alpha val="50000"/>
            </a:srgbClr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PET-TAC durante-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99400" y="457344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91280" y="457344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81720" y="457344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75400" y="457344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66200" y="4573440"/>
            <a:ext cx="96840" cy="27324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25840" y="3552120"/>
            <a:ext cx="27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5 gior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6520" y="3951360"/>
            <a:ext cx="18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63960" y="4998600"/>
            <a:ext cx="0" cy="273240"/>
          </a:xfrm>
          <a:prstGeom prst="line">
            <a:avLst/>
          </a:prstGeom>
          <a:ln cap="sq"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27360" y="3919680"/>
            <a:ext cx="0" cy="576000"/>
          </a:xfrm>
          <a:prstGeom prst="line">
            <a:avLst/>
          </a:prstGeom>
          <a:ln cap="sq"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5280" y="3559320"/>
            <a:ext cx="19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nizio 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547640" y="4998600"/>
            <a:ext cx="0" cy="273240"/>
          </a:xfrm>
          <a:prstGeom prst="line">
            <a:avLst/>
          </a:prstGeom>
          <a:ln cap="sq"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59280" y="3919680"/>
            <a:ext cx="0" cy="576000"/>
          </a:xfrm>
          <a:prstGeom prst="line">
            <a:avLst/>
          </a:prstGeom>
          <a:ln cap="sq"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1852280" y="13525560"/>
            <a:ext cx="4559400" cy="3046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12068280" y="13741560"/>
            <a:ext cx="4559040" cy="3046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12283920" y="13957200"/>
            <a:ext cx="4559400" cy="3046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17434080" y="13443120"/>
            <a:ext cx="5580000" cy="3409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5280" y="404640"/>
            <a:ext cx="87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Materiali e metod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916360" y="1701720"/>
            <a:ext cx="2737800" cy="4248000"/>
            <a:chOff x="2916360" y="1701720"/>
            <a:chExt cx="2737800" cy="4248000"/>
          </a:xfrm>
        </p:grpSpPr>
        <p:pic>
          <p:nvPicPr>
            <p:cNvPr id="173" name="" descr=""/>
            <p:cNvPicPr/>
            <p:nvPr/>
          </p:nvPicPr>
          <p:blipFill>
            <a:blip r:embed="rId6"/>
            <a:srcRect l="18895" t="32401" r="59386" b="36001"/>
            <a:stretch/>
          </p:blipFill>
          <p:spPr>
            <a:xfrm>
              <a:off x="3030840" y="2087640"/>
              <a:ext cx="2510640" cy="277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436920" y="2933280"/>
              <a:ext cx="1022400" cy="1085040"/>
            </a:xfrm>
            <a:custGeom>
              <a:avLst/>
              <a:gdLst/>
              <a:ahLst/>
              <a:rect l="l" t="t" r="r" b="b"/>
              <a:pathLst>
                <a:path w="392" h="409">
                  <a:moveTo>
                    <a:pt x="67" y="78"/>
                  </a:moveTo>
                  <a:cubicBezTo>
                    <a:pt x="29" y="86"/>
                    <a:pt x="13" y="95"/>
                    <a:pt x="1" y="132"/>
                  </a:cubicBezTo>
                  <a:cubicBezTo>
                    <a:pt x="3" y="150"/>
                    <a:pt x="7" y="168"/>
                    <a:pt x="7" y="186"/>
                  </a:cubicBezTo>
                  <a:cubicBezTo>
                    <a:pt x="7" y="210"/>
                    <a:pt x="0" y="234"/>
                    <a:pt x="1" y="258"/>
                  </a:cubicBezTo>
                  <a:cubicBezTo>
                    <a:pt x="2" y="275"/>
                    <a:pt x="16" y="295"/>
                    <a:pt x="19" y="312"/>
                  </a:cubicBezTo>
                  <a:cubicBezTo>
                    <a:pt x="33" y="380"/>
                    <a:pt x="91" y="393"/>
                    <a:pt x="151" y="408"/>
                  </a:cubicBezTo>
                  <a:cubicBezTo>
                    <a:pt x="177" y="406"/>
                    <a:pt x="204" y="409"/>
                    <a:pt x="229" y="402"/>
                  </a:cubicBezTo>
                  <a:cubicBezTo>
                    <a:pt x="243" y="398"/>
                    <a:pt x="265" y="378"/>
                    <a:pt x="265" y="378"/>
                  </a:cubicBezTo>
                  <a:cubicBezTo>
                    <a:pt x="291" y="338"/>
                    <a:pt x="263" y="307"/>
                    <a:pt x="313" y="294"/>
                  </a:cubicBezTo>
                  <a:cubicBezTo>
                    <a:pt x="322" y="257"/>
                    <a:pt x="342" y="225"/>
                    <a:pt x="373" y="204"/>
                  </a:cubicBezTo>
                  <a:cubicBezTo>
                    <a:pt x="392" y="175"/>
                    <a:pt x="375" y="180"/>
                    <a:pt x="385" y="150"/>
                  </a:cubicBezTo>
                  <a:cubicBezTo>
                    <a:pt x="374" y="118"/>
                    <a:pt x="383" y="137"/>
                    <a:pt x="355" y="96"/>
                  </a:cubicBezTo>
                  <a:cubicBezTo>
                    <a:pt x="351" y="90"/>
                    <a:pt x="343" y="78"/>
                    <a:pt x="343" y="78"/>
                  </a:cubicBezTo>
                  <a:cubicBezTo>
                    <a:pt x="365" y="12"/>
                    <a:pt x="275" y="5"/>
                    <a:pt x="235" y="0"/>
                  </a:cubicBezTo>
                  <a:cubicBezTo>
                    <a:pt x="206" y="6"/>
                    <a:pt x="180" y="13"/>
                    <a:pt x="151" y="18"/>
                  </a:cubicBezTo>
                  <a:cubicBezTo>
                    <a:pt x="129" y="83"/>
                    <a:pt x="67" y="11"/>
                    <a:pt x="67" y="78"/>
                  </a:cubicBezTo>
                  <a:close/>
                </a:path>
              </a:pathLst>
            </a:custGeom>
            <a:noFill/>
            <a:ln cap="sq"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69760" y="5280120"/>
              <a:ext cx="148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a50021"/>
                  </a:solidFill>
                  <a:latin typeface="Tahoma"/>
                </a:rPr>
                <a:t>GTV TA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16360" y="1701720"/>
              <a:ext cx="2737800" cy="424800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08000" y="1700280"/>
            <a:ext cx="8567280" cy="4033440"/>
            <a:chOff x="108000" y="1700280"/>
            <a:chExt cx="8567280" cy="4033440"/>
          </a:xfrm>
        </p:grpSpPr>
        <p:sp>
          <p:nvSpPr>
            <p:cNvPr id="178" name=""/>
            <p:cNvSpPr/>
            <p:nvPr/>
          </p:nvSpPr>
          <p:spPr>
            <a:xfrm>
              <a:off x="3828240" y="5141160"/>
              <a:ext cx="146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a50021"/>
                  </a:solidFill>
                  <a:latin typeface="Tahoma"/>
                </a:rPr>
                <a:t>GTV PE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7"/>
            <a:srcRect l="53048" t="25724" r="13261" b="31661"/>
            <a:stretch/>
          </p:blipFill>
          <p:spPr>
            <a:xfrm>
              <a:off x="784440" y="1821600"/>
              <a:ext cx="1918080" cy="212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995760" y="2331360"/>
              <a:ext cx="968760" cy="1013040"/>
            </a:xfrm>
            <a:prstGeom prst="rect">
              <a:avLst/>
            </a:prstGeom>
            <a:noFill/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1" name=""/>
            <p:cNvGraphicFramePr/>
            <p:nvPr/>
          </p:nvGraphicFramePr>
          <p:xfrm>
            <a:off x="223200" y="4266720"/>
            <a:ext cx="3055320" cy="8244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23200" y="4266720"/>
                      <a:ext cx="3055320" cy="82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3038400" y="1821600"/>
            <a:ext cx="3042000" cy="1004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038400" y="1821600"/>
                      <a:ext cx="3042000" cy="100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5" name=""/>
            <p:cNvSpPr/>
            <p:nvPr/>
          </p:nvSpPr>
          <p:spPr>
            <a:xfrm>
              <a:off x="1344960" y="4499280"/>
              <a:ext cx="905400" cy="293040"/>
            </a:xfrm>
            <a:prstGeom prst="rect">
              <a:avLst/>
            </a:prstGeom>
            <a:noFill/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2"/>
            <a:srcRect l="9022" t="33851" r="45109" b="7522"/>
            <a:stretch/>
          </p:blipFill>
          <p:spPr>
            <a:xfrm>
              <a:off x="3629880" y="2921400"/>
              <a:ext cx="186984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08000" y="1700280"/>
              <a:ext cx="8567280" cy="403344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2840" y="5093640"/>
              <a:ext cx="236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a50021"/>
                  </a:solidFill>
                  <a:latin typeface="Tahoma"/>
                </a:rPr>
                <a:t>I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18800" y="5124240"/>
              <a:ext cx="146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a50021"/>
                  </a:solidFill>
                  <a:latin typeface="Tahoma"/>
                </a:rPr>
                <a:t>TB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13"/>
            <a:srcRect l="0" t="0" r="0" b="16313"/>
            <a:stretch/>
          </p:blipFill>
          <p:spPr>
            <a:xfrm>
              <a:off x="6279120" y="1821600"/>
              <a:ext cx="2058120" cy="18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4"/>
            <a:stretch/>
          </p:blipFill>
          <p:spPr>
            <a:xfrm>
              <a:off x="5631120" y="4266720"/>
              <a:ext cx="2930400" cy="8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7639200" y="4432320"/>
              <a:ext cx="905400" cy="292680"/>
            </a:xfrm>
            <a:prstGeom prst="rect">
              <a:avLst/>
            </a:prstGeom>
            <a:noFill/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1852280" y="13525560"/>
            <a:ext cx="4559400" cy="3046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2068280" y="13741560"/>
            <a:ext cx="4559040" cy="3046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12283920" y="13957200"/>
            <a:ext cx="4559400" cy="30466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17434080" y="13443120"/>
            <a:ext cx="5580000" cy="3409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68360" y="1579680"/>
            <a:ext cx="734364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9 pazient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5 Adenocarcinom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4 Carcinoma squamo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404640"/>
            <a:ext cx="87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Risulta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-252360" y="2997360"/>
            <a:ext cx="8279640" cy="2777040"/>
            <a:chOff x="-252360" y="2997360"/>
            <a:chExt cx="8279640" cy="2777040"/>
          </a:xfrm>
        </p:grpSpPr>
        <p:grpSp>
          <p:nvGrpSpPr>
            <p:cNvPr id="200" name=""/>
            <p:cNvGrpSpPr/>
            <p:nvPr/>
          </p:nvGrpSpPr>
          <p:grpSpPr>
            <a:xfrm>
              <a:off x="806400" y="3265920"/>
              <a:ext cx="7220880" cy="2508480"/>
              <a:chOff x="806400" y="3265920"/>
              <a:chExt cx="7220880" cy="2508480"/>
            </a:xfrm>
          </p:grpSpPr>
          <p:sp>
            <p:nvSpPr>
              <p:cNvPr id="201" name=""/>
              <p:cNvSpPr/>
              <p:nvPr/>
            </p:nvSpPr>
            <p:spPr>
              <a:xfrm>
                <a:off x="806400" y="401508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46160" y="401508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84120" y="401508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27120" y="401508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764720" y="401508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24000" y="4015080"/>
                <a:ext cx="12060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364120" y="401508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601720" y="401508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844360" y="401508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081960" y="401508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41240" y="401508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681360" y="401508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18960" y="401508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61960" y="401508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399920" y="401508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755960" y="401508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996080" y="401508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234040" y="401508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477040" y="401508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714640" y="401508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65840" y="4015080"/>
                <a:ext cx="12060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905960" y="401508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425360" y="401508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561320" y="5467320"/>
                <a:ext cx="3591000" cy="307080"/>
              </a:xfrm>
              <a:prstGeom prst="rect">
                <a:avLst/>
              </a:prstGeom>
              <a:solidFill>
                <a:srgbClr val="000066">
                  <a:alpha val="50000"/>
                </a:srgbClr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ahoma"/>
                  </a:rPr>
                  <a:t>PET-TAC durante-R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076440" y="401112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316560" y="401112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554160" y="401112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97160" y="401112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034760" y="4011120"/>
                <a:ext cx="121320" cy="27288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682640" y="4509000"/>
                <a:ext cx="3440160" cy="48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ahoma"/>
                  </a:rPr>
                  <a:t>Mediana 1980 cG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ahoma"/>
                  </a:rPr>
                  <a:t>Range 1080-2700 cGy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28680" y="3830400"/>
                <a:ext cx="2397240" cy="0"/>
              </a:xfrm>
              <a:prstGeom prst="line">
                <a:avLst/>
              </a:prstGeom>
              <a:ln cap="sq"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526280" y="3738240"/>
                <a:ext cx="0" cy="182880"/>
              </a:xfrm>
              <a:prstGeom prst="line">
                <a:avLst/>
              </a:prstGeom>
              <a:ln cap="sq"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128680" y="3738240"/>
                <a:ext cx="0" cy="182880"/>
              </a:xfrm>
              <a:prstGeom prst="line">
                <a:avLst/>
              </a:prstGeom>
              <a:ln cap="sq"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26520" y="4404240"/>
                <a:ext cx="2397240" cy="0"/>
              </a:xfrm>
              <a:prstGeom prst="line">
                <a:avLst/>
              </a:prstGeom>
              <a:ln cap="sq"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23760" y="4311720"/>
                <a:ext cx="0" cy="182880"/>
              </a:xfrm>
              <a:prstGeom prst="line">
                <a:avLst/>
              </a:prstGeom>
              <a:ln cap="sq"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126520" y="4311720"/>
                <a:ext cx="0" cy="182880"/>
              </a:xfrm>
              <a:prstGeom prst="line">
                <a:avLst/>
              </a:prstGeom>
              <a:ln cap="sq"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377080" y="3265920"/>
                <a:ext cx="1998720" cy="48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ahoma"/>
                  </a:rPr>
                  <a:t>Mediana 15 giorn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ahoma"/>
                  </a:rPr>
                  <a:t>Range 10-24 giorni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3357000" y="5050440"/>
                <a:ext cx="0" cy="272880"/>
              </a:xfrm>
              <a:prstGeom prst="line">
                <a:avLst/>
              </a:prstGeom>
              <a:ln cap="sq"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861840" y="3357720"/>
              <a:ext cx="0" cy="576000"/>
            </a:xfrm>
            <a:prstGeom prst="line">
              <a:avLst/>
            </a:prstGeom>
            <a:ln cap="sq"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-252360" y="2997360"/>
              <a:ext cx="24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Inizio R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1852280" y="13525560"/>
            <a:ext cx="4559400" cy="30463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12068280" y="13741560"/>
            <a:ext cx="4559040" cy="3046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12283920" y="13957200"/>
            <a:ext cx="4559400" cy="30466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17434080" y="13443120"/>
            <a:ext cx="5580000" cy="340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522360" y="1701720"/>
          <a:ext cx="3611520" cy="31672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2360" y="1701720"/>
                    <a:ext cx="3611520" cy="3167280"/>
                  </a:xfrm>
                  <a:prstGeom prst="rect">
                    <a:avLst/>
                  </a:prstGeom>
                  <a:ln cap="sq" w="12600">
                    <a:solidFill>
                      <a:srgbClr val="00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693800" y="1827360"/>
            <a:ext cx="145728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GTV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ahoma"/>
              </a:rPr>
              <a:t>T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360" y="451152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Durante-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56160" y="1700280"/>
          <a:ext cx="3255840" cy="316872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56160" y="1700280"/>
                    <a:ext cx="3255840" cy="3168720"/>
                  </a:xfrm>
                  <a:prstGeom prst="rect">
                    <a:avLst/>
                  </a:prstGeom>
                  <a:ln cap="sq" w="12600">
                    <a:solidFill>
                      <a:srgbClr val="00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5005440" y="1773360"/>
            <a:ext cx="248904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GTV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ahoma"/>
              </a:rPr>
              <a:t>TAC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(∆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64320" y="4510080"/>
            <a:ext cx="197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Durante-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6360" y="508356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Tahoma"/>
              </a:rPr>
              <a:t>Mean GTV-TAC=167 cc (range 80 cc-358 cc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ahoma"/>
              </a:rPr>
              <a:t>Mean GTV-TAC=122 cc (range 54 cc– 176 cc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5078520"/>
            <a:ext cx="18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80"/>
                </a:solidFill>
                <a:latin typeface="Tahoma"/>
              </a:rPr>
              <a:t>Pre-RT </a:t>
            </a:r>
            <a:r>
              <a:rPr b="1" lang="it-IT" sz="2000" spc="-1" strike="noStrike">
                <a:solidFill>
                  <a:srgbClr val="a50021"/>
                </a:solidFill>
                <a:latin typeface="Tahoma"/>
              </a:rPr>
              <a:t>Durante 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404640"/>
            <a:ext cx="87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Risulta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35240" y="4511520"/>
            <a:ext cx="1365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e-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9640" y="4492800"/>
            <a:ext cx="93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e-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79640" y="2276640"/>
            <a:ext cx="0" cy="2160360"/>
          </a:xfrm>
          <a:prstGeom prst="line">
            <a:avLst/>
          </a:prstGeom>
          <a:ln cap="sq"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2301840"/>
            <a:ext cx="0" cy="2160720"/>
          </a:xfrm>
          <a:prstGeom prst="line">
            <a:avLst/>
          </a:prstGeom>
          <a:ln cap="sq"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18160" y="2298600"/>
            <a:ext cx="0" cy="2160720"/>
          </a:xfrm>
          <a:prstGeom prst="line">
            <a:avLst/>
          </a:prstGeom>
          <a:ln cap="sq"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295360"/>
            <a:ext cx="0" cy="2160720"/>
          </a:xfrm>
          <a:prstGeom prst="line">
            <a:avLst/>
          </a:prstGeom>
          <a:ln cap="sq"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1T00:09:08Z</dcterms:created>
  <dc:creator>user</dc:creator>
  <dc:description/>
  <dc:language>en-US</dc:language>
  <cp:lastModifiedBy>TC</cp:lastModifiedBy>
  <dcterms:modified xsi:type="dcterms:W3CDTF">2007-11-10T09:22:29Z</dcterms:modified>
  <cp:revision>177</cp:revision>
  <dc:subject/>
  <dc:title>PET-CT in locally advanced NSCLC UCSC preliminary experiences</dc:title>
</cp:coreProperties>
</file>