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1B7-7D0B-4BB3-B1EC-B86ED17D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C0B-BC13-4B3F-A4DA-273E155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37B-FA6E-4ED9-930E-3BD970A1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8FC-C92C-4504-812F-1BF8C240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E95-F15D-42E3-A469-1E7205ED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4DF-1511-4C6B-B347-03E4E956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1B0-BA1F-4D12-887F-50CAA8B0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D83-9610-43EC-A9A6-4BB592AD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3D6-3CF6-4641-B497-6D1843C3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AE7-A178-4713-8C45-E77AD6E2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F34-B768-4C9F-A973-4004BF53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48B-BA02-4FCC-B67C-E23AA15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CED4-88A7-49E2-9DA6-BDB66BFEE85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497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57800" y="1447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Ma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Miss Meta-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25146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2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1295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J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1676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295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Vin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143000" y="1600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649116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René Magritte: L’assassin menacé 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Impact of meta-analysis results on clinical practice: 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99"/>
                </a:solidFill>
                <a:latin typeface="Comic Sans MS"/>
              </a:rPr>
              <a:t>Mauro Palazzi – Istituto Nazionale Tumori, Mi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It is likely that patients entered into clinical trial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young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in better general conditi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with less comorbiditi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potentially more able to comply with 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experimental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... than patients in daily rou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ADDENDUM: this is even more true with increasing 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aggressiveness of exp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99"/>
                </a:solidFill>
                <a:latin typeface="Comic Sans MS"/>
              </a:rPr>
              <a:t>CONCLUSION: population of pts entered in trials is different from population of pts treated in daily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" dur="1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Factors limiting extrapolation from clinical trials to clinic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factors related to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factors related to the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factors related to the treating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6576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2514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Are doctors treating pts within clinical trials</a:t>
            </a: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similar to </a:t>
            </a:r>
            <a:br>
              <a:rPr sz="3200"/>
            </a:b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doctors treating patients in daily practice</a:t>
            </a:r>
            <a:br>
              <a:rPr sz="2800"/>
            </a:b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914400"/>
            <a:ext cx="75438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Background:  clinical researchers designing and leading clinical trials have obvious reason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to select</a:t>
            </a: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 qualified collaborating clinicians / participating Centres, assuring a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high-quality management</a:t>
            </a: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 of entered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There are a number of tools to increase the quality of the performance of collaborating Cen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2514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Are doctors treating pts within clinical trials</a:t>
            </a: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similar to </a:t>
            </a:r>
            <a:br>
              <a:rPr sz="3200"/>
            </a:b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doctors treating patients in daily practice</a:t>
            </a:r>
            <a:br>
              <a:rPr sz="2800"/>
            </a:b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It is likely that the performance of doctors treating cases within clinical trials is significantly different from that of doctors treating routin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Factors limiting extrapolation from clinical trials to clinic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factors related to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808080"/>
                </a:solidFill>
                <a:latin typeface="Comic Sans MS"/>
              </a:rPr>
              <a:t>factors related to the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factors related to the treating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46483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84872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571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60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ESSONS FROM META-ANALYSIS RESULTS </a:t>
            </a:r>
            <a:br>
              <a:rPr sz="4000"/>
            </a:br>
            <a:r>
              <a:rPr b="1" lang="en-US" sz="4000" spc="-1" strike="noStrike">
                <a:solidFill>
                  <a:srgbClr val="cc0099"/>
                </a:solidFill>
                <a:latin typeface="Comic Sans MS"/>
              </a:rPr>
              <a:t>(PROS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IMPACT OF META-ANALYSIS RESULTS ON CLINICAL PRACTICE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(C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685800"/>
            <a:ext cx="8001000" cy="51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Therapeutic benefit associated with experimental treat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(e.g. chemo-RT, altered fractionation 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cc0099"/>
                </a:solidFill>
                <a:latin typeface="Comic Sans MS"/>
              </a:rPr>
              <a:t>in selected Institutions</a:t>
            </a: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might be lo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partially or even totall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99"/>
                </a:solidFill>
                <a:latin typeface="Comic Sans MS"/>
              </a:rPr>
              <a:t>in other treating Centres</a:t>
            </a: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1066680"/>
            <a:ext cx="800100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Therapeutic benefit associated with experimental treat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99"/>
                </a:solidFill>
                <a:latin typeface="Comic Sans MS"/>
              </a:rPr>
              <a:t>in</a:t>
            </a: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cc0099"/>
                </a:solidFill>
                <a:latin typeface="Comic Sans MS"/>
              </a:rPr>
              <a:t>clinical trials</a:t>
            </a: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might be lo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partially or even totally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99"/>
                </a:solidFill>
                <a:latin typeface="Comic Sans MS"/>
              </a:rPr>
              <a:t>in daily rou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066680"/>
            <a:ext cx="800100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808080"/>
                </a:solidFill>
                <a:latin typeface="Comic Sans MS"/>
              </a:rPr>
              <a:t>1) Can the therapeutic benefit observed in clinical trials be extrapolated to daily rout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2) What about the therapeutic ratio    of “experimental” treatments delivered in daily prac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4290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757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59436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oster #145 at this meeting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92468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-14400"/>
            <a:ext cx="876312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99072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Oral mucositis was more common among patients receiving chemotherapy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.. and among those who were treated with altered fractionation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Oral mucositis was associated with an incremental cost of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$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1700-6000, depending on the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14300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mean cost of RT alo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324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ithout mucositis:  $ 14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324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ith mucositis: $ 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657600"/>
            <a:ext cx="754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mean cost of chemo-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without mucositis: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$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28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with mucositis: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$  34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533520"/>
            <a:ext cx="830592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99"/>
                </a:solidFill>
                <a:latin typeface="Comic Sans MS"/>
              </a:rPr>
              <a:t>CONCLUSIONS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It is likely that, due to several factors, the outcome benefits reported by clinical trials (meta-analyses) overestimate the actual benefits in clinica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Expected benefit in daily practice is therefore &lt;&lt; 10% (absol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To obtain a benefit in &lt;&lt; 10% of patients, toxicity and costs will raise substa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IS IT WORTH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533520"/>
            <a:ext cx="830592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CONCLUSION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cc0099"/>
                </a:solidFill>
                <a:latin typeface="Comic Sans MS"/>
              </a:rPr>
              <a:t>Evidence-based recommendations should rea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1) In advanced stage H&amp;N patients, standard treatment is radiotherapy at full dose to adequate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2) In </a:t>
            </a: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selected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subsets of patients,treated at </a:t>
            </a: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selected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Centres, chemotherapy (or altered RT) may improve outcome by 10-15% (absolute) </a:t>
            </a: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at the expense of a substantial increase in toxicity and costs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066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33520"/>
            <a:ext cx="2971800" cy="2133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48006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AILY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267080"/>
            <a:ext cx="297180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29200">
            <a:off x="3276360" y="23623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3197000">
            <a:off x="4724280" y="3733920"/>
            <a:ext cx="1067040" cy="76176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30481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0666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LINICAL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33520"/>
            <a:ext cx="2971800" cy="2133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8006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AILY 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4267080"/>
            <a:ext cx="2971800" cy="221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629200">
            <a:off x="3123720" y="3124080"/>
            <a:ext cx="2971800" cy="762120"/>
          </a:xfrm>
          <a:prstGeom prst="rightArrow">
            <a:avLst>
              <a:gd name="adj1" fmla="val 50000"/>
              <a:gd name="adj2" fmla="val 9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4382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066680"/>
            <a:ext cx="80010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1) Can the therapeutic benefit observed in clinical trials be extrapolated to daily rout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2) What about the therapeutic ratio (benefits vs costs) of “experimental” treatments </a:t>
            </a:r>
            <a:r>
              <a:rPr b="1" lang="en-GB" sz="3200" spc="-1" strike="noStrike">
                <a:solidFill>
                  <a:srgbClr val="cc0099"/>
                </a:solidFill>
                <a:latin typeface="Comic Sans MS"/>
              </a:rPr>
              <a:t>delivered in daily practice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533520"/>
            <a:ext cx="731520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AN WE EXTRAPOLATE THE RESULTS OF CLINICAL T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META-ANALYSES) TO CLINICAL PRACTI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289548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YE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191120"/>
            <a:ext cx="685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META-ANALYSIS:   CHEMO-RT IMPROVES OUTCOME OF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mic Sans MS"/>
              </a:rPr>
              <a:t>DAILY ROUTINE:  PRESCRIBE CHEMO-R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48769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676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Factors negatively affecting extrapolation from clinical trials to clinic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factors related to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factors related to the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factors related to the treating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Factors limiting extrapolation from clinical trials to clinica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factors related to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69696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969696"/>
                </a:solidFill>
                <a:latin typeface="Comic Sans MS"/>
              </a:rPr>
              <a:t>factors related to the do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69696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969696"/>
                </a:solidFill>
                <a:latin typeface="Comic Sans MS"/>
              </a:rPr>
              <a:t>factors related to the treating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6668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189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How patients are selected to participate to clinical tr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omorbid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other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" autoRev="1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" autoRev="1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C</cp:lastModifiedBy>
  <dcterms:modified xsi:type="dcterms:W3CDTF">2007-11-11T08:36:53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