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175F-F30B-409B-9A00-AC6788EDEE36}" type="slidenum"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iEM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42B-DA25-4C58-A09E-A45781C8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721-0AE8-404A-A11B-7239292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699-FD50-4079-A9FA-53776E4F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223-FF35-4636-911F-0A34D955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15A-3938-4A44-AF08-BE064BFF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29AB-09D2-4EC8-A36D-AA87D78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7932-318B-437C-B0B6-8523EAE5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E124-27D6-4F94-BCEA-FBACAC8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BCD5-01D0-451F-B0FE-B5FE3F4F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0E49-B615-452E-9F82-EB2FABAE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08F8-3D21-4DDA-ACED-B0F5406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5AE-708A-4C79-8144-D56C055D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3368-22C5-4482-9A24-9C6AB6F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8DC9-3E6F-44CE-930F-9567A5F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75DF-B560-4B88-A886-E49598A7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2129-BE3C-4811-B8BF-3C8C40C4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3686-4ED2-4772-80A6-ACDDA562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1A3-726E-494E-8E12-7408C1D9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C9E-FB62-42C2-AFE6-057336FD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7B9-42D1-4165-8BC9-53DCA2C6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777-9560-40DD-9B69-756B494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9C1-F500-44FE-B1BB-7CF52DD7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EC7-0836-42FC-8D4E-1555419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15A-DCBC-441E-BE72-E9081C21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90E5-F9A5-489F-B7D3-E58374E2941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2CBA-4366-4E2C-B2BA-BB313954E3CF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Comic Sans MS"/>
              </a:rPr>
              <a:t>XVII CONGRESSO NAZIONALE A.I.R.O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DEFINIZIONE DEL VOLUME BERSAGLIO PER TRATTAMENTI RADIOTERAPICI CONFORMAZIONALI 3D  (3D-CRT) MEDIANTE FDG-PET/TC IN 26 CASI DI CARCINOMA POLMONARE A PICCOLE CELLULE, MALATTIA LIMIT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Dr.ssa Maria Paola 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Radioterapia Oncolog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A.S.U.R. Zona Territoriale n.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Macer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93640" y="655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28600" y="0"/>
            <a:ext cx="9372600" cy="63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- 14/23 pz ex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12 per malattia siste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4 metastasi epati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6 metastasi cerebral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2 metastasi os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2 per recidiva linfonodale al di fuori del T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cc66"/>
                </a:solidFill>
                <a:latin typeface="Comic Sans MS"/>
              </a:rPr>
              <a:t>RISULT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1800" y="333360"/>
            <a:ext cx="7340400" cy="12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Comic Sans MS"/>
              </a:rPr>
              <a:t>CONCLUSION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In 3 casi (13%) ripresa di malattia linfonodale al di fuori del T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Dati analoghi dallo studio di De Ruysscher D. et     al: Omission of elective node irradiation on basis of CT-scans in patients with limited disease small cell lung cancer: a phase II trial.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(Radiother Oncol 80: 307-312, 2006).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3/27 (11%) di fallimenti linfonodali al di fuori del T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a sopravvivenza a 2 anni 27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Tossicità non severa (esofag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a nostra esperienza è limit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Non ci sono dati in letteratura per il LD-SCLC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irca l’incidenza delle riprese di malattia nei linfonodi al di fuori del volume irradiato quando viene omessa l’irradiazione linfonodale estesa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he dimostrino l’impatto della PET sull’esito del trattamento radioterapic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he supportino la definizione di un target diver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’importanza della irradiazione linfonodale selet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er il LD-SCLC non può essere semplicem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estrapolata dall’importanza che essa ha ne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NSCL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CONCLUS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60000" cy="13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onna di 62 anni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Gennaio ‘03: lobectomia polmonare inferiore destra per LD-SCLC 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Marzo ‘03: linfoadenopatie in sede sottocarenale ed ilare a destra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3 cicli di CHT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→ CHT+RT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084560" cy="30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572000" y="2590920"/>
          <a:ext cx="434808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590920"/>
                    <a:ext cx="43480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Ottobre ‘03: adenopatie paratracheali a destra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56000" y="907920"/>
          <a:ext cx="4289400" cy="25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907920"/>
                    <a:ext cx="4289400" cy="25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39640" y="3645000"/>
            <a:ext cx="820908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ur omettendo l’irradiazione linfonodale elettiva, è possibile   trattare le recidive linfonodali  fuori dal campo di terapia con la 3D-C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tessa procedura di immobilizz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ossibilità di sommare i DVH degli organi a risch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 tossicità aggiun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191120"/>
            <a:ext cx="91440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Malattia controllata a livello torac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Exitus per progressione di malattia a livello cerebra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anche se  RT su encefalo a scopo profilat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032000" cy="3083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4044960" cy="30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69228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Comic Sans MS"/>
              </a:rPr>
              <a:t>OBIETTIVO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Correlare il target volume definito  dalla PET/TC con le recidive locali e     regionali nel carcinoma polmonare a  piccole cellule, malattia limit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Comic Sans MS"/>
              </a:rPr>
              <a:t>MATERIAL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SETTEMBRE 2003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DICEMBR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26 pazienti con LD-SCLC 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FDG-PET/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23 inclusi nello stud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3 esclusi per metastasi a dist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età  46 - 81 ann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(età media 63,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13 pz 6 cicli di CHT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10 pz 3 cicli di CHT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CHT + 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in base alla risposta alla TC dopo il II ciclo di 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2240" y="10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237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PET/TC SIEMENS BIOGRAPH DUO L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25236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Comic Sans MS"/>
              </a:rPr>
              <a:t>METOD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PET/TC 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PRIMA DELLA C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PET/TC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DOPO 21 GG DALLA C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restag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RT treatment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180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990720"/>
            <a:ext cx="8153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609480"/>
            <a:ext cx="87631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Le immagini TC sono state ricostruite con uno spessore delle slices di 3,4 mm, lo stesso delle immagini P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La fusione tra le immagini PET e le scansioni TC è stata ottenuta mediante l’algoritmo M.M.I. (Maximization of Mutual Informat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La risoluzione dell’immagine è di circa 6,1 m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METO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12960" y="148896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520"/>
            <a:ext cx="8458200" cy="60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Pz in posizione di terapia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Tavolo piatto in fibra di carbonio (flat table to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Non è stato usato un gating respir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Criteri visivi per la definizione del conto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E’ stato considerato il livello di intensità dell’FDG del 40%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(J. Bradley et al. IJROBP Vol. 59. No.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   1 pp. 78-86, 20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METO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228600"/>
            <a:ext cx="8915400" cy="10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DEFINIZIONE del TARGET VOLU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e DOSE 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target volume inizi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se RC dopo la chemioterap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dose 45 G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malattia residu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dopo la chemioterap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dose 54 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le stazioni linfonod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captanti alla PET/TC di st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66"/>
                </a:solidFill>
                <a:latin typeface="Comic Sans MS"/>
              </a:rPr>
              <a:t>METO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22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1608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Comic Sans MS"/>
              </a:rPr>
              <a:t>RISULTAT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Follow up 3- 42 mesi (dati aggiornati a Marzo ‘0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- 9/23 pz vivi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4 in 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4 con S locoregionale (2 con metastasi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 a distanz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1 con recidiva nel campo di 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e linfonodale sovraclave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4571640" y="14475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9:50:33Z</dcterms:created>
  <dc:creator>mppace</dc:creator>
  <dc:description/>
  <dc:language>en-US</dc:language>
  <cp:lastModifiedBy>TC</cp:lastModifiedBy>
  <dcterms:modified xsi:type="dcterms:W3CDTF">2007-11-10T09:26:58Z</dcterms:modified>
  <cp:revision>185</cp:revision>
  <dc:subject/>
  <dc:title>Presentazione di PowerPoint</dc:title>
</cp:coreProperties>
</file>