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F34-3558-4C06-879E-168D36CC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1E8-058E-4105-B023-9179436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814-AE91-4994-A01D-3C777334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9A-3385-4B94-ADAE-CA2ACCFF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565-E43A-4ABA-B568-FDDC1DF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8CD-2FB4-4A52-BBD2-ABAF4BB1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A49-D609-46D5-BC13-BDA0A593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505-BCD8-49D5-BB56-4B2E77C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491-8D50-4A53-BACD-A1C45CD5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B05-B82C-47A9-BE17-3B5898D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954-FBB8-496E-86D9-18F7040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C2D-097B-490C-9007-B997628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2b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6FA5-9ADF-43A8-9CAC-32E9701F866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2b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826920" y="1628640"/>
            <a:ext cx="7553520" cy="12290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00000" y="3014640"/>
            <a:ext cx="7417080" cy="3438720"/>
            <a:chOff x="900000" y="3014640"/>
            <a:chExt cx="7417080" cy="343872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00000" y="3014640"/>
              <a:ext cx="741708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900000" y="3014640"/>
              <a:ext cx="7417080" cy="343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53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11640" y="2492280"/>
            <a:ext cx="1152360" cy="3603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2b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SSICITÀ DA RADIOTERAPIA NEL TUMORE TESTA-COLLO: RAPPORTO SU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1 CASI CONSECUTIVI ESPERIENZA DI UNA SINGOLA ISTITUZIONE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. Argenone, A. Viscusi, P. Pelosi, D. Tiso, M. Lioce (Benevento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584360"/>
            <a:ext cx="849600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ateriale e meto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01 pazienti affetti da ca. del testa collo stadi I-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rruolati dal 2001 al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90 M e 11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tà media 65 (range 27-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-D CRT dose totale 60-70 Gy (2 campi laterali con esclusione midoll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dose di 44 Gy + un campo AP fino a 50 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mifostina somministrata a 3 pazi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llow-up ogni 3-6 m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5084640"/>
            <a:ext cx="2303640" cy="152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398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2b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OSSICITÀ DA RADIOTERAPIA NEL TUMORE TESTA-COLLO: RAPPORTO SU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1 CASI CONSECUTIVI ESPERIENZA DI UNA SINGOLA ISTITUZIONE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. Argenone, A. Viscusi, P. Pelosi, D. Tiso, M. Lioce (Benevento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84280"/>
            <a:ext cx="85690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isult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FS 88.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pazienti deceduti per progressione di malat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sicità acuta: 2% G3, 31% G2, 14% G1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3% G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sicità tardiva: 4% G3, 7% G2, 22% G1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7% G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lus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migliore strategia terapeutica nei tumori testa co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accettabile tossic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5084640"/>
            <a:ext cx="2303640" cy="152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398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2b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060640"/>
            <a:ext cx="57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7848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azienti sono stati sottoposti a 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le tipo di tossicità hanno present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le metodiche diagnostiche sono state richieste per il follow-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28920" y="-27000"/>
            <a:ext cx="2486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omande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230328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6398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6:55:56Z</dcterms:created>
  <dc:creator>Utente</dc:creator>
  <dc:description/>
  <dc:language>en-US</dc:language>
  <cp:lastModifiedBy>TC</cp:lastModifiedBy>
  <dcterms:modified xsi:type="dcterms:W3CDTF">2007-11-10T11:01:16Z</dcterms:modified>
  <cp:revision>182</cp:revision>
  <dc:subject/>
  <dc:title>Diapositiva 1</dc:title>
</cp:coreProperties>
</file>