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AAAA-33C1-42DD-A0B6-510F05E1F5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E69-CA82-415D-A738-039F1351664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0CD6-6CE2-4A25-A6B8-B23FC84C029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0529-4CE8-4B26-8E32-CD00E3766B5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E40-6F4E-481D-9F7C-9ED88550A46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A358-3B9C-4A5B-BD5C-17E713C16BE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DD6-5292-474E-804B-7EC273D7FDD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B65-6BD4-491A-809F-A59ADEE11FB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84C7-56B0-4A6E-9AAB-03112DE36A0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14C3-25F0-4878-9D37-06DBDF0EF21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B648-8FA6-4C8E-BB05-6F47BD21986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77D7-938F-4464-B7BD-223B58B0854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9125-7C76-49C1-8270-3063EA04BF2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429A-BB5C-4C98-9FE6-9900175B3F4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56CE-44F3-451B-80D3-6A97D993823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2B1-A5CB-4DAD-B0D2-EF0B40A6584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615-2361-4AB6-9BCB-BCA4495B7B1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4C4-158B-47A4-AFA6-2B8B6579987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22DF-4D3B-4C1D-93D4-6645E306079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AC9-16AB-49E3-A4EC-66E05FA32FC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DAF-53F2-45CE-9FA6-72F3D56EB25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103-98EB-4D40-AB69-79F849D96FF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F9D-4245-4BFD-B201-9771EFDC578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A7B-DAC0-46D2-B19C-3DA828B3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314-CD7A-4723-9606-0810B01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95D-6DF5-44A4-B555-64858EEF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F7A-206A-44AA-886C-49A0931C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7E-1968-4CB8-BED4-4C970E97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491-F8B3-4DD6-8621-1A1B1391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722-3BCC-4909-A41E-E2575E7C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8EE-B61B-43D1-81A4-15B4FF54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4F8-57F4-4757-A4F1-7E57FE9A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E93-84A6-4A80-ADF3-046DE85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2AD-5404-40B0-AF60-7C2CBA01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542-6202-4A26-8750-621B88CD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E7F7-87EF-45BB-ACE6-BA58740C6309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331920"/>
            <a:ext cx="8785440" cy="352872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ff00"/>
                </a:solidFill>
                <a:uFillTx/>
                <a:latin typeface="Arial Narrow"/>
              </a:rPr>
              <a:t>RADIOCHEMIOTERAPIA CONCOMITANTE </a:t>
            </a:r>
            <a:br>
              <a:rPr sz="2800"/>
            </a:br>
            <a:r>
              <a:rPr b="1" lang="it-IT" sz="2800" spc="-1" strike="noStrike" u="sng">
                <a:solidFill>
                  <a:srgbClr val="ffff00"/>
                </a:solidFill>
                <a:uFillTx/>
                <a:latin typeface="Arial Narrow"/>
              </a:rPr>
              <a:t>CON CDDP SETTIMANALE NEI TUMORI LARINGEI ED IPOFARINGEI LOCALMENTE AVANZATI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risultati preliminari di un protocollo multicentrico italiano di conservazione della larin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6720" y="4484160"/>
            <a:ext cx="8352000" cy="14655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 Narrow"/>
              </a:rPr>
              <a:t>R.De Majo*, L.Lastrucci*, B.Bonetti**, L.Pegurri**, G.Piacentini^, M.Bosio°, P.Ponticelli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 Narrow"/>
              </a:rPr>
              <a:t>*U.O.Radioterapia-Arezzo;**Istituto del Radio-Università di Bresci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 Narrow"/>
              </a:rPr>
              <a:t>^Unità di Radioterapia-Carrara;°U.O.Radioterapia-Liv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3673800" cy="35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Narrow"/>
              </a:rPr>
              <a:t>DT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66 Gy: 3 p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70 Gy:  31 p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74 Gy: 2 p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val 7"/>
          <p:cNvSpPr/>
          <p:nvPr/>
        </p:nvSpPr>
        <p:spPr>
          <a:xfrm>
            <a:off x="1447920" y="3967200"/>
            <a:ext cx="13237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,  trattamento: R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613560" y="32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276720" cy="35053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2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609480" y="1807200"/>
            <a:ext cx="7696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Valutazione di percentuali crude di risposta completa (RC), risposta parziale (RP), preservazione d’org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Elaborazione di curve di sopravvivenza attuariale  (metodo di Kaplan Mei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10" descr="calcolatrice"/>
          <p:cNvPicPr/>
          <p:nvPr/>
        </p:nvPicPr>
        <p:blipFill>
          <a:blip r:embed="rId1"/>
          <a:stretch/>
        </p:blipFill>
        <p:spPr>
          <a:xfrm>
            <a:off x="3200400" y="423864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,  metod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Risposta Completa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23/36 pz  </a:t>
            </a:r>
            <a:r>
              <a:rPr b="0" lang="it-IT" sz="2800" spc="-1" strike="noStrike" u="sng">
                <a:solidFill>
                  <a:srgbClr val="66ff33"/>
                </a:solidFill>
                <a:uFillTx/>
                <a:latin typeface="Arial Narrow"/>
              </a:rPr>
              <a:t>64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Risposta Parziale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13/36 pz  </a:t>
            </a:r>
            <a:r>
              <a:rPr b="0" lang="it-IT" sz="2800" spc="-1" strike="noStrike" u="sng">
                <a:solidFill>
                  <a:srgbClr val="66ff33"/>
                </a:solidFill>
                <a:uFillTx/>
                <a:latin typeface="Arial Narrow"/>
              </a:rPr>
              <a:t>36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RP → CHR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di salvataggio 7/13 pz  </a:t>
            </a:r>
            <a:r>
              <a:rPr b="0" lang="it-IT" sz="2800" spc="-1" strike="noStrike" u="sng">
                <a:solidFill>
                  <a:srgbClr val="66ff33"/>
                </a:solidFill>
                <a:uFillTx/>
                <a:latin typeface="Arial Narrow"/>
              </a:rPr>
              <a:t>53,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Risultat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395280" y="4191120"/>
            <a:ext cx="2376360" cy="1384200"/>
          </a:xfrm>
          <a:prstGeom prst="downArrowCallout">
            <a:avLst>
              <a:gd name="adj1" fmla="val 42923"/>
              <a:gd name="adj2" fmla="val 42919"/>
              <a:gd name="adj3" fmla="val 16667"/>
              <a:gd name="adj4" fmla="val 6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14"/>
          <p:cNvSpPr/>
          <p:nvPr/>
        </p:nvSpPr>
        <p:spPr>
          <a:xfrm flipH="1">
            <a:off x="1752120" y="3505320"/>
            <a:ext cx="1295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4572000" y="350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17"/>
          <p:cNvSpPr/>
          <p:nvPr/>
        </p:nvSpPr>
        <p:spPr>
          <a:xfrm>
            <a:off x="5791320" y="3505320"/>
            <a:ext cx="1600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63760" y="4138560"/>
            <a:ext cx="197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3 c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chirurgia su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3399840" y="4138560"/>
            <a:ext cx="24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2 c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chirurgia su N e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6923520" y="4138560"/>
            <a:ext cx="19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2 c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chirurgia su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0" y="5581800"/>
            <a:ext cx="344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 Narrow"/>
              </a:rPr>
              <a:t>Ulteriore 23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33"/>
                </a:solidFill>
                <a:latin typeface="Arial Narrow"/>
              </a:rPr>
              <a:t>conservazione d’org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Risultat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609480" y="1981080"/>
            <a:ext cx="7778880" cy="31766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ff33"/>
                </a:solidFill>
                <a:latin typeface="Arial Narrow"/>
              </a:rPr>
              <a:t>Preservazione d’organo:</a:t>
            </a:r>
            <a:r>
              <a:rPr b="0" lang="it-IT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it-IT" sz="3200" spc="-1" strike="noStrike" u="sng">
                <a:solidFill>
                  <a:srgbClr val="ffff00"/>
                </a:solidFill>
                <a:uFillTx/>
                <a:latin typeface="Arial Narrow"/>
              </a:rPr>
              <a:t>72,2%</a:t>
            </a: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26/36 pz </a:t>
            </a:r>
            <a:r>
              <a:rPr b="0" lang="it-IT" sz="2400" spc="-1" strike="noStrike">
                <a:solidFill>
                  <a:srgbClr val="ffffff"/>
                </a:solidFill>
                <a:latin typeface="Arial Narrow"/>
              </a:rPr>
              <a:t>(RC 23 pz + RP chr su N 3 p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SzPct val="60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ff33"/>
                </a:solidFill>
                <a:latin typeface="Arial Narrow"/>
              </a:rPr>
              <a:t>Risposta Completa +/- CHR:</a:t>
            </a:r>
            <a:r>
              <a:rPr b="0" lang="it-IT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it-IT" sz="3200" spc="-1" strike="noStrike" u="sng">
                <a:solidFill>
                  <a:srgbClr val="ffff00"/>
                </a:solidFill>
                <a:uFillTx/>
                <a:latin typeface="Arial Narrow"/>
              </a:rPr>
              <a:t>83,3%</a:t>
            </a: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30/36 pz </a:t>
            </a:r>
            <a:r>
              <a:rPr b="0" lang="it-IT" sz="2400" spc="-1" strike="noStrike">
                <a:solidFill>
                  <a:srgbClr val="ffffff"/>
                </a:solidFill>
                <a:latin typeface="Arial Narrow"/>
              </a:rPr>
              <a:t>(23 pz + 7 pz)</a:t>
            </a: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457200" y="663480"/>
            <a:ext cx="7848720" cy="581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57200" y="579600"/>
            <a:ext cx="8001000" cy="593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457200" y="630360"/>
            <a:ext cx="7924680" cy="5846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001000" cy="5867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457200" y="606600"/>
            <a:ext cx="7924680" cy="5870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Effetti collateral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838080" y="2422440"/>
            <a:ext cx="7315200" cy="173988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Narrow"/>
              </a:rPr>
              <a:t>Gli effetti collaterali acuti e subacuti sono stati di moderata entità e sovrapponibili a quelli riportati in letteratu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2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324000" y="907920"/>
            <a:ext cx="8610480" cy="384804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Arial Narrow"/>
              </a:rPr>
              <a:t>“…</a:t>
            </a:r>
            <a:r>
              <a:rPr b="1" i="1" lang="it-IT" sz="2800" spc="-1" strike="noStrike">
                <a:solidFill>
                  <a:srgbClr val="ffffff"/>
                </a:solidFill>
                <a:latin typeface="Arial Narrow"/>
              </a:rPr>
              <a:t>radiotherapy with concurrent administration of cisplatin is superior to induction chemotherapy followed by radiotherapy or radiotherapy alone for laryngeal preservation and locoregional control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it-IT" sz="2000" spc="-1" strike="noStrike">
                <a:solidFill>
                  <a:srgbClr val="ffff00"/>
                </a:solidFill>
                <a:latin typeface="Arial Narrow"/>
              </a:rPr>
              <a:t>Forastiere</a:t>
            </a:r>
            <a:r>
              <a:rPr b="1" i="1" lang="it-IT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it-IT" sz="2000" spc="-1" strike="noStrike">
                <a:solidFill>
                  <a:srgbClr val="ffff00"/>
                </a:solidFill>
                <a:latin typeface="Arial Narrow"/>
              </a:rPr>
              <a:t> A. et al</a:t>
            </a:r>
            <a:r>
              <a:rPr b="1" i="1" lang="it-IT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i="1" lang="it-IT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i="1" lang="it-IT" sz="2000" spc="-1" strike="noStrike">
                <a:solidFill>
                  <a:srgbClr val="ffff00"/>
                </a:solidFill>
                <a:latin typeface="Arial Narrow"/>
              </a:rPr>
              <a:t>NEJM 2003</a:t>
            </a:r>
            <a:r>
              <a:rPr b="0" i="1" lang="it-IT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onclusion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50920" y="1752480"/>
            <a:ext cx="881676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it-IT" sz="2800" spc="-1" strike="noStrike">
                <a:solidFill>
                  <a:srgbClr val="66ff66"/>
                </a:solidFill>
                <a:latin typeface="Arial Narrow"/>
              </a:rPr>
              <a:t>Sopravv.</a:t>
            </a:r>
            <a:r>
              <a:rPr b="1" lang="it-IT" sz="2800" spc="-1" strike="noStrike">
                <a:solidFill>
                  <a:srgbClr val="66ff66"/>
                </a:solidFill>
                <a:latin typeface="Arial Narrow"/>
              </a:rPr>
              <a:t> </a:t>
            </a:r>
            <a:r>
              <a:rPr b="1" i="1" lang="it-IT" sz="2800" spc="-1" strike="noStrike">
                <a:solidFill>
                  <a:srgbClr val="66ff33"/>
                </a:solidFill>
                <a:latin typeface="Arial Narrow"/>
              </a:rPr>
              <a:t>globale</a:t>
            </a: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 attuariale a 2 aa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 Narrow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it-IT" sz="2800" spc="-1" strike="noStrike">
                <a:solidFill>
                  <a:srgbClr val="66ff33"/>
                </a:solidFill>
                <a:latin typeface="Arial Narrow"/>
              </a:rPr>
              <a:t>Sopravv.</a:t>
            </a: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 attuariale </a:t>
            </a:r>
            <a:r>
              <a:rPr b="1" i="1" lang="it-IT" sz="2800" spc="-1" strike="noStrike">
                <a:solidFill>
                  <a:srgbClr val="66ff33"/>
                </a:solidFill>
                <a:latin typeface="Arial Narrow"/>
              </a:rPr>
              <a:t>libera da malattia </a:t>
            </a: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a 2 aa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 Narrow"/>
              </a:rPr>
              <a:t>4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it-IT" sz="2800" spc="-1" strike="noStrike">
                <a:solidFill>
                  <a:srgbClr val="66ff33"/>
                </a:solidFill>
                <a:latin typeface="Arial Narrow"/>
              </a:rPr>
              <a:t>Controllo locale</a:t>
            </a:r>
            <a:r>
              <a:rPr b="1" lang="it-IT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a 2 aa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 Narrow"/>
              </a:rPr>
              <a:t>6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it-IT" sz="2800" spc="-1" strike="noStrike">
                <a:solidFill>
                  <a:srgbClr val="66ff33"/>
                </a:solidFill>
                <a:latin typeface="Arial Narrow"/>
              </a:rPr>
              <a:t>Preservazione d’organo</a:t>
            </a: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 Narrow"/>
              </a:rPr>
              <a:t>72%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onclusioni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04920" y="1747800"/>
            <a:ext cx="8381880" cy="327276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I dati ottenuti dimostrano la fattibilità e la buona tolleranza del trattamento radio-chemioterapico concomitante con CDDP settimana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Narrow"/>
              </a:rPr>
              <a:t>L’efficacia di questo schema di associazione, seppur ottenuto da un modesto numero di pazienti, si avvicina ai dati riportati in letteratur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Arezzopiazza"/>
          <p:cNvPicPr/>
          <p:nvPr/>
        </p:nvPicPr>
        <p:blipFill>
          <a:blip r:embed="rId1"/>
          <a:srcRect l="0" t="0" r="886" b="880"/>
          <a:stretch/>
        </p:blipFill>
        <p:spPr>
          <a:xfrm>
            <a:off x="201600" y="609480"/>
            <a:ext cx="8763120" cy="55134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62120" y="990720"/>
            <a:ext cx="57909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500" spc="-1" strike="noStrike">
                <a:solidFill>
                  <a:srgbClr val="ffffff"/>
                </a:solidFill>
                <a:latin typeface="Arial Narrow"/>
              </a:rPr>
              <a:t>Grazie per l’attenzion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28600" y="228600"/>
            <a:ext cx="868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15238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ffff00"/>
                </a:solidFill>
                <a:uFillTx/>
                <a:latin typeface="Arial Narrow"/>
              </a:rPr>
              <a:t>COME SOMMINISTRARE IL CDD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interrogativo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708360" y="2819520"/>
            <a:ext cx="172728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1920" y="2122560"/>
            <a:ext cx="881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00"/>
                </a:solidFill>
                <a:latin typeface="Arial Narrow"/>
              </a:rPr>
              <a:t>100 mg/mq ogni 21 gg</a:t>
            </a:r>
            <a:r>
              <a:rPr b="0" lang="it-IT" sz="2500" spc="-1" strike="noStrike">
                <a:solidFill>
                  <a:srgbClr val="ffffff"/>
                </a:solidFill>
                <a:latin typeface="Arial Narrow"/>
              </a:rPr>
              <a:t> in 3 somministrazioni durante la R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00"/>
                </a:solidFill>
                <a:latin typeface="Arial Narrow"/>
              </a:rPr>
              <a:t>5 mg/mq i.c. per 3-4 sett</a:t>
            </a:r>
            <a:r>
              <a:rPr b="0" lang="it-IT" sz="2500" spc="-1" strike="noStrike">
                <a:solidFill>
                  <a:srgbClr val="ffffff"/>
                </a:solidFill>
                <a:latin typeface="Arial Narrow"/>
              </a:rPr>
              <a:t> durante la RT o 6 mg/mq al dì prima di ogni seduta R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00"/>
                </a:solidFill>
                <a:latin typeface="Arial Narrow"/>
              </a:rPr>
              <a:t>30-40 mg/mq ogni 7 gg</a:t>
            </a:r>
            <a:r>
              <a:rPr b="0" lang="it-IT" sz="2500" spc="-1" strike="noStrike">
                <a:solidFill>
                  <a:srgbClr val="ffffff"/>
                </a:solidFill>
                <a:latin typeface="Arial Narrow"/>
              </a:rPr>
              <a:t> durante tutto il trattamento R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101520" y="4005360"/>
            <a:ext cx="8839440" cy="122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33520" y="76212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 u="sng">
                <a:solidFill>
                  <a:srgbClr val="ffffff"/>
                </a:solidFill>
                <a:uFillTx/>
                <a:latin typeface="Arial Narrow"/>
              </a:rPr>
              <a:t>CDDP, schedule “classiche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8600" y="1031760"/>
            <a:ext cx="8686800" cy="409572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 Narrow"/>
              </a:rPr>
              <a:t>PROTOCOLLO MULTICENTRICO ITALIANO DI CONSERVAZIONE DELLA LARINGE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6ff33"/>
                </a:solidFill>
                <a:uFillTx/>
                <a:latin typeface="Arial Narrow"/>
              </a:rPr>
              <a:t>AREZ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6ff33"/>
                </a:solidFill>
                <a:uFillTx/>
                <a:latin typeface="Arial Narrow"/>
              </a:rPr>
              <a:t>BRES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6ff33"/>
                </a:solidFill>
                <a:uFillTx/>
                <a:latin typeface="Arial Narrow"/>
              </a:rPr>
              <a:t>CARR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6ff33"/>
                </a:solidFill>
                <a:uFillTx/>
                <a:latin typeface="Arial Narrow"/>
              </a:rPr>
              <a:t>LIV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1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: materia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01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Pazienti affetti da tumori localmente estesi della </a:t>
            </a: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laringe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e dell’</a:t>
            </a: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ipofaringe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stadi III e IV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), non precedentemente trattati, potenzialmente curabili con un intervento chirurgico demol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laringe"/>
          <p:cNvPicPr/>
          <p:nvPr/>
        </p:nvPicPr>
        <p:blipFill>
          <a:blip r:embed="rId1"/>
          <a:stretch/>
        </p:blipFill>
        <p:spPr>
          <a:xfrm>
            <a:off x="2700360" y="3943440"/>
            <a:ext cx="3168720" cy="2581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36 pz, accrual: 2001 → 10/2007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Età: range: 44-77 aa, mediana: 60 a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M:F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 6: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III stadio: 12 p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IV stadio: 24 p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Laringe 17 pz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Ipofaringe 19 pz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Follow up medio 18,2 mesi, follow up mediano 13,7 mes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724280" y="3789360"/>
            <a:ext cx="3664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Narrow"/>
              </a:rPr>
              <a:t>Laringe sovraglottica 11 p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Narrow"/>
              </a:rPr>
              <a:t>Laringe glottica 4 p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 Narrow"/>
              </a:rPr>
              <a:t>Laringe sottoglottica 2 p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124080" y="4005360"/>
            <a:ext cx="13716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124080" y="4437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124080" y="4484520"/>
            <a:ext cx="1371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9" descr="vecchietto"/>
          <p:cNvPicPr/>
          <p:nvPr/>
        </p:nvPicPr>
        <p:blipFill>
          <a:blip r:embed="rId1"/>
          <a:stretch/>
        </p:blipFill>
        <p:spPr>
          <a:xfrm>
            <a:off x="7099200" y="1413000"/>
            <a:ext cx="1865520" cy="2232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53316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: materia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Trattamento chemioterapico concomitante con </a:t>
            </a: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CDDP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ffff00"/>
                </a:solidFill>
                <a:latin typeface="Arial Narrow"/>
              </a:rPr>
              <a:t>30 mg/mq/sett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(infusione di 1 ora con idratazi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7" descr="flebo"/>
          <p:cNvPicPr/>
          <p:nvPr/>
        </p:nvPicPr>
        <p:blipFill>
          <a:blip r:embed="rId1"/>
          <a:stretch/>
        </p:blipFill>
        <p:spPr>
          <a:xfrm>
            <a:off x="3429000" y="3352680"/>
            <a:ext cx="2057400" cy="3124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179280" y="6091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,  trattamento: C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 Narrow"/>
              </a:rPr>
              <a:t>3DC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 Narrow"/>
              </a:rPr>
              <a:t>Fasci di terapia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maggior parte casi fotoni 6 MV+ elettroni per ln. lc. posteri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 Narrow"/>
              </a:rPr>
              <a:t>Immobilizzazione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maschera termoplast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 Narrow"/>
              </a:rPr>
              <a:t>Disposizione dei fasci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Narrow"/>
              </a:rPr>
              <a:t>2 campi contrapposti LL o convergenti sulla laringe e ln lc +/- campo diretto AP su sovraclavear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Narrow"/>
              </a:rPr>
              <a:t>tecniche complesse a più campi (5 campi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Narrow"/>
              </a:rPr>
              <a:t>IM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Arial Narrow"/>
              </a:rPr>
              <a:t>Frazionamento:</a:t>
            </a:r>
            <a:r>
              <a:rPr b="0" lang="it-IT" sz="2800" spc="-1" strike="noStrike">
                <a:solidFill>
                  <a:srgbClr val="ffffff"/>
                </a:solidFill>
                <a:latin typeface="Arial Narrow"/>
              </a:rPr>
              <a:t> 2Gy X 5 / se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477120" y="638496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 Narrow"/>
              </a:rPr>
              <a:t>AIRO 200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7" descr="radiazioni"/>
          <p:cNvPicPr/>
          <p:nvPr/>
        </p:nvPicPr>
        <p:blipFill>
          <a:blip r:embed="rId1"/>
          <a:stretch/>
        </p:blipFill>
        <p:spPr>
          <a:xfrm>
            <a:off x="6097680" y="515772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4436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ffff00"/>
                </a:solidFill>
                <a:uFillTx/>
                <a:latin typeface="Arial Narrow"/>
              </a:rPr>
              <a:t>CDDP settimanale + RT,  trattamento: R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22860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300" spc="-1" strike="noStrike">
                <a:solidFill>
                  <a:srgbClr val="ffff00"/>
                </a:solidFill>
                <a:latin typeface="Arial Narrow"/>
              </a:rPr>
              <a:t>RADIOCHEMIOTERAPIA CONCOMITANTE NEI TUMORI LARINGEI ED IPOFARINGEI LOCALMENTE AVANZA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3:27:30Z</dcterms:created>
  <dc:creator>usl8</dc:creator>
  <dc:description/>
  <dc:language>en-US</dc:language>
  <cp:lastModifiedBy>TC</cp:lastModifiedBy>
  <dcterms:modified xsi:type="dcterms:W3CDTF">2007-11-10T10:50:12Z</dcterms:modified>
  <cp:revision>87</cp:revision>
  <dc:subject/>
  <dc:title>RADIOCHEMIOTERAPIA CONCOMITANTE  NEI TUMORI LARINGEI ED IPOFARINGEI LOCALMENTE AVANZATI:  risultati preliminari di un protocollo multicentrico italiano di conservazione della laringe</dc:title>
</cp:coreProperties>
</file>