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8126-51A0-4893-BB84-4A02C6288C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EF416-89D5-4665-99E5-B34399D7E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51C1B-6D5B-48EE-AF76-6BABB9C4A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96E5-C950-4048-8776-8F944CC59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01B02-0EC5-47AA-B4CE-B4528243B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094E-DF1C-4C98-9E59-6CE18387FB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3B20F-2EDB-4DC0-B7F1-B92390236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FDCD-C08D-480A-82F6-A7CFFB08F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D04F4-8F3D-4D2C-9C2E-E7C1C87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CD47-224F-4130-83C8-738953BBF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01C7B-DD98-4234-BFAE-6868C9FC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B781-4A00-4A8D-AAA9-0EBF39DC3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373980-B6B2-4847-82D3-A8CFE9BF35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560" y="549000"/>
            <a:ext cx="856908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CONTROVERSIAL ISSUES IN RADIOTHERAPY:</a:t>
            </a:r>
            <a:br>
              <a:rPr sz="2800"/>
            </a:br>
            <a:r>
              <a:rPr b="1" i="1" lang="en-GB" sz="2800" spc="-1" strike="noStrike">
                <a:solidFill>
                  <a:srgbClr val="000066"/>
                </a:solidFill>
                <a:latin typeface="Tahoma"/>
              </a:rPr>
              <a:t>THYROID CANCER</a:t>
            </a:r>
            <a:br>
              <a:rPr sz="2800"/>
            </a:br>
            <a:br>
              <a:rPr sz="2800"/>
            </a:br>
            <a:r>
              <a:rPr b="1" lang="en-GB" sz="3200" spc="-1" strike="noStrike" baseline="30000">
                <a:solidFill>
                  <a:srgbClr val="000066"/>
                </a:solidFill>
                <a:latin typeface="Tahoma"/>
              </a:rPr>
              <a:t>131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I remnant ablation in </a:t>
            </a:r>
            <a:r>
              <a:rPr b="1" i="1" lang="en-GB" sz="3200" spc="-1" strike="noStrike">
                <a:solidFill>
                  <a:srgbClr val="ff0000"/>
                </a:solidFill>
                <a:latin typeface="Tahoma"/>
              </a:rPr>
              <a:t>low-risk</a:t>
            </a:r>
            <a:r>
              <a:rPr b="1" lang="en-GB" sz="3200" spc="-1" strike="noStrike">
                <a:solidFill>
                  <a:srgbClr val="000066"/>
                </a:solidFill>
                <a:latin typeface="Tahoma"/>
              </a:rPr>
              <a:t> differentiated thyroid carcino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826920" y="4220640"/>
            <a:ext cx="756144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Renzo Mazzarotto M.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Department of Radiotherap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Istituto Oncologico Veneto I.R.C.C.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Arial"/>
              </a:rPr>
              <a:t>Padov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76720" y="2997360"/>
            <a:ext cx="266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0000"/>
                </a:solidFill>
                <a:latin typeface="Arial"/>
              </a:rPr>
              <a:t>PRO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250920" y="333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THYROGLOBULIN MEASUR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50920" y="1268280"/>
            <a:ext cx="856908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fter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blation Tg may only be produced by neoplastic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definitive advantag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blation is that Tg measurement during FU is more specific in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distinguish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ts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with dise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rom pts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without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24000" y="3933720"/>
            <a:ext cx="8424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An undetectable (0.5 ng/ml) rhTSH-Tg in patients without serum TgAb has a 98% likelihood of identifying patients who are tumour free</a:t>
            </a:r>
            <a:r>
              <a:rPr b="0" i="1" lang="en-GB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516720" y="479736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zzaferri JCEM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5300640"/>
            <a:ext cx="8424720" cy="119124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When baseline Tg levels &lt; 1 ng/ml rise to &gt; 2 in response to rhTSH, 36% of pts were found to have metastases, 36% of which were at distant si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16720" y="6165720"/>
            <a:ext cx="180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Mazzaferri JCEM 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8360" y="1052640"/>
            <a:ext cx="8280360" cy="35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Demonstrates the completeness of the surgical excision and may show uptake outside the thyroid bed, in lymph node areas or at distant sites, thus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influencing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further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therapeutic decision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time and modality of the follow-up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nd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final outcom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buClr>
                <a:srgbClr val="ff0000"/>
              </a:buClr>
              <a:buSzPct val="12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s important in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detecting dise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, micro metastases in lymph nodes and lungs, that routinely evade diagnostic imaging studies and also thyroglobulin test if large thyroid remnants are pres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547640" y="333360"/>
            <a:ext cx="64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POST-ABLATION </a:t>
            </a:r>
            <a:r>
              <a:rPr b="1" lang="en-GB" sz="36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GB" sz="3600" spc="-1" strike="noStrike">
                <a:solidFill>
                  <a:srgbClr val="000066"/>
                </a:solidFill>
                <a:latin typeface="Arial"/>
              </a:rPr>
              <a:t>I-WB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39640" y="4724280"/>
            <a:ext cx="8136000" cy="1557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n these cases the cure appears to be best achieved when the disease is caught and treated as early as possible since </a:t>
            </a:r>
            <a:r>
              <a:rPr b="0" i="1" lang="en-GB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I is more efficient in microscopic rather than macroscopic metastases.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39640" y="404640"/>
            <a:ext cx="471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 REMNANT ABLATION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-RISK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D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867280" y="476280"/>
            <a:ext cx="237672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mpact on Q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2060640"/>
            <a:ext cx="806472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If a patient can be reasonably considered tumour free,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TSH suppression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should b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educ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or even stopp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This allows to eliminat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advers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rdiac effect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loss of bone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mineral density due to a long lasting sub-clinical hyperthyroidism.</a:t>
            </a:r>
            <a:r>
              <a:rPr b="1" lang="it-IT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ymptoms due to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hypothyroidism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, which was inevitable to prepare patients for ablation in the past,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can now be avoided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by using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rhTSH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92" dur="2000" fill="hold"/>
                                        <p:tgtEl>
                                          <p:spTgt spid="9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68360" y="4149720"/>
            <a:ext cx="8207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 u="sng" baseline="30000">
                <a:solidFill>
                  <a:srgbClr val="000000"/>
                </a:solidFill>
                <a:uFillTx/>
                <a:latin typeface="Arial"/>
              </a:rPr>
              <a:t>131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I ablation seems to </a:t>
            </a:r>
            <a:r>
              <a:rPr b="0" i="1" lang="en-GB" sz="2800" spc="-1" strike="noStrike" u="sng">
                <a:solidFill>
                  <a:srgbClr val="ff0000"/>
                </a:solidFill>
                <a:uFillTx/>
                <a:latin typeface="Arial"/>
              </a:rPr>
              <a:t>offer significant advantages</a:t>
            </a:r>
            <a:r>
              <a:rPr b="0" i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 that justify its use even in low risk patients</a:t>
            </a:r>
            <a:r>
              <a:rPr b="0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11280" y="5589720"/>
            <a:ext cx="2160360" cy="10688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n OS &amp; 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276720" y="5589720"/>
            <a:ext cx="2665440" cy="10688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n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516720" y="5589720"/>
            <a:ext cx="2017800" cy="10688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mpact on Q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26920" y="1197000"/>
            <a:ext cx="7417080" cy="26542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hile awaiting the results of prospective randomised trials of remnant ablation (</a:t>
            </a: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that probably will never be performe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), the goal of clinicians should be the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identification of more precise risk factor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allow to better identify patients who may obtain substantial benefit from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administration thus reducing the rate of patients who receive unnecessary radia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56000" y="6021360"/>
            <a:ext cx="611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Wartofsky L., J Clin Endocrinol Metab 1998;83(12):4195-4203.</a:t>
            </a:r>
            <a:r>
              <a:rPr b="1" i="1" lang="it-IT" sz="16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84360" y="47628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26920" y="2060640"/>
            <a:ext cx="7488360" cy="30801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"... if we place ourselves in the shoes of even a low risk patient, would we not willingly accept the consequences of a 30-60 mCi ablative dose of  </a:t>
            </a:r>
            <a:r>
              <a:rPr b="0" i="1" lang="en-GB" sz="2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I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in exchange for the certainty and peace of mind</a:t>
            </a:r>
            <a:r>
              <a:rPr b="0" i="1" lang="en-GB" sz="2800" spc="-1" strike="noStrike">
                <a:solidFill>
                  <a:srgbClr val="000000"/>
                </a:solidFill>
                <a:latin typeface="Arial"/>
              </a:rPr>
              <a:t> provided by a subsequent negative scan and undetectable serum thyroglobulin level?"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539640" y="2349360"/>
            <a:ext cx="8209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emnant ablation refers to the </a:t>
            </a:r>
            <a:r>
              <a:rPr b="0" i="1" lang="en-US" sz="3600" spc="-1" strike="noStrike">
                <a:solidFill>
                  <a:srgbClr val="ff0000"/>
                </a:solidFill>
                <a:latin typeface="Arial"/>
              </a:rPr>
              <a:t>destruction of residual macroscopically normal thyroid tissue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, after Total or Near Total Thyroidectomy, by the administration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it-IT" sz="36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3600" spc="-1" strike="noStrike">
                <a:solidFill>
                  <a:srgbClr val="000000"/>
                </a:solidFill>
                <a:latin typeface="Arial"/>
              </a:rPr>
              <a:t>I (30-100 mCi)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8360" y="765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US" sz="4000" spc="-1" strike="noStrike">
                <a:solidFill>
                  <a:srgbClr val="000066"/>
                </a:solidFill>
                <a:latin typeface="Arial"/>
              </a:rPr>
              <a:t>I REMNANT ABL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755640" y="189000"/>
            <a:ext cx="734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WHICH PATIENTS ARE SUITABLE FOR 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ABLATION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39640" y="1628640"/>
            <a:ext cx="5759640" cy="499788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Very low-risk pat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unifocal microcarcinoma with siz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1 cm, N0, M0 and no extension beyond the thyroid capsule): considere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cured by surgery alon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ow-risk patients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1 &gt; 1 cm N0, M0, or T2, N0, M0 or T1 multifocal): the potential benefit of </a:t>
            </a: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remnant ablation, on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curre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rtality rate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s not clear and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substantial debate exists in the literature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250"/>
              </a:spcBef>
              <a:buClr>
                <a:srgbClr val="000066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igh-risk patients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any T3 and T4 or any T, N1 or any M1): 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usually undergo </a:t>
            </a:r>
            <a:r>
              <a:rPr b="0" i="1" lang="en-US" sz="2000" spc="-1" strike="noStrike" baseline="30000">
                <a:solidFill>
                  <a:srgbClr val="000099"/>
                </a:solidFill>
                <a:latin typeface="Arial"/>
              </a:rPr>
              <a:t>131</a:t>
            </a:r>
            <a:r>
              <a:rPr b="0" i="1" lang="en-US" sz="2000" spc="-1" strike="noStrike">
                <a:solidFill>
                  <a:srgbClr val="000099"/>
                </a:solidFill>
                <a:latin typeface="Arial"/>
              </a:rPr>
              <a:t>I ablatio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which reduces relapse and mortality rates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1628640"/>
            <a:ext cx="172728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Arial"/>
              </a:rPr>
              <a:t>usuall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04000" y="6165720"/>
            <a:ext cx="1800360" cy="45972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99"/>
                </a:solidFill>
                <a:latin typeface="Arial"/>
              </a:rPr>
              <a:t>mand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236000" y="3213000"/>
            <a:ext cx="1008000" cy="155700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93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9600" spc="-1" strike="noStrike">
                <a:solidFill>
                  <a:srgbClr val="000099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95280" y="1341360"/>
            <a:ext cx="8497800" cy="3751560"/>
          </a:xfrm>
          <a:prstGeom prst="rect">
            <a:avLst/>
          </a:prstGeom>
          <a:noFill/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1)</a:t>
            </a:r>
            <a:r>
              <a:rPr b="0" lang="en-GB" sz="2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o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destroy the residual normal thyroid tissu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us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facilitating the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early detection of persistent or recurrent dise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by serum thyroglobulin measurement associated or not with 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hole body scan (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I WB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2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perform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high sensitive WB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at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may reveal tumour foci outside the thyroid b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3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o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destroy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post-surgical </a:t>
            </a:r>
            <a:r>
              <a:rPr b="0" i="1" lang="en-GB" sz="2400" spc="-1" strike="noStrike">
                <a:solidFill>
                  <a:srgbClr val="ff0000"/>
                </a:solidFill>
                <a:latin typeface="Arial"/>
              </a:rPr>
              <a:t>microscopic residual disease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thus </a:t>
            </a:r>
            <a:r>
              <a:rPr b="0" i="1" lang="en-GB" sz="2400" spc="-1" strike="noStrike">
                <a:solidFill>
                  <a:srgbClr val="000066"/>
                </a:solidFill>
                <a:latin typeface="Arial"/>
              </a:rPr>
              <a:t>reducing recurrences and possibly mortality ra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0920" y="333360"/>
            <a:ext cx="864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GOALS OF </a:t>
            </a:r>
            <a:r>
              <a:rPr b="1" lang="en-US" sz="36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US" sz="3600" spc="-1" strike="noStrike">
                <a:solidFill>
                  <a:srgbClr val="000066"/>
                </a:solidFill>
                <a:latin typeface="Arial"/>
              </a:rPr>
              <a:t>I REMNANT ABL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19640" y="5589720"/>
            <a:ext cx="2663640" cy="10688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n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5589720"/>
            <a:ext cx="2160720" cy="10688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n OS &amp; 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5589720"/>
            <a:ext cx="2017800" cy="1068840"/>
          </a:xfrm>
          <a:prstGeom prst="rect">
            <a:avLst/>
          </a:prstGeom>
          <a:gradFill rotWithShape="0">
            <a:gsLst>
              <a:gs pos="0">
                <a:srgbClr val="757500"/>
              </a:gs>
              <a:gs pos="100000">
                <a:srgbClr val="ffff00"/>
              </a:gs>
            </a:gsLst>
            <a:lin ang="108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3200" spc="-1" strike="noStrike">
                <a:solidFill>
                  <a:srgbClr val="000000"/>
                </a:solidFill>
                <a:latin typeface="Arial"/>
              </a:rPr>
              <a:t>Impact on Q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250920" y="549360"/>
            <a:ext cx="4680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 REMNANT ABLATION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-RISK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D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372360" y="549360"/>
            <a:ext cx="216036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n OS &amp; RF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395280" y="1844640"/>
            <a:ext cx="5905440" cy="1558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716360" y="6093000"/>
            <a:ext cx="4106880" cy="6048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50920" y="3716280"/>
            <a:ext cx="85708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tailed searches yielded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no randomized controlled tria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effectivene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ablation in decreasing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recurrenc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possibly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mortalit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n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low-risk patien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with well differentiated thyroid carcinoma, 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although suspecte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i="1" lang="en-US" sz="2400" spc="-1" strike="noStrike">
                <a:solidFill>
                  <a:srgbClr val="ff0000"/>
                </a:solidFill>
                <a:latin typeface="Arial"/>
              </a:rPr>
              <a:t> cannot be definitively verifi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y summarizing the current body of observational patient dat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" dur="2000" fill="hold"/>
                                        <p:tgtEl>
                                          <p:spTgt spid="57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1187280" y="2133720"/>
            <a:ext cx="6769440" cy="25318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572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f so, </a:t>
            </a:r>
            <a:r>
              <a:rPr b="0" i="1" lang="en-US" sz="4000" spc="-1" strike="noStrike">
                <a:solidFill>
                  <a:srgbClr val="ff0000"/>
                </a:solidFill>
                <a:latin typeface="Arial"/>
              </a:rPr>
              <a:t>why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do so many patients and physicians opt for near-total thyroidectomy and </a:t>
            </a:r>
            <a:r>
              <a:rPr b="0" lang="en-US" sz="40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I ablation?</a:t>
            </a: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79280" y="2349360"/>
            <a:ext cx="8739360" cy="299736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324000" y="333360"/>
            <a:ext cx="6006960" cy="11937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6156360" y="836640"/>
            <a:ext cx="2835360" cy="179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956720" y="3500280"/>
            <a:ext cx="1044360" cy="64944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956720" y="4653000"/>
            <a:ext cx="1044360" cy="28872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72360" y="3716280"/>
            <a:ext cx="1044360" cy="289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003640" y="3645000"/>
            <a:ext cx="216000" cy="71280"/>
          </a:xfrm>
          <a:prstGeom prst="leftArrow">
            <a:avLst>
              <a:gd name="adj1" fmla="val 50000"/>
              <a:gd name="adj2" fmla="val 757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003640" y="3789360"/>
            <a:ext cx="216000" cy="71280"/>
          </a:xfrm>
          <a:prstGeom prst="leftArrow">
            <a:avLst>
              <a:gd name="adj1" fmla="val 50000"/>
              <a:gd name="adj2" fmla="val 7575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003640" y="4797360"/>
            <a:ext cx="216000" cy="71640"/>
          </a:xfrm>
          <a:prstGeom prst="leftArrow">
            <a:avLst>
              <a:gd name="adj1" fmla="val 50000"/>
              <a:gd name="adj2" fmla="val 75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003640" y="3933720"/>
            <a:ext cx="216000" cy="71640"/>
          </a:xfrm>
          <a:prstGeom prst="leftArrow">
            <a:avLst>
              <a:gd name="adj1" fmla="val 50000"/>
              <a:gd name="adj2" fmla="val 753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411280" y="5589720"/>
            <a:ext cx="4537080" cy="8251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0000"/>
                </a:solidFill>
                <a:latin typeface="Arial"/>
              </a:rPr>
              <a:t>Long follow-up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987640" y="1700280"/>
            <a:ext cx="34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Benefits of </a:t>
            </a:r>
            <a:r>
              <a:rPr b="0" i="1" lang="it-IT" sz="2400" spc="-1" strike="noStrike" baseline="30000">
                <a:solidFill>
                  <a:srgbClr val="ff0000"/>
                </a:solidFill>
                <a:latin typeface="Arial"/>
              </a:rPr>
              <a:t>131</a:t>
            </a:r>
            <a:r>
              <a:rPr b="0" i="1" lang="it-IT" sz="2400" spc="-1" strike="noStrike">
                <a:solidFill>
                  <a:srgbClr val="ff0000"/>
                </a:solidFill>
                <a:latin typeface="Arial"/>
              </a:rPr>
              <a:t>I ab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101080" y="3357720"/>
            <a:ext cx="792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516720" y="3357720"/>
            <a:ext cx="79200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1908000" y="5805360"/>
            <a:ext cx="5112000" cy="8251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4800" spc="-1" strike="noStrike">
                <a:solidFill>
                  <a:srgbClr val="ff0000"/>
                </a:solidFill>
                <a:latin typeface="Arial"/>
              </a:rPr>
              <a:t>Adequate surgery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667640" y="1341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&lt;0.00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7667640" y="2349360"/>
            <a:ext cx="10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(p&lt;0.03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11280" y="476280"/>
            <a:ext cx="2520720" cy="398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66"/>
                </a:solidFill>
                <a:latin typeface="Arial"/>
              </a:rPr>
              <a:t>Mazzaferri </a:t>
            </a:r>
            <a:r>
              <a:rPr b="0" i="1" lang="it-IT" sz="1400" spc="-1" strike="noStrike">
                <a:solidFill>
                  <a:srgbClr val="000066"/>
                </a:solidFill>
                <a:latin typeface="Arial"/>
              </a:rPr>
              <a:t>JCEM 200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6156360" y="549360"/>
            <a:ext cx="115236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115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84360" y="1125360"/>
            <a:ext cx="662436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currence Rate at 30 yr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6% after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38%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without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rtality Rate at 30 yr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3% after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8% without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11280" y="3068640"/>
            <a:ext cx="4105080" cy="398880"/>
          </a:xfrm>
          <a:prstGeom prst="rect">
            <a:avLst/>
          </a:prstGeom>
          <a:solidFill>
            <a:srgbClr val="bbe0e3"/>
          </a:soli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66"/>
                </a:solidFill>
                <a:latin typeface="Arial"/>
              </a:rPr>
              <a:t>Wartofsky (Mayo Clinic)</a:t>
            </a:r>
            <a:r>
              <a:rPr b="0" i="1" lang="it-IT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0" i="1" lang="it-IT" sz="1400" spc="-1" strike="noStrike">
                <a:solidFill>
                  <a:srgbClr val="000066"/>
                </a:solidFill>
                <a:latin typeface="Arial"/>
              </a:rPr>
              <a:t>JCEM 199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227640" y="3068640"/>
            <a:ext cx="1152720" cy="368280"/>
          </a:xfrm>
          <a:prstGeom prst="rect">
            <a:avLst/>
          </a:pr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800" spc="-1" strike="noStrike">
                <a:solidFill>
                  <a:srgbClr val="000000"/>
                </a:solidFill>
                <a:latin typeface="Arial"/>
              </a:rPr>
              <a:t>1542 p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755640" y="3789360"/>
            <a:ext cx="6624720" cy="18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currence Rate at 30 yrs: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17% after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ff0000"/>
                </a:solidFill>
                <a:latin typeface="Arial"/>
              </a:rPr>
              <a:t>19%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without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ortality Rate at 30 yrs: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5.9% after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7.8% without </a:t>
            </a:r>
            <a:r>
              <a:rPr b="0" lang="it-IT" sz="1800" spc="-1" strike="noStrike" baseline="30000">
                <a:solidFill>
                  <a:srgbClr val="000000"/>
                </a:solidFill>
                <a:latin typeface="Arial"/>
              </a:rPr>
              <a:t>131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250920" y="404640"/>
            <a:ext cx="471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 baseline="30000">
                <a:solidFill>
                  <a:srgbClr val="000066"/>
                </a:solidFill>
                <a:latin typeface="Arial"/>
              </a:rPr>
              <a:t>131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I REMNANT ABLATION IN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LOW-RISK</a:t>
            </a:r>
            <a:r>
              <a:rPr b="1" lang="en-GB" sz="2800" spc="-1" strike="noStrike">
                <a:solidFill>
                  <a:srgbClr val="000066"/>
                </a:solidFill>
                <a:latin typeface="Arial"/>
              </a:rPr>
              <a:t> D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5796000" y="404640"/>
            <a:ext cx="2663640" cy="1068840"/>
          </a:xfrm>
          <a:prstGeom prst="rect">
            <a:avLst/>
          </a:prstGeom>
          <a:gradFill rotWithShape="0">
            <a:gsLst>
              <a:gs pos="0">
                <a:srgbClr val="ffff00"/>
              </a:gs>
              <a:gs pos="100000">
                <a:srgbClr val="757500"/>
              </a:gs>
            </a:gsLst>
            <a:lin ang="5400000"/>
          </a:gradFill>
          <a:ln w="2844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mpact on FOLLOW-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539640" y="2205000"/>
            <a:ext cx="8064720" cy="373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main objectives of follow-up are to identify the tumour as early as possible while simultaneously distinguishing patients who are free of disea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achieve these goals, follow-up strategies now rely heavily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hTSH-stimulated Tg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500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ost 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13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I treatment WB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spcBef>
                <a:spcPts val="1125"/>
              </a:spcBef>
              <a:buClr>
                <a:srgbClr val="ff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eck ultrasonography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86" dur="2000" fill="hold"/>
                                        <p:tgtEl>
                                          <p:spTgt spid="8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9T17:03:08Z</dcterms:created>
  <dc:creator>Mazzarotto</dc:creator>
  <dc:description/>
  <dc:language>en-US</dc:language>
  <cp:lastModifiedBy>TC</cp:lastModifiedBy>
  <dcterms:modified xsi:type="dcterms:W3CDTF">2007-11-11T08:17:20Z</dcterms:modified>
  <cp:revision>45</cp:revision>
  <dc:subject/>
  <dc:title>CONTROVERSIAL ISSUES IN RADIOTHERAPY: THYROID CANCER 131-I remnant ablation in low-risk differentiated thyroid carcinoma.</dc:title>
</cp:coreProperties>
</file>