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3EE-A33C-4224-AF0D-96E56C06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A0A-243E-4F17-9958-75B127FD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823-36DA-42FA-9A1C-38EFAA09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9FF-F0C8-4EAD-AAD4-8887C155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EDB-E512-4A29-B562-22CCC165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599-B5D1-4E3E-854D-511CFCBD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C02-A81D-49EE-B414-0B1AB05F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372-A327-493B-BA2B-4A1DE631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A0F-7633-46A7-A5FF-33A78BAB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ED1-EA54-4F4F-96FE-E8DE2530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970-E84D-4FDE-BF58-4C51CB82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DA7-D205-4DEA-AB43-91CFD35D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BD33-58A5-4A8B-BB9A-E9316082B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bstr # 3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" y="1268280"/>
            <a:ext cx="86979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olo della TC/PET con FDG nella realizzazione del piano di trattamento di pazienti affetti da carcinoma polmonare non a piccole cellule in fase avanz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368136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Palazzi S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Giannini M, Teodorani N, Galassi R, Matteucci F, Moretti A, Del Duca M, Minguzzi N, Stefanelli A, Morelli M, Emiliani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0" b="73829"/>
          <a:stretch/>
        </p:blipFill>
        <p:spPr>
          <a:xfrm>
            <a:off x="0" y="5253120"/>
            <a:ext cx="9144000" cy="16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0" y="5499000"/>
            <a:ext cx="27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clus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80" y="2060640"/>
            <a:ext cx="27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isul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189000"/>
            <a:ext cx="27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biet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25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teriali e meto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428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uolo della PET–TC nella definizione di GTV-CTV-PT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57360"/>
            <a:ext cx="889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z con K polmone localmente avanzato trattati con C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177336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92280"/>
            <a:ext cx="8893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4 pz (nsclc) valuta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dio: 8 IIIB; 2 IIIA; 1 IV (polmone CL); 3 RL dopo chiru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T (dopo TC-PET): 10 curativa; 4 palliativa (3 M+, 1 2° tum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TV: T + N PET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TV = G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TV = CTV + 7-1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96736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DG-PET maggiore accuratezza nella definizione di T(atelettasia) ed N nei tumori del polmone. 35% cambio st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24720" y="630864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bstr # 346: Palazzi et 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me è stata fatta la contornazione del GTV: SUV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? SUV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%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? Visu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ornazione TC vs contornazione P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T routina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0" b="73829"/>
          <a:stretch/>
        </p:blipFill>
        <p:spPr>
          <a:xfrm>
            <a:off x="0" y="5253120"/>
            <a:ext cx="9144000" cy="1604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5:09:48Z</dcterms:created>
  <dc:creator> </dc:creator>
  <dc:description/>
  <dc:language>en-US</dc:language>
  <cp:lastModifiedBy>TC</cp:lastModifiedBy>
  <dcterms:modified xsi:type="dcterms:W3CDTF">2007-11-10T09:46:07Z</dcterms:modified>
  <cp:revision>10</cp:revision>
  <dc:subject/>
  <dc:title>Abstr # 346</dc:title>
</cp:coreProperties>
</file>