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10.jpeg" ContentType="image/jpeg"/>
  <Override PartName="/ppt/media/image30.png" ContentType="image/png"/>
  <Override PartName="/ppt/media/image29.jpeg" ContentType="image/jpeg"/>
  <Override PartName="/ppt/media/image27.jpeg" ContentType="image/jpeg"/>
  <Override PartName="/ppt/media/image6.jpeg" ContentType="image/jpeg"/>
  <Override PartName="/ppt/media/image41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9.jpeg" ContentType="image/jpeg"/>
  <Override PartName="/ppt/media/image20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DD60-78BD-456E-A42D-85A4A9C9BF5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9735-E7B7-49D9-AE4E-BDB01E6F5DA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0BEC-4EF2-4E34-BA5C-175029A22ED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9A45-84E7-42B8-ADD0-B9ECD7C7F6C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2AAF-A600-436A-AFE2-A3F3CF04185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BB3D-1B39-4780-BC17-307BC94603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B869-E371-463A-9EDE-5715A5297EE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CE48-255F-4682-9266-E9CA8154703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1C3A-6993-4D20-8F14-B65897BA34F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5D13-617A-463C-8740-A8863B50196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7052-8474-427B-9594-4D88F89A63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6E41-E85C-479E-AB4B-5E1BA974C3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8B4E-771E-4699-B252-F23A5BEA3FE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81AD-E781-4EAB-981B-B49C0426E8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EC71-94DD-405C-9E85-19B63D5879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367A-4F48-4926-B347-B51E750DD2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3C55-9EBF-469E-9BB8-D0721182D2C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55F3-2990-4883-BB20-B66386A37A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FFD5-A2D8-459E-A843-242A6D00C7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7F90-8AA3-4F63-ADA6-FC2CDAE46A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FA00-4D48-4A77-8A07-366B8421A2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3B53-88E1-4498-8250-2728D744DDA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EE86-681C-4837-A407-30D4A16785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E95-E35B-49FB-8DC4-4A5736E0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CC2-4869-4B89-8A33-BB42D015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342-0DE4-4158-9FDA-C73C4245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DE3-C7C1-457D-8514-568BD95C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095-AF02-467A-AF81-7476EB75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83D-C4CA-4AF0-BF88-600C39E6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340-7821-4252-9085-BD5C02CB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4CB-F738-4D1F-866A-2F6EEBB4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4BB-B844-4764-A6F7-97AD31EC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E35-F55F-48EE-B539-B1ACA7C7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A97-8FE3-44A5-A860-87FB1E7C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0D4-D160-4ED5-950C-FE7858F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A792-B86D-4B65-80AE-456A7A769D9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7.jpeg"/><Relationship Id="rId4" Type="http://schemas.openxmlformats.org/officeDocument/2006/relationships/image" Target="../media/image23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7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"/>
          <p:cNvPicPr/>
          <p:nvPr/>
        </p:nvPicPr>
        <p:blipFill>
          <a:blip r:embed="rId1"/>
          <a:stretch/>
        </p:blipFill>
        <p:spPr>
          <a:xfrm>
            <a:off x="1908000" y="892080"/>
            <a:ext cx="5040360" cy="4984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38172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9840" y="1413000"/>
            <a:ext cx="907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Tahoma"/>
              </a:rPr>
              <a:t>Is concurrent chemo-radiotherapy the current standard of treatment in unresectable stage III NSCLC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6666"/>
                </a:solidFill>
                <a:latin typeface="Tahoma"/>
              </a:rPr>
              <a:t>Cont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63640" y="4925880"/>
            <a:ext cx="5257800" cy="1323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Umberto Ricar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Università di Torin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unito"/>
          <p:cNvPicPr/>
          <p:nvPr/>
        </p:nvPicPr>
        <p:blipFill>
          <a:blip r:embed="rId2"/>
          <a:stretch/>
        </p:blipFill>
        <p:spPr>
          <a:xfrm>
            <a:off x="8101080" y="5429160"/>
            <a:ext cx="784080" cy="8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34920" y="44280"/>
            <a:ext cx="8244000" cy="104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101124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magine 5" descr="Cochrane8.JPG"/>
          <p:cNvPicPr/>
          <p:nvPr/>
        </p:nvPicPr>
        <p:blipFill>
          <a:blip r:embed="rId2"/>
          <a:stretch/>
        </p:blipFill>
        <p:spPr>
          <a:xfrm>
            <a:off x="0" y="861840"/>
            <a:ext cx="908064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magine 5" descr="Cochrane10.JPG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4611600"/>
          </a:xfrm>
          <a:prstGeom prst="rect">
            <a:avLst/>
          </a:prstGeom>
          <a:ln w="0">
            <a:noFill/>
          </a:ln>
        </p:spPr>
      </p:pic>
      <p:sp>
        <p:nvSpPr>
          <p:cNvPr id="164" name="CasellaDiTesto 5"/>
          <p:cNvSpPr/>
          <p:nvPr/>
        </p:nvSpPr>
        <p:spPr>
          <a:xfrm>
            <a:off x="71280" y="4857840"/>
            <a:ext cx="900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Tahoma"/>
                <a:ea typeface="Tahoma"/>
              </a:rPr>
              <a:t>A sensitivity analysis performing by reducing by 50% the RR reduction reported in each of the two trials with short follow-up (Fournel, Zatloukal) resulted in a RR of 0.91 (95% CI 0.83 to 1.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magine 5" descr="Cochrane9.JPG"/>
          <p:cNvPicPr/>
          <p:nvPr/>
        </p:nvPicPr>
        <p:blipFill>
          <a:blip r:embed="rId2"/>
          <a:stretch/>
        </p:blipFill>
        <p:spPr>
          <a:xfrm>
            <a:off x="0" y="1643040"/>
            <a:ext cx="9183600" cy="4000680"/>
          </a:xfrm>
          <a:prstGeom prst="rect">
            <a:avLst/>
          </a:prstGeom>
          <a:ln w="0">
            <a:noFill/>
          </a:ln>
        </p:spPr>
      </p:pic>
      <p:sp>
        <p:nvSpPr>
          <p:cNvPr id="169" name="CasellaDiTesto 5"/>
          <p:cNvSpPr/>
          <p:nvPr/>
        </p:nvSpPr>
        <p:spPr>
          <a:xfrm>
            <a:off x="214200" y="35712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Tahoma"/>
                <a:ea typeface="Tahoma"/>
              </a:rPr>
              <a:t>Better systemic control with sequential approach and better loco-regional control with concurrent CT-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1413000"/>
            <a:ext cx="914400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4920" y="2781360"/>
            <a:ext cx="4211640" cy="33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ACCRUAL </a:t>
            </a: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(July 1994-July 199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Total 610 pts; evaluable  595 p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Eligibility crite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Newly diagnosed untreated NSCL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Unresectable stage IIIA-IIIB disease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medically inoperable stage II dise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PS 0-1, Wt Loss&lt; 5% over prior 3 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asco"/>
          <p:cNvPicPr/>
          <p:nvPr/>
        </p:nvPicPr>
        <p:blipFill>
          <a:blip r:embed="rId2"/>
          <a:stretch/>
        </p:blipFill>
        <p:spPr>
          <a:xfrm>
            <a:off x="0" y="0"/>
            <a:ext cx="9144000" cy="915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asc0"/>
          <p:cNvPicPr/>
          <p:nvPr/>
        </p:nvPicPr>
        <p:blipFill>
          <a:blip r:embed="rId3"/>
          <a:stretch/>
        </p:blipFill>
        <p:spPr>
          <a:xfrm>
            <a:off x="0" y="907920"/>
            <a:ext cx="6753240" cy="1049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4932360" y="2054160"/>
            <a:ext cx="424800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SEQ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isplatin 100mg/m2 days 1 and 29 Vinblastine 5 mg/m2 weekly x 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T (60 Gy) begins D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4932360" y="4811760"/>
            <a:ext cx="424800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CON-BID RT</a:t>
            </a: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isplatin 50mg/m2 days 1,8,29 and 36 with oral etoposide 50 mg BIDx10 weeks 1,2,5,6 with RT (69.6 Gy in 1.2 Gy BD fractions) beginning D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4932360" y="3422520"/>
            <a:ext cx="424800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CON-QD 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isplatin 100mg/m2 days 1 and 29 Vinblastine 5 mg/m2 weekly x 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T (60 Gy) begins D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4211640" y="2492280"/>
            <a:ext cx="720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4211640" y="393372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V="1">
            <a:off x="4211640" y="364500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1413000"/>
            <a:ext cx="914400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asco"/>
          <p:cNvPicPr/>
          <p:nvPr/>
        </p:nvPicPr>
        <p:blipFill>
          <a:blip r:embed="rId2"/>
          <a:stretch/>
        </p:blipFill>
        <p:spPr>
          <a:xfrm>
            <a:off x="0" y="0"/>
            <a:ext cx="9144000" cy="9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asc0"/>
          <p:cNvPicPr/>
          <p:nvPr/>
        </p:nvPicPr>
        <p:blipFill>
          <a:blip r:embed="rId3"/>
          <a:stretch/>
        </p:blipFill>
        <p:spPr>
          <a:xfrm>
            <a:off x="0" y="907920"/>
            <a:ext cx="6753240" cy="1049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Curran8"/>
          <p:cNvPicPr/>
          <p:nvPr/>
        </p:nvPicPr>
        <p:blipFill>
          <a:blip r:embed="rId4"/>
          <a:stretch/>
        </p:blipFill>
        <p:spPr>
          <a:xfrm>
            <a:off x="0" y="2058840"/>
            <a:ext cx="5148360" cy="302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7"/>
          <p:cNvSpPr/>
          <p:nvPr/>
        </p:nvSpPr>
        <p:spPr>
          <a:xfrm>
            <a:off x="5580000" y="2133720"/>
            <a:ext cx="3240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4yr survival 21% in the CT/RT vs 12% in the CT</a:t>
            </a:r>
            <a:r>
              <a:rPr b="0" lang="it-IT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RT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Higher response rate (68% vs 59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Comparable infield failure (33% vs 38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5508720" y="502272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- Greater acute toxic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0" descr="asc1"/>
          <p:cNvPicPr/>
          <p:nvPr/>
        </p:nvPicPr>
        <p:blipFill>
          <a:blip r:embed="rId5"/>
          <a:stretch/>
        </p:blipFill>
        <p:spPr>
          <a:xfrm>
            <a:off x="0" y="5084640"/>
            <a:ext cx="5148360" cy="1362240"/>
          </a:xfrm>
          <a:prstGeom prst="rect">
            <a:avLst/>
          </a:prstGeom>
          <a:ln w="0">
            <a:noFill/>
          </a:ln>
        </p:spPr>
      </p:pic>
      <p:sp>
        <p:nvSpPr>
          <p:cNvPr id="193" name="Rettangolo 11"/>
          <p:cNvSpPr/>
          <p:nvPr/>
        </p:nvSpPr>
        <p:spPr>
          <a:xfrm>
            <a:off x="1428840" y="5429160"/>
            <a:ext cx="3714840" cy="642960"/>
          </a:xfrm>
          <a:prstGeom prst="rect">
            <a:avLst/>
          </a:prstGeom>
          <a:solidFill>
            <a:srgbClr val="92d05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81080" y="189000"/>
            <a:ext cx="89992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ahoma"/>
              </a:rPr>
              <a:t>Impact of overall treatment time during concurrent CT-RT for locally advanced NSCLC: RTOG secondary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28760" y="2111400"/>
            <a:ext cx="83581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Multivariate model showed that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 prolonged treatment time was highly significantly associated with worsening overall survival (p=0.01) and PFS (p=0.02), with an estimated 2% increase in the risk of death for each day of prolonged treatment</a:t>
            </a: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Prolonged treatment time was strongly associated with G3 acute esophagitis (p&lt;0.0001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442200" y="610704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.S.Swann, M.Machtay,Curran et al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LOGO"/>
          <p:cNvPicPr/>
          <p:nvPr/>
        </p:nvPicPr>
        <p:blipFill>
          <a:blip r:embed="rId1"/>
          <a:stretch/>
        </p:blipFill>
        <p:spPr>
          <a:xfrm>
            <a:off x="1908000" y="83664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6372360" y="4186080"/>
            <a:ext cx="1224000" cy="459720"/>
          </a:xfrm>
          <a:prstGeom prst="rect">
            <a:avLst/>
          </a:prstGeom>
          <a:solidFill>
            <a:srgbClr val="006666">
              <a:alpha val="6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101 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3851280" y="4378320"/>
            <a:ext cx="496872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Tahoma"/>
              </a:rPr>
              <a:t>Sequential CT-R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isplatin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(120 mg/m</a:t>
            </a:r>
            <a:r>
              <a:rPr b="0" lang="it-IT" sz="16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) on days 1,29,57 and 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vinorelbine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(30 mg/m</a:t>
            </a:r>
            <a:r>
              <a:rPr b="0" lang="it-IT" sz="16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/wk) from day 1 to day 78,  followed by RT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3780000" y="2192400"/>
            <a:ext cx="518472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Tahoma"/>
              </a:rPr>
              <a:t>Concurrent CT-R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Two concurrent cycles of 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cisplatin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(20mg/m</a:t>
            </a:r>
            <a:r>
              <a:rPr b="0" lang="it-IT" sz="16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) and 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etoposide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(50mg/m</a:t>
            </a:r>
            <a:r>
              <a:rPr b="0" lang="it-IT" sz="16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/d (days 1 to 5 and days 29 to 33); </a:t>
            </a: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then consolidation therapy 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with cisplatin (80mg/m</a:t>
            </a:r>
            <a:r>
              <a:rPr b="0" lang="it-IT" sz="16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on days 78 and 108) and vinorelbine 30 mg/m</a:t>
            </a:r>
            <a:r>
              <a:rPr b="0" lang="it-IT" sz="16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/wk from days 78 to 12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395280" y="5877000"/>
            <a:ext cx="3960720" cy="642600"/>
          </a:xfrm>
          <a:prstGeom prst="rect">
            <a:avLst/>
          </a:prstGeom>
          <a:solidFill>
            <a:srgbClr val="006666">
              <a:alpha val="52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RT (66 Gy in 24 fractions in 32 day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2"/>
          <a:stretch/>
        </p:blipFill>
        <p:spPr>
          <a:xfrm>
            <a:off x="28440" y="431640"/>
            <a:ext cx="6848640" cy="1268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"/>
          <p:cNvPicPr/>
          <p:nvPr/>
        </p:nvPicPr>
        <p:blipFill>
          <a:blip r:embed="rId3"/>
          <a:stretch/>
        </p:blipFill>
        <p:spPr>
          <a:xfrm>
            <a:off x="0" y="0"/>
            <a:ext cx="6985080" cy="404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Fournel pts"/>
          <p:cNvPicPr/>
          <p:nvPr/>
        </p:nvPicPr>
        <p:blipFill>
          <a:blip r:embed="rId4"/>
          <a:stretch/>
        </p:blipFill>
        <p:spPr>
          <a:xfrm>
            <a:off x="87480" y="1886040"/>
            <a:ext cx="2971800" cy="3848040"/>
          </a:xfrm>
          <a:prstGeom prst="rect">
            <a:avLst/>
          </a:prstGeom>
          <a:ln w="31680">
            <a:solidFill>
              <a:srgbClr val="006666"/>
            </a:solidFill>
            <a:miter/>
          </a:ln>
        </p:spPr>
      </p:pic>
      <p:sp>
        <p:nvSpPr>
          <p:cNvPr id="210" name="Text Box 12"/>
          <p:cNvSpPr/>
          <p:nvPr/>
        </p:nvSpPr>
        <p:spPr>
          <a:xfrm>
            <a:off x="6372360" y="2060640"/>
            <a:ext cx="1224000" cy="459720"/>
          </a:xfrm>
          <a:prstGeom prst="rect">
            <a:avLst/>
          </a:prstGeom>
          <a:solidFill>
            <a:srgbClr val="006666">
              <a:alpha val="54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100 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71280" y="2637000"/>
            <a:ext cx="2988000" cy="215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LOGO"/>
          <p:cNvPicPr/>
          <p:nvPr/>
        </p:nvPicPr>
        <p:blipFill>
          <a:blip r:embed="rId1"/>
          <a:stretch/>
        </p:blipFill>
        <p:spPr>
          <a:xfrm>
            <a:off x="2050920" y="1125360"/>
            <a:ext cx="5040360" cy="49849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28440" y="333360"/>
            <a:ext cx="5838840" cy="1701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0" y="-100080"/>
            <a:ext cx="6985080" cy="405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357120" y="2060640"/>
            <a:ext cx="842976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Tahoma"/>
              </a:rPr>
              <a:t>Treatment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60 pts (59.4%) in the sequential arm and 88 pts (88%) in the concurrent arm received &gt;60 Gy of radiotherap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In the sequential arm, 23% of pts received fewer than 3 cycles of induction chemotherapy (acute severe toxicity in 17 pts, disease progression during chemotherapy in 5 pts, refusal to continue chemotherapy after the first cycle in one case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asellaDiTesto 7"/>
          <p:cNvSpPr/>
          <p:nvPr/>
        </p:nvSpPr>
        <p:spPr>
          <a:xfrm>
            <a:off x="1071720" y="571500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Tahoma"/>
                <a:ea typeface="Tahoma"/>
              </a:rPr>
              <a:t>Different dose-intens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897440" cy="294660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179280" y="3284640"/>
            <a:ext cx="4897440" cy="295416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224" name="Rectangle 9"/>
          <p:cNvSpPr/>
          <p:nvPr/>
        </p:nvSpPr>
        <p:spPr>
          <a:xfrm>
            <a:off x="5148360" y="333360"/>
            <a:ext cx="385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ahoma"/>
              </a:rPr>
              <a:t>Median survival was 14.5 months in the sequential arm and 16.3 months in the concurrent arm (</a:t>
            </a:r>
            <a:r>
              <a:rPr b="0" i="1" lang="it-IT" sz="2000" spc="-1" strike="noStrike">
                <a:solidFill>
                  <a:srgbClr val="003399"/>
                </a:solidFill>
                <a:latin typeface="Tahoma"/>
              </a:rPr>
              <a:t>P </a:t>
            </a:r>
            <a:r>
              <a:rPr b="0" lang="it-IT" sz="2000" spc="-1" strike="noStrike">
                <a:solidFill>
                  <a:srgbClr val="003399"/>
                </a:solidFill>
                <a:latin typeface="Tahoma"/>
              </a:rPr>
              <a:t> .24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ahoma"/>
              </a:rPr>
              <a:t>Two-, 3-, and 4-year survival rates were better in the concurrent arm (39%, 25%, and 21%, respectively) than in the sequential arm (26%, 19%, and 14%, respectively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5364000" y="468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66"/>
                </a:solidFill>
                <a:latin typeface="Arial"/>
              </a:rPr>
              <a:t>A trend in favour of concurrent chemoradiation therap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LOGO"/>
          <p:cNvPicPr/>
          <p:nvPr/>
        </p:nvPicPr>
        <p:blipFill>
          <a:blip r:embed="rId1"/>
          <a:stretch/>
        </p:blipFill>
        <p:spPr>
          <a:xfrm>
            <a:off x="2050920" y="1125360"/>
            <a:ext cx="5040360" cy="49849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28440" y="333360"/>
            <a:ext cx="5838840" cy="1701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0" y="-100080"/>
            <a:ext cx="6985080" cy="405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179280" y="2276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oxic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Fournel G5 toxicity"/>
          <p:cNvPicPr/>
          <p:nvPr/>
        </p:nvPicPr>
        <p:blipFill>
          <a:blip r:embed="rId4"/>
          <a:stretch/>
        </p:blipFill>
        <p:spPr>
          <a:xfrm>
            <a:off x="179280" y="2924280"/>
            <a:ext cx="5113440" cy="28512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sp>
        <p:nvSpPr>
          <p:cNvPr id="233" name="Text Box 9"/>
          <p:cNvSpPr/>
          <p:nvPr/>
        </p:nvSpPr>
        <p:spPr>
          <a:xfrm>
            <a:off x="5508720" y="2908440"/>
            <a:ext cx="331308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Tahoma"/>
              </a:rPr>
              <a:t>Esophageal toxicity was significantly more frequent in the concurrent arm than in sequential ar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Tahoma"/>
              </a:rPr>
              <a:t>(32% vs 3%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250920" y="4005360"/>
            <a:ext cx="4897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ahoma"/>
              </a:rPr>
              <a:t>Concurrent CT-RT as standard treatment in locally advanced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638172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11" descr="Terra-Erba.jpg"/>
          <p:cNvPicPr/>
          <p:nvPr/>
        </p:nvPicPr>
        <p:blipFill>
          <a:blip r:embed="rId1"/>
          <a:stretch/>
        </p:blipFill>
        <p:spPr>
          <a:xfrm>
            <a:off x="482760" y="1214280"/>
            <a:ext cx="81612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LOGO"/>
          <p:cNvPicPr/>
          <p:nvPr/>
        </p:nvPicPr>
        <p:blipFill>
          <a:blip r:embed="rId1"/>
          <a:stretch/>
        </p:blipFill>
        <p:spPr>
          <a:xfrm>
            <a:off x="1908000" y="105264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4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16286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1"/>
          <p:cNvSpPr/>
          <p:nvPr/>
        </p:nvSpPr>
        <p:spPr>
          <a:xfrm>
            <a:off x="468360" y="2205000"/>
            <a:ext cx="3168720" cy="35506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102 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Locally advanced stage IIIA (15 pts)-IIIB (87 pts) NSCL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CT schedule consisted of up to four cycles of </a:t>
            </a: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cisplatin 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(80mg/m</a:t>
            </a:r>
            <a:r>
              <a:rPr b="0" lang="it-IT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) on day 1, and </a:t>
            </a: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vinorelbine 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25 mg/m</a:t>
            </a:r>
            <a:r>
              <a:rPr b="0" lang="it-IT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 at the first and fourth cycles (12.5 mg/m</a:t>
            </a:r>
            <a:r>
              <a:rPr b="0" lang="it-IT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 during the 2nd/3rd cycles) on days 1,8,15 of a 28day cyc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RT dose 60 Gy/30f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324000" y="2060640"/>
            <a:ext cx="3456000" cy="36003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4284720" y="4365720"/>
            <a:ext cx="4105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Tahoma"/>
              </a:rPr>
              <a:t>Sequential CT-R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T started within 2 weeks after completion of chemotherap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4356000" y="2449440"/>
            <a:ext cx="51847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Tahoma"/>
              </a:rPr>
              <a:t>Concurrent CT-R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T started on day 4 of cycle 2 of chemotherap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2" descr=""/>
          <p:cNvPicPr/>
          <p:nvPr/>
        </p:nvPicPr>
        <p:blipFill>
          <a:blip r:embed="rId3"/>
          <a:stretch/>
        </p:blipFill>
        <p:spPr>
          <a:xfrm>
            <a:off x="4898880" y="5756400"/>
            <a:ext cx="4210200" cy="55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/>
          <p:cNvPicPr/>
          <p:nvPr/>
        </p:nvPicPr>
        <p:blipFill>
          <a:blip r:embed="rId2"/>
          <a:stretch/>
        </p:blipFill>
        <p:spPr>
          <a:xfrm>
            <a:off x="71280" y="260280"/>
            <a:ext cx="4176720" cy="28717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280" y="3284640"/>
            <a:ext cx="4176720" cy="296064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249" name="Text Box 11"/>
          <p:cNvSpPr/>
          <p:nvPr/>
        </p:nvSpPr>
        <p:spPr>
          <a:xfrm>
            <a:off x="1403280" y="98100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66"/>
                </a:solidFill>
                <a:latin typeface="Arial"/>
              </a:rPr>
              <a:t>Median survival 16.6 m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826920" y="2492280"/>
            <a:ext cx="29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66"/>
                </a:solidFill>
                <a:latin typeface="Arial"/>
              </a:rPr>
              <a:t>Median survival 12.9 m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476360" y="411480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66"/>
                </a:solidFill>
                <a:latin typeface="Arial"/>
              </a:rPr>
              <a:t>Median TTP 11.9 m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8985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66"/>
                </a:solidFill>
                <a:latin typeface="Arial"/>
              </a:rPr>
              <a:t>Median TTP 8.5 m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286160" y="4564080"/>
            <a:ext cx="478656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6666"/>
                </a:solidFill>
                <a:latin typeface="Arial"/>
              </a:rPr>
              <a:t>Concurrent CRT showed significant benefit in terms of response rate, overall survival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6666"/>
                </a:solidFill>
                <a:latin typeface="Arial"/>
              </a:rPr>
              <a:t>time to progression over sequential C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Immagine 11" descr="Zatloukal pts.JPG"/>
          <p:cNvPicPr/>
          <p:nvPr/>
        </p:nvPicPr>
        <p:blipFill>
          <a:blip r:embed="rId4"/>
          <a:stretch/>
        </p:blipFill>
        <p:spPr>
          <a:xfrm>
            <a:off x="4214880" y="642960"/>
            <a:ext cx="50004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LOGO"/>
          <p:cNvPicPr/>
          <p:nvPr/>
        </p:nvPicPr>
        <p:blipFill>
          <a:blip r:embed="rId1"/>
          <a:stretch/>
        </p:blipFill>
        <p:spPr>
          <a:xfrm>
            <a:off x="1908000" y="105264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1628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Zatlokal treatment"/>
          <p:cNvPicPr/>
          <p:nvPr/>
        </p:nvPicPr>
        <p:blipFill>
          <a:blip r:embed="rId3"/>
          <a:stretch/>
        </p:blipFill>
        <p:spPr>
          <a:xfrm>
            <a:off x="179280" y="1916280"/>
            <a:ext cx="5329440" cy="3998880"/>
          </a:xfrm>
          <a:prstGeom prst="rect">
            <a:avLst/>
          </a:prstGeom>
          <a:ln w="28440">
            <a:solidFill>
              <a:srgbClr val="006666"/>
            </a:solidFill>
            <a:miter/>
          </a:ln>
        </p:spPr>
      </p:pic>
      <p:sp>
        <p:nvSpPr>
          <p:cNvPr id="260" name="Rectangle 12"/>
          <p:cNvSpPr/>
          <p:nvPr/>
        </p:nvSpPr>
        <p:spPr>
          <a:xfrm>
            <a:off x="179280" y="4508640"/>
            <a:ext cx="5327640" cy="64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3" descr=""/>
          <p:cNvPicPr/>
          <p:nvPr/>
        </p:nvPicPr>
        <p:blipFill>
          <a:blip r:embed="rId4"/>
          <a:stretch/>
        </p:blipFill>
        <p:spPr>
          <a:xfrm>
            <a:off x="5830920" y="5805360"/>
            <a:ext cx="3313080" cy="552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5"/>
          <a:stretch/>
        </p:blipFill>
        <p:spPr>
          <a:xfrm>
            <a:off x="5853240" y="1670040"/>
            <a:ext cx="3004920" cy="40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179280" y="189000"/>
            <a:ext cx="80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Tahoma"/>
              </a:rPr>
              <a:t>Concurrent CT-RT in NSCLC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Tahoma"/>
              </a:rPr>
              <a:t>Rowell, The Cochrane Meta-analysis, 2004</a:t>
            </a:r>
            <a:r>
              <a:rPr b="1" lang="en-GB" sz="4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Cochrane1"/>
          <p:cNvPicPr/>
          <p:nvPr/>
        </p:nvPicPr>
        <p:blipFill>
          <a:blip r:embed="rId2"/>
          <a:stretch/>
        </p:blipFill>
        <p:spPr>
          <a:xfrm>
            <a:off x="8172360" y="114480"/>
            <a:ext cx="792360" cy="8665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8"/>
          <p:cNvSpPr/>
          <p:nvPr/>
        </p:nvSpPr>
        <p:spPr>
          <a:xfrm>
            <a:off x="285840" y="1357200"/>
            <a:ext cx="8643960" cy="55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Tahoma"/>
              </a:rPr>
              <a:t>        </a:t>
            </a:r>
            <a:r>
              <a:rPr b="1" lang="it-IT" sz="3600" spc="-1" strike="noStrike">
                <a:solidFill>
                  <a:srgbClr val="006666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Concurrent CT-RT has the potential to be more effective than sequential CT-R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Trials comparing concurrent vs sequential trials included  small number of patients and are published as yet only as abstracts, with incomplete data on randomization procedure and treatment-related mor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Caution (limited follow-up) advised in adopting concurrent CT-RT as standard of care because of uncertainties about true magnitude of benefit (toxicity) in comparison with sequential CT-RT, and for patients’ selection criteria (good performance status, no significant weight loss, age </a:t>
            </a:r>
            <a:r>
              <a:rPr b="0" lang="en-GB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 mean age in the three trials: 59, 56, 61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LOGO"/>
          <p:cNvPicPr/>
          <p:nvPr/>
        </p:nvPicPr>
        <p:blipFill>
          <a:blip r:embed="rId1"/>
          <a:stretch/>
        </p:blipFill>
        <p:spPr>
          <a:xfrm>
            <a:off x="2193840" y="981000"/>
            <a:ext cx="5040360" cy="49849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638172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unito"/>
          <p:cNvPicPr/>
          <p:nvPr/>
        </p:nvPicPr>
        <p:blipFill>
          <a:blip r:embed="rId2"/>
          <a:stretch/>
        </p:blipFill>
        <p:spPr>
          <a:xfrm>
            <a:off x="8180280" y="247680"/>
            <a:ext cx="784440" cy="8049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179280" y="404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6666"/>
                </a:solidFill>
                <a:latin typeface="Tahoma"/>
                <a:ea typeface="Tahoma"/>
              </a:rPr>
              <a:t>University of Tur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08000" y="1484280"/>
            <a:ext cx="8856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Tahoma"/>
                <a:ea typeface="Tahoma"/>
              </a:rPr>
              <a:t>Accrual period</a:t>
            </a: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ahoma"/>
              </a:rPr>
              <a:t> (2003, January – 2007, Jun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ahoma"/>
              </a:rPr>
              <a:t>Pts affected with stage I-III NSCLC: 54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ahoma"/>
              </a:rPr>
              <a:t>Mean Age: 66.82 y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ahoma"/>
              </a:rPr>
              <a:t>- Stage IIIA:  216 pts 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ahoma"/>
              </a:rPr>
              <a:t>(Mean age 66.2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ahoma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ahoma"/>
              </a:rPr>
              <a:t>Stage IIIB:  177 pts 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ahoma"/>
              </a:rPr>
              <a:t>(Mean age 64.9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LOGO"/>
          <p:cNvPicPr/>
          <p:nvPr/>
        </p:nvPicPr>
        <p:blipFill>
          <a:blip r:embed="rId1"/>
          <a:stretch/>
        </p:blipFill>
        <p:spPr>
          <a:xfrm>
            <a:off x="2050920" y="1108080"/>
            <a:ext cx="504036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1"/>
          <p:cNvSpPr/>
          <p:nvPr/>
        </p:nvSpPr>
        <p:spPr>
          <a:xfrm>
            <a:off x="468360" y="2205000"/>
            <a:ext cx="3168720" cy="20631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Inoperable T1-4 N0-3 NSCL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WHO 0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Weight loss &lt;10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FEV1 &gt;1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Diffusion capacity &gt;60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3635280" y="2986200"/>
            <a:ext cx="1224000" cy="459720"/>
          </a:xfrm>
          <a:prstGeom prst="rect">
            <a:avLst/>
          </a:prstGeom>
          <a:solidFill>
            <a:srgbClr val="006666">
              <a:alpha val="54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158 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867280" y="3933720"/>
            <a:ext cx="29527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quential CT-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=7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2 cycles of GMC (1250 mg/m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d1,8)+Cisplatin (75mg/m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day 2) followed by 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5796000" y="1844640"/>
            <a:ext cx="30258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current CT-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=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aily low-dose cisplatin (6mg/m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) concurrent with 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9640" y="5805360"/>
            <a:ext cx="3961080" cy="642600"/>
          </a:xfrm>
          <a:prstGeom prst="rect">
            <a:avLst/>
          </a:prstGeom>
          <a:solidFill>
            <a:srgbClr val="006666">
              <a:alpha val="2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RT (66 Gy in 24 fractions in 32 day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796000" y="1773360"/>
            <a:ext cx="3097080" cy="2016000"/>
          </a:xfrm>
          <a:prstGeom prst="rect">
            <a:avLst/>
          </a:prstGeom>
          <a:solidFill>
            <a:srgbClr val="006666">
              <a:alpha val="20000"/>
            </a:srgbClr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5796000" y="3933720"/>
            <a:ext cx="3097080" cy="2160720"/>
          </a:xfrm>
          <a:prstGeom prst="rect">
            <a:avLst/>
          </a:prstGeom>
          <a:solidFill>
            <a:srgbClr val="006666">
              <a:alpha val="20000"/>
            </a:srgbClr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9"/>
          <p:cNvSpPr/>
          <p:nvPr/>
        </p:nvSpPr>
        <p:spPr>
          <a:xfrm flipV="1">
            <a:off x="4932360" y="2204640"/>
            <a:ext cx="719280" cy="576360"/>
          </a:xfrm>
          <a:prstGeom prst="line">
            <a:avLst/>
          </a:prstGeom>
          <a:ln w="7632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4859280" y="3645000"/>
            <a:ext cx="792360" cy="720720"/>
          </a:xfrm>
          <a:prstGeom prst="line">
            <a:avLst/>
          </a:prstGeom>
          <a:ln w="7632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179280" y="4656240"/>
            <a:ext cx="5040360" cy="105984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Primary endpoint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Secondary endpoints:DFS, LC, toxicities, Qo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2"/>
          <p:cNvSpPr/>
          <p:nvPr/>
        </p:nvSpPr>
        <p:spPr>
          <a:xfrm>
            <a:off x="1187280" y="4005360"/>
            <a:ext cx="0" cy="647640"/>
          </a:xfrm>
          <a:prstGeom prst="line">
            <a:avLst/>
          </a:prstGeom>
          <a:ln w="190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0" y="-108108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1"/>
          <p:cNvSpPr/>
          <p:nvPr/>
        </p:nvSpPr>
        <p:spPr>
          <a:xfrm>
            <a:off x="5002200" y="1058760"/>
            <a:ext cx="4033800" cy="37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Tahoma"/>
              </a:rPr>
              <a:t>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Median follow-up 39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Loco-regional tumor progression 43% in the sequential arm and 46% in the concomitant a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milar development of distant metastases for both treatment groups (50% in both ar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Median survival was 16.2 mo in the sequential arm and 16.5 mo in the concomitant a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5" descr=""/>
          <p:cNvPicPr/>
          <p:nvPr/>
        </p:nvPicPr>
        <p:blipFill>
          <a:blip r:embed="rId2"/>
          <a:stretch/>
        </p:blipFill>
        <p:spPr>
          <a:xfrm>
            <a:off x="3564000" y="5516640"/>
            <a:ext cx="5473800" cy="6811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95" name="Picture 15" descr=""/>
          <p:cNvPicPr/>
          <p:nvPr/>
        </p:nvPicPr>
        <p:blipFill>
          <a:blip r:embed="rId3"/>
          <a:stretch/>
        </p:blipFill>
        <p:spPr>
          <a:xfrm>
            <a:off x="108000" y="1052640"/>
            <a:ext cx="4824360" cy="403200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Tahoma"/>
              </a:rPr>
              <a:t>Completed trials comparing </a:t>
            </a:r>
            <a:br>
              <a:rPr sz="3200"/>
            </a:br>
            <a:r>
              <a:rPr b="1" lang="it-IT" sz="3200" spc="-1" strike="noStrike">
                <a:solidFill>
                  <a:srgbClr val="006666"/>
                </a:solidFill>
                <a:latin typeface="Tahoma"/>
              </a:rPr>
              <a:t>chemoradiotherapy 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1280" y="1832040"/>
          <a:ext cx="8929800" cy="3728880"/>
        </p:xfrm>
        <a:graphic>
          <a:graphicData uri="http://schemas.openxmlformats.org/drawingml/2006/table">
            <a:tbl>
              <a:tblPr/>
              <a:tblGrid>
                <a:gridCol w="1698840"/>
                <a:gridCol w="649080"/>
                <a:gridCol w="1295640"/>
                <a:gridCol w="890640"/>
                <a:gridCol w="1752480"/>
                <a:gridCol w="26431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ri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ts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-yr surv. (%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         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</a:t>
                      </a: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-yr surv (%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                      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uruse (Japa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.5    13.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.0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5         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</a:t>
                      </a: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7                     2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urran       (RTOG 94-10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7.1    14.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.0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3         5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</a:t>
                      </a: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7                     31 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Zatloukal (Czech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.6   12.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.0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9        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</a:t>
                      </a: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4                     1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ournel (GLOT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      13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.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66"/>
                        </a:buClr>
                        <a:buFont typeface="Tahoma"/>
                        <a:buAutoNum type="arabicPlain" startAt="5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</a:t>
                      </a: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5                     2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EORTC 08972-2297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.5   16.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66"/>
                        </a:buClr>
                        <a:buFont typeface="Tahoma"/>
                        <a:buAutoNum type="arabicPlain" startAt="5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</a:t>
                      </a: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9                     3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8" name="Rectangle 79"/>
          <p:cNvSpPr/>
          <p:nvPr/>
        </p:nvSpPr>
        <p:spPr>
          <a:xfrm>
            <a:off x="0" y="662472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0"/>
          <p:cNvSpPr/>
          <p:nvPr/>
        </p:nvSpPr>
        <p:spPr>
          <a:xfrm>
            <a:off x="0" y="6480000"/>
            <a:ext cx="9144000" cy="14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0" y="-289080"/>
            <a:ext cx="9144000" cy="1773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2"/>
          <a:stretch/>
        </p:blipFill>
        <p:spPr>
          <a:xfrm>
            <a:off x="179280" y="1646280"/>
            <a:ext cx="3961080" cy="2503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304" name="Picture 12" descr=""/>
          <p:cNvPicPr/>
          <p:nvPr/>
        </p:nvPicPr>
        <p:blipFill>
          <a:blip r:embed="rId3"/>
          <a:stretch/>
        </p:blipFill>
        <p:spPr>
          <a:xfrm>
            <a:off x="4284720" y="1665360"/>
            <a:ext cx="4753080" cy="24811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305" name="Oval 13"/>
          <p:cNvSpPr/>
          <p:nvPr/>
        </p:nvSpPr>
        <p:spPr>
          <a:xfrm>
            <a:off x="1042920" y="1863720"/>
            <a:ext cx="720720" cy="129528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4849920" y="2214720"/>
            <a:ext cx="1008000" cy="1665000"/>
          </a:xfrm>
          <a:prstGeom prst="rect">
            <a:avLst/>
          </a:prstGeom>
          <a:noFill/>
          <a:ln w="442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1403280" y="4430880"/>
            <a:ext cx="66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Oesophagitis grade 3/4 more frequent in the concurrent arm (5% vs 14%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Pneumonitis grade 3/4 14%(S) and 18%(C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69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ahoma"/>
              </a:rPr>
              <a:t>Concurrent CT-RT is not the standard treatment in locally advanced NSCLC, unless treating on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Bridge crossing - hazardous"/>
          <p:cNvPicPr/>
          <p:nvPr/>
        </p:nvPicPr>
        <p:blipFill>
          <a:blip r:embed="rId1"/>
          <a:stretch/>
        </p:blipFill>
        <p:spPr>
          <a:xfrm>
            <a:off x="108000" y="1628640"/>
            <a:ext cx="4753080" cy="45370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5076720" y="2093760"/>
            <a:ext cx="3853080" cy="40258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Tahoma"/>
              </a:rPr>
              <a:t>Highly “FIT” pati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Performance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Weight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Pulmonary function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Stage/Tumor bu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Tahoma"/>
              </a:rPr>
              <a:t>Dose to critical org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638172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en-GB" sz="4400" spc="-1" strike="noStrike">
                <a:solidFill>
                  <a:srgbClr val="006666"/>
                </a:solidFill>
                <a:latin typeface="Tahoma"/>
              </a:rPr>
              <a:t>Stage III NSCLC: Sub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1840" y="1773360"/>
          <a:ext cx="6194520" cy="3609720"/>
        </p:xfrm>
        <a:graphic>
          <a:graphicData uri="http://schemas.openxmlformats.org/drawingml/2006/table">
            <a:tbl>
              <a:tblPr/>
              <a:tblGrid>
                <a:gridCol w="1168200"/>
                <a:gridCol w="5026320"/>
              </a:tblGrid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e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A</a:t>
                      </a:r>
                      <a:r>
                        <a:rPr b="0" lang="nl-NL" sz="1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metastases found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tally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the final pathological examination of the surgical resected specim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A</a:t>
                      </a:r>
                      <a:r>
                        <a:rPr b="0" lang="nl-NL" sz="1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metastases (single station) found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operativel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A</a:t>
                      </a:r>
                      <a:r>
                        <a:rPr b="0" lang="nl-NL" sz="1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metastases identified by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thoracotomy stag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mediastinoscopy; EUS, EBUS, PET sca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A</a:t>
                      </a:r>
                      <a:r>
                        <a:rPr b="0" lang="nl-NL" sz="1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y or fixed multi-station N2 diseas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4 – N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26"/>
          <p:cNvSpPr/>
          <p:nvPr/>
        </p:nvSpPr>
        <p:spPr>
          <a:xfrm>
            <a:off x="1104480" y="5877000"/>
            <a:ext cx="40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6666"/>
                </a:solidFill>
                <a:latin typeface="Times New Roman"/>
              </a:rPr>
              <a:t>Bettischer ‘04 </a:t>
            </a:r>
            <a:r>
              <a:rPr b="0" i="1" lang="en-GB" sz="1600" spc="-1" strike="noStrike">
                <a:solidFill>
                  <a:srgbClr val="006666"/>
                </a:solidFill>
                <a:latin typeface="Times New Roman"/>
              </a:rPr>
              <a:t>(Adapted from Ruckdeschel ’97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0" y="638172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1403280" y="4572000"/>
            <a:ext cx="6193080" cy="801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844120" cy="1143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Tahoma"/>
              </a:rPr>
              <a:t>Should we always rely on sta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324000" y="1960560"/>
            <a:ext cx="3167280" cy="4563360"/>
            <a:chOff x="324000" y="1960560"/>
            <a:chExt cx="3167280" cy="4563360"/>
          </a:xfrm>
        </p:grpSpPr>
        <p:sp>
          <p:nvSpPr>
            <p:cNvPr id="315" name="Text Box 4"/>
            <p:cNvSpPr/>
            <p:nvPr/>
          </p:nvSpPr>
          <p:spPr>
            <a:xfrm>
              <a:off x="324000" y="3892680"/>
              <a:ext cx="182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5"/>
            <p:cNvGrpSpPr/>
            <p:nvPr/>
          </p:nvGrpSpPr>
          <p:grpSpPr>
            <a:xfrm>
              <a:off x="421560" y="1960560"/>
              <a:ext cx="3069720" cy="4563360"/>
              <a:chOff x="421560" y="1960560"/>
              <a:chExt cx="3069720" cy="4563360"/>
            </a:xfrm>
          </p:grpSpPr>
          <p:pic>
            <p:nvPicPr>
              <p:cNvPr id="317" name="Picture 6" descr="Post-ind Mediast Top of aortic arch Img0012"/>
              <p:cNvPicPr/>
              <p:nvPr/>
            </p:nvPicPr>
            <p:blipFill>
              <a:blip r:embed="rId1"/>
              <a:srcRect l="17203" t="20304" r="4652" b="20304"/>
              <a:stretch/>
            </p:blipFill>
            <p:spPr>
              <a:xfrm>
                <a:off x="445680" y="4663800"/>
                <a:ext cx="3045600" cy="18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7" descr="Pre-chemo Mediast Top of aortic arch Img0009"/>
              <p:cNvPicPr/>
              <p:nvPr/>
            </p:nvPicPr>
            <p:blipFill>
              <a:blip r:embed="rId2"/>
              <a:srcRect l="10927" t="12478" r="4652" b="21855"/>
              <a:stretch/>
            </p:blipFill>
            <p:spPr>
              <a:xfrm>
                <a:off x="421560" y="1960560"/>
                <a:ext cx="3045960" cy="19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Line 8"/>
              <p:cNvSpPr/>
              <p:nvPr/>
            </p:nvSpPr>
            <p:spPr>
              <a:xfrm>
                <a:off x="1875600" y="4283280"/>
                <a:ext cx="2160" cy="3013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Group 9"/>
          <p:cNvGrpSpPr/>
          <p:nvPr/>
        </p:nvGrpSpPr>
        <p:grpSpPr>
          <a:xfrm>
            <a:off x="4211640" y="1844640"/>
            <a:ext cx="4897080" cy="3965400"/>
            <a:chOff x="4211640" y="1844640"/>
            <a:chExt cx="4897080" cy="3965400"/>
          </a:xfrm>
        </p:grpSpPr>
        <p:pic>
          <p:nvPicPr>
            <p:cNvPr id="321" name="Picture 10" descr="ptbv1"/>
            <p:cNvPicPr/>
            <p:nvPr/>
          </p:nvPicPr>
          <p:blipFill>
            <a:blip r:embed="rId3"/>
            <a:srcRect l="13057" t="15519" r="5173" b="16061"/>
            <a:stretch/>
          </p:blipFill>
          <p:spPr>
            <a:xfrm>
              <a:off x="4211640" y="1844640"/>
              <a:ext cx="2216160" cy="19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1" descr="ptbv2"/>
            <p:cNvPicPr/>
            <p:nvPr/>
          </p:nvPicPr>
          <p:blipFill>
            <a:blip r:embed="rId4"/>
            <a:srcRect l="7384" t="15978" r="4172" b="15602"/>
            <a:stretch/>
          </p:blipFill>
          <p:spPr>
            <a:xfrm>
              <a:off x="6711480" y="1844640"/>
              <a:ext cx="2397240" cy="19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12" descr="ptbv4"/>
            <p:cNvPicPr/>
            <p:nvPr/>
          </p:nvPicPr>
          <p:blipFill>
            <a:blip r:embed="rId5"/>
            <a:srcRect l="0" t="4464" r="0" b="17104"/>
            <a:stretch/>
          </p:blipFill>
          <p:spPr>
            <a:xfrm>
              <a:off x="6711480" y="3851280"/>
              <a:ext cx="2362680" cy="19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3" descr="ptbv3"/>
            <p:cNvPicPr/>
            <p:nvPr/>
          </p:nvPicPr>
          <p:blipFill>
            <a:blip r:embed="rId6"/>
            <a:srcRect l="3219" t="8265" r="1757" b="11676"/>
            <a:stretch/>
          </p:blipFill>
          <p:spPr>
            <a:xfrm>
              <a:off x="4227120" y="3851280"/>
              <a:ext cx="2200320" cy="19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Rectangle 14"/>
          <p:cNvSpPr/>
          <p:nvPr/>
        </p:nvSpPr>
        <p:spPr>
          <a:xfrm>
            <a:off x="252360" y="4294080"/>
            <a:ext cx="345600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684360" y="46530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Stage III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0" y="638172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684360" y="40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ff"/>
                </a:solidFill>
                <a:latin typeface="Arial"/>
              </a:rPr>
              <a:t>T4N0M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5741640" y="585144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ff"/>
                </a:solidFill>
                <a:latin typeface="Arial"/>
              </a:rPr>
              <a:t>T2N3M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84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Tahoma"/>
              </a:rPr>
              <a:t>Which RT volumes have to be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3"/>
          <p:cNvGrpSpPr/>
          <p:nvPr/>
        </p:nvGrpSpPr>
        <p:grpSpPr>
          <a:xfrm>
            <a:off x="4792680" y="1557360"/>
            <a:ext cx="3018960" cy="4750920"/>
            <a:chOff x="4792680" y="1557360"/>
            <a:chExt cx="3018960" cy="4750920"/>
          </a:xfrm>
        </p:grpSpPr>
        <p:pic>
          <p:nvPicPr>
            <p:cNvPr id="333" name="Picture 4" descr="Pre-chemo Lung Top of aortic arch Img0056"/>
            <p:cNvPicPr/>
            <p:nvPr/>
          </p:nvPicPr>
          <p:blipFill>
            <a:blip r:embed="rId1"/>
            <a:srcRect l="10927" t="10927" r="4652" b="21855"/>
            <a:stretch/>
          </p:blipFill>
          <p:spPr>
            <a:xfrm>
              <a:off x="4908240" y="1557360"/>
              <a:ext cx="2903400" cy="20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5"/>
            <p:cNvSpPr/>
            <p:nvPr/>
          </p:nvSpPr>
          <p:spPr>
            <a:xfrm>
              <a:off x="6184800" y="3951000"/>
              <a:ext cx="1800" cy="310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Picture 6" descr="Pre-chemo Mediast Top of aortic arch Img0009"/>
            <p:cNvPicPr/>
            <p:nvPr/>
          </p:nvPicPr>
          <p:blipFill>
            <a:blip r:embed="rId2"/>
            <a:srcRect l="10927" t="12478" r="4652" b="21855"/>
            <a:stretch/>
          </p:blipFill>
          <p:spPr>
            <a:xfrm>
              <a:off x="4815000" y="4343040"/>
              <a:ext cx="289908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7"/>
            <p:cNvSpPr/>
            <p:nvPr/>
          </p:nvSpPr>
          <p:spPr>
            <a:xfrm>
              <a:off x="4792680" y="3573000"/>
              <a:ext cx="23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66"/>
                  </a:solidFill>
                  <a:latin typeface="Arial"/>
                </a:rPr>
                <a:t>Concurrent chemo-R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8"/>
          <p:cNvGrpSpPr/>
          <p:nvPr/>
        </p:nvGrpSpPr>
        <p:grpSpPr>
          <a:xfrm>
            <a:off x="1337760" y="1560600"/>
            <a:ext cx="3176280" cy="4701240"/>
            <a:chOff x="1337760" y="1560600"/>
            <a:chExt cx="3176280" cy="4701240"/>
          </a:xfrm>
        </p:grpSpPr>
        <p:sp>
          <p:nvSpPr>
            <p:cNvPr id="338" name="Text Box 9"/>
            <p:cNvSpPr/>
            <p:nvPr/>
          </p:nvSpPr>
          <p:spPr>
            <a:xfrm>
              <a:off x="1337760" y="3551040"/>
              <a:ext cx="253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66"/>
                  </a:solidFill>
                  <a:latin typeface="Arial"/>
                </a:rPr>
                <a:t>Induction chemotherapy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10"/>
            <p:cNvGrpSpPr/>
            <p:nvPr/>
          </p:nvGrpSpPr>
          <p:grpSpPr>
            <a:xfrm>
              <a:off x="1430280" y="1560600"/>
              <a:ext cx="3083760" cy="4701240"/>
              <a:chOff x="1430280" y="1560600"/>
              <a:chExt cx="3083760" cy="4701240"/>
            </a:xfrm>
          </p:grpSpPr>
          <p:pic>
            <p:nvPicPr>
              <p:cNvPr id="340" name="Picture 11" descr="Post-ind Mediast Top of aortic arch Img0012"/>
              <p:cNvPicPr/>
              <p:nvPr/>
            </p:nvPicPr>
            <p:blipFill>
              <a:blip r:embed="rId3"/>
              <a:srcRect l="17203" t="20304" r="4652" b="20304"/>
              <a:stretch/>
            </p:blipFill>
            <p:spPr>
              <a:xfrm>
                <a:off x="1454400" y="4345560"/>
                <a:ext cx="3059640" cy="191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Picture 12" descr="Pre-chemo Mediast Top of aortic arch Img0009"/>
              <p:cNvPicPr/>
              <p:nvPr/>
            </p:nvPicPr>
            <p:blipFill>
              <a:blip r:embed="rId4"/>
              <a:srcRect l="10927" t="12478" r="4652" b="21855"/>
              <a:stretch/>
            </p:blipFill>
            <p:spPr>
              <a:xfrm>
                <a:off x="1430280" y="1560600"/>
                <a:ext cx="3060000" cy="196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Line 13"/>
              <p:cNvSpPr/>
              <p:nvPr/>
            </p:nvSpPr>
            <p:spPr>
              <a:xfrm>
                <a:off x="2890800" y="3953520"/>
                <a:ext cx="2160" cy="3103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Rectangle 14"/>
          <p:cNvSpPr/>
          <p:nvPr/>
        </p:nvSpPr>
        <p:spPr>
          <a:xfrm>
            <a:off x="0" y="662472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0" y="6480000"/>
            <a:ext cx="9144000" cy="14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6"/>
          <p:cNvSpPr/>
          <p:nvPr/>
        </p:nvSpPr>
        <p:spPr>
          <a:xfrm>
            <a:off x="6012000" y="3933720"/>
            <a:ext cx="4316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7"/>
          <p:cNvSpPr/>
          <p:nvPr/>
        </p:nvSpPr>
        <p:spPr>
          <a:xfrm>
            <a:off x="2700360" y="3933720"/>
            <a:ext cx="4316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69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ahoma"/>
              </a:rPr>
              <a:t>Concurrent CT-RT is not the standard treatment in locally advanced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Bridge crossing - hazardous"/>
          <p:cNvPicPr/>
          <p:nvPr/>
        </p:nvPicPr>
        <p:blipFill>
          <a:blip r:embed="rId1"/>
          <a:stretch/>
        </p:blipFill>
        <p:spPr>
          <a:xfrm>
            <a:off x="108000" y="1628640"/>
            <a:ext cx="4753080" cy="453708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638172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asellaDiTesto 6"/>
          <p:cNvSpPr/>
          <p:nvPr/>
        </p:nvSpPr>
        <p:spPr>
          <a:xfrm>
            <a:off x="5143680" y="2181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CLINICAL TR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asellaDiTesto 7"/>
          <p:cNvSpPr/>
          <p:nvPr/>
        </p:nvSpPr>
        <p:spPr>
          <a:xfrm>
            <a:off x="5214960" y="500076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Tahoma"/>
              </a:rPr>
              <a:t>DAILY CLINICAL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e 9"/>
          <p:cNvSpPr/>
          <p:nvPr/>
        </p:nvSpPr>
        <p:spPr>
          <a:xfrm>
            <a:off x="5286240" y="4572000"/>
            <a:ext cx="3214800" cy="1571760"/>
          </a:xfrm>
          <a:prstGeom prst="ellipse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e 10"/>
          <p:cNvSpPr/>
          <p:nvPr/>
        </p:nvSpPr>
        <p:spPr>
          <a:xfrm>
            <a:off x="5286240" y="1643040"/>
            <a:ext cx="3214800" cy="1571760"/>
          </a:xfrm>
          <a:prstGeom prst="ellipse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ccia bidirezionale verticale 11"/>
          <p:cNvSpPr/>
          <p:nvPr/>
        </p:nvSpPr>
        <p:spPr>
          <a:xfrm>
            <a:off x="6715080" y="3357720"/>
            <a:ext cx="285840" cy="107136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6666"/>
                </a:solidFill>
                <a:latin typeface="Tahoma"/>
              </a:rPr>
              <a:t>Locally Advanced NSCLC</a:t>
            </a:r>
            <a:br>
              <a:rPr sz="3600"/>
            </a:br>
            <a:r>
              <a:rPr b="1" i="1" lang="it-IT" sz="2800" spc="-1" strike="noStrike">
                <a:solidFill>
                  <a:srgbClr val="006666"/>
                </a:solidFill>
                <a:latin typeface="Tahoma"/>
              </a:rPr>
              <a:t>1997, 2003 ASCO and 2005 ESMO Guidelines</a:t>
            </a:r>
            <a:r>
              <a:rPr b="1" lang="it-IT" sz="28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In unresectable stage III NSCLC, CT plus RT prolongs survival and is most appropriate for patients with good PS and adequate pulmonar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CT should be a platinum-based combination regimen given for 2-8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-  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RT should be no less than the biologic equivalent of 60 Gy in 1.8 to 2.0 Gy f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533520" y="1500120"/>
            <a:ext cx="807696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0" y="6551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0" y="640872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tangolo 6"/>
          <p:cNvSpPr/>
          <p:nvPr/>
        </p:nvSpPr>
        <p:spPr>
          <a:xfrm>
            <a:off x="0" y="5600880"/>
            <a:ext cx="907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A meta-analysis of 1780 patients from 11 trials showed a small survival advantage of 4% at 2 yrs, and 2% at 5 yrs with the addition of cisplatin-based chemotherapy to RT against RT alone 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                                                                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BMJ, 199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27360"/>
            <a:ext cx="83678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Chemoradiotherapy: </a:t>
            </a:r>
            <a:r>
              <a:rPr b="1" lang="it-IT" sz="2400" spc="-1" strike="noStrike">
                <a:solidFill>
                  <a:srgbClr val="006666"/>
                </a:solidFill>
                <a:latin typeface="Tahoma"/>
              </a:rPr>
              <a:t>What kind of comb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28036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Sequential Chemotherapy  </a:t>
            </a:r>
            <a:r>
              <a:rPr b="0" lang="en-US" sz="20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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 Radio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Induction Chemotherapy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T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Concurrent Chemoradio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Chemotherapy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Induction Chemotherapy  </a:t>
            </a:r>
            <a:r>
              <a:rPr b="0" lang="en-US" sz="20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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 Concurrent Chemoradio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Induction Chemotherapy                      X        X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Concurrent Chemotherapy                                   x       x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T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Concurrent Chemoradiotherapy </a:t>
            </a:r>
            <a:r>
              <a:rPr b="0" lang="en-US" sz="20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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  Consolidation Chemo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Concurrent Chemotherapy                 x      x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T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Consolidation Chemotherapy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                  X          X   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140360" y="6141960"/>
            <a:ext cx="572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full dose                   reduced dose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4284720" y="1557360"/>
            <a:ext cx="2743200" cy="4343400"/>
            <a:chOff x="4284720" y="1557360"/>
            <a:chExt cx="2743200" cy="4343400"/>
          </a:xfrm>
        </p:grpSpPr>
        <p:grpSp>
          <p:nvGrpSpPr>
            <p:cNvPr id="78" name="Group 8"/>
            <p:cNvGrpSpPr/>
            <p:nvPr/>
          </p:nvGrpSpPr>
          <p:grpSpPr>
            <a:xfrm>
              <a:off x="5504040" y="1557360"/>
              <a:ext cx="1447920" cy="228600"/>
              <a:chOff x="5504040" y="1557360"/>
              <a:chExt cx="1447920" cy="22860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5504040" y="1557360"/>
                <a:ext cx="1447920" cy="228600"/>
              </a:xfrm>
              <a:prstGeom prst="rect">
                <a:avLst/>
              </a:prstGeom>
              <a:solidFill>
                <a:srgbClr val="003399">
                  <a:alpha val="2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0"/>
              <p:cNvSpPr/>
              <p:nvPr/>
            </p:nvSpPr>
            <p:spPr>
              <a:xfrm>
                <a:off x="5580360" y="1671840"/>
                <a:ext cx="129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1"/>
            <p:cNvGrpSpPr/>
            <p:nvPr/>
          </p:nvGrpSpPr>
          <p:grpSpPr>
            <a:xfrm>
              <a:off x="4284720" y="2776320"/>
              <a:ext cx="1447920" cy="228600"/>
              <a:chOff x="4284720" y="2776320"/>
              <a:chExt cx="1447920" cy="228600"/>
            </a:xfrm>
          </p:grpSpPr>
          <p:sp>
            <p:nvSpPr>
              <p:cNvPr id="82" name="Rectangle 12"/>
              <p:cNvSpPr/>
              <p:nvPr/>
            </p:nvSpPr>
            <p:spPr>
              <a:xfrm>
                <a:off x="4284720" y="2776320"/>
                <a:ext cx="1447920" cy="228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3"/>
              <p:cNvSpPr/>
              <p:nvPr/>
            </p:nvSpPr>
            <p:spPr>
              <a:xfrm>
                <a:off x="4361040" y="2890800"/>
                <a:ext cx="129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4"/>
            <p:cNvGrpSpPr/>
            <p:nvPr/>
          </p:nvGrpSpPr>
          <p:grpSpPr>
            <a:xfrm>
              <a:off x="5580360" y="4224240"/>
              <a:ext cx="1447560" cy="228600"/>
              <a:chOff x="5580360" y="4224240"/>
              <a:chExt cx="1447560" cy="228600"/>
            </a:xfrm>
          </p:grpSpPr>
          <p:sp>
            <p:nvSpPr>
              <p:cNvPr id="85" name="Rectangle 15"/>
              <p:cNvSpPr/>
              <p:nvPr/>
            </p:nvSpPr>
            <p:spPr>
              <a:xfrm>
                <a:off x="5580360" y="4224240"/>
                <a:ext cx="1447560" cy="228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6"/>
              <p:cNvSpPr/>
              <p:nvPr/>
            </p:nvSpPr>
            <p:spPr>
              <a:xfrm>
                <a:off x="5656320" y="4338720"/>
                <a:ext cx="129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7"/>
            <p:cNvGrpSpPr/>
            <p:nvPr/>
          </p:nvGrpSpPr>
          <p:grpSpPr>
            <a:xfrm>
              <a:off x="4284720" y="5672160"/>
              <a:ext cx="1447920" cy="228600"/>
              <a:chOff x="4284720" y="5672160"/>
              <a:chExt cx="1447920" cy="228600"/>
            </a:xfrm>
          </p:grpSpPr>
          <p:sp>
            <p:nvSpPr>
              <p:cNvPr id="88" name="Rectangle 18"/>
              <p:cNvSpPr/>
              <p:nvPr/>
            </p:nvSpPr>
            <p:spPr>
              <a:xfrm>
                <a:off x="4284720" y="5672160"/>
                <a:ext cx="1447920" cy="228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9"/>
              <p:cNvSpPr/>
              <p:nvPr/>
            </p:nvSpPr>
            <p:spPr>
              <a:xfrm>
                <a:off x="4361040" y="5786640"/>
                <a:ext cx="129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Rectangle 20"/>
          <p:cNvSpPr/>
          <p:nvPr/>
        </p:nvSpPr>
        <p:spPr>
          <a:xfrm>
            <a:off x="0" y="662472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0" y="6480000"/>
            <a:ext cx="9144000" cy="14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8463960" y="3139920"/>
            <a:ext cx="454680" cy="1584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CALGB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8199000" y="4795920"/>
            <a:ext cx="729000" cy="15127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SWOG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324000" y="907920"/>
            <a:ext cx="7993080" cy="1008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"/>
          <p:cNvSpPr/>
          <p:nvPr/>
        </p:nvSpPr>
        <p:spPr>
          <a:xfrm>
            <a:off x="4211640" y="1341360"/>
            <a:ext cx="21600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5003640" y="1341360"/>
            <a:ext cx="21600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4140360" y="119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4932360" y="119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324000" y="2060640"/>
            <a:ext cx="7993080" cy="10080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4284720" y="249228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5508720" y="2492280"/>
            <a:ext cx="215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6"/>
          <p:cNvSpPr/>
          <p:nvPr/>
        </p:nvSpPr>
        <p:spPr>
          <a:xfrm>
            <a:off x="4932360" y="249228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421164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4498920" y="3645000"/>
            <a:ext cx="21600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485928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543564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24000" y="3213000"/>
            <a:ext cx="7993080" cy="1368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4797360"/>
            <a:ext cx="7993080" cy="1368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4"/>
          <p:cNvSpPr/>
          <p:nvPr/>
        </p:nvSpPr>
        <p:spPr>
          <a:xfrm>
            <a:off x="8317080" y="3573360"/>
            <a:ext cx="142560" cy="0"/>
          </a:xfrm>
          <a:prstGeom prst="line">
            <a:avLst/>
          </a:prstGeom>
          <a:ln w="127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5"/>
          <p:cNvSpPr/>
          <p:nvPr/>
        </p:nvSpPr>
        <p:spPr>
          <a:xfrm>
            <a:off x="8317080" y="5157720"/>
            <a:ext cx="142560" cy="0"/>
          </a:xfrm>
          <a:prstGeom prst="line">
            <a:avLst/>
          </a:prstGeom>
          <a:ln w="127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6"/>
          <p:cNvSpPr/>
          <p:nvPr/>
        </p:nvSpPr>
        <p:spPr>
          <a:xfrm>
            <a:off x="5219640" y="3645000"/>
            <a:ext cx="21600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5580000" y="393372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8"/>
          <p:cNvSpPr/>
          <p:nvPr/>
        </p:nvSpPr>
        <p:spPr>
          <a:xfrm>
            <a:off x="6156360" y="393372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9"/>
          <p:cNvSpPr/>
          <p:nvPr/>
        </p:nvSpPr>
        <p:spPr>
          <a:xfrm>
            <a:off x="6804000" y="393372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0"/>
          <p:cNvSpPr/>
          <p:nvPr/>
        </p:nvSpPr>
        <p:spPr>
          <a:xfrm>
            <a:off x="442764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1"/>
          <p:cNvSpPr/>
          <p:nvPr/>
        </p:nvSpPr>
        <p:spPr>
          <a:xfrm>
            <a:off x="514836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550872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3"/>
          <p:cNvSpPr/>
          <p:nvPr/>
        </p:nvSpPr>
        <p:spPr>
          <a:xfrm>
            <a:off x="608472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4"/>
          <p:cNvSpPr/>
          <p:nvPr/>
        </p:nvSpPr>
        <p:spPr>
          <a:xfrm>
            <a:off x="673272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5"/>
          <p:cNvSpPr/>
          <p:nvPr/>
        </p:nvSpPr>
        <p:spPr>
          <a:xfrm>
            <a:off x="6372360" y="5877000"/>
            <a:ext cx="2156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6"/>
          <p:cNvSpPr/>
          <p:nvPr/>
        </p:nvSpPr>
        <p:spPr>
          <a:xfrm>
            <a:off x="7236000" y="5877000"/>
            <a:ext cx="2156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7"/>
          <p:cNvSpPr/>
          <p:nvPr/>
        </p:nvSpPr>
        <p:spPr>
          <a:xfrm>
            <a:off x="4284720" y="537372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8"/>
          <p:cNvSpPr/>
          <p:nvPr/>
        </p:nvSpPr>
        <p:spPr>
          <a:xfrm>
            <a:off x="4859280" y="537372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9"/>
          <p:cNvSpPr/>
          <p:nvPr/>
        </p:nvSpPr>
        <p:spPr>
          <a:xfrm>
            <a:off x="5435640" y="537372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0"/>
          <p:cNvSpPr/>
          <p:nvPr/>
        </p:nvSpPr>
        <p:spPr>
          <a:xfrm>
            <a:off x="421164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2"/>
          <p:cNvSpPr/>
          <p:nvPr/>
        </p:nvSpPr>
        <p:spPr>
          <a:xfrm>
            <a:off x="478800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3"/>
          <p:cNvSpPr/>
          <p:nvPr/>
        </p:nvSpPr>
        <p:spPr>
          <a:xfrm>
            <a:off x="536400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4"/>
          <p:cNvSpPr/>
          <p:nvPr/>
        </p:nvSpPr>
        <p:spPr>
          <a:xfrm>
            <a:off x="630072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5"/>
          <p:cNvSpPr/>
          <p:nvPr/>
        </p:nvSpPr>
        <p:spPr>
          <a:xfrm>
            <a:off x="716436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6"/>
          <p:cNvSpPr/>
          <p:nvPr/>
        </p:nvSpPr>
        <p:spPr>
          <a:xfrm>
            <a:off x="6012000" y="6237360"/>
            <a:ext cx="215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7"/>
          <p:cNvSpPr/>
          <p:nvPr/>
        </p:nvSpPr>
        <p:spPr>
          <a:xfrm>
            <a:off x="3924360" y="6237360"/>
            <a:ext cx="21600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8"/>
          <p:cNvSpPr/>
          <p:nvPr/>
        </p:nvSpPr>
        <p:spPr>
          <a:xfrm>
            <a:off x="5940360" y="609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9"/>
          <p:cNvSpPr/>
          <p:nvPr/>
        </p:nvSpPr>
        <p:spPr>
          <a:xfrm>
            <a:off x="3851280" y="609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0"/>
          <p:cNvSpPr/>
          <p:nvPr/>
        </p:nvSpPr>
        <p:spPr>
          <a:xfrm>
            <a:off x="8317080" y="4292640"/>
            <a:ext cx="142560" cy="0"/>
          </a:xfrm>
          <a:prstGeom prst="line">
            <a:avLst/>
          </a:prstGeom>
          <a:ln w="127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2"/>
          <p:cNvSpPr/>
          <p:nvPr/>
        </p:nvSpPr>
        <p:spPr>
          <a:xfrm>
            <a:off x="8317080" y="5805360"/>
            <a:ext cx="142560" cy="0"/>
          </a:xfrm>
          <a:prstGeom prst="line">
            <a:avLst/>
          </a:prstGeom>
          <a:ln w="127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ttangolo 65"/>
          <p:cNvSpPr/>
          <p:nvPr/>
        </p:nvSpPr>
        <p:spPr>
          <a:xfrm>
            <a:off x="285840" y="928800"/>
            <a:ext cx="8072280" cy="2143080"/>
          </a:xfrm>
          <a:prstGeom prst="rect">
            <a:avLst/>
          </a:prstGeom>
          <a:solidFill>
            <a:srgbClr val="00b05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Cochrane1"/>
          <p:cNvPicPr/>
          <p:nvPr/>
        </p:nvPicPr>
        <p:blipFill>
          <a:blip r:embed="rId2"/>
          <a:stretch/>
        </p:blipFill>
        <p:spPr>
          <a:xfrm>
            <a:off x="1260360" y="523800"/>
            <a:ext cx="6840720" cy="5497560"/>
          </a:xfrm>
          <a:prstGeom prst="rect">
            <a:avLst/>
          </a:prstGeom>
          <a:ln w="69840">
            <a:solidFill>
              <a:srgbClr val="006666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79280" y="189000"/>
            <a:ext cx="80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Tahoma"/>
              </a:rPr>
              <a:t>Concurrent CT-RT in NSCLC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Tahoma"/>
              </a:rPr>
              <a:t>Rowell, The Cochrane Meta-analysis, 2004</a:t>
            </a:r>
            <a:r>
              <a:rPr b="1" lang="en-GB" sz="4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Cochrane1"/>
          <p:cNvPicPr/>
          <p:nvPr/>
        </p:nvPicPr>
        <p:blipFill>
          <a:blip r:embed="rId2"/>
          <a:stretch/>
        </p:blipFill>
        <p:spPr>
          <a:xfrm>
            <a:off x="8172360" y="189000"/>
            <a:ext cx="755640" cy="8665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250920" y="1628640"/>
            <a:ext cx="87138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just">
              <a:lnSpc>
                <a:spcPct val="120000"/>
              </a:lnSpc>
              <a:buClr>
                <a:srgbClr val="003399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Tahoma"/>
              </a:rPr>
              <a:t>14 randomized studies including 2393 pts of </a:t>
            </a:r>
            <a:r>
              <a:rPr b="1" lang="en-GB" sz="2400" spc="-1" strike="noStrike">
                <a:solidFill>
                  <a:srgbClr val="003399"/>
                </a:solidFill>
                <a:latin typeface="Tahoma"/>
              </a:rPr>
              <a:t>concurrent CT-RT vs RT alone </a:t>
            </a:r>
            <a:r>
              <a:rPr b="0" lang="en-GB" sz="2400" spc="-1" strike="noStrike">
                <a:solidFill>
                  <a:srgbClr val="003399"/>
                </a:solidFill>
                <a:latin typeface="Tahoma"/>
              </a:rPr>
              <a:t>showing a 7% reduction in risk of death at two years (RR 0.93) and similar improvements in 2-year loco-regional and at any site progression free surviv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3399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Tahoma"/>
              </a:rPr>
              <a:t>A meta-analysis of </a:t>
            </a:r>
            <a:r>
              <a:rPr b="1" lang="en-GB" sz="2400" spc="-1" strike="noStrike">
                <a:solidFill>
                  <a:srgbClr val="003399"/>
                </a:solidFill>
                <a:latin typeface="Tahoma"/>
              </a:rPr>
              <a:t>only three trials of concurrent vs sequential CT-RT</a:t>
            </a:r>
            <a:r>
              <a:rPr b="0" lang="en-GB" sz="2400" spc="-1" strike="noStrike">
                <a:solidFill>
                  <a:srgbClr val="003399"/>
                </a:solidFill>
                <a:latin typeface="Tahoma"/>
              </a:rPr>
              <a:t> including 711 patients shows a 14% reduction in risk of death at 2 years with concurrent treatment (RR 0.86; 95% CI 0.78 to 0.95;  p = 0.003), but at the expense of tox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Tahoma"/>
              </a:rPr>
              <a:t>Completed trials comparing </a:t>
            </a:r>
            <a:br>
              <a:rPr sz="3200"/>
            </a:br>
            <a:r>
              <a:rPr b="1" lang="it-IT" sz="3200" spc="-1" strike="noStrike">
                <a:solidFill>
                  <a:srgbClr val="006666"/>
                </a:solidFill>
                <a:latin typeface="Tahoma"/>
              </a:rPr>
              <a:t>chemo-radiotherapy 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8000" y="1341360"/>
          <a:ext cx="8856720" cy="4638600"/>
        </p:xfrm>
        <a:graphic>
          <a:graphicData uri="http://schemas.openxmlformats.org/drawingml/2006/table">
            <a:tbl>
              <a:tblPr/>
              <a:tblGrid>
                <a:gridCol w="2160360"/>
                <a:gridCol w="574920"/>
                <a:gridCol w="2233440"/>
                <a:gridCol w="1224000"/>
                <a:gridCol w="719280"/>
                <a:gridCol w="1052280"/>
                <a:gridCol w="892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ri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ts.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T cycles and RT dose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chedu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urviv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-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uruse (Japa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2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VP x 2 – 56 Gy – MVP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VP x 2 – 56 Gy/MVP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quenti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curr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3.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.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 (5 yr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.0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urran (RTOG 94-10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1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Vi x 2 – 60 G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Vi x 2/60 G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 x 2/69.6 G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quenti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curr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c. B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4.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7.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.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2 (4 yr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.0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.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ournel (GLOT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1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Vi x 3 – 66 G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 x 2 – 66 Gy/PVi x 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quenti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curr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3.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.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5 (2 yr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.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onom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8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Cb x 2 – 63 G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Cb/63 Gy – TCb x 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quenti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curr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3.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.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1 (2 yr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S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Zatloukal (Czech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 </a:t>
                      </a:r>
                      <a:r>
                        <a:rPr b="0" lang="it-IT" sz="15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Vi x 4 – 60 G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 </a:t>
                      </a:r>
                      <a:r>
                        <a:rPr b="0" lang="it-IT" sz="15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Vi x 4/60 G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quenti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curr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2.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.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9 (3 yr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.0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66">
                        <a:alpha val="50000"/>
                      </a:srgbClr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u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0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Cb x 2 – 60 G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Cb x 2 – T/60 G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equenti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curr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4.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8.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R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S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9" name="Rectangle 79"/>
          <p:cNvSpPr/>
          <p:nvPr/>
        </p:nvSpPr>
        <p:spPr>
          <a:xfrm>
            <a:off x="0" y="662472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0"/>
          <p:cNvSpPr/>
          <p:nvPr/>
        </p:nvSpPr>
        <p:spPr>
          <a:xfrm>
            <a:off x="0" y="6480000"/>
            <a:ext cx="9144000" cy="14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1"/>
          <p:cNvSpPr/>
          <p:nvPr/>
        </p:nvSpPr>
        <p:spPr>
          <a:xfrm>
            <a:off x="144360" y="6165720"/>
            <a:ext cx="946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66"/>
                </a:solidFill>
                <a:latin typeface="Tahoma"/>
              </a:rPr>
              <a:t>MVP: mitomycin, vindesine, cisplatin; PVi: cisplatin, vinorelbine; PE: cisplatin, etoposide; TCb: paclitaxel, carboplati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LOGO"/>
          <p:cNvPicPr/>
          <p:nvPr/>
        </p:nvPicPr>
        <p:blipFill>
          <a:blip r:embed="rId1"/>
          <a:stretch/>
        </p:blipFill>
        <p:spPr>
          <a:xfrm>
            <a:off x="2050920" y="476280"/>
            <a:ext cx="5040360" cy="49845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6380280"/>
            <a:ext cx="914400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42840" y="142920"/>
            <a:ext cx="9101160" cy="61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00:48Z</dcterms:created>
  <dc:creator>mantovani</dc:creator>
  <dc:description/>
  <dc:language>en-US</dc:language>
  <cp:lastModifiedBy>TC</cp:lastModifiedBy>
  <dcterms:modified xsi:type="dcterms:W3CDTF">2007-11-13T07:05:50Z</dcterms:modified>
  <cp:revision>357</cp:revision>
  <dc:subject/>
  <dc:title>Diapositiva 1</dc:title>
</cp:coreProperties>
</file>