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590088" cy="6245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Line 2"/>
          <p:cNvSpPr/>
          <p:nvPr/>
        </p:nvSpPr>
        <p:spPr>
          <a:xfrm flipV="1">
            <a:off x="8991720" y="127080"/>
            <a:ext cx="0" cy="660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Line 3"/>
          <p:cNvSpPr/>
          <p:nvPr/>
        </p:nvSpPr>
        <p:spPr>
          <a:xfrm flipH="1">
            <a:off x="202680" y="6705720"/>
            <a:ext cx="88138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8153280" y="5519880"/>
            <a:ext cx="819360" cy="11858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8139240" y="6378480"/>
            <a:ext cx="91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.AQ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68580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1280" y="357120"/>
            <a:ext cx="8786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79280" y="476280"/>
            <a:ext cx="876312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ADRONTERAPY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Carbon Ion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Introduction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0" y="549360"/>
            <a:ext cx="88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 flipV="1">
            <a:off x="8991720" y="127080"/>
            <a:ext cx="0" cy="660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3"/>
          <p:cNvSpPr/>
          <p:nvPr/>
        </p:nvSpPr>
        <p:spPr>
          <a:xfrm flipH="1">
            <a:off x="202680" y="6705720"/>
            <a:ext cx="88138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8153280" y="5519880"/>
            <a:ext cx="819360" cy="1185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8139240" y="6378480"/>
            <a:ext cx="91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.AQ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68580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1280" y="357120"/>
            <a:ext cx="8786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0"/>
            <a:ext cx="8713800" cy="173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RONTERAPY- CARBON 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A lot of rational arguments in fav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Not a clear evidence of clinica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uperiority despite high number of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reated pati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Doubts in cost-effectivenes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1628640"/>
            <a:ext cx="4753080" cy="1440000"/>
          </a:xfrm>
          <a:prstGeom prst="rect">
            <a:avLst/>
          </a:prstGeom>
          <a:solidFill>
            <a:srgbClr val="f2e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ose Distrib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High RBE = 3 vs 1,2 of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tons and Phot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1122120" y="1765080"/>
            <a:ext cx="1295640" cy="102240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588960 h 1022400"/>
              <a:gd name="textAreaBottom" fmla="*/ 87588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57240">
            <a:solidFill>
              <a:srgbClr val="ef03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30T13:57:10Z</dcterms:created>
  <dc:creator>Cattedra di Radiologia - Centro RM</dc:creator>
  <dc:description/>
  <dc:language>en-US</dc:language>
  <cp:lastModifiedBy>TC</cp:lastModifiedBy>
  <cp:lastPrinted>1998-11-26T17:52:58Z</cp:lastPrinted>
  <dcterms:modified xsi:type="dcterms:W3CDTF">2007-11-11T12:41:03Z</dcterms:modified>
  <cp:revision>567</cp:revision>
  <dc:subject/>
  <dc:title>...</dc:title>
</cp:coreProperties>
</file>