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9590088" cy="6245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Line 2"/>
          <p:cNvSpPr/>
          <p:nvPr/>
        </p:nvSpPr>
        <p:spPr>
          <a:xfrm flipV="1">
            <a:off x="8991720" y="127080"/>
            <a:ext cx="0" cy="66038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Line 3"/>
          <p:cNvSpPr/>
          <p:nvPr/>
        </p:nvSpPr>
        <p:spPr>
          <a:xfrm flipH="1">
            <a:off x="202680" y="6705720"/>
            <a:ext cx="881388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1"/>
          <a:stretch/>
        </p:blipFill>
        <p:spPr>
          <a:xfrm>
            <a:off x="8153280" y="5519880"/>
            <a:ext cx="819360" cy="118584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5"/>
          <p:cNvSpPr/>
          <p:nvPr/>
        </p:nvSpPr>
        <p:spPr>
          <a:xfrm>
            <a:off x="8139240" y="6378480"/>
            <a:ext cx="911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UN.AQ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0" y="685800"/>
            <a:ext cx="10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71280" y="357120"/>
            <a:ext cx="8786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 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179280" y="476280"/>
            <a:ext cx="8763120" cy="48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Times New Roman"/>
              </a:rPr>
              <a:t>ADRONTERAPY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Times New Roman"/>
              </a:rPr>
              <a:t>Carbon Ions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8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0" y="549360"/>
            <a:ext cx="8893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18ffd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2"/>
          <p:cNvSpPr/>
          <p:nvPr/>
        </p:nvSpPr>
        <p:spPr>
          <a:xfrm flipV="1">
            <a:off x="8991720" y="127080"/>
            <a:ext cx="0" cy="66038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3"/>
          <p:cNvSpPr/>
          <p:nvPr/>
        </p:nvSpPr>
        <p:spPr>
          <a:xfrm flipH="1">
            <a:off x="202680" y="6705720"/>
            <a:ext cx="881388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8153280" y="5519880"/>
            <a:ext cx="819360" cy="1185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8139240" y="6378480"/>
            <a:ext cx="911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UN.AQ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0" y="685800"/>
            <a:ext cx="10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71280" y="357120"/>
            <a:ext cx="8786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 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79280" y="0"/>
            <a:ext cx="8713800" cy="18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RONTERAPY-CARBON 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Best balanced particle beam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availab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Favorable for clinical ap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Results of clinical trials no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conclusive (except for ocular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melanoma, base of skull cordhom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and adenoid cystic carcinoma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Cost-effectiveness not clea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  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2"/>
          <p:cNvSpPr/>
          <p:nvPr/>
        </p:nvSpPr>
        <p:spPr>
          <a:xfrm flipV="1">
            <a:off x="8991720" y="127080"/>
            <a:ext cx="0" cy="66038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3"/>
          <p:cNvSpPr/>
          <p:nvPr/>
        </p:nvSpPr>
        <p:spPr>
          <a:xfrm flipH="1">
            <a:off x="202680" y="6705720"/>
            <a:ext cx="881388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8153280" y="5519880"/>
            <a:ext cx="819360" cy="1185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8139240" y="6378480"/>
            <a:ext cx="911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UN.AQ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0" y="685800"/>
            <a:ext cx="10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1280" y="357120"/>
            <a:ext cx="8786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 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179280" y="0"/>
            <a:ext cx="8713800" cy="19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RONTERAPY-CARBON 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HOWEVER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buClr>
                <a:srgbClr val="00ff00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buClr>
                <a:srgbClr val="00ff00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Oncologists accept,  in clinical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care, very expansive cancer dr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with minimal or not clear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improvement  of clinical resul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WHY DO NOT THE RADIOTHERAPIST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  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50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30T13:57:10Z</dcterms:created>
  <dc:creator>Cattedra di Radiologia - Centro RM</dc:creator>
  <dc:description/>
  <dc:language>en-US</dc:language>
  <cp:lastModifiedBy>TC</cp:lastModifiedBy>
  <cp:lastPrinted>1998-11-26T17:52:58Z</cp:lastPrinted>
  <dcterms:modified xsi:type="dcterms:W3CDTF">2007-11-11T12:41:30Z</dcterms:modified>
  <cp:revision>565</cp:revision>
  <dc:subject/>
  <dc:title>...</dc:title>
</cp:coreProperties>
</file>