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3EB8-96C2-44FF-9485-53C72D3066C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ta per il mio intervento: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9D5-CC0B-42B5-B89D-7E330FA8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913-0E39-4975-8D3E-A18427D6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59A-D00F-4325-86CA-42257ACF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3BB-498D-4F9E-8AF8-FDEB6D07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863-4D10-49FA-856A-3DB2DA8E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D09-3103-4B46-A392-872FA0F5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726-7021-4C92-8E9B-F5587523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4BD-A46E-480D-9A1D-F73AE740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4E5-3A54-4336-A95B-6584FB6A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44B-E4F3-4AF9-9579-95DAE1DD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8BD-97A3-4E9E-9389-461A92BD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483-BDA5-4B25-AD83-A181619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5ED4-4F2D-413D-9FE1-471D93FAE24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498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IMULTANEOUS CONCOMITANT BOOST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NICAL APPLICATIONS AND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IDENCE BASED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962520"/>
            <a:ext cx="741672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essio G. Morganti MD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1,2,3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; Luciana Caravatta MD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O Radioterapia (1), UO Terapie Palliative (2), UCSC Campob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tedra di Radioterapia (3), UCSC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morganti@rm.unicatt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740720" y="5373720"/>
            <a:ext cx="1206360" cy="121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395280" y="333360"/>
            <a:ext cx="52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89000"/>
            <a:ext cx="896472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XVII Congresso Nazionale AI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Firenze, novembre 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5229360"/>
            <a:ext cx="1728720" cy="14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clinic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Butler EB et al. IJROBP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0 pts with H&amp;N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B: </a:t>
            </a:r>
            <a:r>
              <a:rPr b="0" lang="it-IT" sz="3200" spc="-1" strike="noStrike">
                <a:solidFill>
                  <a:srgbClr val="006600"/>
                </a:solidFill>
                <a:latin typeface="Arial"/>
              </a:rPr>
              <a:t>60/2.4 Gy &amp; 50/2.0 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3200" spc="-1" strike="noStrike">
                <a:solidFill>
                  <a:srgbClr val="cc0000"/>
                </a:solidFill>
                <a:latin typeface="Arial"/>
              </a:rPr>
              <a:t>19/20 C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; 2 loc recur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4190760" cy="282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3400" y="5257800"/>
            <a:ext cx="1676520" cy="228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5791320"/>
            <a:ext cx="1676520" cy="228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clinic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Lee SW et al. IJRPBP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0 pts with nasopharingeal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B: GTV: </a:t>
            </a:r>
            <a:r>
              <a:rPr b="0" lang="it-IT" sz="3200" spc="-1" strike="noStrike">
                <a:solidFill>
                  <a:srgbClr val="006600"/>
                </a:solidFill>
                <a:latin typeface="Arial"/>
              </a:rPr>
              <a:t>72/2.4 Gy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; CTV: </a:t>
            </a:r>
            <a:r>
              <a:rPr b="0" lang="it-IT" sz="3200" spc="-1" strike="noStrike">
                <a:solidFill>
                  <a:srgbClr val="006600"/>
                </a:solidFill>
                <a:latin typeface="Arial"/>
              </a:rPr>
              <a:t>60/2.0 Gy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it-IT" sz="3200" spc="-1" strike="noStrike">
                <a:solidFill>
                  <a:srgbClr val="006600"/>
                </a:solidFill>
                <a:latin typeface="Arial"/>
              </a:rPr>
              <a:t>46/2 Gy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+/- CD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3581280" cy="2759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267080" y="4062240"/>
            <a:ext cx="4648320" cy="2143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772400" y="5486400"/>
            <a:ext cx="380880" cy="6094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 clinical studies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Schwarz M et al. Otol H&amp;N Sur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49 pts with advanced H&amp;N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B RT 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(GTV: 60/2.4 Gy; CTV: 50/2 Gy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+/- ch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ocal control (25 mts follow-up):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8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90920" y="4021200"/>
            <a:ext cx="3809880" cy="28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clinic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UCSC-CB, 2007 (IRMA-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MRT-SIB: </a:t>
            </a:r>
            <a:r>
              <a:rPr b="0" lang="it-IT" sz="2400" spc="-1" strike="noStrike">
                <a:solidFill>
                  <a:srgbClr val="006600"/>
                </a:solidFill>
                <a:latin typeface="Arial"/>
              </a:rPr>
              <a:t>67.5/2.25 Gy; 60/2.0 Gy; 55.5/1.85 Gy</a:t>
            </a:r>
            <a:r>
              <a:rPr b="0" lang="it-IT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79"/>
          <p:cNvGrpSpPr/>
          <p:nvPr/>
        </p:nvGrpSpPr>
        <p:grpSpPr>
          <a:xfrm>
            <a:off x="179280" y="3357720"/>
            <a:ext cx="5351400" cy="1811520"/>
            <a:chOff x="179280" y="3357720"/>
            <a:chExt cx="5351400" cy="1811520"/>
          </a:xfrm>
        </p:grpSpPr>
        <p:sp>
          <p:nvSpPr>
            <p:cNvPr id="91" name="Text Box 122"/>
            <p:cNvSpPr/>
            <p:nvPr/>
          </p:nvSpPr>
          <p:spPr>
            <a:xfrm>
              <a:off x="182520" y="3727800"/>
              <a:ext cx="5348160" cy="64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Level A:</a:t>
              </a:r>
              <a:r>
                <a:rPr b="1" lang="it-IT" sz="12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3 cours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CDDP: 100 mg/m</a:t>
              </a:r>
              <a:r>
                <a:rPr b="1" lang="en-GB" sz="1200" spc="-1" strike="noStrike" baseline="30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/day, day 1, every 21 days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5-FU: 1000 mg/m</a:t>
              </a:r>
              <a:r>
                <a:rPr b="1" lang="en-GB" sz="1200" spc="-1" strike="noStrike" baseline="30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/day, continuous infusion, days 1- 4, every 21 day</a:t>
              </a:r>
              <a:r>
                <a:rPr b="1" lang="it-IT" sz="12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78"/>
            <p:cNvGrpSpPr/>
            <p:nvPr/>
          </p:nvGrpSpPr>
          <p:grpSpPr>
            <a:xfrm>
              <a:off x="1908000" y="3357720"/>
              <a:ext cx="2087640" cy="298440"/>
              <a:chOff x="1908000" y="3357720"/>
              <a:chExt cx="2087640" cy="298440"/>
            </a:xfrm>
          </p:grpSpPr>
          <p:sp>
            <p:nvSpPr>
              <p:cNvPr id="93" name="Rectangle 124"/>
              <p:cNvSpPr/>
              <p:nvPr/>
            </p:nvSpPr>
            <p:spPr>
              <a:xfrm>
                <a:off x="1908000" y="3357720"/>
                <a:ext cx="2087640" cy="298440"/>
              </a:xfrm>
              <a:prstGeom prst="rect">
                <a:avLst/>
              </a:prstGeom>
              <a:noFill/>
              <a:ln w="792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25"/>
              <p:cNvSpPr/>
              <p:nvPr/>
            </p:nvSpPr>
            <p:spPr>
              <a:xfrm>
                <a:off x="2203200" y="3387960"/>
                <a:ext cx="140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CHEMOTERAP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127"/>
            <p:cNvSpPr/>
            <p:nvPr/>
          </p:nvSpPr>
          <p:spPr>
            <a:xfrm>
              <a:off x="179280" y="4345200"/>
              <a:ext cx="5348160" cy="824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Level B:</a:t>
              </a:r>
              <a:r>
                <a:rPr b="1" lang="it-IT" sz="12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3 cours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CDDP: 75 mg/m</a:t>
              </a:r>
              <a:r>
                <a:rPr b="1" lang="en-GB" sz="1200" spc="-1" strike="noStrike" baseline="30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/day, day 1, every 21 days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5-FU: 750 mg/m</a:t>
              </a:r>
              <a:r>
                <a:rPr b="1" lang="en-GB" sz="1200" spc="-1" strike="noStrike" baseline="30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/day, continuous infusion, days 1- 4, every 21 day;</a:t>
              </a:r>
              <a:r>
                <a:rPr b="1" lang="it-IT" sz="12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Docetaxel: 75 mg/m</a:t>
              </a:r>
              <a:r>
                <a:rPr b="1" lang="en-GB" sz="1200" spc="-1" strike="noStrike" baseline="30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/day, day 1, every 21 days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1"/>
          <a:srcRect l="11886" t="44767" r="35721" b="26267"/>
          <a:stretch/>
        </p:blipFill>
        <p:spPr>
          <a:xfrm>
            <a:off x="3851280" y="2859120"/>
            <a:ext cx="5113440" cy="3998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6130" t="0" r="0" b="211"/>
          <a:stretch/>
        </p:blipFill>
        <p:spPr>
          <a:xfrm>
            <a:off x="7451640" y="1197000"/>
            <a:ext cx="1584360" cy="116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 clinical studies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* Suzuki M et al. Jpn J Clin Oncol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6 pts with malignant gli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TV: 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70/2.5 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TV (edema): 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56/2.0 Gy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no delay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ue to acute 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clinical studies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UCSC - 2007 (RACE-CB-BT-1); ph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IMRT-SIB: postop GBM (concurrent Temoz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2565360"/>
          <a:ext cx="8497800" cy="4332240"/>
        </p:xfrm>
        <a:graphic>
          <a:graphicData uri="http://schemas.openxmlformats.org/drawingml/2006/table">
            <a:tbl>
              <a:tblPr/>
              <a:tblGrid>
                <a:gridCol w="1701720"/>
                <a:gridCol w="1698840"/>
                <a:gridCol w="1697040"/>
                <a:gridCol w="1698480"/>
                <a:gridCol w="170172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V1 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V2 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.0/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/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.5/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/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5.0/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/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.5/2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/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0.0/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/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clinic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UCSC - 2007 (RACE-CB-BM-1); ph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IMRT-SIB: Brain Mets (1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3192480"/>
          <a:ext cx="8218440" cy="3665520"/>
        </p:xfrm>
        <a:graphic>
          <a:graphicData uri="http://schemas.openxmlformats.org/drawingml/2006/table">
            <a:tbl>
              <a:tblPr/>
              <a:tblGrid>
                <a:gridCol w="1644480"/>
                <a:gridCol w="1644840"/>
                <a:gridCol w="1639800"/>
                <a:gridCol w="1644840"/>
                <a:gridCol w="164448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V1 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V2 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/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/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/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/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clinic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UCSC - 2007 (ISIDE-RM-CB-1); ph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IMRT-SIB: postoperative prostate carcin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3192480"/>
          <a:ext cx="8218440" cy="3665520"/>
        </p:xfrm>
        <a:graphic>
          <a:graphicData uri="http://schemas.openxmlformats.org/drawingml/2006/table">
            <a:tbl>
              <a:tblPr/>
              <a:tblGrid>
                <a:gridCol w="1644480"/>
                <a:gridCol w="1644840"/>
                <a:gridCol w="1639800"/>
                <a:gridCol w="1644840"/>
                <a:gridCol w="164448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V1 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V2 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.8/2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/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9.7/2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/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.7/2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/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.4/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/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cute toxi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te toxi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lity assu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557360"/>
          <a:ext cx="914400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BM and 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2303640"/>
            <a:ext cx="8458200" cy="292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6172200" cy="80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2438280"/>
            <a:ext cx="8534160" cy="287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Clinical experience with IMRT is rapidly growing … stimulated … by the operational and dosimetric characteristics of the method in comparison with traditional techniqu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A randomized trial comparing various delivery technologies is hardly justifiabl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BM and 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698920"/>
            <a:ext cx="8458200" cy="272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2438280"/>
            <a:ext cx="8534160" cy="415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We do not feel it will be possible to run head-to-head randomized trials of IMRT versus 3-dimensional conformal therapy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We see the development pathway for new technologies to begin with the validation of the principle by realistic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“dry-laboratory”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 calculation (including estimates of geometric uncertainties and organ motion) and initial phase I and phase II trials to set the parameters for the dose questions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materials and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12 june 2007: ME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arch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SMART [or] SIB and radiothera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82 abs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5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ot per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n theoret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27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dosimetric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H&amp;N tumor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culated = measured d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u 2003, Fogliata 2003, Salz 200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 beams number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gt; quality of dos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u 200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 irradiation of O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u 2000, Dogan 2003, Wu 2003, Chen 200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 biological potent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u 2000, Wu 200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dosimetrical studies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state carcinom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dose conformality (vs 3D &amp; seq. IMR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 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 dose to the O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s 2002, Li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biological pote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dosimetric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reast carcinom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homogeneous dose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h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target dose conform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errero 2004, Singla 2006, Hurksman 2006, van der Laan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 dose delivered to the ipsilateral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h 2001, Singla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dose to other OAR (heart, cord, contr. breast and 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h 2001, Singla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biological potentia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h 2001, Guerrero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dosimetrical studies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 irradiation of the O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ynaecological malignancies (Guerrero 2005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ng tumors (Dirkx 2004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eural space (Ahmed 20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ain metastases (Baumann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biological potenti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ofageal carcinoma (Fu 2003, Fu 200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ng tumors (Dirkx 200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clinic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refer to clinical feasibility (acute toxi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lerated SIB-RT: fea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H&amp;N tum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utler 1999, Lee 2006, Vosmik 2006, Schwartz 20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brain tum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uzuki 200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8:18:25Z</dcterms:created>
  <dc:creator>i</dc:creator>
  <dc:description/>
  <dc:language>en-US</dc:language>
  <cp:lastModifiedBy>TC</cp:lastModifiedBy>
  <dcterms:modified xsi:type="dcterms:W3CDTF">2007-11-11T14:22:48Z</dcterms:modified>
  <cp:revision>14</cp:revision>
  <dc:subject/>
  <dc:title>Diapositiva 1</dc:title>
</cp:coreProperties>
</file>