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DEC3-FF7A-4339-8EF8-3B4C6C40C6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&amp;S referenc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E30-901A-4AAA-8835-6769F2E4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58E-DD22-4B28-8669-1AD6F70C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B91-3F8F-4504-B087-86BAB9C3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CD0-B387-4325-A95E-96487C8C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B1B0-869E-4EE8-A06C-AE3A9532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6E67-EC1C-4003-8997-7961020F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9320-8243-4069-B972-1A1B6553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5984-F279-4EB7-8914-062733BD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42F-459F-4571-A3FA-9C0A0C65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8F9B-4E65-4BE2-8544-639C7E8B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91A7-68CB-421A-89DA-336EDF9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E09-6B27-4CAA-B39A-991BEF25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B18-9D18-4011-87A0-28A934F6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16B4-73F0-4973-B7AC-29A01283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5D93-8749-4D23-B1A0-A3D8545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CEB-7237-4E30-87A7-A8DB9502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221E-3B15-4213-A358-3CD3B915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858-1429-4697-9BE5-964502F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0CC-A46A-4F9F-A6F4-9E01B93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B42-4BB1-4DDA-9706-12A3D39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9AE-A92C-4EE8-85C8-45791499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37E-92E0-48E8-BBF0-82ABC863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73C-FCD1-4980-879E-CB9F01A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FB35-ECEE-4EFB-A111-169789D5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A6E-2A27-466D-BE2C-0A054393CB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85E6-1F3B-4966-A029-42955D5F8A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91520" cy="27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 Congresso Nazionale AIRO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- 13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Firenze, Palazzo degli Affari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r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2007  </a:t>
            </a:r>
            <a:endParaRPr b="0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MART e SIB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ratteristiche ed aspetti radiobiologici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ilippo grillo ruggi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C RADIOTERAP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spedali Gall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N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63244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filippo.grillo.ruggieri@galliera.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IMRT SIB – Sedi, Dosi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1066680"/>
            <a:ext cx="792468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d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. Pz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. F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Gy LR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y H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y GTV</a:t>
            </a: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 Encefal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32,25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3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0,8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0,5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8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6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5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5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6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0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32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8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ophagu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0,4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7,2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ctum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6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55,2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ng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5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6,6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R +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rvix+ N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5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57,5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 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3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0,4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59,4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 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5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stat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/39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0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8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state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2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75,6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94,5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.retrop. Pre-op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5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57,5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8,1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0,8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3,8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0,2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0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46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6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1,5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4,5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6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60,0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1,0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6,1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69,70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&amp;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54,00</a:t>
            </a: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72,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AIRO 2007 IMRT SIB – Sedi, Dosi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914400" y="1828800"/>
          <a:ext cx="729756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2975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B – Differenti frazionamenti contemporanei e rapporto alfa/beta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640" y="1676520"/>
            <a:ext cx="396720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mpo tota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 parità di dose, è importante nei tessuti a risposta rap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se per frazi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la dose totale sono più importanti nei tessuti a risposta l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800600" y="1413000"/>
            <a:ext cx="3798720" cy="5445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800600" y="6669000"/>
            <a:ext cx="3816360" cy="1890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848720" y="53341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220968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48720" y="335268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715000" y="4267080"/>
            <a:ext cx="457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45c984"/>
                </a:solidFill>
                <a:latin typeface="Arial"/>
              </a:rPr>
              <a:t>Biologically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E = n (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1" lang="it-IT" sz="4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trasformata i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E/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 = BED =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nd (1 + 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∕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c984"/>
                </a:solidFill>
                <a:latin typeface="Arial"/>
              </a:rPr>
              <a:t>Calcolo della BED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0580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BED</a:t>
            </a:r>
            <a:r>
              <a:rPr b="1" lang="it-IT" sz="4400" spc="-1" strike="noStrike" baseline="-25000">
                <a:solidFill>
                  <a:srgbClr val="ffffff"/>
                </a:solidFill>
                <a:latin typeface="Arial"/>
              </a:rPr>
              <a:t>tum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= nd [1 + 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∕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n = numero di frazio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d = dose per fr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 = 10 (6-3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Con l’eccezione per esempio del carcinoma della prostata e dei sarco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5c984"/>
                </a:solidFill>
                <a:latin typeface="Arial"/>
              </a:rPr>
              <a:t>BED for short treatmen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BED = nd [1 + d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∕ 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l-GR" sz="44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1" lang="it-IT" sz="4400" spc="-1" strike="noStrike">
                <a:solidFill>
                  <a:srgbClr val="00ffff"/>
                </a:solidFill>
                <a:latin typeface="Arial"/>
                <a:ea typeface="Arial"/>
              </a:rPr>
              <a:t>– KT</a:t>
            </a:r>
            <a:r>
              <a:rPr b="1" lang="it-IT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K = ln2 ∕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eff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 = tempo effettivo di raddoppiamento delle cellule clono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32720" y="2349360"/>
            <a:ext cx="151272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732720" y="2060280"/>
            <a:ext cx="151272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5c984"/>
                </a:solidFill>
                <a:latin typeface="Arial"/>
              </a:rPr>
              <a:t>Calcolo della BED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) 60 Gy, 30# (2 Gy), 6w (40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ED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tum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= 60 (1 + 2/10) = 72 Gy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ED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lat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= 60 (1 + 2/3) = 100 Gy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724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5c984"/>
                </a:solidFill>
                <a:latin typeface="Arial"/>
              </a:rPr>
              <a:t>BED – Limiti operativi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Presupp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 intervallo tra frazioni sufficiente per la riparazione del danno suble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 endpoint per l’isoeffetto non troppo dipendente dal t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  <a:ea typeface="Arial"/>
              </a:rPr>
              <a:t>Una simile durata del tempo di trattamento to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371600" y="1066680"/>
          <a:ext cx="6629400" cy="55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629400" cy="55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Sedi, Dosi, BED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228600" y="1066680"/>
          <a:ext cx="868680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iologic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209680" y="3429000"/>
            <a:ext cx="251460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chema della presentazion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azionale del SIB/SMA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biettivi radiobiolog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fronto tra trattamenti mediante la 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ose minima nel PTV della malattia subcli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umento della dose totale somministrata al GT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28600" y="1066680"/>
          <a:ext cx="868680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iologic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495288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514600" y="495288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8320" y="45720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40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228600" y="1066680"/>
          <a:ext cx="868680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iologic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600200" y="4648320"/>
            <a:ext cx="1371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71800" y="464832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50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5436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iologic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600200" y="4267080"/>
            <a:ext cx="1905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4267080"/>
            <a:ext cx="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60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228600" y="1066680"/>
          <a:ext cx="868680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iologic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600200" y="3962520"/>
            <a:ext cx="23623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62520" y="3962520"/>
            <a:ext cx="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2096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70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228600" y="1066680"/>
          <a:ext cx="868680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86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iologic Effective Dos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599840" y="358128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3581280"/>
            <a:ext cx="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86000" y="3200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80 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Low / Interm. BED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920" y="1066680"/>
          <a:ext cx="8610480" cy="55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61048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 flipH="1">
            <a:off x="2286000" y="3276720"/>
            <a:ext cx="27432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Interm. / High BED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1143000"/>
          <a:ext cx="853416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3416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 flipH="1">
            <a:off x="2209680" y="3276720"/>
            <a:ext cx="281952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BED a alpha/beta nel carcinoma prostatico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914400" y="2133720"/>
          <a:ext cx="7443720" cy="41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43720" cy="41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 flipV="1">
            <a:off x="2666880" y="3428640"/>
            <a:ext cx="2210040" cy="1676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380880" y="1219320"/>
          <a:ext cx="8458200" cy="544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4582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B – H &amp; N BED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361960" y="3200400"/>
            <a:ext cx="289548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Considerazione Radiobiologica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ttenzione a non ridurre “troppo” la dose per frazione giornaliera nel PTV del volume a “Basso Rischio, p.es. rete linfatica non macro/microscopicamente impegnat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sappiamo ancora con certezza, anche aumentando la dose totale, se il controllo locale equivale a quello delle dosi totali usuali a 2 Gy per frazi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00"/>
                </a:solidFill>
                <a:latin typeface="Arial"/>
              </a:rPr>
              <a:t>Durata del trattamento rispetto all’insorgenza della proliferazione delle cellule clonogen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44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Br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Inter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Lun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203640" y="2637000"/>
            <a:ext cx="5761080" cy="3705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64000" y="3645000"/>
            <a:ext cx="122400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ose d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mpens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l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oliferazi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4941720"/>
            <a:ext cx="43344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734080"/>
            <a:ext cx="410364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99"/>
                </a:solidFill>
                <a:latin typeface="Arial"/>
              </a:rPr>
              <a:t>SRS/SRT- SIB - Iperfrazionam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781360"/>
            <a:ext cx="2427480" cy="71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Tessuti a risposta rap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</a:rPr>
              <a:t>/ cellule clonoge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781360"/>
            <a:ext cx="1295280" cy="718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essu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 rispost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en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5157720"/>
            <a:ext cx="108108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5373720"/>
            <a:ext cx="2017800" cy="214200"/>
          </a:xfrm>
          <a:prstGeom prst="rect">
            <a:avLst/>
          </a:prstGeom>
          <a:solidFill>
            <a:srgbClr val="ff33cc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Considerazione Radiobiologica/Tecnica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e alte dosi biologiche al “PTV del T” nel SIB devono associarsi ad una elevata sicurezza nella distribuzione di dose e nella tecnica di irradiazione (immobilizzazione, IG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erronea somministrazione di tali dosi a tessuti a risposta lenta, a basso rapporto alfa/beta,  comporta un rischio di danno aumentato rispetto alle tecniche più tradizio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IL DOGMA DELL’UNIFORMITA’ DI DOSE AL PTV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L’ idea della “Equivalent Uniform Dose” di Niemierko: </a:t>
            </a:r>
            <a:br>
              <a:rPr sz="4000"/>
            </a:br>
            <a:r>
              <a:rPr b="0" lang="en-US" sz="4000" spc="-1" strike="noStrike">
                <a:solidFill>
                  <a:srgbClr val="ec3632"/>
                </a:solidFill>
                <a:latin typeface="Arial"/>
              </a:rPr>
              <a:t>Qual’è quella dose distribuita uniformemente che darebbe </a:t>
            </a:r>
            <a:br>
              <a:rPr sz="4000"/>
            </a:br>
            <a:r>
              <a:rPr b="0" lang="en-US" sz="4000" spc="-1" strike="noStrike">
                <a:solidFill>
                  <a:srgbClr val="ec3632"/>
                </a:solidFill>
                <a:latin typeface="Arial"/>
              </a:rPr>
              <a:t>lo stesso effetto biologico della reale (disomogenea, n.d.r.) distribuzione di dose ? 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La Generalized Equivalent Uniform Dose è in sostanza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una  media della dose 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pesata esponenzialment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905120" y="3505320"/>
          <a:ext cx="5503680" cy="31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505320"/>
                    <a:ext cx="55036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/>
          <p:nvPr/>
        </p:nvSpPr>
        <p:spPr>
          <a:xfrm>
            <a:off x="16765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Generalized 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Equivalent Uniform Dose: interpretazion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alori elevati di “a” sono pertinenti a tessuti seri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alori negativi di “a” sono pertinenti a tessuti tumor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iccoli valori di “a” (vicini a 1) sono pertinenti a tessuti parall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Boost parziale al volume tumoral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ostante sia difficile predire la TCP sappiamo che una dose maggiore implica un maggiore spopolamento di cellule tumorali e quindi un possibile maggior controllo local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 è indispensabile che la distribuzione di dose sia uniforme (Vedi SRS e FS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l planning IMRT la distribuzione di dose viene spesso resa uniforme per adeguarsi a precedenti esperienze non-IM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istribuzione di dose è sempre condizionata dai tessuti sani circosta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anto … perchè non aggiungere più dose al centro del bersaglio nell’ambito di un boost parziale del tumore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Non uniformità di dose al tumore meno importante della dose minima al PTV o della dose agli organi critici</a:t>
            </a:r>
            <a:br>
              <a:rPr sz="4000"/>
            </a:br>
            <a:endParaRPr b="0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“punti freddi” andrebbero sempre evitati se permesso dai limiti di dose dei tessuti s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“punti caldi” non sono sempre “negativi” in quanto contribuiscono alla probabilità di cell ki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L’eliminazione dei punti caldi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ha un costo in termini di efficienza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 problemi di ottimizzazione della IMRT diventano più diffic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alvolta aumentano le dosi alle strutture critiche circosta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ndi è probabilisticamente vantaggioso sfruttare la IMRT per praticare boost parzia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l caso del SIB e di SMART vi è il vantaggio ulteriore dell’aumentata Biological Effective Do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Vantaggi del SIB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acilitazione della pianificazione nella ricerca della distribuzione di dose integr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ssibile maggior risparmio delle strutture normali adiacen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requente minor durata del tempo totale di trattamento con possibile miglior controllo lo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igliore efficienza e sicurezza: lo stesso piano utilizzato ogni giorno per tutto il tratt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ISTRUZIONI PER L’USO”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neggiare la SMART/SIB con la stessa attenzione dovuta ad un trattamento speriment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9520" y="228564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(Sequential)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Boos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981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133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2860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438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590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895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3048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32004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33526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5053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38098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9625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41148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267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29000" y="4419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4724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4876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50292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5181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5334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5638680"/>
            <a:ext cx="2286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91320"/>
            <a:ext cx="2286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943600"/>
            <a:ext cx="2286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6095880"/>
            <a:ext cx="228600" cy="457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14800" y="1980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Concomitant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Boos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981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2133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2860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2438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590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2895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3048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32004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33526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5053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38098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71800" y="39625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1148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4267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724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876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0292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5181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5334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8954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38098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7242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19810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057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3" idx="1"/>
            <a:endCxn id="234" idx="0"/>
          </p:cNvCxnSpPr>
          <p:nvPr/>
        </p:nvCxnSpPr>
        <p:spPr>
          <a:xfrm rot="10800000">
            <a:off x="1218600" y="2056680"/>
            <a:ext cx="1600920" cy="388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6" name=""/>
          <p:cNvCxnSpPr/>
          <p:nvPr/>
        </p:nvCxnSpPr>
        <p:spPr>
          <a:xfrm rot="10800000">
            <a:off x="2133000" y="2971080"/>
            <a:ext cx="1600920" cy="388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7" name=""/>
          <p:cNvCxnSpPr/>
          <p:nvPr/>
        </p:nvCxnSpPr>
        <p:spPr>
          <a:xfrm rot="10800000">
            <a:off x="3047400" y="3885480"/>
            <a:ext cx="1600920" cy="388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8" name=""/>
          <p:cNvCxnSpPr/>
          <p:nvPr/>
        </p:nvCxnSpPr>
        <p:spPr>
          <a:xfrm rot="10800000">
            <a:off x="3961800" y="4799880"/>
            <a:ext cx="1600920" cy="3888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2971800" y="21337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22860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4382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29000" y="25909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0481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38480" y="32004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91120" y="33526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35053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39625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41148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42670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4197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48769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50292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51814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53341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1600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&gt; 6 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86200" y="2133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Concomitant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“simultaneous”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Boos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981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2895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28954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47242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19810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057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1337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22860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76520" y="24382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25909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133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22860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2438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2590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3048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809880"/>
            <a:ext cx="22860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0481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32004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3526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9625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41148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42670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44197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14800" y="48769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502920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518148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53341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32004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33526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14600" y="35053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38098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39625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41148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267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29000" y="4419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724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876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38480" y="50292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5181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5334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76360" y="25142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Simultaneous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Integrated 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Boost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(IMRT) SIB</a:t>
            </a:r>
            <a:br>
              <a:rPr sz="4400"/>
            </a:b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1981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2895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2057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2133720"/>
            <a:ext cx="228600" cy="228600"/>
          </a:xfrm>
          <a:prstGeom prst="rect">
            <a:avLst/>
          </a:prstGeom>
          <a:solidFill>
            <a:srgbClr val="ff3300">
              <a:alpha val="5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2133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22860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438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2590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048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32004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62320" y="33526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14600" y="35053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8098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971800" y="39625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1148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76720" y="42670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4197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47242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48769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502920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91120" y="518148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5334120"/>
            <a:ext cx="228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029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53341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51814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00200" y="25909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2438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133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86200" y="48769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47242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9520" y="38098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71800" y="39625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41148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42670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44197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8954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7400" y="30481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32004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335268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0532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Concomitant Boost cfr. Simultaneous Integrated Boost:</a:t>
            </a:r>
            <a:br>
              <a:rPr sz="4400"/>
            </a:b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Profili di Dose 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4952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586728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200400" y="4952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295280" y="4266720"/>
            <a:ext cx="457200" cy="68580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4267080"/>
            <a:ext cx="6098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4267080"/>
            <a:ext cx="838080" cy="68580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0" y="4952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477120" y="4952880"/>
            <a:ext cx="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267080"/>
            <a:ext cx="609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4952880"/>
            <a:ext cx="45720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029200" y="426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426708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38680" y="4952880"/>
            <a:ext cx="83844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914400" y="31240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42670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42670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4952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49528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31240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D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ncomitant Boost (3DC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5942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multaneous Integrated Boost (IMR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2438280"/>
            <a:ext cx="33530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aggiore Dose al Volume Trattato “low risk” dalle porte di ingresso del bo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umento del rischio di dan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6520" y="2286000"/>
            <a:ext cx="3429000" cy="1523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819520" y="3809880"/>
            <a:ext cx="380880" cy="838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71600" y="4343400"/>
            <a:ext cx="1752480" cy="1523880"/>
          </a:xfrm>
          <a:custGeom>
            <a:avLst/>
            <a:gdLst/>
            <a:ahLst/>
            <a:rect l="l" t="t" r="r" b="b"/>
            <a:pathLst>
              <a:path w="1103" h="984">
                <a:moveTo>
                  <a:pt x="0" y="977"/>
                </a:moveTo>
                <a:cubicBezTo>
                  <a:pt x="2" y="863"/>
                  <a:pt x="3" y="748"/>
                  <a:pt x="7" y="634"/>
                </a:cubicBezTo>
                <a:cubicBezTo>
                  <a:pt x="8" y="602"/>
                  <a:pt x="11" y="571"/>
                  <a:pt x="15" y="539"/>
                </a:cubicBezTo>
                <a:cubicBezTo>
                  <a:pt x="32" y="394"/>
                  <a:pt x="140" y="421"/>
                  <a:pt x="262" y="415"/>
                </a:cubicBezTo>
                <a:cubicBezTo>
                  <a:pt x="290" y="375"/>
                  <a:pt x="286" y="353"/>
                  <a:pt x="292" y="299"/>
                </a:cubicBezTo>
                <a:cubicBezTo>
                  <a:pt x="294" y="243"/>
                  <a:pt x="295" y="187"/>
                  <a:pt x="299" y="131"/>
                </a:cubicBezTo>
                <a:cubicBezTo>
                  <a:pt x="300" y="123"/>
                  <a:pt x="304" y="117"/>
                  <a:pt x="306" y="109"/>
                </a:cubicBezTo>
                <a:cubicBezTo>
                  <a:pt x="307" y="104"/>
                  <a:pt x="312" y="55"/>
                  <a:pt x="321" y="44"/>
                </a:cubicBezTo>
                <a:cubicBezTo>
                  <a:pt x="339" y="21"/>
                  <a:pt x="375" y="23"/>
                  <a:pt x="401" y="14"/>
                </a:cubicBezTo>
                <a:cubicBezTo>
                  <a:pt x="430" y="17"/>
                  <a:pt x="459" y="26"/>
                  <a:pt x="488" y="22"/>
                </a:cubicBezTo>
                <a:cubicBezTo>
                  <a:pt x="496" y="21"/>
                  <a:pt x="488" y="0"/>
                  <a:pt x="496" y="0"/>
                </a:cubicBezTo>
                <a:cubicBezTo>
                  <a:pt x="504" y="0"/>
                  <a:pt x="501" y="15"/>
                  <a:pt x="503" y="22"/>
                </a:cubicBezTo>
                <a:cubicBezTo>
                  <a:pt x="511" y="85"/>
                  <a:pt x="517" y="76"/>
                  <a:pt x="532" y="124"/>
                </a:cubicBezTo>
                <a:cubicBezTo>
                  <a:pt x="534" y="148"/>
                  <a:pt x="539" y="173"/>
                  <a:pt x="539" y="197"/>
                </a:cubicBezTo>
                <a:cubicBezTo>
                  <a:pt x="539" y="272"/>
                  <a:pt x="532" y="348"/>
                  <a:pt x="532" y="423"/>
                </a:cubicBezTo>
                <a:cubicBezTo>
                  <a:pt x="532" y="530"/>
                  <a:pt x="766" y="480"/>
                  <a:pt x="802" y="481"/>
                </a:cubicBezTo>
                <a:cubicBezTo>
                  <a:pt x="881" y="431"/>
                  <a:pt x="966" y="468"/>
                  <a:pt x="1043" y="496"/>
                </a:cubicBezTo>
                <a:cubicBezTo>
                  <a:pt x="1058" y="541"/>
                  <a:pt x="1100" y="628"/>
                  <a:pt x="1101" y="671"/>
                </a:cubicBezTo>
                <a:cubicBezTo>
                  <a:pt x="1103" y="775"/>
                  <a:pt x="1101" y="880"/>
                  <a:pt x="1101" y="9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4343400"/>
            <a:ext cx="1752480" cy="1523880"/>
          </a:xfrm>
          <a:custGeom>
            <a:avLst/>
            <a:gdLst/>
            <a:ahLst/>
            <a:rect l="l" t="t" r="r" b="b"/>
            <a:pathLst>
              <a:path w="1103" h="984">
                <a:moveTo>
                  <a:pt x="0" y="977"/>
                </a:moveTo>
                <a:cubicBezTo>
                  <a:pt x="2" y="863"/>
                  <a:pt x="3" y="748"/>
                  <a:pt x="7" y="634"/>
                </a:cubicBezTo>
                <a:cubicBezTo>
                  <a:pt x="8" y="602"/>
                  <a:pt x="11" y="571"/>
                  <a:pt x="15" y="539"/>
                </a:cubicBezTo>
                <a:cubicBezTo>
                  <a:pt x="32" y="394"/>
                  <a:pt x="140" y="421"/>
                  <a:pt x="262" y="415"/>
                </a:cubicBezTo>
                <a:cubicBezTo>
                  <a:pt x="290" y="375"/>
                  <a:pt x="286" y="353"/>
                  <a:pt x="292" y="299"/>
                </a:cubicBezTo>
                <a:cubicBezTo>
                  <a:pt x="294" y="243"/>
                  <a:pt x="295" y="187"/>
                  <a:pt x="299" y="131"/>
                </a:cubicBezTo>
                <a:cubicBezTo>
                  <a:pt x="300" y="123"/>
                  <a:pt x="304" y="117"/>
                  <a:pt x="306" y="109"/>
                </a:cubicBezTo>
                <a:cubicBezTo>
                  <a:pt x="307" y="104"/>
                  <a:pt x="312" y="55"/>
                  <a:pt x="321" y="44"/>
                </a:cubicBezTo>
                <a:cubicBezTo>
                  <a:pt x="339" y="21"/>
                  <a:pt x="375" y="23"/>
                  <a:pt x="401" y="14"/>
                </a:cubicBezTo>
                <a:cubicBezTo>
                  <a:pt x="430" y="17"/>
                  <a:pt x="459" y="26"/>
                  <a:pt x="488" y="22"/>
                </a:cubicBezTo>
                <a:cubicBezTo>
                  <a:pt x="496" y="21"/>
                  <a:pt x="488" y="0"/>
                  <a:pt x="496" y="0"/>
                </a:cubicBezTo>
                <a:cubicBezTo>
                  <a:pt x="504" y="0"/>
                  <a:pt x="501" y="15"/>
                  <a:pt x="503" y="22"/>
                </a:cubicBezTo>
                <a:cubicBezTo>
                  <a:pt x="511" y="85"/>
                  <a:pt x="517" y="76"/>
                  <a:pt x="532" y="124"/>
                </a:cubicBezTo>
                <a:cubicBezTo>
                  <a:pt x="534" y="148"/>
                  <a:pt x="539" y="173"/>
                  <a:pt x="539" y="197"/>
                </a:cubicBezTo>
                <a:cubicBezTo>
                  <a:pt x="539" y="272"/>
                  <a:pt x="532" y="348"/>
                  <a:pt x="532" y="423"/>
                </a:cubicBezTo>
                <a:cubicBezTo>
                  <a:pt x="532" y="530"/>
                  <a:pt x="766" y="480"/>
                  <a:pt x="802" y="481"/>
                </a:cubicBezTo>
                <a:cubicBezTo>
                  <a:pt x="881" y="431"/>
                  <a:pt x="966" y="468"/>
                  <a:pt x="1043" y="496"/>
                </a:cubicBezTo>
                <a:cubicBezTo>
                  <a:pt x="1058" y="541"/>
                  <a:pt x="1100" y="628"/>
                  <a:pt x="1101" y="671"/>
                </a:cubicBezTo>
                <a:cubicBezTo>
                  <a:pt x="1103" y="775"/>
                  <a:pt x="1101" y="880"/>
                  <a:pt x="1101" y="9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259092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24382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filo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schio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cid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29600" y="5943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Razionale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bbreviare i tempi di trattamento tota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ostituire trattamenti multifase con un singolo piano di cura “tutto in uno” e non somma di pia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fruttare pienamente la capacità della IMRT di conformare contemporaneamente sia le regioni ad alto dosaggio e a dosaggio intermedio/basso mentre si evitano i tessuti s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7:52:56Z</dcterms:created>
  <dc:creator>secret</dc:creator>
  <dc:description/>
  <dc:language>en-US</dc:language>
  <cp:lastModifiedBy>TC</cp:lastModifiedBy>
  <dcterms:modified xsi:type="dcterms:W3CDTF">2007-11-11T16:52:16Z</dcterms:modified>
  <cp:revision>75</cp:revision>
  <dc:subject/>
  <dc:title>RT Antalgica</dc:title>
</cp:coreProperties>
</file>