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C1D4-4077-4C72-A9FC-27F099CA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A24C-4AD7-4FD6-B319-7B1034B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835B-8C50-448A-9185-E9E15A95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1AD9-A85A-40CE-A6E1-08E24361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65DA-29C3-4485-8CA5-48285056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1258-BC74-4F5A-96AE-97B478E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DF3D-62EA-4A8F-BE4A-1AD49B22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F066-32D3-4C5A-9F7F-165D3D0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6C5F-5CA7-4C88-9FF1-B922F2BD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52C5-6D91-436B-A59B-9A1833E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110-6542-427A-AC3B-2CB860B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A2DC-C278-404D-8D37-50E8E084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7EC-3B99-43C4-9014-D4BC865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F5F5-418C-4B02-8DC8-34DB2209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838B-BE6A-4817-BE03-9A61B63C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1C0F-A4CF-4CF4-8930-393B5109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8844-545E-45F6-9EB3-2B124224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828E-1073-477D-A079-6D6382B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1B62-A920-47F7-B8BF-83BA91AD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7E1C-4D70-4540-8090-6FDA4FD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F8D5-3A3B-4A0E-9294-25EA8642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61A5-92D9-4638-B23D-9888413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24EB-D81E-4671-8CFE-A70EB49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FC5E-BB9F-4A47-A9D2-99C09323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EBA2-3FEC-4D37-821E-D42669CCD20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EE7-4F9C-414E-9F8E-F1B59DCC252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4419360"/>
            <a:ext cx="891540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9966"/>
                </a:solidFill>
                <a:latin typeface="Garamond"/>
              </a:rPr>
              <a:t>RADIO-CHEMIOTERAPIA NEL TUMORE DEL TESTA-COLLO  (H&amp;N)  AVANZATO </a:t>
            </a:r>
            <a:r>
              <a:rPr b="1" i="1" lang="it-IT" sz="3200" spc="-1" strike="noStrike">
                <a:solidFill>
                  <a:srgbClr val="339966"/>
                </a:solidFill>
                <a:latin typeface="Garamond"/>
              </a:rPr>
              <a:t>	</a:t>
            </a:r>
            <a:r>
              <a:rPr b="1" i="1" lang="it-IT" sz="3200" spc="-1" strike="noStrike">
                <a:solidFill>
                  <a:srgbClr val="339966"/>
                </a:solidFill>
                <a:latin typeface="Garamond"/>
              </a:rPr>
              <a:t>AD ALTO RISCHIO</a:t>
            </a:r>
            <a:br>
              <a:rPr sz="3200"/>
            </a:br>
            <a:r>
              <a:rPr b="1" i="1" lang="it-IT" sz="3200" spc="-1" strike="noStrike">
                <a:solidFill>
                  <a:srgbClr val="339966"/>
                </a:solidFill>
                <a:latin typeface="Garamond"/>
              </a:rPr>
              <a:t>fattibilità e tossicità acuta nella nostra esperienz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3657600" cy="37335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cc00"/>
                </a:solidFill>
                <a:latin typeface="Garamond"/>
              </a:rPr>
              <a:t>G. Lazzari,  AM Crastolla, A. Soloperto, MG Monis, G. Silva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cc00"/>
                </a:solidFill>
                <a:latin typeface="Garamond"/>
              </a:rPr>
              <a:t>S. C. Radioterapia Oncolog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Garamond"/>
              </a:rPr>
              <a:t>ASL TA/ 1 – </a:t>
            </a: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Garamond"/>
              </a:rPr>
              <a:t>Tara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5285" t="0" r="4707" b="14517"/>
          <a:stretch/>
        </p:blipFill>
        <p:spPr>
          <a:xfrm>
            <a:off x="4267080" y="304920"/>
            <a:ext cx="4876920" cy="37335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572000" y="3657600"/>
            <a:ext cx="4343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Garamond"/>
              </a:rPr>
              <a:t>Firenze , 10-13  Novembr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9966"/>
                </a:solidFill>
                <a:latin typeface="Garamond"/>
              </a:rPr>
              <a:t>Tossicità -  Cetuximab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914400"/>
          <a:ext cx="8229600" cy="580716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TOG /EC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 pz  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3 in corso + 1 stop + 2  off 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3 </a:t>
                      </a: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+ 3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4 </a:t>
                      </a: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2 afte , 1 emorragic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adioderm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erdita peso &gt; 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 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1 cachess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follicolite G3-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1 emorrragic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ltr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diarrea G3 </a:t>
                      </a: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+ 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ascesso polmon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ospedalizz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1 perforazione aa linguale, 1  cachessia</a:t>
                      </a: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ospensione  Ct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dopo caric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3-4 sett.)</a:t>
                      </a: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+ 1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stop  (rifiuto dopo 1 sett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durata R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(45-58 gg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ospensione  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( 3-7 gg) + 1 sto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La tossicità G4-G5 %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0" y="1523880"/>
          <a:ext cx="4365720" cy="4429080"/>
        </p:xfrm>
        <a:graphic>
          <a:graphicData uri="http://schemas.openxmlformats.org/drawingml/2006/table">
            <a:tbl>
              <a:tblPr/>
              <a:tblGrid>
                <a:gridCol w="1455840"/>
                <a:gridCol w="1455480"/>
                <a:gridCol w="1454400"/>
              </a:tblGrid>
              <a:tr h="71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TOG/ECO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G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G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DDP  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2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DDP 1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CDDP+F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(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50000">
                          <a:srgbClr val="ffffcc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7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50000">
                          <a:srgbClr val="ffffcc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6600"/>
                          </a:solidFill>
                          <a:latin typeface="Garamond"/>
                        </a:rPr>
                        <a:t>29% ?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50000">
                          <a:srgbClr val="ffffcc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107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6858000" y="4114800"/>
            <a:ext cx="20574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cc00"/>
                </a:solidFill>
                <a:latin typeface="Garamond"/>
              </a:rPr>
              <a:t>Exitus in 2 pz dopo 30 gg dalla fine della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197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9966"/>
                </a:solidFill>
                <a:latin typeface="Garamond"/>
              </a:rPr>
              <a:t>RT + Cetuximab: radiodermite a 24 G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2170080"/>
          <a:ext cx="5105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170080"/>
                    <a:ext cx="5105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05320" cy="86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Conclusioni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295280"/>
            <a:ext cx="8763120" cy="68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it-IT" sz="3200" spc="-1" strike="noStrike">
                <a:solidFill>
                  <a:srgbClr val="ffffcc"/>
                </a:solidFill>
                <a:latin typeface="Garamond"/>
              </a:rPr>
              <a:t>Tossicità  maggiore con CDDP+5F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Tossicità inattesa e precoce con il Cetuxim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           ……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quale lo schema migliore 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meno tossiche le schedule con CDDP  mono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celta della schedula in funzione di età, PS,    comorbidità e stato nutrizion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Garamond"/>
              </a:rPr>
              <a:t>Background R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219320"/>
            <a:ext cx="8763120" cy="69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Migliore controllo locale e sopravvivenza con radiochemioterapia concomita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Garamond"/>
              </a:rPr>
              <a:t>                                                     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Adelstein, Cancer 1990- Budach, JCO 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Le  metanalisi (3): impatto sulla OS  </a:t>
            </a:r>
            <a:r>
              <a:rPr b="1" lang="it-IT" sz="1800" spc="-1" strike="noStrike">
                <a:solidFill>
                  <a:srgbClr val="ffcc00"/>
                </a:solidFill>
                <a:latin typeface="Garamond"/>
              </a:rPr>
              <a:t>(a 5 aa dal 30% al 35%) 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migliore controllo locale e sopravvivenza specifica                       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                                                           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Pignon, Lancet 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Tossicità ( mucosite, ematologica) aumentata, spesso proibitiva in pazienti unfit         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Harari, Curr Probl Cancer 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Le associazioni testate: CDDP </a:t>
            </a: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± 5 Fu ; Cetuximab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          ……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quale lo schema migliore 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9966"/>
                </a:solidFill>
                <a:latin typeface="Garamond"/>
              </a:rPr>
              <a:t>Esperienza di Taranto: 42 pz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19320"/>
            <a:ext cx="8763120" cy="69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2002-2007: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36 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pz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 con tumore H&amp;N avanzato e ad alto rischio trattati con RCT esclusiva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E)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 /adiuvante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2007: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6 pz </a:t>
            </a:r>
            <a:r>
              <a:rPr b="1" i="1" lang="it-IT" sz="2000" spc="-1" strike="noStrike">
                <a:solidFill>
                  <a:srgbClr val="ffcc00"/>
                </a:solidFill>
                <a:latin typeface="Garamond"/>
              </a:rPr>
              <a:t>naive</a:t>
            </a:r>
            <a:r>
              <a:rPr b="1" lang="it-IT" sz="20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con Cetuximab + RT es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PS 0-1 ; istologia: ca. squamoso G2-G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distretti: tonsilla, lingua mobile e base, pavimento, orofaringe, ipofaringe, larin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E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: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27pz 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; età media 63 aa, stadio III-IV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non operabi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A: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15 pz </a:t>
            </a:r>
            <a:r>
              <a:rPr b="1" lang="it-IT" sz="2800" spc="-1" strike="noStrike">
                <a:solidFill>
                  <a:srgbClr val="ffffcc"/>
                </a:solidFill>
                <a:latin typeface="Garamond"/>
              </a:rPr>
              <a:t>; età media 57 aa ; fattori di rischio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 R1-R2, margini close,  &gt;2 N+, estensione extracapsulare, inf. perineurale e parti mol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selezione :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 età, stato nutrizionale alla diagnosi, comorbidità  </a:t>
            </a:r>
            <a:r>
              <a:rPr b="1" i="1" lang="it-IT" sz="1800" spc="-1" strike="noStrike">
                <a:solidFill>
                  <a:srgbClr val="ffcc00"/>
                </a:solidFill>
                <a:latin typeface="Garamond"/>
              </a:rPr>
              <a:t>(diabete, rene, cuore), 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 fattori di rischio (</a:t>
            </a:r>
            <a:r>
              <a:rPr b="1" i="1" lang="it-IT" sz="2000" spc="-1" strike="noStrike">
                <a:solidFill>
                  <a:srgbClr val="ffcc00"/>
                </a:solidFill>
                <a:latin typeface="Garamond"/>
              </a:rPr>
              <a:t>H&amp;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Metodi : chemioterapi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00200"/>
            <a:ext cx="8534520" cy="59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a)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 Cisplatino 30 mg/m</a:t>
            </a:r>
            <a:r>
              <a:rPr b="1" i="1" lang="it-IT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/se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b)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Cisplatino 100 mg/m</a:t>
            </a:r>
            <a:r>
              <a:rPr b="1" i="1" lang="it-IT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d 1-22-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c)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Cisplatino 20  mg/m</a:t>
            </a:r>
            <a:r>
              <a:rPr b="1" i="1" lang="it-IT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 d </a:t>
            </a:r>
            <a:r>
              <a:rPr b="1" i="1" lang="it-IT" sz="2800" spc="-1" strike="noStrike">
                <a:solidFill>
                  <a:srgbClr val="ffcc00"/>
                </a:solidFill>
                <a:latin typeface="Garamond"/>
              </a:rPr>
              <a:t>1</a:t>
            </a:r>
            <a:r>
              <a:rPr b="1" i="1" lang="it-IT" sz="2800" spc="-1" strike="noStrike">
                <a:solidFill>
                  <a:srgbClr val="ffffcc"/>
                </a:solidFill>
                <a:latin typeface="Garamond"/>
              </a:rPr>
              <a:t>-22-43 + 5 Fu 200 mg/m</a:t>
            </a:r>
            <a:r>
              <a:rPr b="1" i="1" lang="it-IT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bolo d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1-5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(pre RT)</a:t>
            </a:r>
            <a:r>
              <a:rPr b="1" i="1" lang="en-US" sz="1800" spc="-1" strike="noStrike">
                <a:solidFill>
                  <a:srgbClr val="ffffcc"/>
                </a:solidFill>
                <a:latin typeface="Garamond"/>
              </a:rPr>
              <a:t> ,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d 22-26,  43 -47 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(conc 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d)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Cetuximab  400 mg/m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(1 sett pre RT)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+250mg/m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Garamond"/>
              </a:rPr>
              <a:t>2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/sett       concomitante alla 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Posizionamento CVC  ±  P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Monitoraggio settimanale del peso , emocromo, funzionalità epatica e renale, prot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Metodi : radioterapi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8763120" cy="67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CTV: T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( lesione clinica o letto tumorale)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+ N 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(aree coinvolte o a risch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Tecnica 3D   - mista X-E off cord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(2002-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               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- mutiportale 8-10 campi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(2004- 20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Energie: X 6-10 MV; E-  9-15 M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Dose :  E - 70 /72 Gy 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concomitant boost a 40 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     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A  -  60/66 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OARs : midollo, parotidi, mandib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Immobilizazione con maschera termoplast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Garamond"/>
              </a:rPr>
              <a:t>Terapia di supporto: </a:t>
            </a:r>
            <a:r>
              <a:rPr b="1" i="1" lang="en-US" sz="1800" spc="-1" strike="noStrike">
                <a:solidFill>
                  <a:srgbClr val="ffcc00"/>
                </a:solidFill>
                <a:latin typeface="Garamond"/>
              </a:rPr>
              <a:t>nutrizionale enterale e parenterale , steroi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Pazienti  &amp;  Metod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42 p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E  27 p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 15 p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DDP 3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DDP 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DDP+5 F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50000">
                          <a:srgbClr val="ffffcc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9933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50000">
                          <a:srgbClr val="ffffcc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9933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50000">
                          <a:srgbClr val="ffffcc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Cetuxima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 </a:t>
                      </a:r>
                      <a:r>
                        <a:rPr b="1" i="1" lang="it-IT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T</a:t>
                      </a:r>
                      <a:r>
                        <a:rPr b="1" i="1" lang="en-US" sz="24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± amifos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70-72 G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40 Gy cb (4 pz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0-66 G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9966"/>
                </a:solidFill>
                <a:latin typeface="Garamond"/>
              </a:rPr>
              <a:t>Tossicità -  CDDP 30</a:t>
            </a:r>
            <a:r>
              <a:rPr b="1" lang="it-IT" sz="3200" spc="-1" strike="noStrike">
                <a:solidFill>
                  <a:srgbClr val="339966"/>
                </a:solidFill>
                <a:latin typeface="Garamond"/>
              </a:rPr>
              <a:t>mg/m</a:t>
            </a:r>
            <a:r>
              <a:rPr b="1" lang="it-IT" sz="3200" spc="-1" strike="noStrike" baseline="30000">
                <a:solidFill>
                  <a:srgbClr val="339966"/>
                </a:solidFill>
                <a:latin typeface="Garamond"/>
              </a:rPr>
              <a:t>2</a:t>
            </a:r>
            <a:r>
              <a:rPr b="1" lang="it-IT" sz="3200" spc="-1" strike="noStrike">
                <a:solidFill>
                  <a:srgbClr val="339966"/>
                </a:solidFill>
                <a:latin typeface="Garamond"/>
              </a:rPr>
              <a:t>/sett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143000"/>
          <a:ext cx="8229600" cy="5667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TOG/EC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E  13 p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 12 p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 G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   (45-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0 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 G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56-60)G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 (46 G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erdita peso &gt; 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iastrin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eucopenia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3 + febb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durata 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2 gg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 (28-8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5 gg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42-7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ospedalizz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1 febbre CVC ,  2 mucosit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2 diabete + 1 F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nterruzioni 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4-6 cicl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8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4-5 cicl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nterruzioni RT </a:t>
                      </a: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&gt; 45 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9-44 g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  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3-15 g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Tossicità -  CDDP 100</a:t>
            </a:r>
            <a:r>
              <a:rPr b="1" lang="en-US" sz="3200" spc="-1" strike="noStrike">
                <a:solidFill>
                  <a:srgbClr val="339966"/>
                </a:solidFill>
                <a:latin typeface="Garamond"/>
              </a:rPr>
              <a:t>mg/m</a:t>
            </a:r>
            <a:r>
              <a:rPr b="1" lang="en-US" sz="3200" spc="-1" strike="noStrike" baseline="30000">
                <a:solidFill>
                  <a:srgbClr val="339966"/>
                </a:solidFill>
                <a:latin typeface="Garamond"/>
              </a:rPr>
              <a:t>2 </a:t>
            </a:r>
            <a:r>
              <a:rPr b="1" lang="en-US" sz="3200" spc="-1" strike="noStrike">
                <a:solidFill>
                  <a:srgbClr val="339966"/>
                </a:solidFill>
                <a:latin typeface="Garamond"/>
              </a:rPr>
              <a:t>d 1-22-43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914400"/>
          <a:ext cx="8229600" cy="594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TOG/EC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E  3 p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 1 p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 G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 G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(54G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erdita peso &gt; 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iastrin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eucopenia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durata 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4 gg 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36-5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2 g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ospedalizz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nterruzioni 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 1 HVZ , 1 IRC, 1 pr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nterruzioni RT </a:t>
                      </a: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&gt; 45 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34-7)+ </a:t>
                      </a: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stop (18G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Garamond"/>
              </a:rPr>
              <a:t>Tossicità - CDDP +5 Fu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600200"/>
            <a:ext cx="87631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914400"/>
          <a:ext cx="8229600" cy="5896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TOG/EC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E  5 p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 2 p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 G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 (45G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ucosite G4-G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G4+2 G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erdita peso &gt; 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 </a:t>
                      </a: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1 cachess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iastrin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G2+1 G3+ 2 G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G3+ 1 G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eucopenia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G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G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durata 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4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gg  (34-6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4 gg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61-6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ospedalizz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 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mucosite e calo ponderal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nterruzioni 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 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2-3 cicl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 </a:t>
                      </a: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1-3 cicl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nterruzioni RT </a:t>
                      </a:r>
                      <a:r>
                        <a:rPr b="1" i="1" lang="en-US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&gt; 45 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 </a:t>
                      </a:r>
                      <a:r>
                        <a:rPr b="1" i="1" lang="it-IT" sz="1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( 3-20 gg; 2 stop 25 G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 (</a:t>
                      </a:r>
                      <a:r>
                        <a:rPr b="1" i="1" lang="it-IT" sz="1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 g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3:03:44Z</dcterms:created>
  <dc:creator>ONCUSER_2</dc:creator>
  <dc:description/>
  <dc:language>en-US</dc:language>
  <cp:lastModifiedBy>TC</cp:lastModifiedBy>
  <dcterms:modified xsi:type="dcterms:W3CDTF">2007-11-13T08:46:48Z</dcterms:modified>
  <cp:revision>183</cp:revision>
  <dc:subject/>
  <dc:title>Ruolo della radioterapia nel trattamento del Linfoma di Hodgkin dell’adulto</dc:title>
</cp:coreProperties>
</file>