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7.jpeg" ContentType="image/jpeg"/>
  <Override PartName="/ppt/media/image12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media/image13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10288588" cy="6858000"/>
  <p:notesSz cx="6872288" cy="10061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72400" cy="1006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8280" cy="2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95200" y="-360"/>
            <a:ext cx="2978280" cy="2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08040" y="722160"/>
            <a:ext cx="565776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5840" y="4815000"/>
            <a:ext cx="5042160" cy="1226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755280"/>
            <a:ext cx="2978280" cy="2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95200" y="9755280"/>
            <a:ext cx="2978280" cy="275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CA76438-1A1B-4D42-8F7C-5EC088C11052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608040" y="722160"/>
            <a:ext cx="5657760" cy="377208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5840" y="4808160"/>
            <a:ext cx="5042160" cy="995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sldImg"/>
          </p:nvPr>
        </p:nvSpPr>
        <p:spPr>
          <a:xfrm>
            <a:off x="608040" y="722160"/>
            <a:ext cx="5657760" cy="3772080"/>
          </a:xfrm>
          <a:prstGeom prst="rect">
            <a:avLst/>
          </a:prstGeom>
          <a:ln w="0">
            <a:noFill/>
          </a:ln>
        </p:spPr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915840" y="4808520"/>
            <a:ext cx="5042160" cy="19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BEDDB-C5C6-450A-B5B4-E26B5150D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B542E-F092-4837-A98A-ED1C0E20E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E8F38-F2E8-4F2C-8368-E641E24ED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2744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83760" y="198108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7112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2744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83760" y="4130640"/>
            <a:ext cx="2815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C9B66-99C8-4782-9620-DC140346A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D279-CAEA-44E0-88C9-A68E5EBB0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B0AF-87CC-419B-A7CE-DF4125FCB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38C25-7E5B-4D6D-9954-BA9440E0E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46AF-957F-433C-9322-E34090F19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71120" y="609120"/>
            <a:ext cx="874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836B3-84E2-4473-9DEB-08427BAB5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6166-70D0-49EF-BD7A-0CE350928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52040" y="413064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FCF9-CB76-443A-8993-88573E8E6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7112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52040" y="1981080"/>
            <a:ext cx="4267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71120" y="4130640"/>
            <a:ext cx="8744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B98-F68B-4EAD-8E04-59DF1046F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1120" y="60912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71120" y="1981080"/>
            <a:ext cx="8744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7112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14320" y="6248520"/>
            <a:ext cx="3257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372080" y="6248520"/>
            <a:ext cx="2143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2878B-AFF4-44FB-938D-911E0C1948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18960" y="199800"/>
            <a:ext cx="973944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UDIO DI FASE II CON CETUXIMAB SEGUITO DA 5FU, CETUXIMAB E RADIOTERAPIA PELVICA COME TRATTAMENTO NEO-ADIUVANTE DEL CARCINOMA RETTALE LOCALMENTE AVANZATO OPERABI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43080" y="2001600"/>
            <a:ext cx="994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G. Tolento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it-IT" sz="2000" spc="-1" strike="noStrike" u="sng" baseline="30000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P. Antogno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F.  Berto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A.M. Falch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P. Giacobazz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M. Parmiggia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S. Pratissol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S.Scicolone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. Vicar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F. Bertoli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C. De Alis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G. Lupp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S. Chiara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3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T. Scolaro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3276720"/>
            <a:ext cx="93582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.O. Radioterapia Oncologica, Azienda Ospedaliera Universi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liclinico di Mod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ipartimento Integrato di Oncologia ed Ematologia, Az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spedaliera Universitaria, Policlinico di Modena </a:t>
            </a:r>
            <a:br>
              <a:rPr sz="2000"/>
            </a:b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3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ruttura Complessa Oncologia Medica A, Istituto Tumori 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en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4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ruttura Complessa Radioterapia, Istituto Tumori di Gen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1015560" y="1413000"/>
            <a:ext cx="8736120" cy="403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 Biopsia della massa tumorale per 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confermare la diagnos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misurare l’espressione dei biomarcatori tumora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EGFR, TS, p53, MAP kinase, Ki 67,   p21: bcl-2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valutare il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rofilo cellulare immunologico delle cellule  tumorali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CD45RO, CD68, CD56 CD4+/CD25+, CD31, HLA-A, -B e –C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1480" y="506520"/>
            <a:ext cx="874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si dello St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247680" y="2349360"/>
            <a:ext cx="9578880" cy="422928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2766960" y="836640"/>
            <a:ext cx="5329440" cy="25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    </a:t>
            </a:r>
            <a:r>
              <a:rPr b="1" i="1" lang="en-US" sz="36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Schema del trattamen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 u="sng" baseline="30000">
                <a:solidFill>
                  <a:srgbClr val="ffff00"/>
                </a:solidFill>
                <a:uFillTx/>
                <a:latin typeface="Comic Sans MS"/>
                <a:ea typeface="Times New Roman"/>
              </a:rPr>
              <a:t>II  Biopsia della massa tumoral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>
            <a:off x="4927680" y="1828800"/>
            <a:ext cx="25200" cy="76212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50960" y="0"/>
            <a:ext cx="874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si dello St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772400" y="5638680"/>
            <a:ext cx="9144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830240" y="1197000"/>
            <a:ext cx="6840720" cy="4635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Intervento chirurgico</a:t>
            </a: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a effettuarsi  6-7 settimane dopo la fine del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attamento    chemioradioterapic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ivalutazione dei biomarcator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n Pazienti senza una risposta tumorale complet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876"/>
              </a:spcBef>
              <a:buClr>
                <a:srgbClr val="f08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Trattamento adiuvante</a:t>
            </a:r>
            <a:r>
              <a:rPr b="0" i="1" lang="it-IT" sz="2400" spc="-1" strike="noStrike">
                <a:solidFill>
                  <a:srgbClr val="f08f00"/>
                </a:solidFill>
                <a:latin typeface="Comic Sans MS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Cetuximab sett. + CHT ( protocollo De Gramont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280040" y="2997360"/>
            <a:ext cx="0" cy="57600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280040" y="4365720"/>
            <a:ext cx="0" cy="649080"/>
          </a:xfrm>
          <a:prstGeom prst="line">
            <a:avLst/>
          </a:prstGeom>
          <a:ln w="5724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34960" y="333360"/>
            <a:ext cx="874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Fasi dello St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82600" y="476280"/>
            <a:ext cx="827424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ISULTATI</a:t>
            </a:r>
            <a:br>
              <a:rPr sz="4000"/>
            </a:b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958680"/>
            <a:ext cx="525780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ossicità di Grado 1-2  e 3-4 secondo NCI CTC (versione2.0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304920" y="1371600"/>
            <a:ext cx="5104800" cy="5181480"/>
            <a:chOff x="304920" y="1371600"/>
            <a:chExt cx="5104800" cy="5181480"/>
          </a:xfrm>
        </p:grpSpPr>
        <p:grpSp>
          <p:nvGrpSpPr>
            <p:cNvPr id="116" name=""/>
            <p:cNvGrpSpPr/>
            <p:nvPr/>
          </p:nvGrpSpPr>
          <p:grpSpPr>
            <a:xfrm>
              <a:off x="311400" y="1373040"/>
              <a:ext cx="5090760" cy="5178240"/>
              <a:chOff x="311400" y="1373040"/>
              <a:chExt cx="5090760" cy="5178240"/>
            </a:xfrm>
          </p:grpSpPr>
          <p:grpSp>
            <p:nvGrpSpPr>
              <p:cNvPr id="117" name=""/>
              <p:cNvGrpSpPr/>
              <p:nvPr/>
            </p:nvGrpSpPr>
            <p:grpSpPr>
              <a:xfrm>
                <a:off x="311400" y="1373040"/>
                <a:ext cx="2225520" cy="212040"/>
                <a:chOff x="311400" y="1373040"/>
                <a:chExt cx="2225520" cy="21204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11400" y="1373040"/>
                  <a:ext cx="222552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11400" y="1373040"/>
                  <a:ext cx="222552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2537280" y="1373040"/>
                <a:ext cx="1026000" cy="212040"/>
                <a:chOff x="2537280" y="1373040"/>
                <a:chExt cx="1026000" cy="21204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2537280" y="1373040"/>
                  <a:ext cx="1026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G1-G2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2537280" y="1373040"/>
                  <a:ext cx="1026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3564000" y="1373040"/>
                <a:ext cx="910440" cy="212040"/>
                <a:chOff x="3564000" y="1373040"/>
                <a:chExt cx="910440" cy="21204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3564000" y="1373040"/>
                  <a:ext cx="91044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G3-G4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3564000" y="1373040"/>
                  <a:ext cx="910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4475160" y="1373040"/>
                <a:ext cx="927000" cy="212040"/>
                <a:chOff x="4475160" y="1373040"/>
                <a:chExt cx="927000" cy="21204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4475160" y="1373040"/>
                  <a:ext cx="927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TOT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4475160" y="1373040"/>
                  <a:ext cx="927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11400" y="1585080"/>
                <a:ext cx="2225520" cy="212040"/>
                <a:chOff x="311400" y="1585080"/>
                <a:chExt cx="2225520" cy="21204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11400" y="1585080"/>
                  <a:ext cx="222552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11400" y="1585080"/>
                  <a:ext cx="222552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2537280" y="1585080"/>
                <a:ext cx="1026000" cy="212040"/>
                <a:chOff x="2537280" y="1585080"/>
                <a:chExt cx="1026000" cy="2120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537280" y="1585080"/>
                  <a:ext cx="1026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537280" y="1585080"/>
                  <a:ext cx="1026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3564000" y="1585080"/>
                <a:ext cx="910440" cy="212040"/>
                <a:chOff x="3564000" y="1585080"/>
                <a:chExt cx="910440" cy="21204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3564000" y="1585080"/>
                  <a:ext cx="91044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564000" y="1585080"/>
                  <a:ext cx="910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4475160" y="1585080"/>
                <a:ext cx="927000" cy="212040"/>
                <a:chOff x="4475160" y="1585080"/>
                <a:chExt cx="927000" cy="21204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4475160" y="1585080"/>
                  <a:ext cx="927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4475160" y="1585080"/>
                  <a:ext cx="927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11400" y="1797480"/>
                <a:ext cx="2225520" cy="252720"/>
                <a:chOff x="311400" y="1797480"/>
                <a:chExt cx="2225520" cy="25272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11400" y="1797480"/>
                  <a:ext cx="222552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 </a:t>
                  </a: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Skin rash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11400" y="1797480"/>
                  <a:ext cx="222552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2537280" y="1797480"/>
                <a:ext cx="1026000" cy="252720"/>
                <a:chOff x="2537280" y="1797480"/>
                <a:chExt cx="1026000" cy="25272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2537280" y="1797480"/>
                  <a:ext cx="1026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8 (7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2537280" y="1797480"/>
                  <a:ext cx="1026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3564000" y="1797480"/>
                <a:ext cx="910440" cy="252720"/>
                <a:chOff x="3564000" y="1797480"/>
                <a:chExt cx="910440" cy="25272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3564000" y="1797480"/>
                  <a:ext cx="91044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 (7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564000" y="1797480"/>
                  <a:ext cx="91044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4475160" y="1797480"/>
                <a:ext cx="927000" cy="252720"/>
                <a:chOff x="4475160" y="1797480"/>
                <a:chExt cx="927000" cy="25272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4475160" y="1797480"/>
                  <a:ext cx="927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1 (77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4475160" y="1797480"/>
                  <a:ext cx="927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11400" y="2050560"/>
                <a:ext cx="2225520" cy="252720"/>
                <a:chOff x="311400" y="2050560"/>
                <a:chExt cx="2225520" cy="25272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11400" y="2050560"/>
                  <a:ext cx="222552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Hypersensitivity reaction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11400" y="2050560"/>
                  <a:ext cx="222552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2537280" y="2050560"/>
                <a:ext cx="1026000" cy="252720"/>
                <a:chOff x="2537280" y="2050560"/>
                <a:chExt cx="1026000" cy="2527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2537280" y="2050560"/>
                  <a:ext cx="1026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5 (13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2537280" y="2050560"/>
                  <a:ext cx="1026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564000" y="2050560"/>
                <a:ext cx="910440" cy="252720"/>
                <a:chOff x="3564000" y="2050560"/>
                <a:chExt cx="910440" cy="25272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564000" y="2050560"/>
                  <a:ext cx="91044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 (7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564000" y="2050560"/>
                  <a:ext cx="91044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475160" y="2050560"/>
                <a:ext cx="927000" cy="252720"/>
                <a:chOff x="4475160" y="2050560"/>
                <a:chExt cx="927000" cy="252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475160" y="2050560"/>
                  <a:ext cx="927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8 (20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75160" y="2050560"/>
                  <a:ext cx="927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11400" y="2303280"/>
                <a:ext cx="2225520" cy="212040"/>
                <a:chOff x="311400" y="2303280"/>
                <a:chExt cx="2225520" cy="21204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11400" y="2303280"/>
                  <a:ext cx="222552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11400" y="2303280"/>
                  <a:ext cx="222552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2537280" y="2303280"/>
                <a:ext cx="1026000" cy="212040"/>
                <a:chOff x="2537280" y="2303280"/>
                <a:chExt cx="1026000" cy="21204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2537280" y="2303280"/>
                  <a:ext cx="1026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37280" y="2303280"/>
                  <a:ext cx="1026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3564000" y="2303280"/>
                <a:ext cx="910440" cy="212040"/>
                <a:chOff x="3564000" y="2303280"/>
                <a:chExt cx="910440" cy="21204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3564000" y="2303280"/>
                  <a:ext cx="91044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3564000" y="2303280"/>
                  <a:ext cx="910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4475160" y="2303280"/>
                <a:ext cx="927000" cy="212040"/>
                <a:chOff x="4475160" y="2303280"/>
                <a:chExt cx="927000" cy="21204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4475160" y="2303280"/>
                  <a:ext cx="927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4475160" y="2303280"/>
                  <a:ext cx="927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11400" y="2515680"/>
                <a:ext cx="2225520" cy="252720"/>
                <a:chOff x="311400" y="2515680"/>
                <a:chExt cx="2225520" cy="25272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11400" y="2515680"/>
                  <a:ext cx="222552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it-IT" sz="1000" spc="-1" strike="noStrike">
                      <a:solidFill>
                        <a:srgbClr val="ffffff"/>
                      </a:solidFill>
                      <a:latin typeface="Times New Roman"/>
                    </a:rPr>
                    <a:t>Gastro-intestinal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11400" y="2515680"/>
                  <a:ext cx="222552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2537280" y="2515680"/>
                <a:ext cx="1026000" cy="252720"/>
                <a:chOff x="2537280" y="2515680"/>
                <a:chExt cx="1026000" cy="25272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537280" y="2515680"/>
                  <a:ext cx="1026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9 (47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2537280" y="2515680"/>
                  <a:ext cx="1026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3" name=""/>
              <p:cNvGrpSpPr/>
              <p:nvPr/>
            </p:nvGrpSpPr>
            <p:grpSpPr>
              <a:xfrm>
                <a:off x="3564000" y="2515680"/>
                <a:ext cx="910440" cy="252720"/>
                <a:chOff x="3564000" y="2515680"/>
                <a:chExt cx="910440" cy="2527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3564000" y="2515680"/>
                  <a:ext cx="91044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5 (13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564000" y="2515680"/>
                  <a:ext cx="91044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6" name=""/>
              <p:cNvGrpSpPr/>
              <p:nvPr/>
            </p:nvGrpSpPr>
            <p:grpSpPr>
              <a:xfrm>
                <a:off x="4475160" y="2515680"/>
                <a:ext cx="927000" cy="252720"/>
                <a:chOff x="4475160" y="2515680"/>
                <a:chExt cx="927000" cy="252720"/>
              </a:xfrm>
            </p:grpSpPr>
            <p:sp>
              <p:nvSpPr>
                <p:cNvPr id="187" name=""/>
                <p:cNvSpPr/>
                <p:nvPr/>
              </p:nvSpPr>
              <p:spPr>
                <a:xfrm>
                  <a:off x="4475160" y="2515680"/>
                  <a:ext cx="927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4 (6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4475160" y="2515680"/>
                  <a:ext cx="927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9" name=""/>
              <p:cNvGrpSpPr/>
              <p:nvPr/>
            </p:nvGrpSpPr>
            <p:grpSpPr>
              <a:xfrm>
                <a:off x="311400" y="2768400"/>
                <a:ext cx="2225520" cy="252720"/>
                <a:chOff x="311400" y="2768400"/>
                <a:chExt cx="2225520" cy="25272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311400" y="2768400"/>
                  <a:ext cx="222552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Diarrhoe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11400" y="2768400"/>
                  <a:ext cx="222552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2537280" y="2768400"/>
                <a:ext cx="1026000" cy="252720"/>
                <a:chOff x="2537280" y="2768400"/>
                <a:chExt cx="1026000" cy="25272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2537280" y="2768400"/>
                  <a:ext cx="1026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3 (32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2537280" y="2768400"/>
                  <a:ext cx="1026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564000" y="2768400"/>
                <a:ext cx="910440" cy="252720"/>
                <a:chOff x="3564000" y="2768400"/>
                <a:chExt cx="910440" cy="25272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564000" y="2768400"/>
                  <a:ext cx="91044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 (7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564000" y="2768400"/>
                  <a:ext cx="91044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475160" y="2768400"/>
                <a:ext cx="927000" cy="252720"/>
                <a:chOff x="4475160" y="2768400"/>
                <a:chExt cx="927000" cy="25272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475160" y="2768400"/>
                  <a:ext cx="927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6 (39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475160" y="2768400"/>
                  <a:ext cx="927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311400" y="3021480"/>
                <a:ext cx="2225520" cy="201960"/>
                <a:chOff x="311400" y="3021480"/>
                <a:chExt cx="2225520" cy="20196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311400" y="302148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Stomatiti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11400" y="302148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2537280" y="3021480"/>
                <a:ext cx="1026000" cy="201960"/>
                <a:chOff x="2537280" y="3021480"/>
                <a:chExt cx="1026000" cy="2019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2537280" y="302148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537280" y="302148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564000" y="3021480"/>
                <a:ext cx="910440" cy="201960"/>
                <a:chOff x="3564000" y="3021480"/>
                <a:chExt cx="910440" cy="20196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564000" y="302148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564000" y="302148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475160" y="3021480"/>
                <a:ext cx="927000" cy="201960"/>
                <a:chOff x="4475160" y="3021480"/>
                <a:chExt cx="927000" cy="2019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475160" y="302148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75160" y="302148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311400" y="3223800"/>
                <a:ext cx="2225520" cy="202320"/>
                <a:chOff x="311400" y="3223800"/>
                <a:chExt cx="2225520" cy="20232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311400" y="3223800"/>
                  <a:ext cx="222552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Nausea/ vomiting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311400" y="3223800"/>
                  <a:ext cx="222552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2537280" y="3223800"/>
                <a:ext cx="1026000" cy="202320"/>
                <a:chOff x="2537280" y="3223800"/>
                <a:chExt cx="1026000" cy="20232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2537280" y="3223800"/>
                  <a:ext cx="102600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2537280" y="3223800"/>
                  <a:ext cx="102600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564000" y="3223800"/>
                <a:ext cx="910440" cy="202320"/>
                <a:chOff x="3564000" y="3223800"/>
                <a:chExt cx="910440" cy="20232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564000" y="3223800"/>
                  <a:ext cx="91044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564000" y="3223800"/>
                  <a:ext cx="91044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475160" y="3223800"/>
                <a:ext cx="927000" cy="202320"/>
                <a:chOff x="4475160" y="3223800"/>
                <a:chExt cx="927000" cy="20232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475160" y="3223800"/>
                  <a:ext cx="92700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475160" y="3223800"/>
                  <a:ext cx="92700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311400" y="3426120"/>
                <a:ext cx="2225520" cy="201960"/>
                <a:chOff x="311400" y="3426120"/>
                <a:chExt cx="2225520" cy="2019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11400" y="342612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Liver enzyme 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311400" y="342612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2537280" y="3426120"/>
                <a:ext cx="1026000" cy="201960"/>
                <a:chOff x="2537280" y="3426120"/>
                <a:chExt cx="1026000" cy="20196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2537280" y="342612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2537280" y="342612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564000" y="3426120"/>
                <a:ext cx="910440" cy="201960"/>
                <a:chOff x="3564000" y="3426120"/>
                <a:chExt cx="910440" cy="20196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564000" y="342612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564000" y="342612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475160" y="3426120"/>
                <a:ext cx="927000" cy="201960"/>
                <a:chOff x="4475160" y="3426120"/>
                <a:chExt cx="927000" cy="20196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475160" y="342612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 (7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475160" y="342612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311400" y="3628440"/>
                <a:ext cx="2225520" cy="201960"/>
                <a:chOff x="311400" y="3628440"/>
                <a:chExt cx="2225520" cy="20196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311400" y="362844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nal/rectal pain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311400" y="362844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2537280" y="3628440"/>
                <a:ext cx="1026000" cy="201960"/>
                <a:chOff x="2537280" y="3628440"/>
                <a:chExt cx="1026000" cy="20196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2537280" y="362844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 (7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2537280" y="362844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564000" y="3628440"/>
                <a:ext cx="910440" cy="201960"/>
                <a:chOff x="3564000" y="3628440"/>
                <a:chExt cx="910440" cy="2019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564000" y="362844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564000" y="362844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475160" y="3628440"/>
                <a:ext cx="927000" cy="201960"/>
                <a:chOff x="4475160" y="3628440"/>
                <a:chExt cx="927000" cy="20196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475160" y="362844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3 (7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475160" y="362844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311400" y="3830760"/>
                <a:ext cx="2225520" cy="212040"/>
                <a:chOff x="311400" y="3830760"/>
                <a:chExt cx="2225520" cy="21204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311400" y="3830760"/>
                  <a:ext cx="222552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311400" y="3830760"/>
                  <a:ext cx="222552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2537280" y="3830760"/>
                <a:ext cx="1026000" cy="212040"/>
                <a:chOff x="2537280" y="3830760"/>
                <a:chExt cx="1026000" cy="2120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2537280" y="3830760"/>
                  <a:ext cx="1026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2537280" y="3830760"/>
                  <a:ext cx="1026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564000" y="3830760"/>
                <a:ext cx="910440" cy="212040"/>
                <a:chOff x="3564000" y="3830760"/>
                <a:chExt cx="910440" cy="21204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564000" y="3830760"/>
                  <a:ext cx="91044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564000" y="3830760"/>
                  <a:ext cx="910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475160" y="3830760"/>
                <a:ext cx="927000" cy="212040"/>
                <a:chOff x="4475160" y="3830760"/>
                <a:chExt cx="927000" cy="21204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475160" y="3830760"/>
                  <a:ext cx="927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475160" y="3830760"/>
                  <a:ext cx="927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311400" y="4043160"/>
                <a:ext cx="2225520" cy="252720"/>
                <a:chOff x="311400" y="4043160"/>
                <a:chExt cx="2225520" cy="25272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311400" y="4043160"/>
                  <a:ext cx="222552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Haematologic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311400" y="4043160"/>
                  <a:ext cx="222552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2537280" y="4043160"/>
                <a:ext cx="1026000" cy="252720"/>
                <a:chOff x="2537280" y="4043160"/>
                <a:chExt cx="1026000" cy="25272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2537280" y="4043160"/>
                  <a:ext cx="1026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2537280" y="4043160"/>
                  <a:ext cx="1026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564000" y="4043160"/>
                <a:ext cx="910440" cy="252720"/>
                <a:chOff x="3564000" y="4043160"/>
                <a:chExt cx="910440" cy="25272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564000" y="4043160"/>
                  <a:ext cx="91044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564000" y="4043160"/>
                  <a:ext cx="91044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475160" y="4043160"/>
                <a:ext cx="927000" cy="252720"/>
                <a:chOff x="4475160" y="4043160"/>
                <a:chExt cx="927000" cy="25272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475160" y="4043160"/>
                  <a:ext cx="927000" cy="252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475160" y="4043160"/>
                  <a:ext cx="927000" cy="2527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311400" y="4296240"/>
                <a:ext cx="2225520" cy="201960"/>
                <a:chOff x="311400" y="4296240"/>
                <a:chExt cx="2225520" cy="20196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311400" y="429624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Anemi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11400" y="429624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2537280" y="4296240"/>
                <a:ext cx="1026000" cy="201960"/>
                <a:chOff x="2537280" y="4296240"/>
                <a:chExt cx="1026000" cy="20196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2537280" y="429624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2537280" y="429624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564000" y="4296240"/>
                <a:ext cx="910440" cy="201960"/>
                <a:chOff x="3564000" y="4296240"/>
                <a:chExt cx="910440" cy="20196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564000" y="429624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564000" y="429624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475160" y="4296240"/>
                <a:ext cx="927000" cy="201960"/>
                <a:chOff x="4475160" y="4296240"/>
                <a:chExt cx="927000" cy="20196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475160" y="429624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475160" y="429624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311400" y="4498200"/>
                <a:ext cx="2225520" cy="202320"/>
                <a:chOff x="311400" y="4498200"/>
                <a:chExt cx="2225520" cy="20232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11400" y="4498200"/>
                  <a:ext cx="222552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Trombocytopeni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11400" y="4498200"/>
                  <a:ext cx="222552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2537280" y="4498200"/>
                <a:ext cx="1026000" cy="202320"/>
                <a:chOff x="2537280" y="4498200"/>
                <a:chExt cx="1026000" cy="20232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2537280" y="4498200"/>
                  <a:ext cx="102600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2537280" y="4498200"/>
                  <a:ext cx="102600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564000" y="4498200"/>
                <a:ext cx="910440" cy="202320"/>
                <a:chOff x="3564000" y="4498200"/>
                <a:chExt cx="910440" cy="20232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564000" y="4498200"/>
                  <a:ext cx="91044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564000" y="4498200"/>
                  <a:ext cx="91044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475160" y="4498200"/>
                <a:ext cx="927000" cy="202320"/>
                <a:chOff x="4475160" y="4498200"/>
                <a:chExt cx="927000" cy="20232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475160" y="4498200"/>
                  <a:ext cx="92700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475160" y="4498200"/>
                  <a:ext cx="92700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311400" y="4700880"/>
                <a:ext cx="2225520" cy="201960"/>
                <a:chOff x="311400" y="4700880"/>
                <a:chExt cx="2225520" cy="2019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311400" y="470088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Neutrogen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11400" y="470088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2537280" y="4700880"/>
                <a:ext cx="1026000" cy="201960"/>
                <a:chOff x="2537280" y="4700880"/>
                <a:chExt cx="1026000" cy="20196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2537280" y="470088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2537280" y="470088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564000" y="4700880"/>
                <a:ext cx="910440" cy="201960"/>
                <a:chOff x="3564000" y="4700880"/>
                <a:chExt cx="910440" cy="20196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564000" y="470088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564000" y="470088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475160" y="4700880"/>
                <a:ext cx="927000" cy="201960"/>
                <a:chOff x="4475160" y="4700880"/>
                <a:chExt cx="927000" cy="20196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475160" y="470088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475160" y="470088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311400" y="4903200"/>
                <a:ext cx="2225520" cy="201960"/>
                <a:chOff x="311400" y="4903200"/>
                <a:chExt cx="2225520" cy="2019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311400" y="490320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Febrile neutropenia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311400" y="490320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2537280" y="4903200"/>
                <a:ext cx="1026000" cy="201960"/>
                <a:chOff x="2537280" y="4903200"/>
                <a:chExt cx="1026000" cy="20196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2537280" y="490320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2537280" y="490320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564000" y="4903200"/>
                <a:ext cx="910440" cy="201960"/>
                <a:chOff x="3564000" y="4903200"/>
                <a:chExt cx="910440" cy="2019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564000" y="490320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564000" y="490320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475160" y="4903200"/>
                <a:ext cx="927000" cy="201960"/>
                <a:chOff x="4475160" y="4903200"/>
                <a:chExt cx="927000" cy="20196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475160" y="490320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475160" y="490320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1" name=""/>
              <p:cNvGrpSpPr/>
              <p:nvPr/>
            </p:nvGrpSpPr>
            <p:grpSpPr>
              <a:xfrm>
                <a:off x="311400" y="5105160"/>
                <a:ext cx="2225520" cy="212400"/>
                <a:chOff x="311400" y="5105160"/>
                <a:chExt cx="2225520" cy="212400"/>
              </a:xfrm>
            </p:grpSpPr>
            <p:sp>
              <p:nvSpPr>
                <p:cNvPr id="322" name=""/>
                <p:cNvSpPr/>
                <p:nvPr/>
              </p:nvSpPr>
              <p:spPr>
                <a:xfrm>
                  <a:off x="311400" y="5105160"/>
                  <a:ext cx="222552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3" name=""/>
                <p:cNvSpPr/>
                <p:nvPr/>
              </p:nvSpPr>
              <p:spPr>
                <a:xfrm>
                  <a:off x="311400" y="5105160"/>
                  <a:ext cx="2225520" cy="21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4" name=""/>
              <p:cNvGrpSpPr/>
              <p:nvPr/>
            </p:nvGrpSpPr>
            <p:grpSpPr>
              <a:xfrm>
                <a:off x="2537280" y="5105160"/>
                <a:ext cx="1026000" cy="212400"/>
                <a:chOff x="2537280" y="5105160"/>
                <a:chExt cx="1026000" cy="212400"/>
              </a:xfrm>
            </p:grpSpPr>
            <p:sp>
              <p:nvSpPr>
                <p:cNvPr id="325" name=""/>
                <p:cNvSpPr/>
                <p:nvPr/>
              </p:nvSpPr>
              <p:spPr>
                <a:xfrm>
                  <a:off x="2537280" y="5105160"/>
                  <a:ext cx="102600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6" name=""/>
                <p:cNvSpPr/>
                <p:nvPr/>
              </p:nvSpPr>
              <p:spPr>
                <a:xfrm>
                  <a:off x="2537280" y="5105160"/>
                  <a:ext cx="1026000" cy="21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7" name=""/>
              <p:cNvGrpSpPr/>
              <p:nvPr/>
            </p:nvGrpSpPr>
            <p:grpSpPr>
              <a:xfrm>
                <a:off x="3564000" y="5105160"/>
                <a:ext cx="910440" cy="212400"/>
                <a:chOff x="3564000" y="5105160"/>
                <a:chExt cx="910440" cy="212400"/>
              </a:xfrm>
            </p:grpSpPr>
            <p:sp>
              <p:nvSpPr>
                <p:cNvPr id="328" name=""/>
                <p:cNvSpPr/>
                <p:nvPr/>
              </p:nvSpPr>
              <p:spPr>
                <a:xfrm>
                  <a:off x="3564000" y="5105160"/>
                  <a:ext cx="91044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>
                  <a:off x="3564000" y="5105160"/>
                  <a:ext cx="910440" cy="21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0" name=""/>
              <p:cNvGrpSpPr/>
              <p:nvPr/>
            </p:nvGrpSpPr>
            <p:grpSpPr>
              <a:xfrm>
                <a:off x="4475160" y="5105160"/>
                <a:ext cx="927000" cy="212400"/>
                <a:chOff x="4475160" y="5105160"/>
                <a:chExt cx="927000" cy="212400"/>
              </a:xfrm>
            </p:grpSpPr>
            <p:sp>
              <p:nvSpPr>
                <p:cNvPr id="331" name=""/>
                <p:cNvSpPr/>
                <p:nvPr/>
              </p:nvSpPr>
              <p:spPr>
                <a:xfrm>
                  <a:off x="4475160" y="5105160"/>
                  <a:ext cx="927000" cy="212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2" name=""/>
                <p:cNvSpPr/>
                <p:nvPr/>
              </p:nvSpPr>
              <p:spPr>
                <a:xfrm>
                  <a:off x="4475160" y="5105160"/>
                  <a:ext cx="927000" cy="212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3" name=""/>
              <p:cNvGrpSpPr/>
              <p:nvPr/>
            </p:nvGrpSpPr>
            <p:grpSpPr>
              <a:xfrm>
                <a:off x="311400" y="5317920"/>
                <a:ext cx="2225520" cy="201960"/>
                <a:chOff x="311400" y="5317920"/>
                <a:chExt cx="2225520" cy="201960"/>
              </a:xfrm>
            </p:grpSpPr>
            <p:sp>
              <p:nvSpPr>
                <p:cNvPr id="334" name=""/>
                <p:cNvSpPr/>
                <p:nvPr/>
              </p:nvSpPr>
              <p:spPr>
                <a:xfrm>
                  <a:off x="311400" y="531792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Sistemic symptom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5" name=""/>
                <p:cNvSpPr/>
                <p:nvPr/>
              </p:nvSpPr>
              <p:spPr>
                <a:xfrm>
                  <a:off x="311400" y="531792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6" name=""/>
              <p:cNvGrpSpPr/>
              <p:nvPr/>
            </p:nvGrpSpPr>
            <p:grpSpPr>
              <a:xfrm>
                <a:off x="2537280" y="5317920"/>
                <a:ext cx="1026000" cy="201960"/>
                <a:chOff x="2537280" y="5317920"/>
                <a:chExt cx="1026000" cy="201960"/>
              </a:xfrm>
            </p:grpSpPr>
            <p:sp>
              <p:nvSpPr>
                <p:cNvPr id="337" name=""/>
                <p:cNvSpPr/>
                <p:nvPr/>
              </p:nvSpPr>
              <p:spPr>
                <a:xfrm>
                  <a:off x="2537280" y="531792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38" name=""/>
                <p:cNvSpPr/>
                <p:nvPr/>
              </p:nvSpPr>
              <p:spPr>
                <a:xfrm>
                  <a:off x="2537280" y="531792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9" name=""/>
              <p:cNvGrpSpPr/>
              <p:nvPr/>
            </p:nvGrpSpPr>
            <p:grpSpPr>
              <a:xfrm>
                <a:off x="3564000" y="5317920"/>
                <a:ext cx="910440" cy="201960"/>
                <a:chOff x="3564000" y="5317920"/>
                <a:chExt cx="910440" cy="201960"/>
              </a:xfrm>
            </p:grpSpPr>
            <p:sp>
              <p:nvSpPr>
                <p:cNvPr id="340" name=""/>
                <p:cNvSpPr/>
                <p:nvPr/>
              </p:nvSpPr>
              <p:spPr>
                <a:xfrm>
                  <a:off x="3564000" y="531792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3564000" y="531792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4475160" y="5317920"/>
                <a:ext cx="927000" cy="201960"/>
                <a:chOff x="4475160" y="5317920"/>
                <a:chExt cx="927000" cy="201960"/>
              </a:xfrm>
            </p:grpSpPr>
            <p:sp>
              <p:nvSpPr>
                <p:cNvPr id="343" name=""/>
                <p:cNvSpPr/>
                <p:nvPr/>
              </p:nvSpPr>
              <p:spPr>
                <a:xfrm>
                  <a:off x="4475160" y="531792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4" name=""/>
                <p:cNvSpPr/>
                <p:nvPr/>
              </p:nvSpPr>
              <p:spPr>
                <a:xfrm>
                  <a:off x="4475160" y="531792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311400" y="5520240"/>
                <a:ext cx="2225520" cy="201960"/>
                <a:chOff x="311400" y="5520240"/>
                <a:chExt cx="2225520" cy="20196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311400" y="552024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Fatigue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311400" y="552024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2537280" y="5520240"/>
                <a:ext cx="1026000" cy="201960"/>
                <a:chOff x="2537280" y="5520240"/>
                <a:chExt cx="1026000" cy="20196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2537280" y="552024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2537280" y="552024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1" name=""/>
              <p:cNvGrpSpPr/>
              <p:nvPr/>
            </p:nvGrpSpPr>
            <p:grpSpPr>
              <a:xfrm>
                <a:off x="3564000" y="5520240"/>
                <a:ext cx="910440" cy="201960"/>
                <a:chOff x="3564000" y="5520240"/>
                <a:chExt cx="910440" cy="201960"/>
              </a:xfrm>
            </p:grpSpPr>
            <p:sp>
              <p:nvSpPr>
                <p:cNvPr id="352" name=""/>
                <p:cNvSpPr/>
                <p:nvPr/>
              </p:nvSpPr>
              <p:spPr>
                <a:xfrm>
                  <a:off x="3564000" y="552024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3" name=""/>
                <p:cNvSpPr/>
                <p:nvPr/>
              </p:nvSpPr>
              <p:spPr>
                <a:xfrm>
                  <a:off x="3564000" y="552024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4" name=""/>
              <p:cNvGrpSpPr/>
              <p:nvPr/>
            </p:nvGrpSpPr>
            <p:grpSpPr>
              <a:xfrm>
                <a:off x="4475160" y="5520240"/>
                <a:ext cx="927000" cy="201960"/>
                <a:chOff x="4475160" y="5520240"/>
                <a:chExt cx="927000" cy="201960"/>
              </a:xfrm>
            </p:grpSpPr>
            <p:sp>
              <p:nvSpPr>
                <p:cNvPr id="355" name=""/>
                <p:cNvSpPr/>
                <p:nvPr/>
              </p:nvSpPr>
              <p:spPr>
                <a:xfrm>
                  <a:off x="4475160" y="552024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2 (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6" name=""/>
                <p:cNvSpPr/>
                <p:nvPr/>
              </p:nvSpPr>
              <p:spPr>
                <a:xfrm>
                  <a:off x="4475160" y="552024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7" name=""/>
              <p:cNvGrpSpPr/>
              <p:nvPr/>
            </p:nvGrpSpPr>
            <p:grpSpPr>
              <a:xfrm>
                <a:off x="311400" y="5722200"/>
                <a:ext cx="2225520" cy="212040"/>
                <a:chOff x="311400" y="5722200"/>
                <a:chExt cx="2225520" cy="212040"/>
              </a:xfrm>
            </p:grpSpPr>
            <p:sp>
              <p:nvSpPr>
                <p:cNvPr id="358" name=""/>
                <p:cNvSpPr/>
                <p:nvPr/>
              </p:nvSpPr>
              <p:spPr>
                <a:xfrm>
                  <a:off x="311400" y="5722200"/>
                  <a:ext cx="222552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9" name=""/>
                <p:cNvSpPr/>
                <p:nvPr/>
              </p:nvSpPr>
              <p:spPr>
                <a:xfrm>
                  <a:off x="311400" y="5722200"/>
                  <a:ext cx="222552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0" name=""/>
              <p:cNvGrpSpPr/>
              <p:nvPr/>
            </p:nvGrpSpPr>
            <p:grpSpPr>
              <a:xfrm>
                <a:off x="2537280" y="5722200"/>
                <a:ext cx="1026000" cy="212040"/>
                <a:chOff x="2537280" y="5722200"/>
                <a:chExt cx="1026000" cy="212040"/>
              </a:xfrm>
            </p:grpSpPr>
            <p:sp>
              <p:nvSpPr>
                <p:cNvPr id="361" name=""/>
                <p:cNvSpPr/>
                <p:nvPr/>
              </p:nvSpPr>
              <p:spPr>
                <a:xfrm>
                  <a:off x="2537280" y="5722200"/>
                  <a:ext cx="1026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2" name=""/>
                <p:cNvSpPr/>
                <p:nvPr/>
              </p:nvSpPr>
              <p:spPr>
                <a:xfrm>
                  <a:off x="2537280" y="5722200"/>
                  <a:ext cx="1026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3" name=""/>
              <p:cNvGrpSpPr/>
              <p:nvPr/>
            </p:nvGrpSpPr>
            <p:grpSpPr>
              <a:xfrm>
                <a:off x="3564000" y="5722200"/>
                <a:ext cx="910440" cy="212040"/>
                <a:chOff x="3564000" y="5722200"/>
                <a:chExt cx="910440" cy="212040"/>
              </a:xfrm>
            </p:grpSpPr>
            <p:sp>
              <p:nvSpPr>
                <p:cNvPr id="364" name=""/>
                <p:cNvSpPr/>
                <p:nvPr/>
              </p:nvSpPr>
              <p:spPr>
                <a:xfrm>
                  <a:off x="3564000" y="5722200"/>
                  <a:ext cx="91044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5" name=""/>
                <p:cNvSpPr/>
                <p:nvPr/>
              </p:nvSpPr>
              <p:spPr>
                <a:xfrm>
                  <a:off x="3564000" y="5722200"/>
                  <a:ext cx="910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6" name=""/>
              <p:cNvGrpSpPr/>
              <p:nvPr/>
            </p:nvGrpSpPr>
            <p:grpSpPr>
              <a:xfrm>
                <a:off x="4475160" y="5722200"/>
                <a:ext cx="927000" cy="212040"/>
                <a:chOff x="4475160" y="5722200"/>
                <a:chExt cx="927000" cy="212040"/>
              </a:xfrm>
            </p:grpSpPr>
            <p:sp>
              <p:nvSpPr>
                <p:cNvPr id="367" name=""/>
                <p:cNvSpPr/>
                <p:nvPr/>
              </p:nvSpPr>
              <p:spPr>
                <a:xfrm>
                  <a:off x="4475160" y="5722200"/>
                  <a:ext cx="927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4475160" y="5722200"/>
                  <a:ext cx="927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69" name=""/>
              <p:cNvGrpSpPr/>
              <p:nvPr/>
            </p:nvGrpSpPr>
            <p:grpSpPr>
              <a:xfrm>
                <a:off x="311400" y="5934600"/>
                <a:ext cx="2225520" cy="202320"/>
                <a:chOff x="311400" y="5934600"/>
                <a:chExt cx="2225520" cy="202320"/>
              </a:xfrm>
            </p:grpSpPr>
            <p:sp>
              <p:nvSpPr>
                <p:cNvPr id="370" name=""/>
                <p:cNvSpPr/>
                <p:nvPr/>
              </p:nvSpPr>
              <p:spPr>
                <a:xfrm>
                  <a:off x="311400" y="5934600"/>
                  <a:ext cx="222552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Urologic toxicity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1" name=""/>
                <p:cNvSpPr/>
                <p:nvPr/>
              </p:nvSpPr>
              <p:spPr>
                <a:xfrm>
                  <a:off x="311400" y="5934600"/>
                  <a:ext cx="222552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2" name=""/>
              <p:cNvGrpSpPr/>
              <p:nvPr/>
            </p:nvGrpSpPr>
            <p:grpSpPr>
              <a:xfrm>
                <a:off x="2537280" y="5934600"/>
                <a:ext cx="1026000" cy="202320"/>
                <a:chOff x="2537280" y="5934600"/>
                <a:chExt cx="1026000" cy="202320"/>
              </a:xfrm>
            </p:grpSpPr>
            <p:sp>
              <p:nvSpPr>
                <p:cNvPr id="373" name=""/>
                <p:cNvSpPr/>
                <p:nvPr/>
              </p:nvSpPr>
              <p:spPr>
                <a:xfrm>
                  <a:off x="2537280" y="5934600"/>
                  <a:ext cx="102600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4" name=""/>
                <p:cNvSpPr/>
                <p:nvPr/>
              </p:nvSpPr>
              <p:spPr>
                <a:xfrm>
                  <a:off x="2537280" y="5934600"/>
                  <a:ext cx="102600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5" name=""/>
              <p:cNvGrpSpPr/>
              <p:nvPr/>
            </p:nvGrpSpPr>
            <p:grpSpPr>
              <a:xfrm>
                <a:off x="3564000" y="5934600"/>
                <a:ext cx="910440" cy="202320"/>
                <a:chOff x="3564000" y="5934600"/>
                <a:chExt cx="910440" cy="202320"/>
              </a:xfrm>
            </p:grpSpPr>
            <p:sp>
              <p:nvSpPr>
                <p:cNvPr id="376" name=""/>
                <p:cNvSpPr/>
                <p:nvPr/>
              </p:nvSpPr>
              <p:spPr>
                <a:xfrm>
                  <a:off x="3564000" y="5934600"/>
                  <a:ext cx="91044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77" name=""/>
                <p:cNvSpPr/>
                <p:nvPr/>
              </p:nvSpPr>
              <p:spPr>
                <a:xfrm>
                  <a:off x="3564000" y="5934600"/>
                  <a:ext cx="91044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8" name=""/>
              <p:cNvGrpSpPr/>
              <p:nvPr/>
            </p:nvGrpSpPr>
            <p:grpSpPr>
              <a:xfrm>
                <a:off x="4475160" y="5934600"/>
                <a:ext cx="927000" cy="202320"/>
                <a:chOff x="4475160" y="5934600"/>
                <a:chExt cx="927000" cy="20232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4475160" y="5934600"/>
                  <a:ext cx="927000" cy="202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4475160" y="5934600"/>
                  <a:ext cx="927000" cy="202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1" name=""/>
              <p:cNvGrpSpPr/>
              <p:nvPr/>
            </p:nvGrpSpPr>
            <p:grpSpPr>
              <a:xfrm>
                <a:off x="311400" y="6136920"/>
                <a:ext cx="2225520" cy="201960"/>
                <a:chOff x="311400" y="6136920"/>
                <a:chExt cx="2225520" cy="201960"/>
              </a:xfrm>
            </p:grpSpPr>
            <p:sp>
              <p:nvSpPr>
                <p:cNvPr id="382" name=""/>
                <p:cNvSpPr/>
                <p:nvPr/>
              </p:nvSpPr>
              <p:spPr>
                <a:xfrm>
                  <a:off x="311400" y="6136920"/>
                  <a:ext cx="222552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Cystitis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3" name=""/>
                <p:cNvSpPr/>
                <p:nvPr/>
              </p:nvSpPr>
              <p:spPr>
                <a:xfrm>
                  <a:off x="311400" y="6136920"/>
                  <a:ext cx="222552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4" name=""/>
              <p:cNvGrpSpPr/>
              <p:nvPr/>
            </p:nvGrpSpPr>
            <p:grpSpPr>
              <a:xfrm>
                <a:off x="2537280" y="6136920"/>
                <a:ext cx="1026000" cy="201960"/>
                <a:chOff x="2537280" y="6136920"/>
                <a:chExt cx="1026000" cy="201960"/>
              </a:xfrm>
            </p:grpSpPr>
            <p:sp>
              <p:nvSpPr>
                <p:cNvPr id="385" name=""/>
                <p:cNvSpPr/>
                <p:nvPr/>
              </p:nvSpPr>
              <p:spPr>
                <a:xfrm>
                  <a:off x="2537280" y="6136920"/>
                  <a:ext cx="1026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6" name=""/>
                <p:cNvSpPr/>
                <p:nvPr/>
              </p:nvSpPr>
              <p:spPr>
                <a:xfrm>
                  <a:off x="2537280" y="6136920"/>
                  <a:ext cx="1026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87" name=""/>
              <p:cNvGrpSpPr/>
              <p:nvPr/>
            </p:nvGrpSpPr>
            <p:grpSpPr>
              <a:xfrm>
                <a:off x="3564000" y="6136920"/>
                <a:ext cx="910440" cy="201960"/>
                <a:chOff x="3564000" y="6136920"/>
                <a:chExt cx="910440" cy="201960"/>
              </a:xfrm>
            </p:grpSpPr>
            <p:sp>
              <p:nvSpPr>
                <p:cNvPr id="388" name=""/>
                <p:cNvSpPr/>
                <p:nvPr/>
              </p:nvSpPr>
              <p:spPr>
                <a:xfrm>
                  <a:off x="3564000" y="6136920"/>
                  <a:ext cx="91044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0 (0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89" name=""/>
                <p:cNvSpPr/>
                <p:nvPr/>
              </p:nvSpPr>
              <p:spPr>
                <a:xfrm>
                  <a:off x="3564000" y="6136920"/>
                  <a:ext cx="91044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0" name=""/>
              <p:cNvGrpSpPr/>
              <p:nvPr/>
            </p:nvGrpSpPr>
            <p:grpSpPr>
              <a:xfrm>
                <a:off x="4475160" y="6136920"/>
                <a:ext cx="927000" cy="201960"/>
                <a:chOff x="4475160" y="6136920"/>
                <a:chExt cx="927000" cy="201960"/>
              </a:xfrm>
            </p:grpSpPr>
            <p:sp>
              <p:nvSpPr>
                <p:cNvPr id="391" name=""/>
                <p:cNvSpPr/>
                <p:nvPr/>
              </p:nvSpPr>
              <p:spPr>
                <a:xfrm>
                  <a:off x="4475160" y="6136920"/>
                  <a:ext cx="927000" cy="201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</a:rPr>
                    <a:t>1 (2,5%)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2" name=""/>
                <p:cNvSpPr/>
                <p:nvPr/>
              </p:nvSpPr>
              <p:spPr>
                <a:xfrm>
                  <a:off x="4475160" y="6136920"/>
                  <a:ext cx="927000" cy="2019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3" name=""/>
              <p:cNvGrpSpPr/>
              <p:nvPr/>
            </p:nvGrpSpPr>
            <p:grpSpPr>
              <a:xfrm>
                <a:off x="311400" y="6339240"/>
                <a:ext cx="2225520" cy="212040"/>
                <a:chOff x="311400" y="6339240"/>
                <a:chExt cx="2225520" cy="212040"/>
              </a:xfrm>
            </p:grpSpPr>
            <p:sp>
              <p:nvSpPr>
                <p:cNvPr id="394" name=""/>
                <p:cNvSpPr/>
                <p:nvPr/>
              </p:nvSpPr>
              <p:spPr>
                <a:xfrm>
                  <a:off x="311400" y="6339240"/>
                  <a:ext cx="222552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>
                  <a:off x="311400" y="6339240"/>
                  <a:ext cx="222552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6" name=""/>
              <p:cNvGrpSpPr/>
              <p:nvPr/>
            </p:nvGrpSpPr>
            <p:grpSpPr>
              <a:xfrm>
                <a:off x="2537280" y="6339240"/>
                <a:ext cx="1026000" cy="212040"/>
                <a:chOff x="2537280" y="6339240"/>
                <a:chExt cx="1026000" cy="212040"/>
              </a:xfrm>
            </p:grpSpPr>
            <p:sp>
              <p:nvSpPr>
                <p:cNvPr id="397" name=""/>
                <p:cNvSpPr/>
                <p:nvPr/>
              </p:nvSpPr>
              <p:spPr>
                <a:xfrm>
                  <a:off x="2537280" y="6339240"/>
                  <a:ext cx="1026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98" name=""/>
                <p:cNvSpPr/>
                <p:nvPr/>
              </p:nvSpPr>
              <p:spPr>
                <a:xfrm>
                  <a:off x="2537280" y="6339240"/>
                  <a:ext cx="1026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9" name=""/>
              <p:cNvGrpSpPr/>
              <p:nvPr/>
            </p:nvGrpSpPr>
            <p:grpSpPr>
              <a:xfrm>
                <a:off x="3564000" y="6339240"/>
                <a:ext cx="910440" cy="212040"/>
                <a:chOff x="3564000" y="6339240"/>
                <a:chExt cx="910440" cy="212040"/>
              </a:xfrm>
            </p:grpSpPr>
            <p:sp>
              <p:nvSpPr>
                <p:cNvPr id="400" name=""/>
                <p:cNvSpPr/>
                <p:nvPr/>
              </p:nvSpPr>
              <p:spPr>
                <a:xfrm>
                  <a:off x="3564000" y="6339240"/>
                  <a:ext cx="91044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1" name=""/>
                <p:cNvSpPr/>
                <p:nvPr/>
              </p:nvSpPr>
              <p:spPr>
                <a:xfrm>
                  <a:off x="3564000" y="6339240"/>
                  <a:ext cx="91044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02" name=""/>
              <p:cNvGrpSpPr/>
              <p:nvPr/>
            </p:nvGrpSpPr>
            <p:grpSpPr>
              <a:xfrm>
                <a:off x="4475160" y="6339240"/>
                <a:ext cx="927000" cy="212040"/>
                <a:chOff x="4475160" y="6339240"/>
                <a:chExt cx="927000" cy="212040"/>
              </a:xfrm>
            </p:grpSpPr>
            <p:sp>
              <p:nvSpPr>
                <p:cNvPr id="403" name=""/>
                <p:cNvSpPr/>
                <p:nvPr/>
              </p:nvSpPr>
              <p:spPr>
                <a:xfrm>
                  <a:off x="4475160" y="6339240"/>
                  <a:ext cx="927000" cy="212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ffffff"/>
                      </a:solidFill>
                      <a:latin typeface="Times New Roman"/>
                      <a:ea typeface="Times New Roman"/>
                    </a:rPr>
                    <a:t> </a:t>
                  </a: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04" name=""/>
                <p:cNvSpPr/>
                <p:nvPr/>
              </p:nvSpPr>
              <p:spPr>
                <a:xfrm>
                  <a:off x="4475160" y="6339240"/>
                  <a:ext cx="927000" cy="21204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05" name=""/>
            <p:cNvSpPr/>
            <p:nvPr/>
          </p:nvSpPr>
          <p:spPr>
            <a:xfrm>
              <a:off x="304920" y="1371600"/>
              <a:ext cx="5104800" cy="518148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406" name=""/>
          <p:cNvGraphicFramePr/>
          <p:nvPr/>
        </p:nvGraphicFramePr>
        <p:xfrm>
          <a:off x="5257800" y="2494080"/>
          <a:ext cx="6095880" cy="2840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494080"/>
                    <a:ext cx="6095880" cy="284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"/>
          <p:cNvSpPr/>
          <p:nvPr/>
        </p:nvSpPr>
        <p:spPr>
          <a:xfrm>
            <a:off x="5867280" y="2233440"/>
            <a:ext cx="3276720" cy="337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Grado max.di tossicità NCI CTC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867280" y="1143000"/>
            <a:ext cx="4114800" cy="2133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410080" y="1066680"/>
            <a:ext cx="4648320" cy="251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495680" y="1752480"/>
            <a:ext cx="762120" cy="304920"/>
          </a:xfrm>
          <a:prstGeom prst="ellipse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581280" y="2514600"/>
            <a:ext cx="609840" cy="228600"/>
          </a:xfrm>
          <a:prstGeom prst="ellipse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590920" y="1828800"/>
            <a:ext cx="609480" cy="228600"/>
          </a:xfrm>
          <a:prstGeom prst="ellipse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2514600" y="6172200"/>
            <a:ext cx="609480" cy="228600"/>
          </a:xfrm>
          <a:prstGeom prst="ellipse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06880" y="1268280"/>
            <a:ext cx="56818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00"/>
                </a:solidFill>
                <a:uFillTx/>
                <a:latin typeface="Comic Sans MS"/>
              </a:rPr>
              <a:t>Tossicit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3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419720" y="3276720"/>
            <a:ext cx="761760" cy="304560"/>
          </a:xfrm>
          <a:prstGeom prst="ellipse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514600" y="2514600"/>
            <a:ext cx="762120" cy="304920"/>
          </a:xfrm>
          <a:prstGeom prst="ellipse">
            <a:avLst/>
          </a:prstGeom>
          <a:noFill/>
          <a:ln w="7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7720" y="3860280"/>
            <a:ext cx="87505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Policlinico di Modena   e   Istituto Tumori di Genova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3520" y="2489040"/>
            <a:ext cx="9217080" cy="1678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gosto 2005 – Maggio 2007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clutati 40 Pazienti con 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arcinoma rettale localmente avanzato operabile (uT3-uT4/ N0-N1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990720" y="687240"/>
            <a:ext cx="8524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teriali  e Metodi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Caratteristiche dei pazienti reclutati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2982960" y="1234800"/>
            <a:ext cx="48974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Caratteristiche dei Pazienti  reclutati</a:t>
            </a:r>
            <a:endParaRPr b="0" lang="en-US" sz="2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42520" y="1980720"/>
            <a:ext cx="3724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Età media:     61 anni (range 28-77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3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chi/femmine :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4 / 6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34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erformance status (ECOG) = 0  (40/40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5" name=""/>
          <p:cNvGraphicFramePr/>
          <p:nvPr/>
        </p:nvGraphicFramePr>
        <p:xfrm>
          <a:off x="-152280" y="3276720"/>
          <a:ext cx="6172200" cy="29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52280" y="3276720"/>
                    <a:ext cx="617220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7" name=""/>
          <p:cNvGraphicFramePr/>
          <p:nvPr/>
        </p:nvGraphicFramePr>
        <p:xfrm>
          <a:off x="4638600" y="1752480"/>
          <a:ext cx="6248520" cy="2951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38600" y="1752480"/>
                    <a:ext cx="6248520" cy="29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9" name=""/>
          <p:cNvSpPr/>
          <p:nvPr/>
        </p:nvSpPr>
        <p:spPr>
          <a:xfrm>
            <a:off x="990720" y="333360"/>
            <a:ext cx="8524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teriali e Metod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752480" y="3976560"/>
            <a:ext cx="457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12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5348160"/>
            <a:ext cx="457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25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733920" y="4129200"/>
            <a:ext cx="457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3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791320" y="3747960"/>
            <a:ext cx="457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7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19920" y="2514600"/>
            <a:ext cx="457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17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8839080" y="3581280"/>
            <a:ext cx="457200" cy="21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Times New Roman"/>
              </a:rPr>
              <a:t>(16)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5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927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sultati: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853920" y="2133720"/>
            <a:ext cx="889956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Comic Sans MS"/>
              </a:rPr>
              <a:t>5/40  Pazienti non hanno terminato la terapia neoadiuvante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ts val="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3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zienti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7,5%) : ritiro per reazione ipersensibilità  G3-4 dopo la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omministrazione di Cetuxima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- </a:t>
            </a:r>
            <a:r>
              <a:rPr b="1" i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 </a:t>
            </a:r>
            <a:r>
              <a:rPr b="1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zienti 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(5%) : ritiro, rispettivamente, dopo la 1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e la 2</a:t>
            </a:r>
            <a:r>
              <a:rPr b="0" i="1" lang="en-US" sz="24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a</a:t>
            </a:r>
            <a:r>
              <a:rPr b="0" i="1" lang="en-US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somministrazione di Cetuximab (1 per metastasi epatica, 1 per artrite purul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657360" y="1760400"/>
            <a:ext cx="4271760" cy="436572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2840040" y="188640"/>
            <a:ext cx="4516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Comic Sans MS"/>
              </a:rPr>
              <a:t>Reazione Cutanea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2"/>
          <a:stretch/>
        </p:blipFill>
        <p:spPr>
          <a:xfrm>
            <a:off x="5329080" y="1760400"/>
            <a:ext cx="4195800" cy="4349880"/>
          </a:xfrm>
          <a:prstGeom prst="rect">
            <a:avLst/>
          </a:prstGeom>
          <a:ln w="12600">
            <a:solidFill>
              <a:srgbClr val="ffff00"/>
            </a:solidFill>
            <a:miter/>
          </a:ln>
        </p:spPr>
      </p:pic>
      <p:sp>
        <p:nvSpPr>
          <p:cNvPr id="443" name=""/>
          <p:cNvSpPr/>
          <p:nvPr/>
        </p:nvSpPr>
        <p:spPr>
          <a:xfrm>
            <a:off x="6518160" y="1762200"/>
            <a:ext cx="1897200" cy="942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3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1905120" y="5029200"/>
            <a:ext cx="6172200" cy="15238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cc99ff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927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Risultati Chirurgia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1523880" y="1447920"/>
            <a:ext cx="731520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</a:rPr>
              <a:t>Chirurgia 38/4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ffffff"/>
                </a:solidFill>
                <a:latin typeface="Comic Sans MS"/>
              </a:rPr>
              <a:t>( 1 Paziente per rifiuto, 1 Paziente per progressione epatica)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empo intercorso tra chemio neo-adiuv.  e chirurgia: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it-IT" sz="2000" spc="-1" strike="noStrike">
                <a:solidFill>
                  <a:srgbClr val="ffff99"/>
                </a:solidFill>
                <a:latin typeface="Comic Sans MS"/>
              </a:rPr>
              <a:t>mediana 49 giorni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</a:rPr>
              <a:t>Tipo di Chirurgia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Comic Sans MS"/>
              </a:rPr>
              <a:t>-  TME in tutti i pazient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Comic Sans MS"/>
              </a:rPr>
              <a:t>2    Mile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lnSpc>
                <a:spcPct val="80000"/>
              </a:lnSpc>
              <a:spcBef>
                <a:spcPts val="400"/>
              </a:spcBef>
              <a:buClr>
                <a:srgbClr val="ffff99"/>
              </a:buClr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99"/>
                </a:solidFill>
                <a:latin typeface="Comic Sans MS"/>
              </a:rPr>
              <a:t>36  Resezioni anteriori del rett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228600" y="1447920"/>
            <a:ext cx="5791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057400" y="5334120"/>
            <a:ext cx="56386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omic Sans MS"/>
              </a:rPr>
              <a:t>Complicanze  Chirurgiche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Comic Sans MS"/>
              </a:rPr>
              <a:t>1 ascesso pelvico; 1 deiescenza della sutura, 1 necros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9277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00"/>
                </a:solidFill>
                <a:latin typeface="Comic Sans MS"/>
              </a:rPr>
              <a:t>Risultati: pRC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graphicFrame>
        <p:nvGraphicFramePr>
          <p:cNvPr id="452" name=""/>
          <p:cNvGraphicFramePr/>
          <p:nvPr/>
        </p:nvGraphicFramePr>
        <p:xfrm>
          <a:off x="498600" y="2057400"/>
          <a:ext cx="5445000" cy="383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8600" y="2057400"/>
                    <a:ext cx="5445000" cy="38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"/>
          <p:cNvSpPr/>
          <p:nvPr/>
        </p:nvSpPr>
        <p:spPr>
          <a:xfrm>
            <a:off x="2211840" y="3687840"/>
            <a:ext cx="30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043440" y="2666880"/>
            <a:ext cx="30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888000" y="2438280"/>
            <a:ext cx="30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1443240" y="4419720"/>
            <a:ext cx="307080" cy="27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58" name=""/>
          <p:cNvGrpSpPr/>
          <p:nvPr/>
        </p:nvGrpSpPr>
        <p:grpSpPr>
          <a:xfrm>
            <a:off x="5715000" y="1743120"/>
            <a:ext cx="3992400" cy="4271760"/>
            <a:chOff x="5715000" y="1743120"/>
            <a:chExt cx="3992400" cy="4271760"/>
          </a:xfrm>
        </p:grpSpPr>
        <p:grpSp>
          <p:nvGrpSpPr>
            <p:cNvPr id="459" name=""/>
            <p:cNvGrpSpPr/>
            <p:nvPr/>
          </p:nvGrpSpPr>
          <p:grpSpPr>
            <a:xfrm>
              <a:off x="5718960" y="1747800"/>
              <a:ext cx="3983400" cy="4267080"/>
              <a:chOff x="5718960" y="1747800"/>
              <a:chExt cx="3983400" cy="4267080"/>
            </a:xfrm>
          </p:grpSpPr>
          <p:grpSp>
            <p:nvGrpSpPr>
              <p:cNvPr id="460" name=""/>
              <p:cNvGrpSpPr/>
              <p:nvPr/>
            </p:nvGrpSpPr>
            <p:grpSpPr>
              <a:xfrm>
                <a:off x="5718960" y="1747800"/>
                <a:ext cx="3983400" cy="609480"/>
                <a:chOff x="5718960" y="1747800"/>
                <a:chExt cx="3983400" cy="609480"/>
              </a:xfrm>
            </p:grpSpPr>
            <p:sp>
              <p:nvSpPr>
                <p:cNvPr id="461" name=""/>
                <p:cNvSpPr/>
                <p:nvPr/>
              </p:nvSpPr>
              <p:spPr>
                <a:xfrm>
                  <a:off x="5781240" y="1747800"/>
                  <a:ext cx="3858840" cy="609480"/>
                </a:xfrm>
                <a:prstGeom prst="rect">
                  <a:avLst/>
                </a:prstGeom>
                <a:noFill/>
                <a:ln cap="rnd" w="28440">
                  <a:solidFill>
                    <a:srgbClr val="f8f8f8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</a:rPr>
                    <a:t>Number of patients</a:t>
                  </a: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</a:rPr>
                    <a:t>       (n = 38)              (%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2" name=""/>
                <p:cNvSpPr/>
                <p:nvPr/>
              </p:nvSpPr>
              <p:spPr>
                <a:xfrm>
                  <a:off x="5718960" y="1747800"/>
                  <a:ext cx="3983400" cy="609480"/>
                </a:xfrm>
                <a:prstGeom prst="rect">
                  <a:avLst/>
                </a:prstGeom>
                <a:noFill/>
                <a:ln cap="rnd" w="28440">
                  <a:solidFill>
                    <a:srgbClr val="a0a0a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3" name=""/>
              <p:cNvGrpSpPr/>
              <p:nvPr/>
            </p:nvGrpSpPr>
            <p:grpSpPr>
              <a:xfrm>
                <a:off x="5718960" y="2357280"/>
                <a:ext cx="3983400" cy="1676520"/>
                <a:chOff x="5718960" y="2357280"/>
                <a:chExt cx="3983400" cy="167652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5781240" y="2357280"/>
                  <a:ext cx="3858840" cy="1676520"/>
                </a:xfrm>
                <a:prstGeom prst="rect">
                  <a:avLst/>
                </a:prstGeom>
                <a:noFill/>
                <a:ln cap="rnd" w="28440">
                  <a:solidFill>
                    <a:srgbClr val="f8f8f8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00"/>
                      </a:solidFill>
                      <a:latin typeface="Times New Roman"/>
                      <a:ea typeface="Arial"/>
                    </a:rPr>
                    <a:t>Down-staging                  23                 (60,5%)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TRG Dworak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TRG1                               13                          3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TRG2                               12                          32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TRG3                                 8                          1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TRG4                                3                            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NA                                     2                            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5" name=""/>
                <p:cNvSpPr/>
                <p:nvPr/>
              </p:nvSpPr>
              <p:spPr>
                <a:xfrm>
                  <a:off x="5718960" y="2357280"/>
                  <a:ext cx="3983400" cy="1676520"/>
                </a:xfrm>
                <a:prstGeom prst="rect">
                  <a:avLst/>
                </a:prstGeom>
                <a:noFill/>
                <a:ln cap="rnd" w="28440">
                  <a:solidFill>
                    <a:srgbClr val="a0a0a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66" name=""/>
              <p:cNvGrpSpPr/>
              <p:nvPr/>
            </p:nvGrpSpPr>
            <p:grpSpPr>
              <a:xfrm>
                <a:off x="5718960" y="4033800"/>
                <a:ext cx="3983400" cy="1981080"/>
                <a:chOff x="5718960" y="4033800"/>
                <a:chExt cx="3983400" cy="198108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781240" y="4033800"/>
                  <a:ext cx="3858840" cy="1981080"/>
                </a:xfrm>
                <a:prstGeom prst="rect">
                  <a:avLst/>
                </a:prstGeom>
                <a:noFill/>
                <a:ln cap="rnd" w="28440">
                  <a:solidFill>
                    <a:srgbClr val="f8f8f8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 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ypTN                               38                        100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0N0                              3                             8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1N0                               1                          2,6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2No                              13                           3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3N2                               5                         13,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3N1                               5                         13,1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3N0                               9                           24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4N1                               1                          2,6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it-IT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pT4N2                               1                          2,6</a:t>
                  </a:r>
                  <a:r>
                    <a:rPr b="1" lang="it-IT" sz="1200" spc="-1" strike="noStrike">
                      <a:solidFill>
                        <a:srgbClr val="ffffff"/>
                      </a:solidFill>
                      <a:latin typeface="Times New Roman"/>
                      <a:ea typeface="Arial"/>
                    </a:rPr>
                    <a:t>                                                    </a:t>
                  </a: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  <a:p>
                  <a:pPr algn="just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2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718960" y="4033800"/>
                  <a:ext cx="3983400" cy="1981080"/>
                </a:xfrm>
                <a:prstGeom prst="rect">
                  <a:avLst/>
                </a:prstGeom>
                <a:noFill/>
                <a:ln cap="rnd" w="28440">
                  <a:solidFill>
                    <a:srgbClr val="a0a0a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69" name=""/>
            <p:cNvSpPr/>
            <p:nvPr/>
          </p:nvSpPr>
          <p:spPr>
            <a:xfrm>
              <a:off x="5715000" y="1743120"/>
              <a:ext cx="3992400" cy="291960"/>
            </a:xfrm>
            <a:prstGeom prst="rect">
              <a:avLst/>
            </a:prstGeom>
            <a:noFill/>
            <a:ln cap="rnd" w="28440">
              <a:solidFill>
                <a:srgbClr val="a0a0a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4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1219320" y="4419720"/>
            <a:ext cx="60948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87320" y="11592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Cetuximab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751" t="11533" r="0" b="11209"/>
          <a:stretch/>
        </p:blipFill>
        <p:spPr>
          <a:xfrm>
            <a:off x="380880" y="2971800"/>
            <a:ext cx="5862600" cy="298944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5478480" y="4800600"/>
            <a:ext cx="4707000" cy="307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Vie di trasduzione del segnale dipendenti dall’EGF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8960" y="1017720"/>
            <a:ext cx="9504360" cy="1873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nticorpo monoclonale chimerico della classe delle  immunoglobuline IgG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i lega in modo specifico alla regione extracellulare del Recettore per Epidermal Growth Factor (EGFR) inibendone la trasduzione del segnale a valle del recett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771120" y="304560"/>
            <a:ext cx="874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00"/>
                </a:solidFill>
                <a:latin typeface="Comic Sans MS"/>
              </a:rPr>
              <a:t>Risultati: os</a:t>
            </a:r>
            <a:endParaRPr b="0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9000" y="1295280"/>
            <a:ext cx="6114960" cy="3667320"/>
          </a:xfrm>
          <a:prstGeom prst="rect">
            <a:avLst/>
          </a:prstGeom>
          <a:solidFill>
            <a:srgbClr val="ffffff"/>
          </a:solidFill>
          <a:ln w="7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8255160" y="2622600"/>
            <a:ext cx="1440" cy="1440"/>
          </a:xfrm>
          <a:prstGeom prst="line">
            <a:avLst/>
          </a:prstGeom>
          <a:ln w="22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338960" y="2087640"/>
            <a:ext cx="90000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683320" y="2016000"/>
            <a:ext cx="167148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681520" y="1943280"/>
            <a:ext cx="1800" cy="727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014720" y="4416480"/>
            <a:ext cx="445788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4014720" y="1693440"/>
            <a:ext cx="1800" cy="27226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5861160" y="1398600"/>
            <a:ext cx="57240" cy="1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21008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282080" y="473400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731016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382880" y="4734000"/>
            <a:ext cx="478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42608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7497720" y="473400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526880" y="4734000"/>
            <a:ext cx="40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56252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560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7706160" y="4734000"/>
            <a:ext cx="40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743960" y="473400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77204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5480" y="473400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73560" y="4734000"/>
            <a:ext cx="709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7931160" y="473400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95924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031600" y="4734000"/>
            <a:ext cx="40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066520" y="4734000"/>
            <a:ext cx="40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10396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174880" y="4734000"/>
            <a:ext cx="478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821988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829116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64600" y="473400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8392680" y="4734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79440" y="445932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 rot="16200000">
            <a:off x="3616920" y="2334960"/>
            <a:ext cx="10116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3628080" y="225288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 rot="16200000">
            <a:off x="3608280" y="2161800"/>
            <a:ext cx="1180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3647160" y="2101320"/>
            <a:ext cx="40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3620520" y="2036880"/>
            <a:ext cx="9360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 rot="16200000">
            <a:off x="3628080" y="195768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 rot="16200000">
            <a:off x="3643560" y="1900440"/>
            <a:ext cx="478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 rot="16200000">
            <a:off x="3632040" y="1845720"/>
            <a:ext cx="709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rot="16200000">
            <a:off x="3651840" y="180144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rot="16200000">
            <a:off x="3632040" y="1752120"/>
            <a:ext cx="709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200000">
            <a:off x="3628080" y="1683000"/>
            <a:ext cx="7848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rot="16200000">
            <a:off x="3651840" y="1634760"/>
            <a:ext cx="31320" cy="1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820680" y="164304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3871440" y="164304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899880" y="164304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20680" y="188748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3871440" y="188748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99880" y="188748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3871440" y="213372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3899880" y="213372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3871440" y="238428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3899880" y="238428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3871440" y="263052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3899880" y="263052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3871440" y="287496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3899880" y="287496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3871440" y="312732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899880" y="312732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3871440" y="337176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3899880" y="337176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3871440" y="361620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3899880" y="361620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871440" y="386856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899880" y="386856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3871440" y="411480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899880" y="411480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3820680" y="432288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3871440" y="4322880"/>
            <a:ext cx="3276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899880" y="4322880"/>
            <a:ext cx="64800" cy="1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8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 flipH="1" flipV="1">
            <a:off x="7329600" y="4416480"/>
            <a:ext cx="25200" cy="7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3986280" y="1693800"/>
            <a:ext cx="22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3986280" y="1946160"/>
            <a:ext cx="22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3986280" y="2190600"/>
            <a:ext cx="22320" cy="180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3986280" y="244332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3986280" y="268776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 flipH="1">
            <a:off x="3986280" y="293220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3986280" y="318456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3986280" y="342900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3986280" y="367524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3986280" y="392760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3986280" y="417204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 flipH="1">
            <a:off x="3986280" y="4416480"/>
            <a:ext cx="22320" cy="1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683320" y="2664000"/>
            <a:ext cx="16002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12 mesi :  97,5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21 mesi :  93,6%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4027320" y="1943280"/>
            <a:ext cx="1656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4967280" y="4416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1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6110280" y="4416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2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7253280" y="4416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3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8319960" y="4416480"/>
            <a:ext cx="533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mic Sans MS"/>
              </a:rPr>
              <a:t>400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762120" y="2057400"/>
            <a:ext cx="205740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Comic Sans MS"/>
              </a:rPr>
              <a:t>OS dei 40 pazienti</a:t>
            </a: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7337520" y="2016000"/>
            <a:ext cx="1440" cy="730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990720" y="5867280"/>
            <a:ext cx="8381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Comic Sans MS"/>
              </a:rPr>
              <a:t>2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 Pazienti su 40 sono deceduti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(1 per carcinomatosi, 1 per metastasi polmonari e peritoneali)</a:t>
            </a:r>
            <a:r>
              <a:rPr b="0" lang="it-IT" sz="1600" spc="-1" strike="noStrike">
                <a:solidFill>
                  <a:srgbClr val="ffffff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771120" y="11556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fronti  con altri  stud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228240" y="990720"/>
            <a:ext cx="9753480" cy="22860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ial di II fase: trattamento preoperatorio con Cetuximab, Capecitabina, Oxaliplat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GB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0 pz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TE 1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8 Gy/fr; 5 giorni sett x 5 sett con dose totale di 45 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etuximab 400 mg – 250  mg /settx 5 sett.+ Oxaliplatino 50 mg/m</a:t>
            </a:r>
            <a:r>
              <a:rPr b="0" i="1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1 /sett x 5 sett + Capecitabina 650 mg/m</a:t>
            </a:r>
            <a:r>
              <a:rPr b="0" i="1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2 volte/die concomitante alla RTE; &gt; 825 mg/m</a:t>
            </a:r>
            <a:r>
              <a:rPr b="0" i="1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2 volte/di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ssicità di G1/2 cutanee </a:t>
            </a:r>
            <a:r>
              <a:rPr b="0" i="1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87%);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diarrea (65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ssicità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di G3 (15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ssicità di G4 (7,5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C (5%)</a:t>
            </a:r>
            <a:r>
              <a:rPr b="0" i="1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                    </a:t>
            </a:r>
            <a:r>
              <a:rPr b="1" lang="en-GB" sz="1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Machiels JP</a:t>
            </a:r>
            <a:r>
              <a:rPr b="1" lang="it-IT" sz="1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 et All. </a:t>
            </a:r>
            <a:r>
              <a:rPr b="1" lang="en-GB" sz="1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Ann Oncol. 2007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47680" y="4114800"/>
            <a:ext cx="9734400" cy="24814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rial di I-II fase: trattamento preoperatorio con Cetuximab, Capecitabina, Oxaliplatin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60 pz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RTE 1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8 Gy/fr; 5 giorni sett x 5 sett con dose totale di 50.4 Gy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etuximab 400 mg (2-7/die prima della RT - 250  mg /sett)  + Oxaliplatino 50 mg/m</a:t>
            </a:r>
            <a:r>
              <a:rPr b="0" i="1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(giorno 1,8,22,29) + Capecitabina  (1-14 e 22-35)   ed a tre livelli di dose durante la I fase dello studio (1,000, 1,300, e 1,650 mg/m</a:t>
            </a:r>
            <a:r>
              <a:rPr b="0" i="1" lang="it-IT" sz="12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/die 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ssicità di G3-4 </a:t>
            </a:r>
            <a:r>
              <a:rPr b="0" i="1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(19%)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- Diarre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plicanze post operatorie (33%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pRC (9%)</a:t>
            </a:r>
            <a:r>
              <a:rPr b="0" i="1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                                                                                                         </a:t>
            </a:r>
            <a:r>
              <a:rPr b="1" lang="en-GB" sz="1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Rödel C</a:t>
            </a:r>
            <a:r>
              <a:rPr b="1" lang="it-IT" sz="1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et All.</a:t>
            </a:r>
            <a:r>
              <a:rPr b="1" lang="en-GB" sz="14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 Int J Radiat Oncol Biol Phys.2007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152280" y="1066680"/>
            <a:ext cx="1013472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Phase II study of pre-operative chemoradiation with Cetuximab, Irinotecan and Capecitabine in patients with locally advanced respectable rectal cancer. 9th World Congress on Gastrointestinal  cancer                   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en-GB" sz="2400" spc="-1" strike="noStrike" baseline="30000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4638960" cy="23497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228600" y="2286000"/>
            <a:ext cx="3755880" cy="426708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7543800" y="3505320"/>
            <a:ext cx="380880" cy="152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8001000" y="3505320"/>
            <a:ext cx="990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23.1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8001000" y="3679920"/>
            <a:ext cx="99072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7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6377760" y="5977080"/>
            <a:ext cx="379296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 baseline="30000">
                <a:solidFill>
                  <a:srgbClr val="ff0000"/>
                </a:solidFill>
                <a:latin typeface="Comic Sans MS"/>
                <a:ea typeface="Times New Roman"/>
              </a:rPr>
              <a:t>Hong YS et All. : Barcelona, 2007 (abstr 4045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771120" y="298080"/>
            <a:ext cx="874404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Confronti  con altri  studi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3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4"/>
          <a:stretch/>
        </p:blipFill>
        <p:spPr>
          <a:xfrm>
            <a:off x="1447920" y="4172040"/>
            <a:ext cx="2209680" cy="19368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4345560" y="4986360"/>
            <a:ext cx="2215440" cy="89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Risultati migliori !!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Buona tolleranza !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876"/>
              </a:spcBef>
              <a:buClr>
                <a:srgbClr val="ffff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o 5-F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750600" y="803160"/>
            <a:ext cx="8744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clusion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247320" y="2025720"/>
            <a:ext cx="9791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</a:rPr>
              <a:t>Il follow-up è troppo limitato per giudizi su  OS e DF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Il trattamento preoperatorio di RT pelvica in combinazione con Cetuximab e 5FU nei pazienti con carcinoma avanzato del retto è </a:t>
            </a:r>
            <a:r>
              <a:rPr b="0" i="1" lang="it-IT" sz="24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fattibile e ben tollera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Lo studio è stato chiuso per il  </a:t>
            </a:r>
            <a:r>
              <a:rPr b="0" i="1" lang="it-IT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basso tasso di pRC raggiunto</a:t>
            </a:r>
            <a:r>
              <a:rPr b="0" i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(8%)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ts val="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71120" y="442800"/>
            <a:ext cx="87440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clusioni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174600" y="990720"/>
            <a:ext cx="986472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0" y="1143000"/>
            <a:ext cx="10120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1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’è ancora spazio per l’utilizzo del Cetuximab nei trattamenti preoperatori del carcinoma del retto avanzato 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18960" y="2133720"/>
            <a:ext cx="97394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Le  scarse  risposte all’associazione Cetuximab, 5-FU, RTE sono dovute 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  <a:ea typeface="Times New Roman"/>
              </a:rPr>
              <a:t>tipo di regime terapeutico e timing utilizzati ?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34960" y="3200400"/>
            <a:ext cx="9067680" cy="3048840"/>
          </a:xfrm>
          <a:prstGeom prst="rect">
            <a:avLst/>
          </a:prstGeom>
          <a:gradFill rotWithShape="0">
            <a:gsLst>
              <a:gs pos="0">
                <a:srgbClr val="339933"/>
              </a:gs>
              <a:gs pos="100000">
                <a:srgbClr val="acd5a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Dati sperimentali in vitro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Effetto della sequenza CHT (derivati del Cisplatino,Taxani) e EGFR inibitori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fetto Antagonistico</a:t>
            </a:r>
            <a:r>
              <a:rPr b="0" i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 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:  </a:t>
            </a:r>
            <a:r>
              <a:rPr b="0" i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il trattamento con un inibitore dell’ EGFR è effettuato prima della C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6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Effetto Sinergico</a:t>
            </a:r>
            <a:r>
              <a:rPr b="0" i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(antiproliferativo) :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0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 </a:t>
            </a:r>
            <a:r>
              <a:rPr b="0" i="1" lang="it-IT" sz="16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se il trattamento con un inibitore dell’ EGFR è effettuato dopo della CHT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	</a:t>
            </a:r>
            <a:r>
              <a:rPr b="1" lang="it-IT" sz="1600" spc="-1" strike="noStrike">
                <a:solidFill>
                  <a:srgbClr val="99ff33"/>
                </a:solidFill>
                <a:latin typeface="Comic Sans MS"/>
                <a:ea typeface="Times New Roman"/>
              </a:rPr>
              <a:t>                 </a:t>
            </a:r>
            <a:r>
              <a:rPr b="0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Morelli MP et All. </a:t>
            </a:r>
            <a:r>
              <a:rPr b="0" lang="en-GB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Ann Oncol. 2005 May</a:t>
            </a:r>
            <a:r>
              <a:rPr b="0" lang="it-IT" sz="12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318960" y="199800"/>
            <a:ext cx="9739440" cy="17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STUDIO DI FASE II CON CETUXIMAB SEGUITO DA 5FU, CETUXIMAB E RADIOTERAPIA PELVICA COME TRATTAMENTO NEO-ADIUVANTE DEL CARCINOMA RETTALE LOCALMENTE AVANZATO OPERABILE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343080" y="2001600"/>
            <a:ext cx="99439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G. Tolento</a:t>
            </a:r>
            <a:r>
              <a:rPr b="1" lang="it-IT" sz="2000" spc="-1" strike="noStrike" u="sng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 </a:t>
            </a:r>
            <a:r>
              <a:rPr b="1" lang="it-IT" sz="2000" spc="-1" strike="noStrike" u="sng" baseline="30000">
                <a:solidFill>
                  <a:srgbClr val="ffffff"/>
                </a:solidFill>
                <a:uFillTx/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P. Antogno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F.  Berto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A.M. Falch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P. Giacobazz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M. Parmiggia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S. Pratissol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S.Scicolone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A. Vicar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1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F. Bertolin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C. De Alis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G. Luppi 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2 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S. Chiara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3</a:t>
            </a:r>
            <a:r>
              <a:rPr b="1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, T. Scolaro</a:t>
            </a:r>
            <a:r>
              <a:rPr b="1" lang="it-IT" sz="20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457200" y="3724200"/>
            <a:ext cx="9358200" cy="2228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1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.O. Radioterapia Oncologica, Azienda Ospedaliera Universitar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oliclinico di Moden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2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ipartimento Integrato di Oncologia ed Ematologia, Azien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Ospedaliera Universitaria, Policlinico di Modena </a:t>
            </a:r>
            <a:br>
              <a:rPr sz="2000"/>
            </a:b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3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ruttura Complessa Oncologia Medica A, Istituto Tumori d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Gen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4 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truttura Complessa Radioterapia, Istituto Tumori di Genov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5" name=""/>
          <p:cNvSpPr txBox="1"/>
          <p:nvPr/>
        </p:nvSpPr>
        <p:spPr>
          <a:xfrm rot="20668800">
            <a:off x="3581280" y="2362320"/>
            <a:ext cx="3889440" cy="263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56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Grazie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6" name="" descr=""/>
          <p:cNvPicPr/>
          <p:nvPr/>
        </p:nvPicPr>
        <p:blipFill>
          <a:blip r:embed="rId3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1760" y="221760"/>
            <a:ext cx="8753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AZIONALE DELLO STUDIO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18600" y="2587680"/>
            <a:ext cx="9829800" cy="22096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OBIETTIVO  PRINCIPALE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valutare la fattibilità e l’efficacia di un trattamento preoperatorio con </a:t>
            </a:r>
            <a:r>
              <a:rPr b="0" i="1" lang="en-US" sz="2800" spc="-1" strike="noStrike">
                <a:solidFill>
                  <a:srgbClr val="ffff00"/>
                </a:solidFill>
                <a:latin typeface="Comic Sans MS"/>
              </a:rPr>
              <a:t>Cetuximab + 5-FU + RT pelvica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er tumori del retto localmente avanzati operabili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uT3-uT4; N0-N1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19920" y="1981080"/>
            <a:ext cx="0" cy="304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71480" y="1676520"/>
            <a:ext cx="9363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Studio di fase II, non randomizzato, multicentrico, prospettico ad un braccio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228240" y="990720"/>
            <a:ext cx="9667800" cy="55339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OBIETTIVI PRIM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alutare 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ossicit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assi di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risposta patologica completa  (pRC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800" spc="-1" strike="noStrike">
                <a:solidFill>
                  <a:srgbClr val="ff0066"/>
                </a:solidFill>
                <a:latin typeface="Comic Sans MS"/>
                <a:ea typeface="Times New Roman"/>
              </a:rPr>
              <a:t>OBIETTIVI SECONDARI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Valutare efficacia complessiva del trattamento e parametri biologici 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Sopravvivenza libera da malattia (DFS)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Tasso di conservazione dello sfintere anal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ametri biologici (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espressione del EGFR, TS, p53, MAP  kinasi, Ki 67, p21, bcl-2</a:t>
            </a: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)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 algn="just">
              <a:lnSpc>
                <a:spcPct val="120000"/>
              </a:lnSpc>
              <a:spcBef>
                <a:spcPts val="451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Profilo cellulare immunologico del tumore </a:t>
            </a:r>
            <a:r>
              <a:rPr b="0" i="1" lang="it-IT" sz="1800" spc="-1" strike="noStrike">
                <a:solidFill>
                  <a:srgbClr val="ffffff"/>
                </a:solidFill>
                <a:latin typeface="Comic Sans MS"/>
              </a:rPr>
              <a:t>(espressione:</a:t>
            </a:r>
            <a:r>
              <a:rPr b="0" i="1" lang="en-GB" sz="1800" spc="-1" strike="noStrike">
                <a:solidFill>
                  <a:srgbClr val="ffffff"/>
                </a:solidFill>
                <a:latin typeface="Comic Sans MS"/>
              </a:rPr>
              <a:t>CD45RO, CD68, CD56, CD4+/CD25+, CD31, HLA-A, -B and –C)</a:t>
            </a:r>
            <a:r>
              <a:rPr b="0" lang="en-GB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0"/>
            <a:ext cx="87534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RAZIONALE DELLO STUD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218040" y="3733920"/>
            <a:ext cx="342720" cy="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37640" y="3409920"/>
            <a:ext cx="2296080" cy="70380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5-FU + Cetuxima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e Radioterap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03120" y="3016080"/>
            <a:ext cx="2916360" cy="100872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Diagnosi di adenoca del retto localmente avanza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573360" y="3174840"/>
            <a:ext cx="1863720" cy="100872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  <a:ea typeface="Arial"/>
              </a:rPr>
              <a:t>Cetuximab per 3 settima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42840" y="5665680"/>
            <a:ext cx="1211040" cy="36828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 BIOP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446800" y="3733920"/>
            <a:ext cx="428400" cy="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44440" y="4540320"/>
            <a:ext cx="546120" cy="976320"/>
          </a:xfrm>
          <a:prstGeom prst="upArrow">
            <a:avLst>
              <a:gd name="adj1" fmla="val 50000"/>
              <a:gd name="adj2" fmla="val 44693"/>
            </a:avLst>
          </a:prstGeom>
          <a:solidFill>
            <a:srgbClr val="99c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438880" y="4540320"/>
            <a:ext cx="546120" cy="976320"/>
          </a:xfrm>
          <a:prstGeom prst="upArrow">
            <a:avLst>
              <a:gd name="adj1" fmla="val 50000"/>
              <a:gd name="adj2" fmla="val 44693"/>
            </a:avLst>
          </a:prstGeom>
          <a:solidFill>
            <a:srgbClr val="99ccff"/>
          </a:soli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87960" y="5665680"/>
            <a:ext cx="1288800" cy="368280"/>
          </a:xfrm>
          <a:prstGeom prst="rect">
            <a:avLst/>
          </a:prstGeom>
          <a:noFill/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  <a:ea typeface="Arial"/>
              </a:rPr>
              <a:t>II BIOPSI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552760" y="1700280"/>
            <a:ext cx="5992920" cy="64260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Determinazione fattori biologici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Comic Sans MS"/>
                <a:ea typeface="Arial"/>
              </a:rPr>
              <a:t>EGFR, TS, p53, MAP chinasi, Ki67, p21, bcl-2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744040" y="3715920"/>
            <a:ext cx="501480" cy="17640"/>
          </a:xfrm>
          <a:prstGeom prst="line">
            <a:avLst/>
          </a:prstGeom>
          <a:ln w="38160">
            <a:solidFill>
              <a:srgbClr val="cce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245520" y="2060640"/>
            <a:ext cx="514440" cy="26542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381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  <a:ea typeface="Arial"/>
              </a:rPr>
              <a:t>CHIRURG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7040" y="1154160"/>
            <a:ext cx="9802800" cy="305280"/>
          </a:xfrm>
          <a:prstGeom prst="rect">
            <a:avLst/>
          </a:prstGeom>
          <a:gradFill rotWithShape="0">
            <a:gsLst>
              <a:gs pos="0">
                <a:srgbClr val="00002f"/>
              </a:gs>
              <a:gs pos="50000">
                <a:srgbClr val="000066"/>
              </a:gs>
              <a:gs pos="100000">
                <a:srgbClr val="00002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338640"/>
                <a:tab algn="l" pos="6676920"/>
                <a:tab algn="l" pos="1001556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Studio di fase II con cetuximab seguito da 5-FU e Cetuximab + RT pelvica</a:t>
            </a:r>
            <a:r>
              <a:rPr b="1" lang="en-US" sz="2000" spc="-1" strike="noStrike">
                <a:solidFill>
                  <a:srgbClr val="ffff00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71480" y="146160"/>
            <a:ext cx="874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ISEGNO DELLO STUDIO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1614600" y="1197000"/>
            <a:ext cx="6121440" cy="26668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1.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  Diagnosi di Adenocarcinoma del retto localmente avanzato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(uT3-T4;N0-1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2.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  Assenza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 di metastas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3.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  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tà &gt;= 18 ann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4.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  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Performance Status (ECOG) &lt;= 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5.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  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Adeguata funzionalità epatica, renale, midoll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6.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   Determinazione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EGFR tumorale con il metodo IHC Dako test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0" algn="just">
              <a:lnSpc>
                <a:spcPct val="16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Arial"/>
              </a:rPr>
              <a:t>7.   Consenso informato</a:t>
            </a: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47680" y="80028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CRITERI DI INCLU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15920"/>
            <a:ext cx="8524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Materiali e Metodi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612800" y="4289400"/>
            <a:ext cx="6845400" cy="2644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1.    Malattia metastatica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2.   Precedente RT pelvica, CHT o altri tumori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   </a:t>
            </a: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ad eccezione di tumori   cutanei non melanoma e del carcinoma in situ della cervic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3.   Copatologie cardiache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.   Disordini neurologici e psichiatrici important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5.   Malattie infiammatorie croniche intestinali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6.   Abuso di alcol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 algn="just">
              <a:lnSpc>
                <a:spcPct val="14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ffffff"/>
                </a:solidFill>
                <a:latin typeface="Comic Sans MS"/>
              </a:rPr>
              <a:t>7.   Gravidanza e allattamento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18960" y="389556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Comic Sans MS"/>
              </a:rPr>
              <a:t>CRITERI DI ESCLUSION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49040" y="1387440"/>
            <a:ext cx="5715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Comic Sans MS"/>
              </a:rPr>
              <a:t>VALUTAZIONE PRETRATTAMENTO</a:t>
            </a:r>
            <a:endParaRPr b="0" lang="en-US" sz="2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371240" y="2133720"/>
            <a:ext cx="7010280" cy="4038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Anamnesi ed esame clinic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Markers tumorali: CEA, CA 19.9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Colonscopi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Biopsia (colonscopia e rettoscopia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cografia epatica e/o TC dell’addome superio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TC della pelv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cografia rett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lettrocardiogram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Emocromo completo, funzionalità epatica e rena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990720" y="333360"/>
            <a:ext cx="8524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Materiali e Metodi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750960" y="404640"/>
            <a:ext cx="8744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SIDERAZIONI STATISTI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(Bryant  - Day  Te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90600" y="1414440"/>
            <a:ext cx="9432720" cy="37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Massima tossicità accettata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massimo numero di interruzioni  del trattamento, per tossicità severa G3-G4,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ri al  10% dei pazienti trattati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con Cetuximab + 5-FU + RT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>
              <a:lnSpc>
                <a:spcPct val="130000"/>
              </a:lnSpc>
              <a:spcBef>
                <a:spcPts val="1125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  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it-IT" sz="1800" spc="-1" strike="noStrike">
                <a:solidFill>
                  <a:srgbClr val="ffffff"/>
                </a:solidFill>
                <a:latin typeface="Comic Sans MS"/>
              </a:rPr>
              <a:t>baseline per il braccio di controllo : 5% </a:t>
            </a:r>
            <a:r>
              <a:rPr b="1" lang="it-IT" sz="1800" spc="-1" strike="noStrike" baseline="30000">
                <a:solidFill>
                  <a:srgbClr val="ffffff"/>
                </a:solidFill>
                <a:latin typeface="Comic Sans MS"/>
                <a:ea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00"/>
                </a:solidFill>
                <a:latin typeface="Comic Sans MS"/>
              </a:rPr>
              <a:t>Tasso minimo di pCR accettato: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1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Comic Sans MS"/>
              </a:rPr>
              <a:t>(errore alfa=0.1 ; errore Beta 0.1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63680" y="5670720"/>
            <a:ext cx="943272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° di pazienti previsti :  29 per il 1° step ;  37 per il 2° ste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000075"/>
            </a:gs>
            <a:gs pos="50000">
              <a:srgbClr val="0000ff"/>
            </a:gs>
            <a:gs pos="100000">
              <a:srgbClr val="000075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771480" y="363600"/>
            <a:ext cx="87440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CONSIDERAZIONI STATISTICH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90600" y="1484280"/>
            <a:ext cx="95742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1° step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rruolamento di 29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z. 26 pazienti trattamento completo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4 pazienti in pR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Nessuna tossicità GR 3-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419720" y="2585880"/>
            <a:ext cx="0" cy="12240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190600" y="3581280"/>
            <a:ext cx="5832720" cy="318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2° step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Arruolamento di 37  (Tot 66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Pazienti 60/66 pazienti trattamen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   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comple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Necessarie  10/60  pRC per propor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         </a:t>
            </a:r>
            <a:r>
              <a:rPr b="0" lang="it-IT" sz="2000" spc="-1" strike="noStrike">
                <a:solidFill>
                  <a:srgbClr val="ffff00"/>
                </a:solidFill>
                <a:latin typeface="Comic Sans MS"/>
                <a:ea typeface="Times New Roman"/>
              </a:rPr>
              <a:t>ulteriori sviluppi di fase III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r>
              <a:rPr b="0" lang="it-IT" sz="2000" spc="-1" strike="noStrike">
                <a:solidFill>
                  <a:srgbClr val="ffffff"/>
                </a:solidFill>
                <a:latin typeface="Comic Sans MS"/>
                <a:ea typeface="Times New Roman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867800" y="6446880"/>
            <a:ext cx="2419200" cy="411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15T20:13:57Z</dcterms:created>
  <dc:creator>Azienda Ospedaliera Bologna</dc:creator>
  <dc:description/>
  <dc:language>en-US</dc:language>
  <cp:lastModifiedBy>TC</cp:lastModifiedBy>
  <cp:lastPrinted>1998-01-01T04:30:20Z</cp:lastPrinted>
  <dcterms:modified xsi:type="dcterms:W3CDTF">2007-11-13T08:45:09Z</dcterms:modified>
  <cp:revision>708</cp:revision>
  <dc:subject/>
  <dc:title>TRATTAMENTO RADIO-CHEMIOTERAPICO NEL CARCINOMA DEL CANALE ANALE </dc:title>
</cp:coreProperties>
</file>