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498B48-9665-4AF4-9C52-339F3CF2F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CCB880-886B-4FC1-8FDB-FB9384422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E535DE-88EA-44EF-97E7-B05ED674F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40F8C0-DAD9-472E-93B7-540B6E2FD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7E611-25B6-4083-8CEE-70279DFCA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A7C46-4681-48B1-B853-19BDFC4EC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637E8-BA09-4BF5-BCB6-22ABE63ED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D688F-527C-4A12-A38A-BA06B859B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E67E8-CD5C-4125-8466-CD07C211D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1559F-6D01-4ED0-B7E1-E2F9B1E23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39CE1-3010-4AEA-A5C6-59A8D8BB4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5CD61A-6F67-4C5A-8CC3-A4A030E39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B4936-BADF-473E-A2D5-FE5CBE855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532B1-2CD4-4D74-9B27-DB08204FE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C43A8-ED60-4A80-B6F6-9966E3B03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B6F9C-6C65-4706-A619-D0E6536CB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58A71-9904-4B20-A0CB-E8C12E899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7A0E45-80BB-420B-81B9-90EE24104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946FD6-973D-4255-A7A1-0A996B3AE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D00EDB-F90B-49F7-BF89-1CC4588FB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132CB1-0109-4914-8F2F-606D6CF5D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BC819C-3DC1-4F6A-8BD4-4EBDF7065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2C55BE-1C7E-4C60-87FD-7B08091A1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681918-0544-44E2-B615-29ABD17B8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EB67B-FD25-485F-B53F-F0AD19842DB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83092-65F1-4068-96A6-B5F28D47619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914400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RECIDIVA LINFONODALE  DOPO TRATTAMENTO CONSERVATIVO IN PAZIENTI AFFETTE DA CARCINOMA DELLA MAMMELLA IN STADIO INIZIALE CON 1-3 LINFONODI ASCELLARI POSITIVI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78920" y="3933360"/>
            <a:ext cx="8713800" cy="29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8128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I. Palumbo </a:t>
            </a:r>
            <a:r>
              <a:rPr b="1" lang="it-IT" sz="2400" spc="-1" strike="noStrike" baseline="30000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, G. Ivaldi </a:t>
            </a:r>
            <a:r>
              <a:rPr b="1" lang="it-IT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, M.S. D’Ambrosio </a:t>
            </a:r>
            <a:r>
              <a:rPr b="1" lang="it-IT" sz="2400" spc="-1" strike="noStrike" baseline="30000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8128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A. Laudati </a:t>
            </a:r>
            <a:r>
              <a:rPr b="1" lang="it-IT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, F. Corazzi </a:t>
            </a:r>
            <a:r>
              <a:rPr b="1" lang="it-IT" sz="2400" spc="-1" strike="noStrike" baseline="30000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, G. Belli </a:t>
            </a:r>
            <a:r>
              <a:rPr b="1" lang="it-IT" sz="2400" spc="-1" strike="noStrike" baseline="30000">
                <a:solidFill>
                  <a:srgbClr val="ffffff"/>
                </a:solidFill>
                <a:latin typeface="Times New Roman"/>
              </a:rPr>
              <a:t>2 </a:t>
            </a: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, V. Dell’Acqua </a:t>
            </a:r>
            <a:r>
              <a:rPr b="1" lang="it-IT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,  C. Fodor </a:t>
            </a:r>
            <a:r>
              <a:rPr b="1" lang="it-IT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, V. De Angelis </a:t>
            </a:r>
            <a:r>
              <a:rPr b="1" lang="it-IT" sz="2400" spc="-1" strike="noStrike" baseline="30000">
                <a:solidFill>
                  <a:srgbClr val="ffffff"/>
                </a:solidFill>
                <a:latin typeface="Times New Roman"/>
              </a:rPr>
              <a:t>3 </a:t>
            </a: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, A. Cavaliere </a:t>
            </a:r>
            <a:r>
              <a:rPr b="1" lang="it-IT" sz="2400" spc="-1" strike="noStrike" baseline="30000">
                <a:solidFill>
                  <a:srgbClr val="ffffff"/>
                </a:solidFill>
                <a:latin typeface="Times New Roman"/>
              </a:rPr>
              <a:t>4 </a:t>
            </a: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8128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C. Aristei </a:t>
            </a:r>
            <a:r>
              <a:rPr b="1" lang="it-IT" sz="2400" spc="-1" strike="noStrike" baseline="30000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, R. Orecchia </a:t>
            </a:r>
            <a:r>
              <a:rPr b="1" lang="it-IT" sz="2400" spc="-1" strike="noStrike" baseline="30000">
                <a:solidFill>
                  <a:srgbClr val="ffffff"/>
                </a:solidFill>
                <a:latin typeface="Times New Roman"/>
              </a:rPr>
              <a:t>2,5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8128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8128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 baseline="30000">
                <a:solidFill>
                  <a:srgbClr val="ffffff"/>
                </a:solidFill>
                <a:latin typeface="Times New Roman"/>
              </a:rPr>
              <a:t>1 </a:t>
            </a:r>
            <a:r>
              <a:rPr b="0" lang="it-IT" sz="1800" spc="-1" strike="noStrike">
                <a:solidFill>
                  <a:srgbClr val="ffffff"/>
                </a:solidFill>
                <a:latin typeface="Times New Roman"/>
              </a:rPr>
              <a:t>Radioterapia Oncologica Università degli Studi di Perugia ed Azienda Ospedaliera di Perugia; </a:t>
            </a:r>
            <a:r>
              <a:rPr b="0" lang="it-IT" sz="1800" spc="-1" strike="noStrike" baseline="30000">
                <a:solidFill>
                  <a:srgbClr val="ffffff"/>
                </a:solidFill>
                <a:latin typeface="Times New Roman"/>
              </a:rPr>
              <a:t>2 </a:t>
            </a:r>
            <a:r>
              <a:rPr b="0" lang="it-IT" sz="1800" spc="-1" strike="noStrike">
                <a:solidFill>
                  <a:srgbClr val="ffffff"/>
                </a:solidFill>
                <a:latin typeface="Times New Roman"/>
              </a:rPr>
              <a:t>Radioterapia Oncologica I.E.O. Milano;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8128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it-IT" sz="18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it-IT" sz="1800" spc="-1" strike="noStrike">
                <a:solidFill>
                  <a:srgbClr val="ffffff"/>
                </a:solidFill>
                <a:latin typeface="Times New Roman"/>
              </a:rPr>
              <a:t> Oncologia Medica A.S.L. 3 Perugia; </a:t>
            </a:r>
            <a:r>
              <a:rPr b="0" lang="it-IT" sz="1800" spc="-1" strike="noStrike" baseline="30000">
                <a:solidFill>
                  <a:srgbClr val="ffffff"/>
                </a:solidFill>
                <a:latin typeface="Times New Roman"/>
              </a:rPr>
              <a:t>4 </a:t>
            </a:r>
            <a:r>
              <a:rPr b="0" lang="it-IT" sz="1800" spc="-1" strike="noStrike">
                <a:solidFill>
                  <a:srgbClr val="ffffff"/>
                </a:solidFill>
                <a:latin typeface="Times New Roman"/>
              </a:rPr>
              <a:t>Anatomia Patologica Università degli Studi di Perugia ed Azienda Ospedaliera di Perugia; </a:t>
            </a:r>
            <a:r>
              <a:rPr b="0" lang="it-IT" sz="1800" spc="-1" strike="noStrike" baseline="30000">
                <a:solidFill>
                  <a:srgbClr val="ffffff"/>
                </a:solidFill>
                <a:latin typeface="Times New Roman"/>
              </a:rPr>
              <a:t>5 </a:t>
            </a:r>
            <a:r>
              <a:rPr b="0" lang="it-IT" sz="1800" spc="-1" strike="noStrike">
                <a:solidFill>
                  <a:srgbClr val="ffffff"/>
                </a:solidFill>
                <a:latin typeface="Times New Roman"/>
              </a:rPr>
              <a:t>Radioterapia Oncologica Università degli Studi di  Milano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RISULTATI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763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00"/>
                </a:solidFill>
                <a:latin typeface="Times New Roman"/>
              </a:rPr>
              <a:t>TEMPO MEDIANO ALLA RECIDIVA LINFONODALE:</a:t>
            </a:r>
            <a:r>
              <a:rPr b="1" lang="it-IT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it-IT" sz="2800" spc="-1" strike="noStrike">
                <a:solidFill>
                  <a:srgbClr val="ffffff"/>
                </a:solidFill>
                <a:latin typeface="Times New Roman"/>
              </a:rPr>
              <a:t>91 mesi (range 33-129 mesi)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00"/>
                </a:solidFill>
                <a:latin typeface="Times New Roman"/>
              </a:rPr>
              <a:t>NODAL RELAPSE FREE SURVIVAL</a:t>
            </a:r>
            <a:r>
              <a:rPr b="1" lang="it-IT" sz="2800" spc="-1" strike="noStrike">
                <a:solidFill>
                  <a:srgbClr val="ffff00"/>
                </a:solidFill>
                <a:latin typeface="Garamond"/>
              </a:rPr>
              <a:t>:</a:t>
            </a:r>
            <a:r>
              <a:rPr b="1" lang="it-IT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it-IT" sz="2800" spc="-1" strike="noStrike">
                <a:solidFill>
                  <a:srgbClr val="ffffff"/>
                </a:solidFill>
                <a:latin typeface="Times New Roman"/>
              </a:rPr>
              <a:t>a 5 anni 97,2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± 0,7 </a:t>
            </a:r>
            <a:r>
              <a:rPr b="0" lang="it-IT" sz="2800" spc="-1" strike="noStrike">
                <a:solidFill>
                  <a:srgbClr val="ffffff"/>
                </a:solidFill>
                <a:latin typeface="Times New Roman"/>
              </a:rPr>
              <a:t>%,</a:t>
            </a:r>
            <a:r>
              <a:rPr b="0" lang="it-IT" sz="2800" spc="-1" strike="noStrike">
                <a:solidFill>
                  <a:srgbClr val="0099cc"/>
                </a:solidFill>
                <a:latin typeface="Times New Roman"/>
              </a:rPr>
              <a:t> </a:t>
            </a:r>
            <a:r>
              <a:rPr b="0" lang="it-IT" sz="2800" spc="-1" strike="noStrike">
                <a:solidFill>
                  <a:srgbClr val="ffffff"/>
                </a:solidFill>
                <a:latin typeface="Times New Roman"/>
              </a:rPr>
              <a:t>a 10 anni</a:t>
            </a:r>
            <a:r>
              <a:rPr b="0" lang="it-IT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it-IT" sz="2800" spc="-1" strike="noStrike">
                <a:solidFill>
                  <a:srgbClr val="ffffff"/>
                </a:solidFill>
                <a:latin typeface="Times New Roman"/>
              </a:rPr>
              <a:t>93,8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± 1,4%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00"/>
                </a:solidFill>
                <a:latin typeface="Times New Roman"/>
              </a:rPr>
              <a:t>OUTCOME DEI PAZIENTI CON RECIDIVA LINFONODALE:</a:t>
            </a:r>
            <a:r>
              <a:rPr b="1" lang="it-IT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it-IT" sz="2800" spc="-1" strike="noStrike">
                <a:solidFill>
                  <a:srgbClr val="ffffcc"/>
                </a:solidFill>
                <a:latin typeface="Times New Roman"/>
              </a:rPr>
              <a:t>10/25 decedute</a:t>
            </a:r>
            <a:r>
              <a:rPr b="1" lang="it-IT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it-IT" sz="2800" spc="-1" strike="noStrike">
                <a:solidFill>
                  <a:srgbClr val="ffffcc"/>
                </a:solidFill>
                <a:latin typeface="Times New Roman"/>
              </a:rPr>
              <a:t> (per malattia); </a:t>
            </a:r>
            <a:r>
              <a:rPr b="0" lang="it-IT" sz="2800" spc="-1" strike="noStrike">
                <a:solidFill>
                  <a:srgbClr val="ffffff"/>
                </a:solidFill>
                <a:latin typeface="Times New Roman"/>
              </a:rPr>
              <a:t>15/25 vive (4 libere da malattia, 7 con malattia stabile, 4 con progressione di malattia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RISULTATI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-360" y="981000"/>
            <a:ext cx="889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1" lang="it-IT" sz="3200" spc="-1" strike="noStrike">
                <a:solidFill>
                  <a:srgbClr val="ffff00"/>
                </a:solidFill>
                <a:latin typeface="Times New Roman"/>
              </a:rPr>
              <a:t>FATTORI DI RISCHIO ASSOCIATI ALLA RECIDIVA LINFONODALE ESAMINATI ALL’ANALISI UNIVARIATA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imes New Roman"/>
              </a:rPr>
              <a:t>età (</a:t>
            </a:r>
            <a:r>
              <a:rPr b="0" lang="it-I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≥ vs&lt; 50 anni; ≥ vs&lt; 40 anni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imes New Roman"/>
              </a:rPr>
              <a:t>stato menopausa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imes New Roman"/>
              </a:rPr>
              <a:t>dimensioni del tumore (&lt;1 cm vs 1-2 cm vs &gt;2 cm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imes New Roman"/>
              </a:rPr>
              <a:t>invasione linfovascolar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imes New Roman"/>
              </a:rPr>
              <a:t>stato recettoria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imes New Roman"/>
              </a:rPr>
              <a:t>terapia ormona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RISULTATI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761760"/>
            <a:ext cx="86104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ATTORI DI RISCHIO ASSOCIATI A MINORE INCIDENZA DI RECIDIVA LINFONODALE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1676520" y="3352680"/>
          <a:ext cx="5943600" cy="2667240"/>
        </p:xfrm>
        <a:graphic>
          <a:graphicData uri="http://schemas.openxmlformats.org/drawingml/2006/table">
            <a:tbl>
              <a:tblPr/>
              <a:tblGrid>
                <a:gridCol w="2971800"/>
                <a:gridCol w="2971800"/>
              </a:tblGrid>
              <a:tr h="888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R+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&lt;0,00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9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gR+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&lt;0,01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rmonoterapi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&lt;0,0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9" name=""/>
          <p:cNvSpPr/>
          <p:nvPr/>
        </p:nvSpPr>
        <p:spPr>
          <a:xfrm>
            <a:off x="3030840" y="2505240"/>
            <a:ext cx="78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F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831640" y="2505240"/>
            <a:ext cx="47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RISULTATI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52280" y="990720"/>
            <a:ext cx="4343400" cy="32004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4267080" y="1295280"/>
            <a:ext cx="4648320" cy="19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00"/>
                </a:solidFill>
                <a:latin typeface="Times New Roman"/>
              </a:rPr>
              <a:t>OVERALL SURVIVAL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imes New Roman"/>
              </a:rPr>
              <a:t>a 5 anni 96,2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± 0,8 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imes New Roman"/>
              </a:rPr>
              <a:t>a 10 anni 84,7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±</a:t>
            </a:r>
            <a:r>
              <a:rPr b="0" lang="it-IT" sz="2800" spc="-1" strike="noStrike">
                <a:solidFill>
                  <a:srgbClr val="ffffff"/>
                </a:solidFill>
                <a:latin typeface="Times New Roman"/>
              </a:rPr>
              <a:t> 2,5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22240" y="4468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52280" y="3962520"/>
            <a:ext cx="7239240" cy="30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1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2100" spc="-1" strike="noStrike">
                <a:solidFill>
                  <a:srgbClr val="ffff00"/>
                </a:solidFill>
                <a:latin typeface="Times New Roman"/>
              </a:rPr>
              <a:t>PAZIENTI SENZA RECIDIVA LINFONODALE</a:t>
            </a:r>
            <a:r>
              <a:rPr b="1" lang="it-IT" sz="2100" spc="-1" strike="noStrike">
                <a:solidFill>
                  <a:srgbClr val="ffffcc"/>
                </a:solidFill>
                <a:latin typeface="Times New Roman"/>
              </a:rPr>
              <a:t> (574/599)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ffffff"/>
                </a:solidFill>
                <a:latin typeface="Times New Roman"/>
              </a:rPr>
              <a:t>a 5 anni 97</a:t>
            </a:r>
            <a:r>
              <a:rPr b="0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%</a:t>
            </a:r>
            <a:r>
              <a:rPr b="0" lang="it-IT" sz="21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± 0,7%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1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2100" spc="-1" strike="noStrike">
                <a:solidFill>
                  <a:srgbClr val="ffff00"/>
                </a:solidFill>
                <a:latin typeface="Times New Roman"/>
              </a:rPr>
              <a:t>PAZIENTI CON RECIDIVA LINFONODALE</a:t>
            </a:r>
            <a:r>
              <a:rPr b="1" lang="it-IT" sz="2100" spc="-1" strike="noStrike">
                <a:solidFill>
                  <a:srgbClr val="ffffcc"/>
                </a:solidFill>
                <a:latin typeface="Times New Roman"/>
              </a:rPr>
              <a:t> (25/599)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ffffff"/>
                </a:solidFill>
                <a:latin typeface="Times New Roman"/>
              </a:rPr>
              <a:t>a 5 anni 80% </a:t>
            </a:r>
            <a:r>
              <a:rPr b="0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± 8,0%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1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391520" y="457200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p=0,00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0" y="2286000"/>
            <a:ext cx="4495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Estrogeni p </a:t>
            </a: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= 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0.031 a favore delle pazienti </a:t>
            </a: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ER+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0" y="2286000"/>
            <a:ext cx="4572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Progesterone p </a:t>
            </a: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0.001 a favore delle pazienti </a:t>
            </a: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PgR+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0" name=""/>
          <p:cNvSpPr/>
          <p:nvPr/>
        </p:nvSpPr>
        <p:spPr>
          <a:xfrm>
            <a:off x="2209680" y="152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228600" y="3198960"/>
            <a:ext cx="4267080" cy="333216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2209680" y="20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4800600" y="3244680"/>
            <a:ext cx="4114800" cy="32958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838080" y="1309680"/>
            <a:ext cx="815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00"/>
                </a:solidFill>
                <a:latin typeface="Times New Roman"/>
              </a:rPr>
              <a:t>ALL’ANALISI U</a:t>
            </a:r>
            <a:r>
              <a:rPr b="1" lang="it-IT" sz="2000" spc="-1" strike="noStrike">
                <a:solidFill>
                  <a:srgbClr val="ffff00"/>
                </a:solidFill>
                <a:latin typeface="Times New Roman"/>
              </a:rPr>
              <a:t>NIVARIATA</a:t>
            </a:r>
            <a:r>
              <a:rPr b="1" lang="ar-SA" sz="2000" spc="-1" strike="noStrike">
                <a:solidFill>
                  <a:srgbClr val="ffff00"/>
                </a:solidFill>
                <a:latin typeface="Times New Roman"/>
              </a:rPr>
              <a:t> PER OS SONO RISULTATE</a:t>
            </a:r>
            <a:r>
              <a:rPr b="1" lang="it-IT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ar-SA" sz="2000" spc="-1" strike="noStrike">
                <a:solidFill>
                  <a:srgbClr val="ffff00"/>
                </a:solidFill>
                <a:latin typeface="Times New Roman"/>
              </a:rPr>
              <a:t>SIGNIFICATIVE LE SEGUENTI VARIABILI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879640" y="4302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33720" y="252360"/>
            <a:ext cx="4767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RISULTATI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RISULTATI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9280" y="685440"/>
            <a:ext cx="87854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SEASE FREE SURVIVAL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a  5 anni 92,6%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± </a:t>
            </a: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1,1%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a 10 anni 85,4%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± 2,0%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00"/>
                </a:solidFill>
                <a:latin typeface="Times New Roman"/>
              </a:rPr>
              <a:t>ALL’ANALISI UNI</a:t>
            </a:r>
            <a:r>
              <a:rPr b="1" lang="it-IT" sz="2000" spc="-1" strike="noStrike">
                <a:solidFill>
                  <a:srgbClr val="ffff00"/>
                </a:solidFill>
                <a:latin typeface="Times New Roman"/>
              </a:rPr>
              <a:t>VARIATA </a:t>
            </a:r>
            <a:r>
              <a:rPr b="1" lang="ar-SA" sz="2000" spc="-1" strike="noStrike">
                <a:solidFill>
                  <a:srgbClr val="ffff00"/>
                </a:solidFill>
                <a:latin typeface="Times New Roman"/>
              </a:rPr>
              <a:t>PER</a:t>
            </a:r>
            <a:r>
              <a:rPr b="1" lang="it-IT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ar-SA" sz="2000" spc="-1" strike="noStrike">
                <a:solidFill>
                  <a:srgbClr val="ffff00"/>
                </a:solidFill>
                <a:latin typeface="Times New Roman"/>
              </a:rPr>
              <a:t>DFS SONO RISULTATE SIGNIFICATIVE LE SEGUENTI VARIABILI:</a:t>
            </a:r>
            <a:r>
              <a:rPr b="1" lang="ar-SA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ar-SA" sz="2000" spc="-1" strike="noStrike">
                <a:solidFill>
                  <a:srgbClr val="ffffff"/>
                </a:solidFill>
                <a:latin typeface="Times New Roman"/>
              </a:rPr>
              <a:t>Estrogeni p&lt;0.001 a favore delle pazienti positiv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ar-SA" sz="2000" spc="-1" strike="noStrike">
                <a:solidFill>
                  <a:srgbClr val="ffffff"/>
                </a:solidFill>
                <a:latin typeface="Times New Roman"/>
              </a:rPr>
              <a:t>Progesterone p</a:t>
            </a:r>
            <a:r>
              <a:rPr b="1" lang="it-IT" sz="2000" spc="-1" strike="noStrike">
                <a:solidFill>
                  <a:srgbClr val="ffffff"/>
                </a:solidFill>
                <a:latin typeface="Times New Roman"/>
              </a:rPr>
              <a:t>=</a:t>
            </a:r>
            <a:r>
              <a:rPr b="1" lang="ar-SA" sz="2000" spc="-1" strike="noStrike">
                <a:solidFill>
                  <a:srgbClr val="ffffff"/>
                </a:solidFill>
                <a:latin typeface="Times New Roman"/>
              </a:rPr>
              <a:t>0.020 a favore delle pazienti positiv</a:t>
            </a:r>
            <a:r>
              <a:rPr b="1" lang="it-IT" sz="20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ar-SA" sz="2000" spc="-1" strike="noStrike">
                <a:solidFill>
                  <a:srgbClr val="ffffff"/>
                </a:solidFill>
                <a:latin typeface="Times New Roman"/>
              </a:rPr>
              <a:t>c-erbB2 (su 345 pts)</a:t>
            </a:r>
            <a:r>
              <a:rPr b="1" lang="it-IT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ar-SA" sz="20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lang="it-IT" sz="2000" spc="-1" strike="noStrike">
                <a:solidFill>
                  <a:srgbClr val="ffffff"/>
                </a:solidFill>
                <a:latin typeface="Times New Roman"/>
              </a:rPr>
              <a:t>=</a:t>
            </a:r>
            <a:r>
              <a:rPr b="1" lang="ar-SA" sz="2000" spc="-1" strike="noStrike">
                <a:solidFill>
                  <a:srgbClr val="ffffff"/>
                </a:solidFill>
                <a:latin typeface="Times New Roman"/>
              </a:rPr>
              <a:t>0.003 a favore delle pazienti negativ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                    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52280" y="4267080"/>
            <a:ext cx="2819520" cy="221004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2457360" y="1733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3200400" y="4267080"/>
            <a:ext cx="2743200" cy="221004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3"/>
          <a:stretch/>
        </p:blipFill>
        <p:spPr>
          <a:xfrm>
            <a:off x="6172200" y="4267080"/>
            <a:ext cx="2851200" cy="221004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1203480" y="647712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Garamond"/>
              </a:rPr>
              <a:t>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022640" y="6400800"/>
            <a:ext cx="6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Garamond"/>
              </a:rPr>
              <a:t>Pg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765840" y="6400800"/>
            <a:ext cx="95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00"/>
                </a:solidFill>
                <a:latin typeface="Times New Roman"/>
              </a:rPr>
              <a:t>c-erbB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ONCLUSIONI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NELLA NOSTRA CASISTICA L’INCIDENZA DI RECIDIVA LINFONODALE È BASSA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LA BASSA INCIDENZA DI RECIDIVA LINFONODALE APPARE CORRELATA AD UNA ADEGUATA  DISSEZIONE DEL CAVO ASCELLAR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LA RECIDIVA LINFONODALE APPARE CORRELATA AD UNA PROGNOSI PEGGIORE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ONCLUSIONI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52280" y="1197000"/>
            <a:ext cx="88394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00"/>
                </a:solidFill>
                <a:latin typeface="Garamond"/>
              </a:rPr>
              <a:t>IN BASE AI NOSTRI RISULTATI PUR IN PRESENZA DI FATTORI DI RISCHIO A TUTT’OGGI NON RITENIAMO CHE CI SIA INDICAZIONE AD IRRADIARE  LE STAZIONI  LINFONODALI DI DRENAGGIO IN PAZIENTI  AFFETTE DA CARCINOMA DELLA MAMMELLA IN STADIO INIZIALE CON 1-3 LINFONODI ASCELLARI POSITIVI TRATTATE CON CHIRURGIA CONSERVATIV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OBIETTIVI DELLO STUDIO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79280" y="1196640"/>
            <a:ext cx="896472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alutare in pazienti affette da carcinoma della mammella in stadio iniziale (T1-T2) con 1-3 linfonodi ascellari positivi trattate con chirurgia conservativa e radioterapia +/- chemioterapia e/o ormonoterapia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INCIDENZA DI RECIDIVA LINFONODA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FATTORI DI RISCHIO ASSOCIATI ALLA RECIDIVA LINFONODA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MATERIALI E METODI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CARATTERISTICHE DELLE PAZIENTI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914400" y="1600200"/>
          <a:ext cx="7314840" cy="4902120"/>
        </p:xfrm>
        <a:graphic>
          <a:graphicData uri="http://schemas.openxmlformats.org/drawingml/2006/table">
            <a:tbl>
              <a:tblPr/>
              <a:tblGrid>
                <a:gridCol w="5181480"/>
                <a:gridCol w="2133360"/>
              </a:tblGrid>
              <a:tr h="12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azienti arruolate da febbraio 1988 a febbraio 200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59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06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Età median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Rang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5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5-8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20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Menopausa alla diagnosi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ì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N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Non precisat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402 (67,1%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65 (27,6%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2 (5,3%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MATERIALI E METODI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CARATTERISTICHE DELLE PAZIENTI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1905120" y="990720"/>
          <a:ext cx="5029200" cy="5714640"/>
        </p:xfrm>
        <a:graphic>
          <a:graphicData uri="http://schemas.openxmlformats.org/drawingml/2006/table">
            <a:tbl>
              <a:tblPr/>
              <a:tblGrid>
                <a:gridCol w="3180240"/>
                <a:gridCol w="1848960"/>
              </a:tblGrid>
              <a:tr h="299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Istologi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Cr duttale infiltrante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CDI G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CDI G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CDI G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CDI G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Cr lobulare Infiltrante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Altre istologi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Non precisat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528 (88,2%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80 (15,1%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83 (53,6%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46 (27,7%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9 (3,6%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6 (6,0%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7 (4,5%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8 (1,3%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5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N° linfonodi positiv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32 (55,4%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84 (30,7%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83 (13,9%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5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Invasione linfovascolare</a:t>
                      </a:r>
                      <a:r>
                        <a:rPr b="0" lang="it-IT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ì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N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Non  precisat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58 (26,4%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433 (72,3%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8 (1,3%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MATERIALI E METODI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68580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CARATTERISTICHE DELLE PAZIENTI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523880" y="1295280"/>
          <a:ext cx="6096240" cy="5235840"/>
        </p:xfrm>
        <a:graphic>
          <a:graphicData uri="http://schemas.openxmlformats.org/drawingml/2006/table">
            <a:tbl>
              <a:tblPr/>
              <a:tblGrid>
                <a:gridCol w="3048120"/>
                <a:gridCol w="3048120"/>
              </a:tblGrid>
              <a:tr h="371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Stato recettorial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Estrogen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ositiv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Negativ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Non precisat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rogesteron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ositiv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Negativ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Non precisat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471 (78,6%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02 (17,0%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6 (4,4%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77 (62,9%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92 (32,1%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0 (5,0%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62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Caratterizzazione biopatologic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Ki-67, P53, cERB-B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eterminati in non più del 50% dei cas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MATERIALI E METODI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HIRURGIA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ervento di chirurgia conservativa seguita da dissezione del cavo ascellare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nfonodi ascellari asportati: mediana 19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MATERIALI E METODI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0" y="981000"/>
            <a:ext cx="9144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00"/>
                </a:solidFill>
                <a:latin typeface="Times New Roman"/>
              </a:rPr>
              <a:t>RADIOTERAPIA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imes New Roman"/>
              </a:rPr>
              <a:t>su tutta la ghiandola residua mediante tecnica a 2 campi tangenziali contrapposti utilizzando fotoni </a:t>
            </a:r>
            <a:r>
              <a:rPr b="0" lang="it-I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γ o x</a:t>
            </a:r>
            <a:r>
              <a:rPr b="0" lang="it-IT" sz="3200" spc="-1" strike="noStrike">
                <a:solidFill>
                  <a:srgbClr val="ffffff"/>
                </a:solidFill>
                <a:latin typeface="Times New Roman"/>
              </a:rPr>
              <a:t> di energia compresa tra 4 e 8 MV dose singola 1,8-2 Gy, dose totale 50-50,4 G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it-IT" sz="3200" spc="-1" strike="noStrike">
                <a:solidFill>
                  <a:srgbClr val="ffffff"/>
                </a:solidFill>
                <a:latin typeface="Times New Roman"/>
              </a:rPr>
              <a:t>boost” 6-16 Gy su letto tumorale in 581 (97%) casi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imes New Roman"/>
              </a:rPr>
              <a:t>in nessun caso irradiazione delle stazioni linfonodali di drenaggio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MATERIALI E METODI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ffff00"/>
                </a:solidFill>
                <a:latin typeface="Times New Roman"/>
              </a:rPr>
              <a:t>CHEMIOTERAPIA:</a:t>
            </a:r>
            <a:r>
              <a:rPr b="1" lang="it-IT" sz="30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it-IT" sz="3000" spc="-1" strike="noStrike">
                <a:solidFill>
                  <a:srgbClr val="ffffff"/>
                </a:solidFill>
                <a:latin typeface="Times New Roman"/>
              </a:rPr>
              <a:t>effettuata in 475 (79,3%) pazienti 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ffffff"/>
                </a:solidFill>
                <a:latin typeface="Times New Roman"/>
              </a:rPr>
              <a:t>CMF: 234 casi (49,3%)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ffffff"/>
                </a:solidFill>
                <a:latin typeface="Times New Roman"/>
              </a:rPr>
              <a:t>schemi contenenti antracicline: 163 casi (34,3%)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ffffff"/>
                </a:solidFill>
                <a:latin typeface="Times New Roman"/>
              </a:rPr>
              <a:t>altri schemi: 78 casi (16,4%)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ffff00"/>
                </a:solidFill>
                <a:latin typeface="Times New Roman"/>
              </a:rPr>
              <a:t>ORMONOTERAPIA:</a:t>
            </a:r>
            <a:r>
              <a:rPr b="1" lang="it-IT" sz="30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it-IT" sz="3000" spc="-1" strike="noStrike">
                <a:solidFill>
                  <a:srgbClr val="ffffff"/>
                </a:solidFill>
                <a:latin typeface="Times New Roman"/>
              </a:rPr>
              <a:t>prescritta in 453 (75,6%)</a:t>
            </a:r>
            <a:r>
              <a:rPr b="1" lang="it-IT" sz="30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it-IT" sz="3000" spc="-1" strike="noStrike">
                <a:solidFill>
                  <a:srgbClr val="ffffff"/>
                </a:solidFill>
                <a:latin typeface="Times New Roman"/>
              </a:rPr>
              <a:t>pazienti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ffffff"/>
                </a:solidFill>
                <a:latin typeface="Times New Roman"/>
              </a:rPr>
              <a:t>tamoxifene:  362 casi (79,9%)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ffffff"/>
                </a:solidFill>
                <a:latin typeface="Times New Roman"/>
              </a:rPr>
              <a:t>tamoxifene e LH-RH analoghi: 55 casi  (12,1%)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ffffff"/>
                </a:solidFill>
                <a:latin typeface="Times New Roman"/>
              </a:rPr>
              <a:t>inibitori dell’aromatasi: 23 casi (5,1%)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ffffff"/>
                </a:solidFill>
                <a:latin typeface="Times New Roman"/>
              </a:rPr>
              <a:t>non precisata: 13 casi   (2,9%)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RISULTATI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6320" y="990720"/>
            <a:ext cx="906768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00"/>
                </a:solidFill>
                <a:latin typeface="Times New Roman"/>
              </a:rPr>
              <a:t>FOLLOW-UP MEDIANO:</a:t>
            </a:r>
            <a:r>
              <a:rPr b="1" lang="it-IT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85,4 mesi (range 4,4-215,7 mesi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00"/>
                </a:solidFill>
                <a:latin typeface="Times New Roman"/>
              </a:rPr>
              <a:t>RECIDIVE LINFONODALI :</a:t>
            </a: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 25/599  (4,2%), nel  60% a livello dei linfonodi sovraclaveari (10 pz solo a livello sovraclaveare e 5 a livello sovraclaveare + altre stazioni linfonodali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00"/>
                </a:solidFill>
                <a:latin typeface="Times New Roman"/>
              </a:rPr>
              <a:t>CORRELAZIONE RECIDIVA LINFONODALE E METASTASI A DISTANZA (19/25)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380880" y="4343400"/>
          <a:ext cx="7925040" cy="2286000"/>
        </p:xfrm>
        <a:graphic>
          <a:graphicData uri="http://schemas.openxmlformats.org/drawingml/2006/table">
            <a:tbl>
              <a:tblPr/>
              <a:tblGrid>
                <a:gridCol w="6029280"/>
                <a:gridCol w="1895760"/>
              </a:tblGrid>
              <a:tr h="57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Timing RLN-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N° pz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Recidiva precede metastas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Recidiva e metastasi sincron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Metastasi precede recidiv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08T21:35:22Z</dcterms:created>
  <dc:creator>palumbo</dc:creator>
  <dc:description/>
  <dc:language>en-US</dc:language>
  <cp:lastModifiedBy>TC</cp:lastModifiedBy>
  <dcterms:modified xsi:type="dcterms:W3CDTF">2007-11-11T17:52:40Z</dcterms:modified>
  <cp:revision>208</cp:revision>
  <dc:subject/>
  <dc:title>RECIDIVA LINFONODALE  DOPO TRATTAMENTO CONSERVATIVO IN PAZIENTI AFFETTE DA CARCINOMA DELLA MAMMELLA IN STADIO INIZIALE CON 1-3 LINFONODI ASCELLARI POSITIVI</dc:title>
</cp:coreProperties>
</file>