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9832-5977-402D-AF96-9296D33E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8C38-C4D6-4399-BBCB-C4B59738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2BE1-6D57-4E79-891F-CB576419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E55D-86A2-4476-B65C-5DE98B4D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8C4B-064B-4C4F-94A3-AF6CBCC7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A07C-32F9-4D4C-962F-6F710311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4377-7D64-49FB-976F-7B39AC5A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0163-9778-43A1-A8DA-C367413E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D0E1-88B5-4BF0-AE51-BF7F3C74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33C5-7895-4927-AC3E-353D1E1D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181F-2590-4251-A820-1A01123B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A7CA-6C96-4A32-8B23-E1251B82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808D-DCE2-4F48-A2FC-E61BDA4F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6E89-808D-461E-9682-08D65340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0FF5-D599-4B1C-B1DC-183B2114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A055-56C6-4EBE-9534-1C719294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11B4-9109-4418-BFB8-A5058127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763D-42CC-4523-BC95-1ED3CBD0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1030-1D68-423C-B61D-7951D7CA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FA21-DD85-4539-866F-F0978731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6977-00E4-4549-964E-D40FFDD1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DB2B-8634-4E51-B06C-C6573B60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71C1-5B9D-4308-89B9-D98C60C5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2512-AAF1-484A-9B31-48C2D9CF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C2EC-3209-4DBB-B1BD-9699AAE148EA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443B-C436-4865-ABB8-540CF42E0B23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RADIO-CHEMIOTERAPIA ADIUVANTE NEL CANCRO DELLO STOMACO OPERATO: STUDIO DI FATTIBILITA’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240" y="3505320"/>
            <a:ext cx="5791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Times New Roman"/>
              </a:rPr>
              <a:t>L. Draghini, M. Lupattelli, L. Falcinelli, §E. Corgna, E. Perrucci, BM. Panizza, MS. D’Ambrosio, C. Ariste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Radiation Oncology Centre, §Medical Oncology Division  – Perugia - Ital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04920" y="333360"/>
          <a:ext cx="6138720" cy="40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33360"/>
                    <a:ext cx="613872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714920" y="2814480"/>
            <a:ext cx="4465440" cy="3567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4000" y="6307560"/>
            <a:ext cx="55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Martinez-Monge et Al – Radiology -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RISULTATI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Tutti i pazienti hanno completato il tratta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Tossicità acuta GIII-IV durante la Ct adiuvan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leucopenia GIV  1/18  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nausea GIII  1/18  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vomito GIII  1/18  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diarrea GIII  1/18  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mucosite GIII  1/18  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Tossicità acuta GIII-IV durante RT+C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leucopenia GIII  1/18  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DISCUSSIONE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Times New Roman"/>
              </a:rPr>
              <a:t>Sung Kim et al. Int J Oncol Biol Phys 2005;63:1279-1285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990 pz Cr gastrico,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IB-IVA, CRT adiuvante (45 Gy + 5FU-LV) vs Chirurg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SG mediana 95,3 vs 62,2 mesi p = 0.0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SLR mediana 75,6 vs 52,7 mesi p = 0.01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SG a 5 aa 57,1% vs 51% p = 0.01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SLR a 5 aa 54,5% vs 47,9% p = 0.016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Tox G3-4 GI &lt;15%, ematologica &lt;2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linfectomia D2 , R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Efficacia della RT-CT adiuvante nei pz operati radicalm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ONCLUSIONE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utti i pazienti hanno completato il trattamento, non ci sono state morti tossiche e la tossicità acuta severa è stata bassa (5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 radio-chemioterapia adiuvante è fattibile, ben tollerata nei pazienti con Cr gastrico operato ad alto rischio (chirurgia inadeguata,malattia residua) anche nel rispetto dei parametri di volume e tecnica del trattamen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 valutare la sopravvivenza sono necessari un maggior numero di pazien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VH organi critici (fegato,reni)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linguaggio comune e confronto tra centri di 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558972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INTRODUZIONE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Chirurgia potenzialmente curativa SG a 10 aa 3-42% stadi avanzat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Times New Roman"/>
              </a:rPr>
              <a:t>(Hundahl SA et al: National Cancer Data Base report: Cancer 2000;88: 921-3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Recidive locali o regionali o linfonodali 40-60 % dopo chirurgia curativ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Times New Roman"/>
              </a:rPr>
              <a:t>(Gunderson LL et al. Int J Radiat Oncol Biol Phys 1982;8:1-1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Times New Roman"/>
                <a:ea typeface="Arial"/>
              </a:rPr>
              <a:t>Tipo*</a:t>
            </a:r>
            <a:r>
              <a:rPr b="1" lang="it-IT" sz="1800" spc="-1" strike="noStrike">
                <a:solidFill>
                  <a:srgbClr val="ffff66"/>
                </a:solidFill>
                <a:latin typeface="Times New Roman"/>
                <a:ea typeface="Arial"/>
              </a:rPr>
              <a:t>	</a:t>
            </a:r>
            <a:r>
              <a:rPr b="1" lang="it-IT" sz="1800" spc="-1" strike="noStrike">
                <a:solidFill>
                  <a:srgbClr val="ffff66"/>
                </a:solidFill>
                <a:latin typeface="Times New Roman"/>
                <a:ea typeface="Arial"/>
              </a:rPr>
              <a:t>                         </a:t>
            </a:r>
            <a:r>
              <a:rPr b="0" lang="it-IT" sz="1800" spc="-1" strike="noStrike">
                <a:solidFill>
                  <a:srgbClr val="ffff66"/>
                </a:solidFill>
                <a:latin typeface="Times New Roman"/>
                <a:ea typeface="Arial"/>
              </a:rPr>
              <a:t>MSKCC° </a:t>
            </a:r>
            <a:r>
              <a:rPr b="0" lang="en-GB" sz="1800" spc="-1" strike="noStrike">
                <a:solidFill>
                  <a:srgbClr val="ffff66"/>
                </a:solidFill>
                <a:latin typeface="Times New Roman"/>
                <a:ea typeface="Arial"/>
              </a:rPr>
              <a:t>  KOREA°°</a:t>
            </a:r>
            <a:r>
              <a:rPr b="1" lang="it-IT" sz="1800" spc="-1" strike="noStrike">
                <a:solidFill>
                  <a:srgbClr val="ffff66"/>
                </a:solidFill>
                <a:latin typeface="Times New Roman"/>
                <a:ea typeface="Arial"/>
              </a:rPr>
              <a:t>	</a:t>
            </a:r>
            <a:r>
              <a:rPr b="1" lang="it-IT" sz="1800" spc="-1" strike="noStrike">
                <a:solidFill>
                  <a:srgbClr val="ffff66"/>
                </a:solidFill>
                <a:latin typeface="Times New Roman"/>
                <a:ea typeface="Arial"/>
              </a:rPr>
              <a:t>        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                                   </a:t>
            </a:r>
            <a:r>
              <a:rPr b="1" lang="it-IT" sz="1800" spc="-1" strike="noStrike">
                <a:solidFill>
                  <a:srgbClr val="ffff66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                  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Pz  </a:t>
            </a:r>
            <a:r>
              <a:rPr b="1" lang="it-IT" sz="1800" spc="-1" strike="noStrike">
                <a:solidFill>
                  <a:srgbClr val="ffff66"/>
                </a:solidFill>
                <a:latin typeface="Times New Roman"/>
                <a:ea typeface="Arial"/>
              </a:rPr>
              <a:t>                         Pz 367/1172  Pz 508/20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Locoregionale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54%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33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Peritoneale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29%              44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Met. distanza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51%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38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*Incidenza cumul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cc"/>
                </a:solidFill>
                <a:latin typeface="Times New Roman"/>
                <a:ea typeface="Arial"/>
              </a:rPr>
              <a:t>° D’Angelica M et al, Ann Surg,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cc"/>
                </a:solidFill>
                <a:latin typeface="Times New Roman"/>
                <a:ea typeface="Arial"/>
              </a:rPr>
              <a:t>°°Yoo CH et al, Br J Surg,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cc"/>
                </a:solidFill>
                <a:latin typeface="Times New Roman"/>
                <a:ea typeface="Arial"/>
              </a:rPr>
              <a:t>* Incidenza cumul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Times New Roman"/>
              </a:rPr>
              <a:t>INT 0116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2001: 556 pz, stadio IB-IV(M0), T3-4 68%, N+ (85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Rt (1,8Gy/25fr/45Gy) + Ct (5FU-LV 5 cicli) vs chirurg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SG mediana 36 mesi vs 27 (follow-up di 5 a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SG a 3 aa 50% vs 41% (p = 0.00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SLR mediana 30 mesi vs 19 (p &lt; 0.00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Recidive 43% vs 64%  RL 19% vs 29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RR 65% vs72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M   18% vs 33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Tox G3-4: GI 33%, ematologica 54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54% D0, 36% D1, 10% D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Morti iatrogene 1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Times New Roman"/>
              </a:rPr>
              <a:t>Compliance 6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DISEGNO DELLO STUDIO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carcinoma gastrico o GGE operato alto rischio (stadio IB-IV, D0-D1, R1-R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Ct 5FU-LV/PELF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Rt 45/50,4 Gy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Ct 5FU 400 mg/mq LV 20 mg/mq bolus o 5FU 225 mg/mq IV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C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66"/>
                </a:solidFill>
                <a:latin typeface="Times New Roman"/>
              </a:rPr>
              <a:t>OBIETTIVI DELLO STU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Valutazione della compli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Valutazione della tossicità acuta scala RTOG/EORT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MATERIALI E METODI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Da Agosto 2001 a Settembre 2005 sono stati trattati 25 pazienti di cui 18 valutabili (follow-up minimo 2 a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038480" y="1523880"/>
          <a:ext cx="4267080" cy="513900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914400"/>
                <a:gridCol w="914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sso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sch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/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mm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/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de 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/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/3 su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/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/3 med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/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/3 in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/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/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/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I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/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II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/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/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tà mediana 63 (range 23-75 anni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PS mediana 90% (range 90-10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4114800" y="11430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aratteristiche dei pazien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295280" y="1371600"/>
          <a:ext cx="5867640" cy="40989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914400"/>
                <a:gridCol w="1067040"/>
              </a:tblGrid>
              <a:tr h="411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ratteristiche dei pazien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tologi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K intestin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/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K diffus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/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K mis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/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nfectomi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/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,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/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/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,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irurgi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/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/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/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33"/>
                </a:solidFill>
                <a:latin typeface="Times New Roman"/>
              </a:rPr>
              <a:t>CHEMIOTERAPIA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: Ct adiuvante PELF 2/18 (11%), 5FU-LV 16/18 (89%) 2 cicli (range 1-4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Ct concomitante alla RT con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5FU 400 mg/mq + LV 20 mg/mq  bolus primi 4 e ultimi 3 gg RT in 15/18 (83%) o con  5FU 225 mg/mq P.V.I. Per tutta la durata della RT in 3/18 (17%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33"/>
                </a:solidFill>
                <a:latin typeface="Times New Roman"/>
              </a:rPr>
              <a:t>RADIOTERAPIA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: fotoni 18MV, tenica a 3-4 campi, 1,8 Gy/25 fr/45 Gy 13/18 (73%), 50,4 Gy 5/18 (27%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letto tumorale, anastomosi, drenaggi linfonodali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Tepper JE and Gunderson LE 2002 in Seminars Radiation Oncolo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Esami di laboratorio e visita settimana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Tossicità acuta secondo scala RTOG/EORT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mag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6483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130320"/>
            <a:ext cx="6934320" cy="6549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63540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Japanese Gastric Cancer Association – 2° English ed. - 19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0:45:33Z</dcterms:created>
  <dc:creator>sbornia</dc:creator>
  <dc:description/>
  <dc:language>en-US</dc:language>
  <cp:lastModifiedBy>TC</cp:lastModifiedBy>
  <dcterms:modified xsi:type="dcterms:W3CDTF">2007-11-13T08:53:10Z</dcterms:modified>
  <cp:revision>21</cp:revision>
  <dc:subject/>
  <dc:title>RADIO-CHEMIOTERAPIA ADIUVANTE NEL CANCRO DELLO STOMACO OPERATO: STUDIO DI FATTIBILITA’</dc:title>
</cp:coreProperties>
</file>