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CFE-E768-468A-9878-189586B7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6A5-83CA-4EFE-A92B-F6AE2205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C0E-D1F4-4176-8A38-C4F6EEBD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E4F6-D330-4D9F-8A57-D5D94531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F141-3ED6-4934-804A-E097E557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75A1-7F3E-413F-8EC6-8F092138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5713-6E7A-4FAC-9615-B4D7FD05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18E5-CF3C-4702-8F37-F128CE76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028C-4B28-473C-9C1A-E94E2E23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85F6-3CBA-4E5D-93A6-4F928DAB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E3F5-24D2-4E50-AC04-3C8E923A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9D2-F6A5-4458-8366-78149E38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1288-87CB-44CA-8A06-70898844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2442-2C89-4694-AA7D-AFBA354E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D3C9-9D02-46AE-AD66-1C6CAB7D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138A-D716-442C-A786-BE7F0711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A4BC-B869-47C8-98DA-05688AF1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062-863E-407A-AE19-33ECDDBA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615-6BC3-4357-8F77-B47A847D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09D-3F2F-4001-B637-549D6AB7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1A3-E7A4-4A4F-BB0E-F7402812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092-2309-4D80-9F83-AB69D40A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D85F-E44D-407A-9FC4-AE4AFAE9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7E0-42A9-4862-BA29-26270641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9413-1D55-4EC2-B8B6-28B1D6367E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21BF-5298-465A-B844-E36ADE7BAFF7}" type="slidenum"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1080" y="372960"/>
            <a:ext cx="805788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692280"/>
            <a:ext cx="71978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ETTURA SPONSIRIZZATA PF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TRATTAMENTO DEL PAZIENTE CON METASTASI OS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OTT LORENZO L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ADIOTERAPIA FIRENZ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71640" y="1844640"/>
            <a:ext cx="76197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an den Hout WB et al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 Natl Cancer Inst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duta singola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700 doll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dute multiple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6455 dollari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773360"/>
            <a:ext cx="72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74920" y="179280"/>
            <a:ext cx="69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LTERIORE VANTAGGIO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.CONSIDERANDO “LA FINANZIAR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55160" y="549000"/>
            <a:ext cx="76201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onostante i dati della letteratura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adioterapisti oncologi sono poco propen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ell’impiegare il frazionamento sing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trattamento preferito è quello ipofraziona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anad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how E Radiother and Oncol, 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tati Unit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Ben-Josef E. Int J Radiat Oncol Phys, 1998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ustralia-Nuova Zeland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Roos DE Radiother and Oncol, 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urop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Lievens Y Radiother and Oncol, 2000)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04000" y="2535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2925720"/>
            <a:ext cx="2519280" cy="863640"/>
          </a:xfrm>
          <a:prstGeom prst="ellipse">
            <a:avLst/>
          </a:prstGeom>
          <a:noFill/>
          <a:ln cap="sq" w="2844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59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STATI UNITI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371600" y="1835280"/>
          <a:ext cx="7620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35280"/>
                    <a:ext cx="7620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4211640" y="16765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6600"/>
                </a:solidFill>
                <a:latin typeface="Times New Roman"/>
              </a:rPr>
              <a:t>8Gy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1382760"/>
            <a:ext cx="1368360" cy="1224000"/>
          </a:xfrm>
          <a:prstGeom prst="ellipse">
            <a:avLst/>
          </a:prstGeom>
          <a:noFill/>
          <a:ln cap="sq" w="2844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EUROPA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371600" y="1981080"/>
          <a:ext cx="7620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7620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842080" y="2362320"/>
            <a:ext cx="960480" cy="752400"/>
          </a:xfrm>
          <a:prstGeom prst="ellipse">
            <a:avLst/>
          </a:prstGeom>
          <a:noFill/>
          <a:ln cap="sq" w="2844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13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6600"/>
                </a:solidFill>
                <a:latin typeface="Times New Roman"/>
              </a:rPr>
              <a:t>Pergolizzi S</a:t>
            </a:r>
            <a:r>
              <a:rPr b="0" lang="it-IT" sz="2000" spc="-1" strike="noStrike">
                <a:solidFill>
                  <a:srgbClr val="996600"/>
                </a:solidFill>
                <a:latin typeface="Times New Roman"/>
              </a:rPr>
              <a:t>. et </a:t>
            </a:r>
            <a:r>
              <a:rPr b="0" i="1" lang="it-IT" sz="2000" spc="-1" strike="noStrike">
                <a:solidFill>
                  <a:srgbClr val="996600"/>
                </a:solidFill>
                <a:latin typeface="Times New Roman"/>
              </a:rPr>
              <a:t>al.                                                                         </a:t>
            </a:r>
            <a:r>
              <a:rPr b="0" lang="it-IT" sz="2000" spc="-1" strike="noStrike">
                <a:solidFill>
                  <a:srgbClr val="996600"/>
                </a:solidFill>
                <a:latin typeface="Times New Roman"/>
              </a:rPr>
              <a:t> External beam irradiation in the palliation of bone metastases:                a practice analiysis among sicilian departments of radiation oncology Tumori, 90: 86-90, 2004</a:t>
            </a:r>
            <a:endParaRPr b="0" lang="en-US" sz="20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71600" y="1484280"/>
          <a:ext cx="7620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84280"/>
                    <a:ext cx="7620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692360" y="566100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 Sicilia la seduta singola viene                    erogata solo nel 12% dei cas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2960" y="1692360"/>
            <a:ext cx="761976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trattamento radioterapico ottiene nell’80% dei casi un controllo del dolore per un periodo di tempo superiore a 6 me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effetto della radioterapia è indipendente dalla dose totale erogata e dal frazion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clusioni 1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12960" y="1692360"/>
            <a:ext cx="761976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seduta singola riduce il costo del SSN…e la lista di programmazione dei Centri di tradiotera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seduta singola deve essere considerata oggi lo standard di trattamento per pazienti affetti da lesioni ossee metastat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clusioni 2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9640" y="298440"/>
            <a:ext cx="804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NCID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73000" y="1197000"/>
          <a:ext cx="7581960" cy="4753080"/>
        </p:xfrm>
        <a:graphic>
          <a:graphicData uri="http://schemas.openxmlformats.org/drawingml/2006/table">
            <a:tbl>
              <a:tblPr/>
              <a:tblGrid>
                <a:gridCol w="2154240"/>
                <a:gridCol w="1513080"/>
                <a:gridCol w="2009880"/>
                <a:gridCol w="190476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° stu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na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mmel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-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st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-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ro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-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-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m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ofa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ro-enter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5796000" y="6181560"/>
            <a:ext cx="309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leman RE et al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39880" y="1262160"/>
            <a:ext cx="761976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olore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50-7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ratture patologiche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8-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percalcemia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10-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mpressione mielo-radicolare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5883120"/>
            <a:ext cx="3097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alkmer U et al, 2003                Chow E et al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23004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MPLICANZE DELLE METAST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960" y="1692360"/>
            <a:ext cx="761976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trollo dol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duzione assunzione analges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ervazione mobilità e fun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venzione fratture patolog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venzione compressione midoll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trollo progressione di malatt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73520" y="5686560"/>
            <a:ext cx="3816360" cy="934920"/>
          </a:xfrm>
          <a:prstGeom prst="ellipse">
            <a:avLst/>
          </a:prstGeom>
          <a:solidFill>
            <a:srgbClr val="727de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QUAL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 DI V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4720" y="52387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BIETTIVO DELLA RADIOTERAPIA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76197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ENEFICIO 80% DEI CASI TRATT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) È DIPENDENTE DALLA DOSE TOTAL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) È LEGATO AL FRAZIONAM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2 META-ANALI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..il controllo del dolor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è correlat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lla dose totale erogata... (Ratanatharathorn V et al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JROBP, 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..il controllo del dolor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n è correlat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l frazionamento e pertanto indipendente dall’impiego di frazioni singole o di un frazionamento più prolungato della dose...” (McQuay HJ et al. Cochrane Review,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89000"/>
            <a:ext cx="806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ADIOTERA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49280" y="5876640"/>
            <a:ext cx="65358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u JS Int J Radiat Oncol Biol Phys 2003; 55: 594-605.</a:t>
            </a:r>
            <a:endParaRPr b="0" lang="en-US" sz="1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640" y="1765440"/>
            <a:ext cx="761976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visione di 16 studi randomizz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on esistono differenze nella percentuale 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sposta, nella durata del beneficio clinico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lazione alla dose erogat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8Gy/1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40Gy/15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27160" y="606600"/>
            <a:ext cx="49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OSE EROG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442880" y="915840"/>
          <a:ext cx="6729480" cy="5177160"/>
        </p:xfrm>
        <a:graphic>
          <a:graphicData uri="http://schemas.openxmlformats.org/drawingml/2006/table">
            <a:tbl>
              <a:tblPr/>
              <a:tblGrid>
                <a:gridCol w="2243160"/>
                <a:gridCol w="2243160"/>
                <a:gridCol w="2243160"/>
              </a:tblGrid>
              <a:tr h="840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8 pazien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io   randomizz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se 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Gy/1f         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55 pz)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Gy/10f 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43 pz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lo dol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tture patologi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ssicità acuta (grado 2-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ratta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435640" y="4581360"/>
            <a:ext cx="1079640" cy="3373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p = 0.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35640" y="5445000"/>
            <a:ext cx="1079640" cy="3373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p &lt; 0.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89280" y="60930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rtsell WF, J Natl Cancer Inst 2005; 97: 798-8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-100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OSE EROGATA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55280" y="765000"/>
            <a:ext cx="76201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beneficio clinico è indipendente dal regime 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dioterapia impiegato (frazione singol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4 STUDI RANDOMIZZ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eenland E et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al,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diother Oncol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swig S 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rahlenter Onkol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ne Pain Trial Working Party, Radiother Oncol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Kirkbride P et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l,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JROBP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89800" y="23508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RAZ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6197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8Gy/1f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frazionamento standard nel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metastasi ossee non complic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Kachnic L. et al. J Natl Cancer Inst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ospodarowicz M. Nature Clinical Practice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2720" y="2421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91000" y="26028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QUIN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C</cp:lastModifiedBy>
  <dcterms:modified xsi:type="dcterms:W3CDTF">2007-11-10T08:06:13Z</dcterms:modified>
  <cp:revision>70</cp:revision>
  <dc:subject/>
  <dc:title>PowerPoint Presentation</dc:title>
</cp:coreProperties>
</file>