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F1AF8-C78F-46FC-A27C-DAE4869BD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EFD2-6F41-499D-95E0-6DC581FAC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CB18-A5E6-4522-BF15-C7F170BB3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9F2F-8832-4B5F-A8E0-80CC083AF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9F7FD-872C-49AA-B116-3919DC481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A41D7-C380-4589-9B8D-BCD6C704C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0A4B2-E2B8-49ED-A3E7-3BA3205D8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A3C3F-22D7-4362-A1A9-4E33D9696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6C792-E1F3-42E3-BDFC-D9E011B5C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4378-AC3D-40EF-A1AC-88FFBEB76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E371D-0E94-4776-99F6-E83495FD3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231B-704E-4570-B5A4-4A2769D04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2D4C8-333F-493F-965E-1559D5649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77EC-F658-4AE0-B6C6-67C30B176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02017-B794-438F-81ED-B530C181B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80DB4-52FD-4E15-8F39-5E3FBE771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F7BE42-6B83-4AF7-8B6C-49800CB7A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86E5-57FD-493F-B391-64253AA9B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9C494-81F1-4D93-9249-7AF7B14D49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18CB7-ABE7-45F9-864C-9943F21A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C254-F4B6-4DF5-A453-189B9024EF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8FD43-A7EC-409A-A30A-C75007E24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0023-BBB0-4B09-A763-464322FDE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CA808-125E-49CA-84F3-33AB560D12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FCBBF-9B9E-4810-AC06-41AEC0987E91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2D07-370E-4814-97A8-CFAE9375BA78}" type="slidenum">
              <a:rPr b="0" lang="it-IT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4000" y="692280"/>
            <a:ext cx="856908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Verdana"/>
              </a:rPr>
              <a:t>Le problematiche nell’identificazione  del target  boost volume su un “campione” di pazienti operate conservativamente per carcinoma mammario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N. Azinwi, F. Ricchetti, S. Vagge, S. Garrell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it-IT" sz="2400" spc="-1" strike="noStrike">
                <a:solidFill>
                  <a:srgbClr val="000000"/>
                </a:solidFill>
                <a:latin typeface="Verdana"/>
              </a:rPr>
              <a:t>F.Giannelli, M. Guen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S.C. Oncologia Radioterapica ,Servizio  Fisica Medic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</a:rPr>
              <a:t>Ist. Naz. Ricerca Cancro Genova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Purposes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This study compared contouring uncertainties 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using 2 different techinique (CT imaging and opaque</a:t>
            </a:r>
            <a:br>
              <a:rPr sz="1800"/>
            </a:b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                 surgical clips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66280" y="2133360"/>
            <a:ext cx="80010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CONCLUSIONS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: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In patients devoid of surgical clips the localition and dimensions of the boost field varied widely between observers. The variability was more apparent in patients with longer surgery- tc- simulation times, in those who took adjuvant chemotherapy and in those with fibroglandular tissue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0920" y="259920"/>
            <a:ext cx="864216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2006/7: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planning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CT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61</a:t>
            </a:r>
            <a:r>
              <a:rPr b="1" lang="en-GB" sz="1800" spc="-1" strike="noStrike">
                <a:solidFill>
                  <a:srgbClr val="ff0066"/>
                </a:solidFill>
                <a:latin typeface="Verdana"/>
                <a:ea typeface="宋体"/>
              </a:rPr>
              <a:t> p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18 </a:t>
            </a:r>
            <a:r>
              <a:rPr b="1" lang="en-GB" sz="1800" spc="-1" strike="noStrike">
                <a:solidFill>
                  <a:srgbClr val="ff0066"/>
                </a:solidFill>
                <a:latin typeface="Verdana"/>
                <a:ea typeface="宋体"/>
              </a:rPr>
              <a:t>pt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(30%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clips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Verdana"/>
                <a:ea typeface="宋体"/>
              </a:rPr>
              <a:t>tum.bed</a:t>
            </a:r>
            <a:r>
              <a:rPr b="0" lang="it-IT" sz="1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26 (43%)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fibroglandular breast tissue 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6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宋体"/>
              </a:rPr>
              <a:t>pts  with clip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Verdana"/>
              <a:buAutoNum type="arabicPlain" startAt="3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(57%)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radiotransparent breast tissue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12 </a:t>
            </a:r>
            <a:r>
              <a:rPr b="0" lang="en-GB" sz="1600" spc="-1" strike="noStrike">
                <a:solidFill>
                  <a:srgbClr val="000000"/>
                </a:solidFill>
                <a:latin typeface="Verdana"/>
                <a:ea typeface="宋体"/>
              </a:rPr>
              <a:t>pts  with clip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median time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surgery / CT simulation 71 day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          </a:t>
            </a:r>
            <a:r>
              <a:rPr b="0" lang="en-GB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  <a:ea typeface="宋体"/>
              </a:rPr>
              <a:t>174 days in adjuvant chemotherapy</a:t>
            </a:r>
            <a:r>
              <a:rPr b="0" lang="it-IT" sz="2000" spc="-1" strike="noStrike">
                <a:solidFill>
                  <a:srgbClr val="000000"/>
                </a:solidFill>
                <a:latin typeface="Verdana"/>
                <a:ea typeface="宋体"/>
              </a:rPr>
              <a:t> p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Contouring boost </a:t>
            </a:r>
            <a:r>
              <a:rPr b="0" lang="en-GB" sz="20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0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 4 different physici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66"/>
                </a:solidFill>
                <a:latin typeface="Verdana"/>
                <a:ea typeface="宋体"/>
              </a:rPr>
              <a:t>Analysed dimensions and location boost fiel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it-IT" sz="1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8920" y="692280"/>
            <a:ext cx="882036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700"/>
            </a:b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clips </a:t>
            </a:r>
            <a:r>
              <a:rPr b="1" lang="en-GB" sz="17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 a very low inter-observer variability</a:t>
            </a:r>
            <a:br>
              <a:rPr sz="1700"/>
            </a:br>
            <a:br>
              <a:rPr sz="1700"/>
            </a:b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dense  breast      </a:t>
            </a:r>
            <a:r>
              <a:rPr b="1" lang="en-GB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 clips: variab (2/6)  </a:t>
            </a: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33%</a:t>
            </a: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   no clips: variab (8/20)</a:t>
            </a: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  40%</a:t>
            </a:r>
            <a:br>
              <a:rPr sz="1700"/>
            </a:br>
            <a:br>
              <a:rPr sz="1700"/>
            </a:b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radiotransparent </a:t>
            </a:r>
            <a:r>
              <a:rPr b="1" lang="en-GB" sz="1600" spc="-1" strike="noStrike">
                <a:solidFill>
                  <a:srgbClr val="ff0066"/>
                </a:solidFill>
                <a:latin typeface="Wingdings"/>
                <a:ea typeface="Wingdings"/>
              </a:rPr>
              <a:t></a:t>
            </a: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 clips: variab(1/12) </a:t>
            </a: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8.3%</a:t>
            </a:r>
            <a:r>
              <a:rPr b="1" lang="en-GB" sz="1600" spc="-1" strike="noStrike">
                <a:solidFill>
                  <a:srgbClr val="ff0066"/>
                </a:solidFill>
                <a:latin typeface="Verdana"/>
                <a:ea typeface="宋体"/>
              </a:rPr>
              <a:t> no clips: variab(12/23) </a:t>
            </a:r>
            <a:r>
              <a:rPr b="1" lang="en-GB" sz="1700" spc="-1" strike="noStrike">
                <a:solidFill>
                  <a:srgbClr val="ff0066"/>
                </a:solidFill>
                <a:latin typeface="Verdana"/>
                <a:ea typeface="宋体"/>
              </a:rPr>
              <a:t>52%</a:t>
            </a:r>
            <a:endParaRPr b="0" lang="en-US" sz="17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57160" y="1779480"/>
            <a:ext cx="3291120" cy="234180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4846680" y="1779480"/>
            <a:ext cx="3546360" cy="234180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4"/>
          <a:stretch/>
        </p:blipFill>
        <p:spPr>
          <a:xfrm>
            <a:off x="684360" y="4221000"/>
            <a:ext cx="3381120" cy="237024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5"/>
          <a:stretch/>
        </p:blipFill>
        <p:spPr>
          <a:xfrm>
            <a:off x="4788000" y="4292640"/>
            <a:ext cx="3716280" cy="233676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 rot="20560800">
            <a:off x="0" y="3213000"/>
            <a:ext cx="297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Dense breast, no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20229600">
            <a:off x="4428000" y="3068280"/>
            <a:ext cx="24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Dense breast, clips + repere sc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19981800">
            <a:off x="-43560" y="5594040"/>
            <a:ext cx="2236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Transparent breast, no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rot="20045400">
            <a:off x="4518360" y="5346360"/>
            <a:ext cx="2631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66"/>
                </a:solidFill>
                <a:latin typeface="Arial"/>
              </a:rPr>
              <a:t>Tranparent breast + cli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03T10:40:33Z</dcterms:created>
  <dc:creator>User</dc:creator>
  <dc:description/>
  <dc:language>en-US</dc:language>
  <cp:lastModifiedBy>TC</cp:lastModifiedBy>
  <dcterms:modified xsi:type="dcterms:W3CDTF">2007-11-12T09:33:46Z</dcterms:modified>
  <cp:revision>26</cp:revision>
  <dc:subject/>
  <dc:title>Diapositiva 1</dc:title>
</cp:coreProperties>
</file>