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E97-F5D1-4C72-943C-B66269B3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9A0-CE97-469D-9625-6846E71A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8FA-4887-44E0-B970-D5D0B6EE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093-E8DE-482F-9E4E-DBE7278E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00FC-5877-4245-B2BC-24B5BFCA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4AEF-702D-4B7F-925D-98CA0323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657B-39BA-4CE6-A1B0-9E4DAF9A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D217-BA24-4CE6-ACB5-33E1A5F6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0726-AE41-489E-ACC6-589956B8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1443-C4B8-4BED-B96E-30863869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EC0F-5566-45B6-A9C0-DD5F1A23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D58-1925-4914-A6B5-EB85AA67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1013-4355-444C-AF8E-F86E6A0F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D30F-AC1B-4242-9CD5-4D7A6976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ADDE-EEC6-472B-9EA2-A8CD3BB3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10EC-728F-4B0B-8416-7BB14A30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10F0-01DE-450A-B197-0117560E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920-600A-497E-9B51-E0B11DFA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CE9-1F44-41A0-B8CA-30C5B4DF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062C-AC32-44D2-AFC6-AC31AE4D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EF71-1BF4-4FE9-B94E-86817D48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E69-74E6-42B7-B077-6EEFBACA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D2F-DCF9-4478-9E76-2E26036B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D7F-13D0-40E6-9BBF-C26034DF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0A24-9F72-4761-9E38-1B1AF08372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E517-19B9-4586-B3CA-1C9127DC14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’irradiazione profilattica della mammella e dei linfonodi sovraclaveari nella terapia adiuvante:la nostra esperien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1844280"/>
            <a:ext cx="7010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.Buonopane,F.Soldà,P.Franzese, P.Bonfili,M.Di Staso, P.P. Petrella,M.Nunziata,V.Tombol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adioterapia Università L’Aqui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adioterapia Ospedale S.Salvatore L’Aqui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764640"/>
            <a:ext cx="80010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Purpos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atients affected by breast cancer and presenting &gt;4 positive or &gt;1 extracapsular involved axillary lymphonodes treated with adjuvant radiotherapy to the nodal locoregional areas to evaluate the treatment efficacy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273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z. 145/273(pT1N1) 78/273(pT2N2) 22/273 (pT3N2) 48/273 (pT4N3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reast or chest wall, supraclavicular nodes and apex of axilla (6MV 50 Gy+boost 10 Gy on breast tumor b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nclusion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: Radiation therapy seems to be efficient in preventing local relapse without improving the rate of distant fail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116000" y="2491200"/>
            <a:ext cx="72010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042920" y="4580280"/>
            <a:ext cx="72010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2:01:00Z</dcterms:created>
  <dc:creator>User</dc:creator>
  <dc:description/>
  <dc:language>en-US</dc:language>
  <cp:lastModifiedBy>TC</cp:lastModifiedBy>
  <dcterms:modified xsi:type="dcterms:W3CDTF">2007-11-12T09:40:24Z</dcterms:modified>
  <cp:revision>8</cp:revision>
  <dc:subject/>
  <dc:title>L’irradiazione profilattica della mammella e dei linfonodi sovraclaveari nella terapia adiuvante:la nostra esperienza</dc:title>
</cp:coreProperties>
</file>