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618A-A3C9-4BD2-9BB2-7E54B3BEBDA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FD1F-FFAB-4A36-898F-074C574D16F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57F6-B333-4477-AB0F-4445DBA0D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7A29-EF35-47D2-80E6-862F8902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38F3-FDD1-459E-80CF-D1C1DAD5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E375-9535-4E0A-BC6D-D8AEB7E4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5588-BD33-4502-A2E5-8ABC53E6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D692-C8B2-440A-9084-AB7B3546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8998-60B7-485B-A654-3BCE1148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B02A-0B53-44E5-8E62-EA9D0D5F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07A6-51E2-4D97-927B-359A7E61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30A3-CB27-48B0-9687-735ED106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9302-CD33-493E-8170-1028A24A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D232-5B5B-4D82-8976-6017F28A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235A-A008-4FC6-A6A1-142041F6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AC8B-FDE7-4C1B-ACC5-441E0942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CC61-613F-4AD4-BACF-A490849C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D681-C6D2-415A-803C-A1DA4E30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EC4D-1FEE-4595-9925-3B1C954F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39B3-ABD9-4501-8800-EBB356A3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2D5D-54EA-4D50-9FBC-AC2BDB53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5D9E-1C8C-4495-9B93-B4C46803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89C6-FB84-4BCF-B3E8-4A10A55B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C848-7493-4D28-BFE8-1606F46C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5A24-FB97-4316-B8C1-C1462038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2AD4-F371-4972-8FE6-6669C803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2DB9-2587-4285-811B-7A52C107DF6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C0BE-DFEB-4E10-9704-44C14B9C56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80740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Recidiva locoregionale   dopo radioterapia post operatoria nel cancro della mammella localmente avanzato ad alto rischio</a:t>
            </a:r>
            <a:br>
              <a:rPr sz="2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A. Di Rito(1), L. Marino(1), L. Nardone(1), F. Miccichè(1),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     M.A. Gambacorta(1), G. Salvi(1), R. D’Amico(1),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       D. Terribile(2), R. Masetti(2), V. Valentini(1)</a:t>
            </a:r>
            <a:br>
              <a:rPr sz="1800"/>
            </a:b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      (1) Cattedra di Radioterapia, Dipartimento di Bioimmagini 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            e Scienze Radiologiche,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            Università Cattolica del Sacro Cuore – Roma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      (2) U.O. di Chirurgia Senologica, Dipartimento di Chirurgia, 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                 Università Cattolica del Sacro Cuore - Rom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onclus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tients with high risk of locoregional failure can benefit from postsurgery irradiation of chest wall or mammary gland and of supraclavicular no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Purpos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To evaluate the rates of locoregional recurrence in a group of patirnts who received radiation therapy on chest wall and on supraclavicular nodes after surgery and chemotherapy for advanced breast canc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00000" y="170028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MATHERIALS  AND 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2133720"/>
            <a:ext cx="770400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Patients with advanced breast cancer diagnosed between 2000 and 2006 underwent radical or conservative surgery with axillary node dissection +/- neoadjuvant or adjuvant chemotherapy +/- hormonal 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ll patients received external beam radiotherapy on chest wall or on mammary gland (+/- boost on tumor bed) and on supraclavicular nodes because they had one of these risk factors: T4 tumors, four or more involved axillary nodes, extracapsular 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Total dose of  RT: on chest wall 45 - 50 Gy, on mammary gland 50 Gy +/- 10 Gy (boost on tumor bed), on the supraclavicular nodes 50 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Rates of locoregional recurrence, overall survival (OS) and progression free survival (PFS) were calculated by Kaplan-Meier method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6920" cy="760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317080" y="0"/>
            <a:ext cx="826920" cy="7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00000" y="1159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RESULTS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 rot="10800000">
            <a:off x="324000" y="979920"/>
            <a:ext cx="857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95280" y="1700280"/>
          <a:ext cx="5400720" cy="4773600"/>
        </p:xfrm>
        <a:graphic>
          <a:graphicData uri="http://schemas.openxmlformats.org/drawingml/2006/table">
            <a:tbl>
              <a:tblPr/>
              <a:tblGrid>
                <a:gridCol w="1800000"/>
                <a:gridCol w="1800360"/>
                <a:gridCol w="180036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racteristi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6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 </a:t>
                      </a:r>
                      <a:r>
                        <a:rPr b="1" lang="it-IT" sz="17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° of patient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     </a:t>
                      </a: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Rate (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6b8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R + 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3,6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6b8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S + 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,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6b8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T  N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,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6b8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T  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6b8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tracyclin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,6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6b8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antracycl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,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6b8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,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6b8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oregional failure   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[Fig 1]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,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astas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,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6b8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ath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,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e6b8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179280" y="69228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Arial"/>
              </a:rPr>
              <a:t>               </a:t>
            </a:r>
            <a:r>
              <a:rPr b="1" i="1" lang="it-IT" sz="1800" spc="-1" strike="noStrike">
                <a:solidFill>
                  <a:srgbClr val="ffff66"/>
                </a:solidFill>
                <a:latin typeface="Arial"/>
              </a:rPr>
              <a:t>CHARACTERISTICS  OF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Arial"/>
              </a:rPr>
              <a:t>(Total number: 84; median age 59; median FUP 39 month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6920" cy="760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317080" y="0"/>
            <a:ext cx="826920" cy="768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084720" y="2637000"/>
            <a:ext cx="2838600" cy="3384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173080" y="602136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ig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708280"/>
            <a:ext cx="1729080" cy="520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LOCOREGIONAL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106960" y="4261680"/>
            <a:ext cx="2374920" cy="276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Locoregional recurrence (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0000"/>
                </a:solidFill>
                <a:latin typeface="Arial Black"/>
              </a:rPr>
              <a:t>   </a:t>
            </a:r>
            <a:r>
              <a:rPr b="1" lang="en-GB" sz="1900" spc="-1" strike="noStrike">
                <a:solidFill>
                  <a:srgbClr val="ff0000"/>
                </a:solidFill>
                <a:latin typeface="Arial Black"/>
              </a:rPr>
              <a:t>RESULTS (2)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1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ffffff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Verdana"/>
              </a:rPr>
              <a:t>Median OS: not reached (89,7% at 3 years, 72,9% at 5 years)  </a:t>
            </a:r>
            <a:r>
              <a:rPr b="1" i="1" lang="en-US" sz="1100" spc="-1" strike="noStrike">
                <a:solidFill>
                  <a:srgbClr val="ffffff"/>
                </a:solidFill>
                <a:latin typeface="Verdana"/>
                <a:ea typeface="Arial"/>
              </a:rPr>
              <a:t>[Fig 2]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ffffff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Verdana"/>
              </a:rPr>
              <a:t>Median PFS: not reached (70,4% at 3 years, 56,1% at 5 years) </a:t>
            </a:r>
            <a:r>
              <a:rPr b="1" i="1" lang="en-US" sz="1100" spc="-1" strike="noStrike">
                <a:solidFill>
                  <a:srgbClr val="ffffff"/>
                </a:solidFill>
                <a:latin typeface="Verdana"/>
                <a:ea typeface="Arial"/>
              </a:rPr>
              <a:t>[Fig 3]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3143160" cy="3384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92720" y="1700280"/>
            <a:ext cx="3222720" cy="3384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8360" y="479736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Fig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485316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Fig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55640" cy="695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8317080" y="0"/>
            <a:ext cx="826920" cy="768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124000" y="213372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79640" y="213372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11280" y="1773360"/>
            <a:ext cx="1368720" cy="520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VERALL SURVI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27640" y="1773360"/>
            <a:ext cx="2087640" cy="520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PROGRESSION  FREE SURVI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10:10:49Z</dcterms:created>
  <dc:creator>User</dc:creator>
  <dc:description/>
  <dc:language>en-US</dc:language>
  <cp:lastModifiedBy>TC</cp:lastModifiedBy>
  <dcterms:modified xsi:type="dcterms:W3CDTF">2007-11-12T10:01:06Z</dcterms:modified>
  <cp:revision>15</cp:revision>
  <dc:subject/>
  <dc:title>Diapositiva 1</dc:title>
</cp:coreProperties>
</file>