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41E-55AD-4EAA-992F-6B588504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145-7BD7-4BE0-AEA8-6101E07F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AB1-2817-4819-9816-296DC9FD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DDB-1E2C-4C46-B6AC-C4E1B3B9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9AB0-537B-4BBF-AD88-D6BA6D77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542-D80B-44EC-912F-A9F9538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BE7-D1A6-4CE3-A12A-C3F44F7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C185-7BCF-4083-AD31-20A20850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B77-F4DD-44AE-8E59-3CCBB1C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D305-12FD-4353-A0C0-E4864F9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8ACD-C1FA-486C-BEC1-DD070D2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4C1-F8CE-412E-B3D6-869433B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94E-6EB3-4290-954F-01C194E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7D1C-2431-4EE9-990E-4F94593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E0C-DAD3-420F-ABDC-9B0631AC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80C7-347F-4155-9B63-D0FE163A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6F8-D4AB-46C8-910A-DB83A279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692-5CE2-4801-817C-2BB36442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B21-53E1-436F-92B2-3D1A1C95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A33-ABF6-49ED-86B1-95214A6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FAF-1693-4965-BBFA-F80ADB9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838-AE59-42D7-A6BC-8CDB264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635-5081-4FCA-B8A6-1B7ED1D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67E-9457-45CF-A740-8B31189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98E5-687B-4436-AB7C-905EBE5B6673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9E9-9684-4424-BD06-4C8744F3CBE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rradiazione della parete toracica e dei linfonodi regionali dopo mastectomia nel carcinoma mammario localmente avanzato mediante combinazione di campi di fotoni ed elettroni non coplan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565360"/>
            <a:ext cx="835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.Mascioni, C.Giorgetti,M.P.Pace, P.D’Avenia, P.Marini,     A.Proi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adioterapia Oncologica e Fisica Me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partimento Onc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spedale Mace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96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urpos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To evaluate the feasibility and effectiveness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of an alternative techinique of postoperative chest wall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and regional lymph nodes using noncoplanar electron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and photon fields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8001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nclusion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Although the short follow-up,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echinique with combined electron and phot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eld junction in postmastectomy breast can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atients was feasible, with limited toxicities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cal relap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492280"/>
            <a:ext cx="799308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89000"/>
            <a:ext cx="8785440" cy="61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Times New Roman"/>
              </a:rPr>
              <a:t>NONCOPLANAR ELECTRON AND PHOTON FIELDS RADIOTHERAPY TECHNIQU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2736720" cy="2205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2000" y="4437000"/>
            <a:ext cx="2737080" cy="2205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881080" cy="2205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3706920" cy="2271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995640" y="765000"/>
            <a:ext cx="4969080" cy="2284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CT to determine target volumes (chest wall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locoregional lymphatics) and OAR (heart, 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spinal cord) and for DVH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45-50 Gy/2 Gy fraction to the chest wall using 6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MeV electron beams with electron field sha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blocks enclosing the homolateral C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50 Gy/2 Gy fraction to the supraclavicular lym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nodes using 6-15 MV photon beams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multileaves collim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213000"/>
            <a:ext cx="8642160" cy="10674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Couch, gantry and collimator rotation for both fields and independent jaws to shield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supraclavicolar field at the exact junction line, avoiding hot/cold spot dose at the j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A 5-mm bolus applied on the chest wall in 11 pts (26%) for reducing surrounding or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irradiation or increasing the surface d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81080" y="0"/>
            <a:ext cx="9506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CHEST WALL AND LYMPH NODES RADIATION THERAPY IN POSTMASTECTOMY LOCOREGIONALY ADVANCED BREAST CANCER PATIENTS USING A JUNCTION OF NONCOPLANAR ELECTRON AND PHOTON FIELDS: FEASIBILITY AND OUTCOM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2276640"/>
            <a:ext cx="3708360" cy="131076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Median age 61 years (range 46-8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Stage of dise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- pT1-T2, pN2-N3: 28 pts (65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66ff"/>
                </a:solidFill>
                <a:latin typeface="Arial"/>
              </a:rPr>
              <a:t>- pT3-T4, pN0-N3: 15 pts (35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66ff"/>
                </a:solidFill>
                <a:latin typeface="Times New Roman"/>
              </a:rPr>
              <a:t>CHT: 40 pts (93%), OT: 40 pts (9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1557360"/>
            <a:ext cx="5472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POSTMASTECTOMY RADIOTHERAPY: 43 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(Sep 02-Mar 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71840" y="14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276640"/>
            <a:ext cx="431640" cy="1223640"/>
          </a:xfrm>
          <a:prstGeom prst="downArrow">
            <a:avLst>
              <a:gd name="adj1" fmla="val 50000"/>
              <a:gd name="adj2" fmla="val 70872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349360"/>
            <a:ext cx="374472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imes New Roman"/>
              </a:rPr>
              <a:t>Noncoplanar electron and photon fields RT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068640"/>
            <a:ext cx="3744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imes New Roman"/>
              </a:rPr>
              <a:t>Median follow-up: 30 months (range 6-6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645000"/>
            <a:ext cx="4392720" cy="131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DVH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Median MLD: 8 Gy (range 3.4-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V35 for heart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≤ 5% in all left-side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xpanded spinal cord ≤ 40 Gy in all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3645000"/>
            <a:ext cx="4248360" cy="131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ACUTE TOXIC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Grade I-II erythema: 26 pts (6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pidermolysis: 17 pts 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T interruption for severe skin reac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084640"/>
            <a:ext cx="4248360" cy="1554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LATE TOXICITY: 5 pts (12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Arm lymphedema and subcutaneous ed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2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Skin telengectasie and dyschromia: 2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Port-a-catch region fibrosis: 1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5084640"/>
            <a:ext cx="4392720" cy="1554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LOCOREGIONAL RELAP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First local relapses in the RT field : 2 pts (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No regional lymph nodal relap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Local relapse in the axillary skin outside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T field: 1 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rst distant metastases: 9 pts (21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0:52:56Z</dcterms:created>
  <dc:creator>User</dc:creator>
  <dc:description/>
  <dc:language>en-US</dc:language>
  <cp:lastModifiedBy>TC</cp:lastModifiedBy>
  <dcterms:modified xsi:type="dcterms:W3CDTF">2007-11-12T09:37:50Z</dcterms:modified>
  <cp:revision>12</cp:revision>
  <dc:subject/>
  <dc:title>Diapositiva 1</dc:title>
</cp:coreProperties>
</file>