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FAA-8480-4137-A352-04241B91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101-368B-45FF-B4DD-7D5E887D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9D1-5AFF-402A-80AB-0E5B92C2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7E3-1148-483B-BA45-6BA95EF0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30BA-A7FA-40E4-B4EA-8D2BF788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E07-9AAB-4965-82E9-4705440B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5032-EDA8-4A50-BE87-E2F2F49D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2BEE-8039-451D-8089-3CFF4A8E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1715-E445-484F-9D34-11ED28CB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4F70-E320-4F4C-9A28-5654B4B4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CA91-A2E8-47A7-B5D5-651A6229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871-0214-4B6A-B595-D9A6749F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7FB8-623F-4A3E-949F-68CEBE36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6BB3-118F-4284-8E0B-9138600D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E770-DF9E-4EBC-A772-4977A39C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CFFB-D092-4FD5-82F2-0AE4AB3B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77F0-FEFA-47FD-BCC0-DAE686D4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1A2-C5AA-4D27-95BB-1606A10D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ED5-AE4B-4322-A2A9-5FB8B8B5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B5F-9BC3-48E6-ADCA-4E8CB7D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751-A5EC-47A5-A6CD-62987970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124-CA9A-45C0-A0C1-32F9215C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069-751B-4D44-B33F-5B47A9A4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C77-D0A2-4DCC-AE91-300D53CF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F4D6-4D8B-40DE-9ECA-8067C6FE25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A305-06C7-4A7A-8890-0EDF3E808F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adioterapia adiuvante parzialmente ipofrazionata associata a boost settimanale concomitante di fotoni in 168  pazienti sottoposte a CH conservativa per neoplasia mamma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77025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.Giudici, M.R.Lucido, F.Maggio, C.Sampietro, M.Bevegni, M.Orsat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.C. Radioterapia – Servizio Fisica Sanit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Ospedale Civile Sanre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urpos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: To evluate the feasibility and toxicity of a hypofractionated whole breast irradiation with the addition of a concomitant 3-D photon boost delivered on tumoer bed once a week in patients submitted to conservative surge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989000"/>
            <a:ext cx="80010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clusion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his moderately hypofractionated schedule planned to improve patients compliance to treatment and decrease the use of limited radiotherapy devices, appears to be feasible and provides good-execellent cosmetic resul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1:17:33Z</dcterms:created>
  <dc:creator>User</dc:creator>
  <dc:description/>
  <dc:language>en-US</dc:language>
  <cp:lastModifiedBy>TC</cp:lastModifiedBy>
  <dcterms:modified xsi:type="dcterms:W3CDTF">2007-11-12T09:43:11Z</dcterms:modified>
  <cp:revision>13</cp:revision>
  <dc:subject/>
  <dc:title>Radioterapia adiuvante parzialmente ipofrazionata associata a boost settimanale concomitante di fotoni in 168  pazienti sottoposte a CH conservativa per neoplasia mammaria</dc:title>
</cp:coreProperties>
</file>