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CB4-E30F-441F-A806-A01425F1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42C-B281-42E0-97BF-D8013D75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95F-C25B-4451-A227-31D8B6A8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C0C-5FAB-4C2D-AE60-AA48B7C3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A69-95CA-480B-8032-57CC8776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91D-9D05-4361-8614-7BAC087F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AFE-945C-4029-977F-21BEC63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821-D497-4D7B-BA5B-37E3A9B6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A6A-F16A-4800-8018-E982540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9C6-C967-4477-A31B-B6FE9ABA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4E8B-7BC8-4178-BC1A-A969AC75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E19-35D4-435C-9D40-A9CE276E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C03A-7D4D-44FC-950C-26A7FD11C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2819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  <a:effectLst>
            <a:outerShdw dist="81185" dir="3078030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FRONTO F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DCRT ED IM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I TUMORI TESTA-COLLO LOCOREGIONALMENTE AVANZ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499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.Fondel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F.Paiar, R.Barca, S.Russo, B.Grilli Leonull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.Alpi, S.Borghesi, GP.B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98040" y="4581360"/>
            <a:ext cx="59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zione di Radioterapi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partimento di Fisiopatologia Clinic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iversità di Fi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5221440"/>
            <a:ext cx="1390680" cy="144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65680" y="6315120"/>
            <a:ext cx="334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VII Congresso Nazionale A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irenze 11 Nov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84466" t="75050" r="8660" b="9229"/>
          <a:stretch/>
        </p:blipFill>
        <p:spPr>
          <a:xfrm>
            <a:off x="7507440" y="4049640"/>
            <a:ext cx="16365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1828800"/>
          <a:ext cx="8382240" cy="4508640"/>
        </p:xfrm>
        <a:graphic>
          <a:graphicData uri="http://schemas.openxmlformats.org/drawingml/2006/table">
            <a:tbl>
              <a:tblPr/>
              <a:tblGrid>
                <a:gridCol w="1806840"/>
                <a:gridCol w="2765160"/>
                <a:gridCol w="2743200"/>
                <a:gridCol w="1067040"/>
              </a:tblGrid>
              <a:tr h="50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(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(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98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00-77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3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590-79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4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684-54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84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83-564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med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22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50-697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695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39-688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6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7848720" y="3581280"/>
            <a:ext cx="7617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76320"/>
            <a:ext cx="5181840" cy="825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81185" dir="2321969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6600" y="1066680"/>
            <a:ext cx="131148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6600"/>
            </a:solidFill>
            <a:miter/>
          </a:ln>
          <a:effectLst>
            <a:outerShdw dist="63504" dir="3183908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TV </a:t>
            </a:r>
            <a:r>
              <a:rPr b="1" lang="en-US" sz="3200" spc="-1" strike="noStrike" baseline="10000">
                <a:solidFill>
                  <a:srgbClr val="000000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5257800"/>
            <a:ext cx="76212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3581280"/>
            <a:ext cx="83844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57400" y="76320"/>
            <a:ext cx="510552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81185" dir="2321969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5626" t="57033" r="10001" b="4688"/>
          <a:stretch/>
        </p:blipFill>
        <p:spPr>
          <a:xfrm>
            <a:off x="457200" y="990720"/>
            <a:ext cx="8305920" cy="568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990720"/>
            <a:ext cx="419112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Solid       IMR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it-IT" sz="2800" spc="-1" strike="noStrike">
                <a:solidFill>
                  <a:srgbClr val="cc0000"/>
                </a:solidFill>
                <a:latin typeface="Times New Roman"/>
              </a:rPr>
              <a:t>Dashed   3DC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990720"/>
            <a:ext cx="15238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TV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TV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71252" t="32034" r="24375" b="61721"/>
          <a:stretch/>
        </p:blipFill>
        <p:spPr>
          <a:xfrm>
            <a:off x="7010280" y="251460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71252" t="32034" r="24375" b="61721"/>
          <a:stretch/>
        </p:blipFill>
        <p:spPr>
          <a:xfrm>
            <a:off x="4648320" y="2514600"/>
            <a:ext cx="533160" cy="2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contrast="42000"/>
          </a:blip>
          <a:srcRect l="33265" t="23438" r="35002" b="25782"/>
          <a:stretch/>
        </p:blipFill>
        <p:spPr>
          <a:xfrm>
            <a:off x="4486320" y="914400"/>
            <a:ext cx="458136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00200" y="304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D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304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7501" t="20312" r="43751" b="16406"/>
          <a:stretch/>
        </p:blipFill>
        <p:spPr>
          <a:xfrm>
            <a:off x="82440" y="914400"/>
            <a:ext cx="4489560" cy="586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63600" y="4495680"/>
            <a:ext cx="11026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oval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35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700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Times New Roman"/>
              </a:rPr>
              <a:t>665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630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600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540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30626" t="16406" r="36251" b="27199"/>
          <a:stretch/>
        </p:blipFill>
        <p:spPr>
          <a:xfrm>
            <a:off x="4572000" y="981000"/>
            <a:ext cx="4253040" cy="5791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>
            <a:lum contrast="12000"/>
          </a:blip>
          <a:srcRect l="17501" t="21876" r="46877" b="15624"/>
          <a:stretch/>
        </p:blipFill>
        <p:spPr>
          <a:xfrm>
            <a:off x="457200" y="981000"/>
            <a:ext cx="4127400" cy="5791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61080" y="1042920"/>
            <a:ext cx="1207800" cy="253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soval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00"/>
                </a:solidFill>
                <a:latin typeface="Times New Roman"/>
              </a:rPr>
              <a:t>7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7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Times New Roman"/>
              </a:rPr>
              <a:t>6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Times New Roman"/>
              </a:rPr>
              <a:t>6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9900"/>
                </a:solidFill>
                <a:latin typeface="Times New Roman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Times New Roman"/>
              </a:rPr>
              <a:t>5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4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304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D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04920"/>
            <a:ext cx="15238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57400" y="76320"/>
            <a:ext cx="5105520" cy="825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81185" dir="2321969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828800"/>
          <a:ext cx="8382240" cy="2752560"/>
        </p:xfrm>
        <a:graphic>
          <a:graphicData uri="http://schemas.openxmlformats.org/drawingml/2006/table">
            <a:tbl>
              <a:tblPr/>
              <a:tblGrid>
                <a:gridCol w="2590920"/>
                <a:gridCol w="2286000"/>
                <a:gridCol w="1676520"/>
                <a:gridCol w="18288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ollo a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N.Ottici/Chias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chi (retin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. Tempor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99240" y="1066680"/>
            <a:ext cx="105408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6600"/>
            </a:solidFill>
            <a:miter/>
          </a:ln>
          <a:effectLst>
            <a:outerShdw dist="63504" dir="3183908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80880" y="5105520"/>
          <a:ext cx="8382240" cy="1552320"/>
        </p:xfrm>
        <a:graphic>
          <a:graphicData uri="http://schemas.openxmlformats.org/drawingml/2006/table">
            <a:tbl>
              <a:tblPr/>
              <a:tblGrid>
                <a:gridCol w="2590920"/>
                <a:gridCol w="2286000"/>
                <a:gridCol w="1676520"/>
                <a:gridCol w="18288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A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0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ollo 5 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0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Comic Sans MS"/>
                        </a:rPr>
                        <a:t>4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dollo all.5 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00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Comic Sans MS"/>
                        </a:rPr>
                        <a:t>6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280" y="3375000"/>
          <a:ext cx="8763120" cy="1792440"/>
        </p:xfrm>
        <a:graphic>
          <a:graphicData uri="http://schemas.openxmlformats.org/drawingml/2006/table">
            <a:tbl>
              <a:tblPr/>
              <a:tblGrid>
                <a:gridCol w="2454480"/>
                <a:gridCol w="2498760"/>
                <a:gridCol w="2361960"/>
                <a:gridCol w="14479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 MEDIA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MEDIA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OM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CONTR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7543800" y="4724280"/>
            <a:ext cx="1371600" cy="4572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66600"/>
            <a:ext cx="5029200" cy="825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320" y="1295280"/>
            <a:ext cx="3531600" cy="1637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AROT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Comic Sans MS"/>
              </a:rPr>
              <a:t>MEDI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&lt; 26 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b2b2b2"/>
                </a:solidFill>
                <a:latin typeface="Comic Sans MS"/>
              </a:rPr>
              <a:t>50% della gh. &lt; 30 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72400" y="4267080"/>
            <a:ext cx="8380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133720" y="66600"/>
            <a:ext cx="5029200" cy="825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320" y="1295280"/>
            <a:ext cx="3531600" cy="1637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AROT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b2b2b2"/>
                </a:solidFill>
                <a:latin typeface="Comic Sans MS"/>
              </a:rPr>
              <a:t>D</a:t>
            </a:r>
            <a:r>
              <a:rPr b="1" lang="it-IT" sz="2400" spc="-1" strike="noStrike" baseline="-25000">
                <a:solidFill>
                  <a:srgbClr val="b2b2b2"/>
                </a:solidFill>
                <a:latin typeface="Comic Sans MS"/>
              </a:rPr>
              <a:t>MEDIA </a:t>
            </a:r>
            <a:r>
              <a:rPr b="1" lang="it-IT" sz="2400" spc="-1" strike="noStrike">
                <a:solidFill>
                  <a:srgbClr val="b2b2b2"/>
                </a:solidFill>
                <a:latin typeface="Comic Sans MS"/>
              </a:rPr>
              <a:t> &lt; 26 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% della gh. &lt; 30 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280" y="3375000"/>
          <a:ext cx="8763120" cy="3025800"/>
        </p:xfrm>
        <a:graphic>
          <a:graphicData uri="http://schemas.openxmlformats.org/drawingml/2006/table">
            <a:tbl>
              <a:tblPr/>
              <a:tblGrid>
                <a:gridCol w="2454480"/>
                <a:gridCol w="2498760"/>
                <a:gridCol w="2361960"/>
                <a:gridCol w="144792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 MEDIA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MEDIA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OM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CONTR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&lt;30 G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30 Gy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OM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CONTRO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7772400" y="5943600"/>
            <a:ext cx="83808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9361" t="30469" r="42502" b="17968"/>
          <a:stretch/>
        </p:blipFill>
        <p:spPr>
          <a:xfrm>
            <a:off x="5257800" y="76320"/>
            <a:ext cx="38037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67080" y="533520"/>
            <a:ext cx="114300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so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9900"/>
                </a:solidFill>
                <a:latin typeface="Times New Roman"/>
              </a:rPr>
              <a:t>7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6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9900"/>
                </a:solidFill>
                <a:latin typeface="Times New Roman"/>
              </a:rPr>
              <a:t>6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6000</a:t>
            </a:r>
            <a:r>
              <a:rPr b="0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Times New Roman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99ff"/>
                </a:solidFill>
                <a:latin typeface="Times New Roman"/>
              </a:rPr>
              <a:t>5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cc"/>
                </a:solidFill>
                <a:latin typeface="Times New Roman"/>
              </a:rPr>
              <a:t>4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2280" y="3733920"/>
          <a:ext cx="3886200" cy="1181160"/>
        </p:xfrm>
        <a:graphic>
          <a:graphicData uri="http://schemas.openxmlformats.org/drawingml/2006/table">
            <a:tbl>
              <a:tblPr/>
              <a:tblGrid>
                <a:gridCol w="1562400"/>
                <a:gridCol w="1596960"/>
                <a:gridCol w="726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 G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 Gy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2">
            <a:lum contrast="60000"/>
          </a:blip>
          <a:srcRect l="4928" t="64877" r="56344" b="5470"/>
          <a:stretch/>
        </p:blipFill>
        <p:spPr>
          <a:xfrm>
            <a:off x="4267080" y="4038480"/>
            <a:ext cx="3810240" cy="2759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267080" y="3352680"/>
            <a:ext cx="14479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Times New Roman"/>
              </a:rPr>
              <a:t>Lar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Times New Roman"/>
              </a:rPr>
              <a:t>IM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4114800"/>
            <a:ext cx="609840" cy="838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3962520"/>
            <a:ext cx="9907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Times New Roman"/>
              </a:rPr>
              <a:t>Lari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ff"/>
                </a:solidFill>
                <a:latin typeface="Times New Roman"/>
              </a:rPr>
              <a:t>3DC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858000" y="4648320"/>
            <a:ext cx="38088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86280" y="0"/>
            <a:ext cx="42346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22040" y="1300320"/>
            <a:ext cx="2192760" cy="148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RI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MEDI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&lt;50 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95840" y="537516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191120"/>
            <a:ext cx="106668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74480" y="0"/>
            <a:ext cx="251532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CLU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600200"/>
            <a:ext cx="8534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gliore copertura del PTV pur mantenendo bassa la percentuale di punti caldi 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Comic Sans MS"/>
              </a:rPr>
              <a:t>110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mministrazione di dosi più elevate al P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dei vincoli di dose ai principali O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idollo, midollo allungato, occhi, nn.ottici, chiasma, lobi temporal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armio delle paroti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oprattutto la controlater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812880"/>
            <a:ext cx="48196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6600"/>
            </a:solidFill>
            <a:miter/>
          </a:ln>
          <a:effectLst>
            <a:outerShdw dist="63504" dir="3183908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NTAGGI OFFERTI DALL’I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9880" y="5518080"/>
            <a:ext cx="93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plificazione nell’esecuzione del trattamento anc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la preparazione ed elaborazione del pi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o più compl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371600"/>
            <a:ext cx="8382240" cy="403848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3424320"/>
            <a:ext cx="5486400" cy="1842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DOSIME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R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&amp;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DC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320"/>
            <a:ext cx="7848720" cy="1218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  <a:effectLst>
            <a:outerShdw dist="73964" dir="1863564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RT NEL DISTRETTO TESTA-COLL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perienza della Radioterapia di Firenz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281952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5156280"/>
            <a:ext cx="8001000" cy="15267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TOG 0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“ 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A phase II study of Intensity Modulated Radiation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(IMRT) +/- chemotherapy for nasopharyngeal cancer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48720" cy="1218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  <a:effectLst>
            <a:outerShdw dist="73964" dir="1863564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RT NEL DISTRETTO TESTA-COLL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perienza della Radioterapia di Firenz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981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5 PAZIENTI       affetti da tumori testa-c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l 2006 al Giugno del 200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057400"/>
            <a:ext cx="838440" cy="1828800"/>
          </a:xfrm>
          <a:custGeom>
            <a:avLst/>
            <a:gdLst>
              <a:gd name="textAreaLeft" fmla="*/ 112320 w 838440"/>
              <a:gd name="textAreaRight" fmla="*/ 726120 w 8384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40186" dir="4303641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76080" y="3581280"/>
            <a:ext cx="66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PAZIENTI        considerati per questa 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vembre 2006 - Giugno del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276720"/>
            <a:ext cx="2133720" cy="1676160"/>
          </a:xfrm>
          <a:prstGeom prst="downArrowCallout">
            <a:avLst>
              <a:gd name="adj1" fmla="val 31827"/>
              <a:gd name="adj2" fmla="val 31825"/>
              <a:gd name="adj3" fmla="val 16667"/>
              <a:gd name="adj4" fmla="val 6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2247840"/>
          <a:ext cx="8839080" cy="3848040"/>
        </p:xfrm>
        <a:graphic>
          <a:graphicData uri="http://schemas.openxmlformats.org/drawingml/2006/table">
            <a:tbl>
              <a:tblPr/>
              <a:tblGrid>
                <a:gridCol w="569880"/>
                <a:gridCol w="630000"/>
                <a:gridCol w="2668680"/>
                <a:gridCol w="1951200"/>
                <a:gridCol w="691920"/>
                <a:gridCol w="692280"/>
                <a:gridCol w="666720"/>
                <a:gridCol w="96840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de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tolo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di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ts LN partenza ign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ts LN partenza ign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ndifferenz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ndifferenz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ndifferenz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nofari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 indifferenz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600200" y="1600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ATTERISTICHE della CASI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848720" cy="91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  <a:effectLst>
            <a:outerShdw dist="73964" dir="1863564" blurRad="0" rotWithShape="0">
              <a:srgbClr val="cc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RT NEL DISTRETTO TESTA-C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2680" y="6251400"/>
            <a:ext cx="6762960" cy="398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TTAMENTO : RADIOTERAPIA +/- CHEMIO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24200" y="76320"/>
            <a:ext cx="5238720" cy="8316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CNICA IMRT  - RTOG 0225 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2680" y="981000"/>
            <a:ext cx="8366040" cy="119124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-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EAD-NECK-SHOULDERS IMMOBILIZ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chera termoplastica testa-collo-spa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 in fibra di carb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maspal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5920" y="2205000"/>
            <a:ext cx="8362800" cy="9169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AGING MULTIMODALE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istema di fusione di immag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C(slices ogni 3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MN con mdc(slices ogni 3 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284640"/>
            <a:ext cx="10810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1360" y="3332160"/>
            <a:ext cx="452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ensione macroscopica di malat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789360"/>
            <a:ext cx="1081080" cy="46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TV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378936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TV  +  espansione di 5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292640"/>
            <a:ext cx="1081080" cy="46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TV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292640"/>
            <a:ext cx="4496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TV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7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+  aree ad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to ris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797360"/>
            <a:ext cx="1081080" cy="464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TV</a:t>
            </a:r>
            <a:r>
              <a:rPr b="1" lang="en-US" sz="2400" spc="-1" strike="noStrike" baseline="-10000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4797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e 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so ris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300640"/>
            <a:ext cx="10810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7200" y="53370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ansione di 5 mm attorno ai vari C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5813280"/>
            <a:ext cx="7274160" cy="9169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idollo, mid. allungato, chiasma, nervi ottici, occhi, cristallini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bi temporali,gh. parotidi, mandibola, art. T-M, larin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990000"/>
                </a:solidFill>
                <a:latin typeface="Comic Sans MS"/>
              </a:rPr>
              <a:t>midollo 5 mm, midollo allungato 5mm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2560" y="6093000"/>
            <a:ext cx="108108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76320"/>
            <a:ext cx="7010640" cy="1221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TOG 0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CRIZIONE della DOSE e FRAZIO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1280" y="1409760"/>
            <a:ext cx="5729760" cy="164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7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y      in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razioni da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,1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Gy/Fr      al PTV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60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y      in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razioni da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,82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Gy/Fr     al PTV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Gy      in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frazioni da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,6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Gy/Fr     al PTV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Comic Sans MS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720" y="19098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B-I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contrast="18000"/>
          </a:blip>
          <a:srcRect l="6251" t="12852" r="13125" b="32791"/>
          <a:stretch/>
        </p:blipFill>
        <p:spPr>
          <a:xfrm>
            <a:off x="76320" y="3124080"/>
            <a:ext cx="6781680" cy="3657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1553" t="67970" r="72501" b="4688"/>
          <a:stretch/>
        </p:blipFill>
        <p:spPr>
          <a:xfrm>
            <a:off x="6858000" y="4981680"/>
            <a:ext cx="2133720" cy="1800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6400" y="3124080"/>
            <a:ext cx="57096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50080" y="6445080"/>
            <a:ext cx="77508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12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124080"/>
            <a:ext cx="68580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8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6445080"/>
            <a:ext cx="83844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32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5040" y="3124080"/>
            <a:ext cx="67284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35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6445080"/>
            <a:ext cx="83808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28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445080"/>
            <a:ext cx="838440" cy="337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240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523880"/>
            <a:ext cx="2133360" cy="1143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7400" y="76320"/>
            <a:ext cx="5029200" cy="1221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TOG 0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TRAINTS DI D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1577880"/>
            <a:ext cx="510552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CONSTRAINTS O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dollo allung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NN. Ottici/Chi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chio (retina)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ose max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50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istallino                           più bassa possi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obo temporale                   dose max   60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idollo spinale                    dose max   44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arotide                             dose media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26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0% della gh  &lt; 30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lmeno in una gh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ringe                               dose media     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45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727360"/>
            <a:ext cx="3657600" cy="229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STRAINTS 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lmeno al 95% del P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n più del 20% del PTV riceve il       110% della D</a:t>
            </a:r>
            <a:r>
              <a:rPr b="0" lang="en-US" sz="16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n più dell’1% del PTV riceve meno del 93% dell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 baseline="-10000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19810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59480" y="2178000"/>
            <a:ext cx="179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dose max   54 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20625" t="29690" r="46252" b="21876"/>
          <a:stretch/>
        </p:blipFill>
        <p:spPr>
          <a:xfrm>
            <a:off x="446040" y="380880"/>
            <a:ext cx="2068560" cy="259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16134" t="32813" r="52499" b="18750"/>
          <a:stretch/>
        </p:blipFill>
        <p:spPr>
          <a:xfrm>
            <a:off x="2514600" y="380880"/>
            <a:ext cx="1981080" cy="2590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6875" t="23438" r="51876" b="22655"/>
          <a:stretch/>
        </p:blipFill>
        <p:spPr>
          <a:xfrm>
            <a:off x="4772160" y="304920"/>
            <a:ext cx="193356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rcRect l="28751" t="19533" r="43125" b="32813"/>
          <a:stretch/>
        </p:blipFill>
        <p:spPr>
          <a:xfrm>
            <a:off x="2508120" y="2971800"/>
            <a:ext cx="1987560" cy="2590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29377" t="19533" r="43128" b="34378"/>
          <a:stretch/>
        </p:blipFill>
        <p:spPr>
          <a:xfrm>
            <a:off x="6697800" y="304920"/>
            <a:ext cx="198900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rcRect l="10624" t="21876" r="56878" b="27347"/>
          <a:stretch/>
        </p:blipFill>
        <p:spPr>
          <a:xfrm>
            <a:off x="473040" y="2971800"/>
            <a:ext cx="204156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952720" y="0"/>
            <a:ext cx="2914560" cy="45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CNICA 3D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5181480"/>
            <a:ext cx="4267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RESCRIZIONE DI DO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70 Gy al PTV primario               35 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60 Gy al PTV ad alto rischio      30 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50 Gy al PTV a basso rischio     25 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1200" y="3357720"/>
            <a:ext cx="2260440" cy="67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toni 6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lettroni 12 M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13960" y="4419720"/>
            <a:ext cx="1076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x1x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80880" y="1865160"/>
          <a:ext cx="8382240" cy="4992480"/>
        </p:xfrm>
        <a:graphic>
          <a:graphicData uri="http://schemas.openxmlformats.org/drawingml/2006/table">
            <a:tbl>
              <a:tblPr/>
              <a:tblGrid>
                <a:gridCol w="1806840"/>
                <a:gridCol w="2765160"/>
                <a:gridCol w="2743200"/>
                <a:gridCol w="1067040"/>
              </a:tblGrid>
              <a:tr h="482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DC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</a:t>
                      </a:r>
                      <a:r>
                        <a:rPr b="1" lang="en-US" sz="2000" spc="-1" strike="noStrike" baseline="-10000">
                          <a:solidFill>
                            <a:srgbClr val="000000"/>
                          </a:solidFill>
                          <a:latin typeface="Comic Sans MS"/>
                        </a:rPr>
                        <a:t>7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(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</a:t>
                      </a:r>
                      <a:r>
                        <a:rPr b="1" lang="en-US" sz="2000" spc="-1" strike="noStrike" baseline="-10000">
                          <a:solidFill>
                            <a:srgbClr val="000000"/>
                          </a:solidFill>
                          <a:latin typeface="Comic Sans MS"/>
                        </a:rPr>
                        <a:t>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(rang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92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740-789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22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647-798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79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510-623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58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64-660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med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G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087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895-745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19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88-727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V 7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9900"/>
                        </a:gs>
                        <a:gs pos="100000">
                          <a:srgbClr val="ffcc66"/>
                        </a:gs>
                      </a:gsLst>
                      <a:lin ang="54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2133720" y="76320"/>
            <a:ext cx="5029200" cy="8254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9900"/>
            </a:solidFill>
            <a:miter/>
          </a:ln>
          <a:effectLst>
            <a:outerShdw dist="71785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3DCRT-IM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3581280"/>
            <a:ext cx="7617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6324480"/>
            <a:ext cx="685800" cy="45720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6600" y="1101600"/>
            <a:ext cx="1311480" cy="5814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25560">
            <a:solidFill>
              <a:srgbClr val="ff6600"/>
            </a:solidFill>
            <a:miter/>
          </a:ln>
          <a:effectLst>
            <a:outerShdw dist="63504" dir="3183908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TV </a:t>
            </a:r>
            <a:r>
              <a:rPr b="1" lang="en-US" sz="3200" spc="-1" strike="noStrike" baseline="10000">
                <a:solidFill>
                  <a:srgbClr val="000000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5334120"/>
            <a:ext cx="68580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581280"/>
            <a:ext cx="83844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4114800"/>
            <a:ext cx="838440" cy="45720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36:51Z</dcterms:created>
  <dc:creator> </dc:creator>
  <dc:description/>
  <dc:language>en-US</dc:language>
  <cp:lastModifiedBy>TC</cp:lastModifiedBy>
  <dcterms:modified xsi:type="dcterms:W3CDTF">2007-11-11T11:40:47Z</dcterms:modified>
  <cp:revision>524</cp:revision>
  <dc:subject/>
  <dc:title>Presentazione di PowerPoint</dc:title>
</cp:coreProperties>
</file>