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4200" y="677520"/>
            <a:ext cx="4717800" cy="353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5480" y="4441320"/>
            <a:ext cx="5115240" cy="41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71CF-CE86-4D0A-9B3C-3B710ABDE28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D620-3F3F-408C-8DC0-249417EAC1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2682-E93B-4522-BB4A-326D56CFE3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8444-A71B-4624-B228-1F23D68F50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8AB3-FC3E-4194-8892-8565813F45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FD1-A552-4456-9195-7602E1D219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410C-0DFF-4CF9-B102-C5C5D6239D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921-61C9-4FFF-B09D-228CD58854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DBED-2CB6-4385-B4CD-9FB184C3D2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B90-AAA3-4427-A4CF-6C778E740E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E7B6-8BC9-4786-8A4A-02E2B2F484D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6915-C0A8-48CC-92EA-EB3D50805A9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EA4B-65F3-4D97-99F6-C9409CF8D5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DB46-EF15-43E0-A6B7-305B61D6F8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6894-8064-4FB1-9BBE-66F7E1587C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D26-EC62-4FD1-A738-E06FA156D7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418-B224-4FB9-8551-9125A9CA4B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4485-5FAA-4CE0-830D-D8E6CEDE30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C74C-80F8-49F7-A5A6-5611F5191D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2FC7-71E8-4FE7-A663-741015C512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1C9B-F3C7-4C90-8204-722F12A2F1A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B907-75C0-4797-9CBF-689FC5A04AB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560-7D16-4D40-891D-D3FC622B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D46-1375-49BC-A921-0ACE628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E72-673D-42D9-9259-2E2360A3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CE3-D9CF-4BD3-98B9-D1A744A2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030-9017-4380-8A3A-487BA725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0D47-26FD-46FC-BC54-D7766052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C6B-C7D4-4E17-BA54-117442A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C36A-57AA-4154-B808-3AD7903C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2EB0-CB00-4E15-A438-5A46A96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00000" y="-316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8D9-6479-46F0-87ED-6F164976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EE39-5E8F-46CF-B853-1DAE8232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7F4-D257-418C-BF11-E59B9D3F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4BC-5AB0-4826-95CB-AFB2E70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91ED-60DC-4472-923B-59F1A20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5A8E-D072-4247-9C8C-5D26E9E3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512-1FEB-4A00-963A-29B14D75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2E07-1E8D-46C0-AD9F-5C1DBD40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37E-FC01-427A-8973-BBB2015C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03F0-A54E-47C0-972B-5468FCC5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D2C-955C-405B-B688-D65059D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00000" y="-3160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CF1-BBEF-4617-B263-BEB2D6D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29E-4A63-4A1A-A3F4-F722DC3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067-8867-4AC0-84EB-A341326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3B5-9A31-489C-AA00-4D02CDC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292640"/>
            <a:chOff x="0" y="0"/>
            <a:chExt cx="8686800" cy="4292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292640"/>
            </a:xfrm>
            <a:prstGeom prst="rect">
              <a:avLst/>
            </a:prstGeom>
            <a:solidFill>
              <a:srgbClr val="1c5a31"/>
            </a:solidFill>
            <a:ln w="9360">
              <a:solidFill>
                <a:srgbClr val="1c5a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247760"/>
              <a:ext cx="8305920" cy="160560"/>
              <a:chOff x="380880" y="1247760"/>
              <a:chExt cx="8305920" cy="16056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247760"/>
                <a:ext cx="1828800" cy="160560"/>
              </a:xfrm>
              <a:prstGeom prst="rect">
                <a:avLst/>
              </a:prstGeom>
              <a:solidFill>
                <a:srgbClr val="1c5a31"/>
              </a:solidFill>
              <a:ln w="9360">
                <a:solidFill>
                  <a:srgbClr val="1c5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314720"/>
                <a:ext cx="8305920" cy="0"/>
              </a:xfrm>
              <a:prstGeom prst="line">
                <a:avLst/>
              </a:prstGeom>
              <a:ln w="19080">
                <a:solidFill>
                  <a:srgbClr val="fad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ACAA-859F-4715-BBAB-58C728C5B4D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292640"/>
            <a:ext cx="609480" cy="0"/>
          </a:xfrm>
          <a:prstGeom prst="line">
            <a:avLst/>
          </a:prstGeom>
          <a:ln w="44280">
            <a:solidFill>
              <a:srgbClr val="fadd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372360" y="6453360"/>
            <a:ext cx="2520720" cy="239760"/>
          </a:xfrm>
          <a:prstGeom prst="rect">
            <a:avLst/>
          </a:prstGeom>
          <a:solidFill>
            <a:srgbClr val="1c5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XVII Congresso Nazionale AI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1c5a31"/>
            </a:solidFill>
            <a:ln w="9360">
              <a:solidFill>
                <a:srgbClr val="1c5a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1c5a31">
                  <a:alpha val="66000"/>
                </a:srgbClr>
              </a:solidFill>
              <a:ln w="25560">
                <a:solidFill>
                  <a:srgbClr val="fad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ad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fad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1c5a31"/>
              </a:solidFill>
              <a:ln w="9360">
                <a:solidFill>
                  <a:srgbClr val="1c5a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fad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3215-E102-4C40-9070-F5F7953A3ADC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90360" y="3505320"/>
            <a:ext cx="7777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UTAZIONE DEI COSTI IN RADIOTERAPIA CON IL METODO “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CTIVITY-BASED COSTING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) EVALUATION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CONFRONTO TRA 3D-CRT, IMRT E IG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V. Berti, L. Sebaste, T. Carfagno, F. Pepi, S. Del Tredici, A. Giani, L. Pirtoli. Azienda Ospedaliera Universitaria Senese, Università degli Studi di Si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7640" y="6381720"/>
            <a:ext cx="2521080" cy="239760"/>
          </a:xfrm>
          <a:prstGeom prst="rect">
            <a:avLst/>
          </a:prstGeom>
          <a:solidFill>
            <a:srgbClr val="1c5a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XVII Congresso Nazionale AI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980720" y="837720"/>
            <a:ext cx="71629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44560" cy="844560"/>
          </a:xfrm>
          <a:prstGeom prst="rect">
            <a:avLst/>
          </a:prstGeom>
          <a:ln cap="sq" w="31680">
            <a:solidFill>
              <a:srgbClr val="fadd96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2987640" y="907920"/>
            <a:ext cx="583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r.a Valentina Berti, UO Radioterapia e UOP Diagnostica per Immagini, A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Definizione delle attività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341360"/>
            <a:ext cx="8748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90000"/>
              </a:lnSpc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utazione e presa in carico del paziente con esame della sua documentazione e programmazione del piano di cu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alizzazione sistemi di immobilizzazion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viduazione del volume bersaglio con simulazione T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finizione dei volumi di interesse e Studio dosimetr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simetria e Prima verif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att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spcBef>
                <a:spcPts val="601"/>
              </a:spcBef>
              <a:spcAft>
                <a:spcPts val="601"/>
              </a:spcAft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site di contro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buClr>
                <a:srgbClr val="fadd96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ifiche in corso di tratta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61801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Scopo del lavoro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88508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po del lavoro è l'analisi dei costi del trattamento radioterapico del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arcinoma prostatic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e delle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neoplasie del distretto testa-coll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con tre metodi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>
              <a:spcBef>
                <a:spcPts val="799"/>
              </a:spcBef>
              <a:buClr>
                <a:srgbClr val="fadd9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3D-C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>
              <a:spcBef>
                <a:spcPts val="799"/>
              </a:spcBef>
              <a:buClr>
                <a:srgbClr val="fadd9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M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>
              <a:spcBef>
                <a:spcPts val="799"/>
              </a:spcBef>
              <a:buClr>
                <a:srgbClr val="fadd9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G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357336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494172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5280" y="3573360"/>
            <a:ext cx="5292720" cy="360360"/>
          </a:xfrm>
          <a:prstGeom prst="rect">
            <a:avLst/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moderno standard di cura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35280" y="4581360"/>
            <a:ext cx="5329440" cy="1081080"/>
          </a:xfrm>
          <a:prstGeom prst="rect">
            <a:avLst/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l’attuale evoluzione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atica radiotera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Metodo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stata effettuata un’analisi dei costi delle procedure oggetto dello studio, scomponendo ciascuna di esse nelle varie fasi suc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iascuna componente delle diverse fasi è stato attribuito il costo rispettivo, desun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3120"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onale: CCNL 2004/2005; Propo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menclatore/Tempario/Tariffario AIR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3120"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arecchiature: dati Elekta, Varian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3120"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teriali di consumo: dati dagli Uff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inistrativi dell’ AO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3120"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se di amministrazione: dati dagli Uffi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inistrativi dell’ A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4880" y="333360"/>
            <a:ext cx="807876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Personal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120" y="1676160"/>
            <a:ext cx="8223480" cy="40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figure coinvolte nella pianificazione e nell’esecuzione di trattamenti         (3D-CRT), (IMRT), (IGRT) son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edico Radioterapis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isico Sanitari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SR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fermiere Profession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23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Personal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55640" y="1341360"/>
          <a:ext cx="7992720" cy="5059080"/>
        </p:xfrm>
        <a:graphic>
          <a:graphicData uri="http://schemas.openxmlformats.org/drawingml/2006/table">
            <a:tbl>
              <a:tblPr/>
              <a:tblGrid>
                <a:gridCol w="3876120"/>
                <a:gridCol w="2059200"/>
                <a:gridCol w="205740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PERSON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d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d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</a:t>
                      </a: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MINU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d96">
                        <a:alpha val="50000"/>
                      </a:srgbClr>
                    </a:solidFill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O RADIOTERAPI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,4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ICO SANIT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,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NICO DI RADIOTERAP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MIERE PROF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RMIERE 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ILIA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5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971640" y="6537240"/>
            <a:ext cx="64800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CNL 2004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6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sto del Personal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8000" y="620640"/>
          <a:ext cx="8928000" cy="5616720"/>
        </p:xfrm>
        <a:graphic>
          <a:graphicData uri="http://schemas.openxmlformats.org/drawingml/2006/table">
            <a:tbl>
              <a:tblPr/>
              <a:tblGrid>
                <a:gridCol w="1479600"/>
                <a:gridCol w="1608120"/>
                <a:gridCol w="1428840"/>
                <a:gridCol w="1531800"/>
                <a:gridCol w="1535040"/>
                <a:gridCol w="1344600"/>
              </a:tblGrid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ed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ec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fermi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3D-CRT PROST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’ (756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’ ( 5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’ (78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5' (125.5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3D-CRT TESTA-COL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0’ (730.8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’ ( 5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’ (72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’ (134.9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IMRT PROST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0’(1159.2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’ (273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10’ (1364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' (142.5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3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IMRT TESTA COL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0’(1117.2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0’ (357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30’ (1372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' (134.9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8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7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IGRT PROST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0’(1033.2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’ ( 5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10' (1044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’ (138.7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IGRT TESTA COL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0’ (974.4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’ ( 5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0'  (952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’ (134.9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79280" y="404640"/>
          <a:ext cx="8785440" cy="604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4640"/>
                    <a:ext cx="878544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586908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Le Attrezzatur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8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sto Attrezzatura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620640"/>
          <a:ext cx="8785080" cy="5760720"/>
        </p:xfrm>
        <a:graphic>
          <a:graphicData uri="http://schemas.openxmlformats.org/drawingml/2006/table">
            <a:tbl>
              <a:tblPr/>
              <a:tblGrid>
                <a:gridCol w="1807560"/>
                <a:gridCol w="1283040"/>
                <a:gridCol w="1486080"/>
                <a:gridCol w="1329480"/>
                <a:gridCol w="1622880"/>
                <a:gridCol w="12560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UTO/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-CRT PROST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’ (35.7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’( 84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’ (0.2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’(1934.4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7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D-C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A CO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’(47.6 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’( 84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’ (0.2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0’ (1768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RT PROST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’ (35.7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’(162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’ (7.2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25 (438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8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ACO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’ (47.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’(234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’ (9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0’(4464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5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GRT PROST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’ (35.7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’( 84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’ (0.2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0’(3528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4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G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A CO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’ (47.6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’( 84€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’ (0.20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’(3192 €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Material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00000" y="1484280"/>
          <a:ext cx="7343640" cy="4674960"/>
        </p:xfrm>
        <a:graphic>
          <a:graphicData uri="http://schemas.openxmlformats.org/drawingml/2006/table">
            <a:tbl>
              <a:tblPr/>
              <a:tblGrid>
                <a:gridCol w="2938320"/>
                <a:gridCol w="1467000"/>
                <a:gridCol w="1469520"/>
                <a:gridCol w="1468800"/>
              </a:tblGrid>
              <a:tr h="16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MATER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0033"/>
                          </a:solidFill>
                          <a:latin typeface="Arial"/>
                          <a:ea typeface="Times New Roman"/>
                        </a:rPr>
                        <a:t>3D-C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0033"/>
                          </a:solidFill>
                          <a:latin typeface="Arial"/>
                          <a:ea typeface="Times New Roman"/>
                        </a:rPr>
                        <a:t>IM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0033"/>
                          </a:solidFill>
                          <a:latin typeface="Arial"/>
                          <a:ea typeface="Times New Roman"/>
                        </a:rPr>
                        <a:t>IG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MI DI IMMOBILIZZ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ZZO DI CONTRA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6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RISULTATI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125360"/>
          <a:ext cx="9144000" cy="5256000"/>
        </p:xfrm>
        <a:graphic>
          <a:graphicData uri="http://schemas.openxmlformats.org/drawingml/2006/table">
            <a:tbl>
              <a:tblPr/>
              <a:tblGrid>
                <a:gridCol w="1762200"/>
                <a:gridCol w="1762200"/>
                <a:gridCol w="1498320"/>
                <a:gridCol w="1498680"/>
                <a:gridCol w="1424160"/>
                <a:gridCol w="1198440"/>
              </a:tblGrid>
              <a:tr h="894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ERS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PPAREC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ATERI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ENER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ZIENDALI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24.8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D-CRT PROST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7,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4,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7,8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904.6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D-CRT TESTA COL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1,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9,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,9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6,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660.3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RT PROST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38,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84,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8,6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587.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RT TESTA COL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81,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54,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,9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57,5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9895.1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RT PROSTA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71,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47,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0,7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585.5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RT TESTA COL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7,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3,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,9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8,2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7031.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345200" y="533520"/>
            <a:ext cx="44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Spese di amministrazione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AOUS, 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914400"/>
            <a:ext cx="609840" cy="762120"/>
          </a:xfrm>
          <a:prstGeom prst="line">
            <a:avLst/>
          </a:prstGeom>
          <a:ln cap="sq"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6178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Evoluzione tecnologica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6840" y="1523880"/>
            <a:ext cx="78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rretta pratica clinica e la tecnologia sempre più sofisticata creano i presupposti per un’aumentata efficacia della terapia radiante, con un contenimento dei dan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procedure (Personale, Apparecchiature, ecc.), hanno tuttavia costi molto elev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 algn="just">
              <a:lnSpc>
                <a:spcPct val="90000"/>
              </a:lnSpc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valutazione dei costi è affidata, di solito, ad uffici amministrativi aziendali che non considerano in modo specifico le caratteristiche dell’attiv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 algn="just">
              <a:lnSpc>
                <a:spcPct val="90000"/>
              </a:lnSpc>
              <a:spcBef>
                <a:spcPts val="601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emunerazione è effettuata con il sistema tariffar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e deriva una conoscenza non realistica dei costi effet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85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nfronto dei risultati originali con i dati della letteratura, ottenuti con metodi analogh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78920" y="1267920"/>
            <a:ext cx="9145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3D-CRT per il carcinoma della prostata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4.868,96 € 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stro studio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6.660 €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Washington University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3D-CRT per le neoplasie di testa-c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4.612,79 € 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stro studio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4.826 € 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iversity H. L. Belgium</a:t>
            </a:r>
            <a:r>
              <a:rPr b="1" lang="it-IT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24360" y="1773360"/>
            <a:ext cx="3168720" cy="1224000"/>
          </a:xfrm>
          <a:prstGeom prst="rect">
            <a:avLst/>
          </a:prstGeom>
          <a:solidFill>
            <a:srgbClr val="fadd9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sti generali ospedali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e di amministr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24.8% vs 43.5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98900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add96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393372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add96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3645000"/>
            <a:ext cx="3132360" cy="1224000"/>
          </a:xfrm>
          <a:prstGeom prst="rect">
            <a:avLst/>
          </a:prstGeom>
          <a:solidFill>
            <a:srgbClr val="fadd96">
              <a:alpha val="7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sti generali ospedali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e di amministr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24.8% vs 28%</a:t>
            </a:r>
            <a:r>
              <a:rPr b="0" lang="it-IT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4869000"/>
            <a:ext cx="100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d96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734080"/>
            <a:ext cx="6048360" cy="620640"/>
          </a:xfrm>
          <a:prstGeom prst="rect">
            <a:avLst/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SULTATI SOVRAP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64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nfronto dei risultati originali con i dati della letteratura, ottenuti con metodi analogh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26920" y="1412640"/>
            <a:ext cx="7715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it-IT" sz="2600" spc="-1" strike="noStrike">
                <a:solidFill>
                  <a:srgbClr val="000000"/>
                </a:solidFill>
                <a:latin typeface="Arial"/>
              </a:rPr>
              <a:t>IMRT per il carcinoma della prostata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9.551,58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€ (Nostro stud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8.240 € (Washington University)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2997360"/>
            <a:ext cx="863640" cy="1081080"/>
          </a:xfrm>
          <a:prstGeom prst="downArrow">
            <a:avLst>
              <a:gd name="adj1" fmla="val 50000"/>
              <a:gd name="adj2" fmla="val 31294"/>
            </a:avLst>
          </a:prstGeom>
          <a:solidFill>
            <a:srgbClr val="fadd9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4292640"/>
            <a:ext cx="6697440" cy="1224000"/>
          </a:xfrm>
          <a:prstGeom prst="rect">
            <a:avLst/>
          </a:prstGeom>
          <a:solidFill>
            <a:srgbClr val="fadd9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La nostra sovrastima è attribuibile alla diffusi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ncora scarsa della metodica in Italia.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nfronto dei risultati originali con i dati della letteratura, ottenuti con metodi analogh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90560" y="1676160"/>
            <a:ext cx="835344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000000"/>
                </a:solidFill>
                <a:latin typeface="Arial"/>
              </a:rPr>
              <a:t>IMRT per le neoplasie di testa-collo  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9.895,17 €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stro studi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700" spc="-1" strike="noStrike">
                <a:solidFill>
                  <a:srgbClr val="000000"/>
                </a:solidFill>
                <a:latin typeface="Arial"/>
              </a:rPr>
              <a:t>IGRT per le neoplasie di prostata e testa-collo, rispettivamente   </a:t>
            </a: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7.585,58 € e 7.031,28 €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stro studi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4952880"/>
            <a:ext cx="6048360" cy="1150920"/>
          </a:xfrm>
          <a:prstGeom prst="rect">
            <a:avLst/>
          </a:prstGeom>
          <a:solidFill>
            <a:srgbClr val="fadd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n sono disponibili in lett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ati attendibili per il confro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114800"/>
            <a:ext cx="1008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d96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53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Confronto dei risultati originali con altri dati della letteratura, riguardanti le tariffe di rimborso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55280" y="162828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-6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700" spc="-1" strike="noStrike">
                <a:solidFill>
                  <a:srgbClr val="000000"/>
                </a:solidFill>
                <a:latin typeface="Arial"/>
              </a:rPr>
              <a:t>I risultati della nostra valutazione e di quelle di altri autori, condotte con metodiche analitiche, dimostrano costi più elevati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3D-CRT 4.600 – 4.800 €)</a:t>
            </a:r>
            <a:r>
              <a:rPr b="1" lang="it-IT" sz="3700" spc="-1" strike="noStrike">
                <a:solidFill>
                  <a:srgbClr val="000000"/>
                </a:solidFill>
                <a:latin typeface="Arial"/>
              </a:rPr>
              <a:t> rispetto alle tariffe vigenti per i trattamenti radioterapici standard.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Italia 3.354, Francia 1.669, Belgio 3.354, Irlanda 3.201, Spagna 3.811 eu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5840" y="1447920"/>
            <a:ext cx="82281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 studio non invoca la strutturazione delle tariffe sui costi reali. Questa appare un’istanza non realistica, nell’ottica attuale del management sanitario. L’analisi dei costi effettivi può avere significato, inve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6c0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 una logica di confronto di performance economico-finanziarie fra Aziende Sanitarie (“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benchmarking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6c03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e base per studi di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st-minimization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st-effectiveness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st-utility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ost-benefit</a:t>
            </a:r>
            <a:r>
              <a:rPr b="1" lang="it-IT" sz="3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189000"/>
            <a:ext cx="8532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Significato dello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-316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GRAZIE   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899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sistema di calcolo Activity-Based Costing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1413000"/>
            <a:ext cx="7791480" cy="49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36972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L’“</a:t>
            </a:r>
            <a:r>
              <a:rPr b="1" i="1" lang="it-IT" sz="3000" spc="-1" strike="noStrike">
                <a:solidFill>
                  <a:srgbClr val="000000"/>
                </a:solidFill>
                <a:latin typeface="Arial"/>
              </a:rPr>
              <a:t>Activity-Based Costing (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i="1" lang="it-IT" sz="3000" spc="-1" strike="noStrike">
                <a:solidFill>
                  <a:srgbClr val="000000"/>
                </a:solidFill>
                <a:latin typeface="Arial"/>
              </a:rPr>
              <a:t>) evaluation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” è una tecnica avanzata di calcolo dei costi che nasce come risposta alle insufficienze della contabilità tradiziona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36972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Il modello ABC è un sistema contabile strutturato sull’attività reale, idoneo a definire nel tempo l’economia aziendale e consentire il confronto di performance fra aziende diver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6c038"/>
                </a:solidFill>
                <a:latin typeface="Times New Roman"/>
              </a:rPr>
              <a:t>Il sistema di calcolo Activity-Based Costin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'applicazione dell'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porta alla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determinazione del valore economic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del prodotto/servizio/prestazion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al pari dei metodi tradizionali, differenziandosi però nella 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ricerca e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nell’</a:t>
            </a: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analisi delle modalità con cui le risorse vengono impegnate nel corso dell’intero processo produttivo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78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sistema di calcolo Activity-Based Costing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440" y="141264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20" indent="32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 sistema ABC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20" indent="32760">
              <a:spcBef>
                <a:spcPts val="799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le risors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sono attribuite alle attività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20" indent="32760" algn="just">
              <a:spcBef>
                <a:spcPts val="799"/>
              </a:spcBef>
              <a:buClr>
                <a:srgbClr val="f6c038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 costi delle attività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sono imputati agli oggetti di costo sulla base della loro effettiva utilizz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20" indent="3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20" indent="32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3000" spc="-1" strike="noStrike">
                <a:solidFill>
                  <a:srgbClr val="000000"/>
                </a:solidFill>
                <a:latin typeface="Tahoma"/>
              </a:rPr>
              <a:t>Al centro del calcolo dei costi sono poste così le attività e non i prodotti, a differenza di quanto accade ordinariamente in ambito sanita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1518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sistema di calcolo Activity-Based Costing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6560" y="1412640"/>
            <a:ext cx="80758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definizione delle attivit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ttribuzione dei costi alle attivit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dd9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ttribuzione dei costi delle attività ai prodot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300" spc="-1" strike="noStrike">
                <a:solidFill>
                  <a:srgbClr val="000000"/>
                </a:solidFill>
                <a:latin typeface="Arial"/>
              </a:rPr>
              <a:t>Le attività sono costituite da ciò che persone e sistemi fanno in azienda utilizzando risorse per produrre risultati</a:t>
            </a:r>
            <a:r>
              <a:rPr b="0" lang="it-IT" sz="3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936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Il sistema di calcolo Activity-Based Costing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557360"/>
            <a:ext cx="2233440" cy="936720"/>
          </a:xfrm>
          <a:prstGeom prst="flowChartProcess">
            <a:avLst/>
          </a:prstGeom>
          <a:solidFill>
            <a:srgbClr val="fadd9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RISOR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781360"/>
            <a:ext cx="2232000" cy="1009440"/>
          </a:xfrm>
          <a:prstGeom prst="flowChartProcess">
            <a:avLst/>
          </a:prstGeom>
          <a:solidFill>
            <a:srgbClr val="fadd9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ATTIVITA’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4149720"/>
            <a:ext cx="2230200" cy="934920"/>
          </a:xfrm>
          <a:prstGeom prst="flowChartProcess">
            <a:avLst/>
          </a:prstGeom>
          <a:solidFill>
            <a:srgbClr val="fadd96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PRESTAZIO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Garamond"/>
              </a:rPr>
              <a:t>/SERVIZ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1" idx="2"/>
            <a:endCxn id="122" idx="0"/>
          </p:cNvCxnSpPr>
          <p:nvPr/>
        </p:nvCxnSpPr>
        <p:spPr>
          <a:xfrm flipH="1">
            <a:off x="4174920" y="249408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23" idx="0"/>
          </p:cNvCxnSpPr>
          <p:nvPr/>
        </p:nvCxnSpPr>
        <p:spPr>
          <a:xfrm>
            <a:off x="4174920" y="379044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787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Le Risors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9800" y="1971360"/>
            <a:ext cx="8797320" cy="3465000"/>
            <a:chOff x="199800" y="1971360"/>
            <a:chExt cx="8797320" cy="3465000"/>
          </a:xfrm>
        </p:grpSpPr>
        <p:sp>
          <p:nvSpPr>
            <p:cNvPr id="128" name=""/>
            <p:cNvSpPr/>
            <p:nvPr/>
          </p:nvSpPr>
          <p:spPr>
            <a:xfrm>
              <a:off x="1999800" y="1971360"/>
              <a:ext cx="1598040" cy="945000"/>
            </a:xfrm>
            <a:prstGeom prst="rect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Garamond"/>
                </a:rPr>
                <a:t>Person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98000" y="1971360"/>
              <a:ext cx="159804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Garamond"/>
                </a:rPr>
                <a:t>Attrezz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97640" y="1971360"/>
              <a:ext cx="160092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Garamond"/>
                </a:rPr>
                <a:t>Mater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9800" y="4491360"/>
              <a:ext cx="79920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28" idx="2"/>
              <a:endCxn id="131" idx="0"/>
            </p:cNvCxnSpPr>
            <p:nvPr/>
          </p:nvCxnSpPr>
          <p:spPr>
            <a:xfrm flipH="1">
              <a:off x="599760" y="2916360"/>
              <a:ext cx="22003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8" idx="2"/>
              <a:endCxn id="134" idx="0"/>
            </p:cNvCxnSpPr>
            <p:nvPr/>
          </p:nvCxnSpPr>
          <p:spPr>
            <a:xfrm flipH="1">
              <a:off x="1600560" y="2916360"/>
              <a:ext cx="11995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8" idx="2"/>
              <a:endCxn id="136" idx="0"/>
            </p:cNvCxnSpPr>
            <p:nvPr/>
          </p:nvCxnSpPr>
          <p:spPr>
            <a:xfrm flipH="1">
              <a:off x="2597760" y="2916360"/>
              <a:ext cx="20196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8" idx="2"/>
              <a:endCxn id="138" idx="0"/>
            </p:cNvCxnSpPr>
            <p:nvPr/>
          </p:nvCxnSpPr>
          <p:spPr>
            <a:xfrm>
              <a:off x="2800080" y="2916360"/>
              <a:ext cx="79848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29" idx="2"/>
            </p:cNvCxnSpPr>
            <p:nvPr/>
          </p:nvCxnSpPr>
          <p:spPr>
            <a:xfrm>
              <a:off x="4598640" y="2916360"/>
              <a:ext cx="216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0" idx="2"/>
              <a:endCxn id="134" idx="0"/>
            </p:cNvCxnSpPr>
            <p:nvPr/>
          </p:nvCxnSpPr>
          <p:spPr>
            <a:xfrm flipH="1">
              <a:off x="1600200" y="2916360"/>
              <a:ext cx="47977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/>
            <p:nvPr/>
          </p:nvCxnSpPr>
          <p:spPr>
            <a:xfrm flipH="1">
              <a:off x="3597840" y="2916360"/>
              <a:ext cx="280080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119916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9852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99320" y="4491360"/>
              <a:ext cx="79740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98320" y="4491360"/>
              <a:ext cx="79884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9768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668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9748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96840" y="4491360"/>
              <a:ext cx="800280" cy="945000"/>
            </a:xfrm>
            <a:prstGeom prst="flowChartProcess">
              <a:avLst/>
            </a:prstGeom>
            <a:solidFill>
              <a:srgbClr val="fadd96">
                <a:alpha val="7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Attivit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Garamond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" name=""/>
            <p:cNvCxnSpPr>
              <a:stCxn id="129" idx="2"/>
              <a:endCxn id="143" idx="0"/>
            </p:cNvCxnSpPr>
            <p:nvPr/>
          </p:nvCxnSpPr>
          <p:spPr>
            <a:xfrm>
              <a:off x="4598640" y="2916360"/>
              <a:ext cx="10015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29" idx="2"/>
              <a:endCxn id="144" idx="0"/>
            </p:cNvCxnSpPr>
            <p:nvPr/>
          </p:nvCxnSpPr>
          <p:spPr>
            <a:xfrm>
              <a:off x="4598280" y="2916360"/>
              <a:ext cx="199908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28" idx="2"/>
              <a:endCxn id="142" idx="0"/>
            </p:cNvCxnSpPr>
            <p:nvPr/>
          </p:nvCxnSpPr>
          <p:spPr>
            <a:xfrm>
              <a:off x="2799720" y="2916360"/>
              <a:ext cx="17989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28" idx="2"/>
              <a:endCxn id="143" idx="0"/>
            </p:cNvCxnSpPr>
            <p:nvPr/>
          </p:nvCxnSpPr>
          <p:spPr>
            <a:xfrm>
              <a:off x="2799720" y="2916360"/>
              <a:ext cx="279972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28" idx="2"/>
              <a:endCxn id="144" idx="0"/>
            </p:cNvCxnSpPr>
            <p:nvPr/>
          </p:nvCxnSpPr>
          <p:spPr>
            <a:xfrm>
              <a:off x="2799720" y="2916360"/>
              <a:ext cx="379764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28" idx="2"/>
              <a:endCxn id="145" idx="0"/>
            </p:cNvCxnSpPr>
            <p:nvPr/>
          </p:nvCxnSpPr>
          <p:spPr>
            <a:xfrm>
              <a:off x="2800080" y="2916360"/>
              <a:ext cx="479808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28" idx="2"/>
              <a:endCxn id="146" idx="0"/>
            </p:cNvCxnSpPr>
            <p:nvPr/>
          </p:nvCxnSpPr>
          <p:spPr>
            <a:xfrm>
              <a:off x="2800080" y="2916360"/>
              <a:ext cx="5797440" cy="157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31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6c038"/>
                </a:solidFill>
                <a:latin typeface="Times New Roman"/>
              </a:rPr>
              <a:t>Le Risorse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412640"/>
            <a:ext cx="856908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3700" spc="-1" strike="noStrike">
                <a:solidFill>
                  <a:srgbClr val="000000"/>
                </a:solidFill>
                <a:latin typeface="Arial"/>
              </a:rPr>
              <a:t>Le risorse investite all’interno di un centro di Radioterapia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924"/>
              </a:spcBef>
              <a:buClr>
                <a:srgbClr val="fadd9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Il Personale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924"/>
              </a:spcBef>
              <a:buClr>
                <a:srgbClr val="fadd9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Le Attrezzature (ammortamento, manutenzione ed assistenza)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924"/>
              </a:spcBef>
              <a:buClr>
                <a:srgbClr val="fadd96"/>
              </a:buClr>
              <a:buSzPct val="7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700" spc="-1" strike="noStrike">
                <a:solidFill>
                  <a:srgbClr val="000000"/>
                </a:solidFill>
                <a:latin typeface="Arial"/>
              </a:rPr>
              <a:t>Il Materiale (farmaci, materiale sanitario e non)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18:28:36Z</dcterms:created>
  <dc:creator>-</dc:creator>
  <dc:description/>
  <cp:keywords/>
  <dc:language>en-US</dc:language>
  <cp:lastModifiedBy>TC</cp:lastModifiedBy>
  <dcterms:modified xsi:type="dcterms:W3CDTF">2007-11-12T09:24:42Z</dcterms:modified>
  <cp:revision>58</cp:revision>
  <dc:subject/>
  <dc:title>Nome prodot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501040</vt:lpwstr>
  </property>
</Properties>
</file>