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wmf" ContentType="image/x-wmf"/>
  <Override PartName="/ppt/media/image6.png" ContentType="image/png"/>
  <Override PartName="/ppt/media/image14.wmf" ContentType="image/x-wmf"/>
  <Override PartName="/ppt/media/image29.png" ContentType="image/png"/>
  <Override PartName="/ppt/media/image11.png" ContentType="image/png"/>
  <Override PartName="/ppt/media/image7.png" ContentType="image/png"/>
  <Override PartName="/ppt/media/image15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30.wmf" ContentType="image/x-wmf"/>
  <Override PartName="/ppt/media/image10.png" ContentType="image/png"/>
  <Override PartName="/ppt/media/image13.wmf" ContentType="image/x-wmf"/>
  <Override PartName="/ppt/media/image27.jpeg" ContentType="image/jpeg"/>
  <Override PartName="/ppt/media/image3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C4FE-A575-4D53-ADDA-EECF955B288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dati a 6 mesi non sono al momento ancora disponibi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ossicità che comunque  è oscillata tra G1-G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BaskervilleNo2BT-Roman"/>
              </a:rPr>
              <a:t>Paradeigma: modello – esempio per pla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oL : concetto coniato negli USA negli anni 6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966 fu utilizzato in un editoriale degli “ Annals internal Medicine” per la prima vo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al 1966 al 1996 è stato un continuo susseguirsi di eventi che hanno fatto si che la QoL avesse un ruolo sempre maggiore per ging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re controllo correggere media e me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grosso del campione oscilla soddisfatto e così cos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ggere dati devono essere per 70 pazient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2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na sintomatologia che accompagna il trattamento radioterapico della prostata è la disu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posi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nostro gruppo di studio si è chiesto se Qol di vita in questi pazienti fosse ridot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2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3520" cy="411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85680" rIns="85680" tIns="42840" bIns="42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er poterla migliorarla è indispensabile valutar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positiva…. Un test deve essere ad es. autocompilante tenere presenti gli aspetti dello Stato fisico, della vita Psichica, della vita di relazione, rapidità di compilazione affidabilità intesa in senso di riproducibilit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ssibilità di risultati obiettivi e facile interpret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oltre va ricordato che pazienti con la medesima gravità di malattia possono avere una differente Q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la luce di ci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udio osservazion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biamo arruolato 70 pazienti dal Giugno 2006 ad Aprile 200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 per chi ha avuto l’interv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4 senza interv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9A3E-9AB3-4187-8D68-496B5C19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645-D754-4228-B685-687F73E6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3E6C-85A9-49B3-9DF3-C3D06DF4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54D-4192-45A4-BA32-5AFB0E0B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EDD9-3ED6-46FC-A38C-41F1827F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E764-EF55-4192-B5EE-90ADD0CF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6096-456C-45FE-BE7B-FC8B7E9D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AF2C-AD4C-4078-BE29-4B4E9283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513B-CA8F-4ED0-9ACD-9CC772BC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0CDE-7F82-429E-9ED9-6D6AAF3E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89A4-425B-4684-9355-430AE3DB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D0ED-375A-4395-9AF1-29F8F43F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9A2A-7F93-4985-8DC9-ED5FE92D0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2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596160"/>
            <a:ext cx="807696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680" y="146196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08720" y="5445000"/>
            <a:ext cx="1435320" cy="90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3780000" y="5516640"/>
          <a:ext cx="93636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5516640"/>
                    <a:ext cx="9363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2840" y="142920"/>
          <a:ext cx="9144000" cy="1058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40" y="142920"/>
                    <a:ext cx="91440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971640" y="2421000"/>
            <a:ext cx="7200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MPATTO DELLA DISURIA SULLA QUALITÀ DI VITA IN PAZIENTI AFFETTI DA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NCRO DELLA PROSTATA TRATTATI CON 3D-CRT</a:t>
            </a:r>
            <a:br>
              <a:rPr sz="2600"/>
            </a:b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179280" y="5229360"/>
            <a:ext cx="1333440" cy="1184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3862440"/>
            <a:ext cx="828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ff00"/>
                </a:solidFill>
                <a:uFillTx/>
                <a:latin typeface="Arial"/>
              </a:rPr>
              <a:t>A.Robello</a:t>
            </a:r>
            <a:r>
              <a:rPr b="1" lang="it-IT" sz="2400" spc="-1" strike="noStrike" u="sng" baseline="30000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,V.Ravo</a:t>
            </a:r>
            <a:r>
              <a:rPr b="1" lang="it-IT" sz="24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,A.Morra</a:t>
            </a:r>
            <a:r>
              <a:rPr b="1" lang="it-IT" sz="24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,D.Borrelli</a:t>
            </a:r>
            <a:r>
              <a:rPr b="1" lang="it-IT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,P. Muto</a:t>
            </a:r>
            <a:r>
              <a:rPr b="1" lang="it-IT" sz="24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baseline="30000">
                <a:solidFill>
                  <a:srgbClr val="ffff00"/>
                </a:solidFill>
                <a:latin typeface="Arial"/>
              </a:rPr>
              <a:t>1:</a:t>
            </a:r>
            <a:r>
              <a:rPr b="1" lang="it-IT" sz="1400" spc="-1" strike="noStrike">
                <a:solidFill>
                  <a:srgbClr val="ffff00"/>
                </a:solidFill>
                <a:latin typeface="Arial"/>
              </a:rPr>
              <a:t> UOC Radioterapia, PO Ascalesi  Napo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baseline="30000">
                <a:solidFill>
                  <a:srgbClr val="ffff00"/>
                </a:solidFill>
                <a:latin typeface="Arial"/>
              </a:rPr>
              <a:t>2:</a:t>
            </a:r>
            <a:r>
              <a:rPr b="1" lang="it-IT" sz="1400" spc="-1" strike="noStrike">
                <a:solidFill>
                  <a:srgbClr val="ffff00"/>
                </a:solidFill>
                <a:latin typeface="Arial"/>
              </a:rPr>
              <a:t> Istituto di scienze Radiologiche. Servizio di Radioterapia, Seconda Università di Napo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91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valutare nel tempo la sintomatologia urinaria abbiamo somministrato periodicamente il test I-P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ante il trattamento è stato compilato con periodicità settimanale; successivamente ai follow-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ollow-up presi in esame sono quelli a 40 giorni e a 3 me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812000" y="5445000"/>
            <a:ext cx="8985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454644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TERIALI E METODI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000" y="1197000"/>
            <a:ext cx="5148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questionario IPSS  è auto somministrabi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 considera efficace nel valutare l’impatto di tale sintomatologia del basso tratto urinario negli uomi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composto da otto semplici domande attraverso le quali è possibile farsi un’idea della progressione della sintomatologia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o score che si ottiene permette di suddividere i pazienti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ucisintomatici (score : 0-7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sintomatologia moderata (score: 8-19)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sintomatologia intensa                  ( score: &gt; 2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253120" y="476280"/>
          <a:ext cx="3890880" cy="609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3120" y="476280"/>
                    <a:ext cx="3890880" cy="60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219640" y="1052640"/>
            <a:ext cx="392436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4437000"/>
            <a:ext cx="4140360" cy="1009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1280" y="5732640"/>
            <a:ext cx="3744720" cy="10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317840" y="5805360"/>
            <a:ext cx="667080" cy="9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le 7 item che compongono il test, la domanda I (incompleto svuotamento) e VII (nicturia) sono risultati i migliori surrogati per valutare la disu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ossicità acuta e cronica è stata valutata utilizzando le scale RT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608200"/>
            <a:ext cx="76802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4360" y="3357720"/>
          <a:ext cx="8064360" cy="1643040"/>
        </p:xfrm>
        <a:graphic>
          <a:graphicData uri="http://schemas.openxmlformats.org/drawingml/2006/table">
            <a:tbl>
              <a:tblPr/>
              <a:tblGrid>
                <a:gridCol w="2089080"/>
                <a:gridCol w="879480"/>
                <a:gridCol w="961920"/>
                <a:gridCol w="1041480"/>
                <a:gridCol w="960480"/>
                <a:gridCol w="965160"/>
                <a:gridCol w="770040"/>
                <a:gridCol w="39672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ITEM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ssuna vol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o di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a volta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o della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à delle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rca la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à delle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ù della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le vol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si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p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Quante volte nell'ultimo mese ha avvertito un senso di incompleto svuotamento vescicale al termine della minzion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0" y="2698920"/>
            <a:ext cx="76802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55640" y="5084640"/>
          <a:ext cx="7273800" cy="1641600"/>
        </p:xfrm>
        <a:graphic>
          <a:graphicData uri="http://schemas.openxmlformats.org/drawingml/2006/table">
            <a:tbl>
              <a:tblPr/>
              <a:tblGrid>
                <a:gridCol w="1884240"/>
                <a:gridCol w="792000"/>
                <a:gridCol w="868320"/>
                <a:gridCol w="939960"/>
                <a:gridCol w="868320"/>
                <a:gridCol w="866520"/>
                <a:gridCol w="696960"/>
                <a:gridCol w="35748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TEM V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vol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vol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vol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vol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volte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 pi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Nel corso dell'ultimo mese, quante volte si alza di solito per urinare da quanto va a letto la sera fino a quanto si alza la mat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134200" y="5518080"/>
            <a:ext cx="79236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484360" y="2349360"/>
            <a:ext cx="4175280" cy="115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ISULT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34200" y="5373720"/>
            <a:ext cx="79236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urante il trattamento 3D-CRT il 29% del campione esaminato ha avuto in media un punteggio tra 0-7, il 64% tra 8-19 e 7% pazienti oltre 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disuria ha interessato il 92% del campione in esame come complicanza precoce tra la II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 la III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ettimana di trattamento, con differente gravità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pazienti hanno ricevuto terapia farmacologica adegu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994520" y="5516640"/>
            <a:ext cx="8985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I-PSS AL TERMIN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D-C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87280" y="1341360"/>
          <a:ext cx="8893080" cy="50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341360"/>
                    <a:ext cx="889308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11280" y="6237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° Pazienti =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6237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ore medio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62308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na 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028000" y="5518080"/>
            <a:ext cx="8985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TEM I (INCOMPLETO SVUOTAMENTO) AL TERMINE DEL TRATTAMENTO R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85760" y="1960560"/>
          <a:ext cx="8454960" cy="47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1960560"/>
                    <a:ext cx="84549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8388360" y="5661000"/>
            <a:ext cx="685800" cy="9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TEM VII (NICTURIA) AL TERMINE DEL TRATTAMENTO 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1720" y="1828800"/>
          <a:ext cx="829332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1828800"/>
                    <a:ext cx="82933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8388360" y="5661000"/>
            <a:ext cx="685800" cy="9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31880" y="2354400"/>
            <a:ext cx="76802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95280" y="1773360"/>
          <a:ext cx="8424720" cy="2425680"/>
        </p:xfrm>
        <a:graphic>
          <a:graphicData uri="http://schemas.openxmlformats.org/drawingml/2006/table">
            <a:tbl>
              <a:tblPr/>
              <a:tblGrid>
                <a:gridCol w="1440000"/>
                <a:gridCol w="649080"/>
                <a:gridCol w="1071720"/>
                <a:gridCol w="1052280"/>
                <a:gridCol w="900360"/>
                <a:gridCol w="1439640"/>
                <a:gridCol w="817560"/>
                <a:gridCol w="1054080"/>
              </a:tblGrid>
              <a:tr h="3823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A' DI VITA (QoL) in relazione alla sintomatologia urinaria</a:t>
                      </a:r>
                      <a:r>
                        <a:rPr b="1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Se dovesse trascorrere il resto della Sua vita con la Sua attuale condizione urinaria, come si sentirebb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ddisfa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bastanza soddisfa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ì cos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ivamente insoddisfa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lto m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ce di valutazione della (QoL) Qualità di Vita =</a:t>
                      </a: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388360" y="5661000"/>
            <a:ext cx="685800" cy="9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OL A TERMINE TRATTAMENTO 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-676440" y="1868400"/>
          <a:ext cx="9741240" cy="44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76440" y="1868400"/>
                    <a:ext cx="9741240" cy="44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8388360" y="5661000"/>
            <a:ext cx="685800" cy="9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9280" y="259920"/>
            <a:ext cx="8280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BaskervilleNo2BT-Roman"/>
              </a:rPr>
              <a:t>“</a:t>
            </a:r>
            <a:r>
              <a:rPr b="0" lang="it-IT" sz="2600" spc="-1" strike="noStrike">
                <a:solidFill>
                  <a:srgbClr val="000000"/>
                </a:solidFill>
                <a:latin typeface="BaskervilleNo2BT-Roman"/>
              </a:rPr>
              <a:t>Che cosa costituisca la felicità è argomento di disputa . . . . . Taluno dice una cosa, talaltro un’altra, mentre molto spesso la medesima persona dice cose diverse in tempi differenti: quando è sofferente per malattia egli pensa che la salute sia la felicità, quando in povertà la felicità presume sia data dall’opulenza.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BaskervilleNo2BT-Roman"/>
              </a:rPr>
              <a:t>Aristote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BaskervilleNo2BT-Roman"/>
              </a:rPr>
              <a:t>“……</a:t>
            </a:r>
            <a:r>
              <a:rPr b="1" lang="it-IT" sz="2600" spc="-1" strike="noStrike">
                <a:solidFill>
                  <a:srgbClr val="000000"/>
                </a:solidFill>
                <a:latin typeface="BaskervilleNo2BT-Roman"/>
              </a:rPr>
              <a:t>paradeigma, forma fondamentale che contiene il destino di una persona.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BaskervilleNo2BT-Roman"/>
              </a:rPr>
              <a:t>(Platone, il mito di ER, La repubblic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..QoL è un’entità vaga ed eterea, qualcosa di cui molte persone parlano, ma che nessuno conosce chiaramente, o che realizza.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ampbell et Al, 197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8000" y="5589720"/>
            <a:ext cx="792000" cy="107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I-PSS AL I° FOLLOW-UP ( A 40 GIOR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087560" y="1538280"/>
          <a:ext cx="685008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7560" y="1538280"/>
                    <a:ext cx="685008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468360" y="63752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° pazienti =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7280" y="638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 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32360" y="6381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na :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2920" y="1268280"/>
            <a:ext cx="7345440" cy="496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81120" y="1560600"/>
          <a:ext cx="6419880" cy="461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81120" y="1560600"/>
                    <a:ext cx="641988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250920" y="5300640"/>
            <a:ext cx="685800" cy="93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37960" y="1763640"/>
          <a:ext cx="8759880" cy="48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1763640"/>
                    <a:ext cx="875988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ITEM I (INCOMPLETO SVUOTAMENTO) AL I° FOLLOW-UP (40 GIOR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409000">
            <a:off x="740880" y="3738600"/>
            <a:ext cx="1598760" cy="482400"/>
          </a:xfrm>
          <a:prstGeom prst="rightArrow">
            <a:avLst>
              <a:gd name="adj1" fmla="val 50000"/>
              <a:gd name="adj2" fmla="val 828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8388360" y="5661000"/>
            <a:ext cx="685800" cy="9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ITEM VII (NICTURIA) AL I° FOLLOW-UP (40 GIOR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36600" y="1844640"/>
          <a:ext cx="852336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1844640"/>
                    <a:ext cx="852336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 rot="10355400">
            <a:off x="6948000" y="4149000"/>
            <a:ext cx="1598760" cy="482760"/>
          </a:xfrm>
          <a:prstGeom prst="rightArrow">
            <a:avLst>
              <a:gd name="adj1" fmla="val 50000"/>
              <a:gd name="adj2" fmla="val 8279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388360" y="5661000"/>
            <a:ext cx="685800" cy="9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QoL AL I° FOLLOW-UP (40 GIOR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12760" y="1473120"/>
          <a:ext cx="881208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1473120"/>
                    <a:ext cx="881208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 rot="1306800">
            <a:off x="684000" y="1773360"/>
            <a:ext cx="1296720" cy="482400"/>
          </a:xfrm>
          <a:prstGeom prst="rightArrow">
            <a:avLst>
              <a:gd name="adj1" fmla="val 50000"/>
              <a:gd name="adj2" fmla="val 672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08000" y="5734080"/>
            <a:ext cx="685800" cy="9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I-PSS Al II° FOLLOW-UP (3 ME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09480" y="1536840"/>
          <a:ext cx="7977240" cy="48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36840"/>
                    <a:ext cx="7977240" cy="48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900000" y="1628640"/>
            <a:ext cx="7705800" cy="468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71640" y="1765440"/>
          <a:ext cx="7488000" cy="447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1765440"/>
                    <a:ext cx="748800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108000" y="5661000"/>
            <a:ext cx="685800" cy="934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973080" y="644688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° pazienti =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87640" y="64468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43280" y="64468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na :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ITEM I (INCOMPLETO SVUOTAMENTO) AL II° FOLLOW-UP (3 ME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1830240"/>
          <a:ext cx="868032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30240"/>
                    <a:ext cx="868032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8278920" y="5662440"/>
            <a:ext cx="685800" cy="9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ITEM VII (NICTURIA) AL II° FOLLOW-UP (3 ME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95280" y="1882800"/>
          <a:ext cx="81504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82800"/>
                    <a:ext cx="81504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8317080" y="5661000"/>
            <a:ext cx="685800" cy="9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QoL AL II° FOLLOW-UP (3 ME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3680" y="1927080"/>
          <a:ext cx="8215200" cy="452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927080"/>
                    <a:ext cx="8215200" cy="45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8317080" y="5661000"/>
            <a:ext cx="685800" cy="9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99840" y="-270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CLUS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836640"/>
            <a:ext cx="81518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’I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-PSS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i è dimostra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al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nsibile ai cambia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ffid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rpret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reve e sinte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ccettato dal paz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QoL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è stata influenzata negativamente dalla disu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È migliorata col passare del t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317080" y="5661000"/>
            <a:ext cx="685800" cy="9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4360" y="372960"/>
            <a:ext cx="3263760" cy="43513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0" y="2491920"/>
            <a:ext cx="3705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ZIE PER L’ATTEN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8317080" y="5661000"/>
            <a:ext cx="685800" cy="934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11280" y="4989600"/>
            <a:ext cx="70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Lo scopo della vita è lo sviluppo del proprio io. Il completo sviluppo di se stessi - ecco la ragione d'essere di ognuno di no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."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O. Wilde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84720" y="854640"/>
            <a:ext cx="448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Soltanto una vita vissuta per gli altri è una vita che vale la pena viver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." 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A. Einstei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58920" y="458136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à di vita significa differenti c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 diverse genti, in tempi diver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2270160"/>
            <a:ext cx="770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QoL è un termine mal definito…, significa differenti cose a persone diverse ed assume significati diversi a secondo dell’area di utilizzo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einstein, 19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81040"/>
            <a:ext cx="7489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ntità soggettiva che emerge dall’interazione tra il proprio sistema di valori e le condizioni di vita reale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alman KC,1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5445000"/>
            <a:ext cx="8985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77920" y="1052640"/>
            <a:ext cx="8686800" cy="47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Qo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suo concetto è stato coniato negli USA negli anni ’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 1966 fu utilizzato in un editoriale degli “Annals of Internal Medicine” per la prima vol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 1980 L’European Organization for Research and treatment on Cancer institui un gruppo di lavoro per mettere appunto un questionario e dei moduli malattia specifici da utilizzare nel corso di studi clinici  sulla Q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 1985 L’American Society of Clinical Oncology ha iniziato ad accettare Qol come parola chiave negli suoi atti congressu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lo nel 1996 la misurazione della QoL è stat considerata un outcome importante negli studi clinici di fase I, II, III e 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7040" y="191880"/>
            <a:ext cx="8880480" cy="130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aratteristiche di un test di Q.o.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08720" cy="489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eve contemplare tutti gli aspetti delle Q.o.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Somministrazioni Ri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Autocompil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Specifici per una data neopl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Aspetti dello Stato Fi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Aspetti della Vita Psich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Aspetti della Vita di Re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Valid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apidità di compi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Validità (Sensibilità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Affidabilità (Riproducibilità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Facilità di interpre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Possibilità di risultati 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0" dur="indefinite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908000" y="161640"/>
            <a:ext cx="5112000" cy="321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-57132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OSSICITA’ GENITO URINARIA TARD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4360" y="673200"/>
          <a:ext cx="8964720" cy="6211800"/>
        </p:xfrm>
        <a:graphic>
          <a:graphicData uri="http://schemas.openxmlformats.org/drawingml/2006/table">
            <a:tbl>
              <a:tblPr/>
              <a:tblGrid>
                <a:gridCol w="1781280"/>
                <a:gridCol w="1866960"/>
                <a:gridCol w="2012760"/>
                <a:gridCol w="1644840"/>
                <a:gridCol w="1658880"/>
              </a:tblGrid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         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G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            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G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        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G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       </a:t>
                      </a: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G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SOGGET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Frequenz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urin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Ogni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-4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Ogni 2-3 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Ogni 1-2 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Ogni o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Nictu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Raddoppiat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rispetto al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abitudini di b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&gt; raddoppiat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rispetto 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abitudi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on frequenz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inferiore all’o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Ematu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Occasionale o microsacop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Intermitt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macroscop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Persist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Refratt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Disu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Occasiona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e mini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Intermitten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tollerab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Persistente 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inten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ostante ed    incoercib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Incontinen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Occasion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Intermitt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Quotidi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ost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Riduzione d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flusso urin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Occasion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Intermitt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Persist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Ostruzione compl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Frequenz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Tp occasiona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senza narcoti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Terap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occasiona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on Steroid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Steroidi i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Int Ch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Disu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Occasiona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senza narcoti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Terapia n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narcotic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e &gt; occasion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Narcoti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Int. ch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Ematu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Terap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marz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Trasfusione occa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o cauteterizzazion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singol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Trasfusion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frequenti o  piu’ cauterizzazion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Severe cistiti emorragic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on int.Ch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Incontinen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Us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occasion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di tampo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Uso intermitt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di tampo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Utilizz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ostante di tam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o autocateteris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atetere 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permanen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Ostru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(Fluss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Senza aut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ateteris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Ricorso n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quotidiano all’au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ateteris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Autocateterism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piu’ volte al gg 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ricorso all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dilat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atetere a permanen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o interv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hirurg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7273800" y="6048360"/>
            <a:ext cx="1835280" cy="836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cosa è la disur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la sensazione di dolore o di bruciore che si avverte durante la min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avvertita di solito  a livello dell’uretra dis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risolve al termine della min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028000" y="5843520"/>
            <a:ext cx="90792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-PSS durante il trattamento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3D-C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08000" y="1736640"/>
          <a:ext cx="8529480" cy="494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736640"/>
                    <a:ext cx="8529480" cy="49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979640" y="6237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sità sintomat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900000" y="1125360"/>
            <a:ext cx="6912000" cy="532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1116000" y="1267920"/>
            <a:ext cx="662472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995640" y="2571840"/>
            <a:ext cx="115272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a ci chiedono i pazienti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13372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ono le loro aspettative quando si affidano a no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328464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lecito curare senza affrontare le problematiche inerenti la qualità della vita del paziente con o dopo la malattia e le eventuali ripercussioni a livello psicologi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e persone ci chiedono non solo di guarire ma di poter svolgere una vita di relazione soddisfacente, di poter lavorare, di avere una vita sessuale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4365720"/>
            <a:ext cx="81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altri termini ci chiedono di accettarsi ed essere accett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9280" y="-171360"/>
            <a:ext cx="5543640" cy="4500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419640" y="620640"/>
            <a:ext cx="5391000" cy="41734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1116000" y="3016080"/>
            <a:ext cx="4732200" cy="3841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8028000" y="5843520"/>
            <a:ext cx="90792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987640" y="2637000"/>
            <a:ext cx="5472000" cy="181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260280"/>
            <a:ext cx="579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econdo le W.H.O. per Q.o.L. si intende lo stato di salute del paziente sotto il profilo 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Arial"/>
                <a:ea typeface="Arial Unicode MS"/>
              </a:rPr>
              <a:t>“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Arial"/>
                <a:ea typeface="Arial Unicode MS"/>
              </a:rPr>
              <a:t>Completo Benessere Fisico, Psichico e Social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9725000">
            <a:off x="1403280" y="2779560"/>
            <a:ext cx="1081080" cy="1657440"/>
          </a:xfrm>
          <a:custGeom>
            <a:avLst/>
            <a:gdLst>
              <a:gd name="textAreaLeft" fmla="*/ 144720 w 1081080"/>
              <a:gd name="textAreaRight" fmla="*/ 936360 w 1081080"/>
              <a:gd name="textAreaTop" fmla="*/ 289800 h 1657440"/>
              <a:gd name="textAreaBottom" fmla="*/ 120168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4581360"/>
            <a:ext cx="8496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finizione dell’W.H.O. (QoL Group,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ercezione soggettiva della propria posizione nella vita, nel contesto della cultura e dei valori in cui si vive ed in relazione ai propri obiettivi, speranze, schemi e preoccupazioni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101080" y="5662440"/>
            <a:ext cx="7920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537080" cy="36846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8028000" y="5805360"/>
            <a:ext cx="907920" cy="898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8211960" y="333360"/>
            <a:ext cx="93204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203640" y="1916280"/>
            <a:ext cx="2881080" cy="2881080"/>
            <a:chOff x="3203640" y="1916280"/>
            <a:chExt cx="2881080" cy="2881080"/>
          </a:xfrm>
        </p:grpSpPr>
        <p:sp>
          <p:nvSpPr>
            <p:cNvPr id="72" name=""/>
            <p:cNvSpPr/>
            <p:nvPr/>
          </p:nvSpPr>
          <p:spPr>
            <a:xfrm>
              <a:off x="3203640" y="1916280"/>
              <a:ext cx="2881080" cy="2881080"/>
            </a:xfrm>
            <a:custGeom>
              <a:avLst/>
              <a:gdLst/>
              <a:ahLst/>
              <a:rect l="l" t="t" r="r" b="b"/>
              <a:pathLst>
                <a:path w="1815" h="1815">
                  <a:moveTo>
                    <a:pt x="453" y="453"/>
                  </a:moveTo>
                  <a:lnTo>
                    <a:pt x="794" y="453"/>
                  </a:lnTo>
                  <a:lnTo>
                    <a:pt x="794" y="227"/>
                  </a:lnTo>
                  <a:lnTo>
                    <a:pt x="680" y="227"/>
                  </a:lnTo>
                  <a:lnTo>
                    <a:pt x="907" y="0"/>
                  </a:lnTo>
                  <a:lnTo>
                    <a:pt x="1134" y="227"/>
                  </a:lnTo>
                  <a:lnTo>
                    <a:pt x="1020" y="227"/>
                  </a:lnTo>
                  <a:lnTo>
                    <a:pt x="1020" y="453"/>
                  </a:lnTo>
                  <a:lnTo>
                    <a:pt x="1360" y="453"/>
                  </a:lnTo>
                  <a:lnTo>
                    <a:pt x="1360" y="794"/>
                  </a:lnTo>
                  <a:lnTo>
                    <a:pt x="1587" y="794"/>
                  </a:lnTo>
                  <a:lnTo>
                    <a:pt x="1587" y="680"/>
                  </a:lnTo>
                  <a:lnTo>
                    <a:pt x="1814" y="907"/>
                  </a:lnTo>
                  <a:lnTo>
                    <a:pt x="1587" y="1134"/>
                  </a:lnTo>
                  <a:lnTo>
                    <a:pt x="1587" y="1020"/>
                  </a:lnTo>
                  <a:lnTo>
                    <a:pt x="1360" y="1020"/>
                  </a:lnTo>
                  <a:lnTo>
                    <a:pt x="1360" y="1360"/>
                  </a:lnTo>
                  <a:lnTo>
                    <a:pt x="1020" y="1360"/>
                  </a:lnTo>
                  <a:lnTo>
                    <a:pt x="1020" y="1587"/>
                  </a:lnTo>
                  <a:lnTo>
                    <a:pt x="1134" y="1587"/>
                  </a:lnTo>
                  <a:lnTo>
                    <a:pt x="907" y="1814"/>
                  </a:lnTo>
                  <a:lnTo>
                    <a:pt x="680" y="1587"/>
                  </a:lnTo>
                  <a:lnTo>
                    <a:pt x="794" y="1587"/>
                  </a:lnTo>
                  <a:lnTo>
                    <a:pt x="794" y="1360"/>
                  </a:lnTo>
                  <a:lnTo>
                    <a:pt x="453" y="1360"/>
                  </a:lnTo>
                  <a:lnTo>
                    <a:pt x="453" y="1020"/>
                  </a:lnTo>
                  <a:lnTo>
                    <a:pt x="227" y="1020"/>
                  </a:lnTo>
                  <a:lnTo>
                    <a:pt x="227" y="1134"/>
                  </a:lnTo>
                  <a:lnTo>
                    <a:pt x="0" y="907"/>
                  </a:lnTo>
                  <a:lnTo>
                    <a:pt x="227" y="680"/>
                  </a:lnTo>
                  <a:lnTo>
                    <a:pt x="227" y="794"/>
                  </a:lnTo>
                  <a:lnTo>
                    <a:pt x="453" y="794"/>
                  </a:lnTo>
                  <a:lnTo>
                    <a:pt x="453" y="45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73320" y="2662200"/>
              <a:ext cx="133956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ALITÀ DI V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121200" y="225360"/>
            <a:ext cx="3011400" cy="160668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SSE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IC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o sintomi              Trattamento effetti collatera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2421000"/>
            <a:ext cx="2952720" cy="180972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SSERE   PSICOLOGIC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glienza                           Supporto psicologico Accettazione/gradiment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59280" y="4869000"/>
            <a:ext cx="3240000" cy="175896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SSERE   SOCI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o attività sociali           Supporto vita di re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ssere famili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45280" y="2587680"/>
            <a:ext cx="2503440" cy="177804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À    FUNZIONA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ività vita quotidiana Performance Statu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5445000"/>
            <a:ext cx="8985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59560"/>
            <a:ext cx="8893080" cy="11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rutto dell’impegno di migliaia di specialisti è la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“Carta di Parigi”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he focalizza gli obiettivi e i principi del World Summit Against Cancer (WSAC), in 10 artico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447040" cy="489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I    I diritti dei pazienti oncologici sono diritti uman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II   Eliminare gli stigmi associati al cancr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III  Promuovere la conoscenza  ed il progresso scientifi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IV  Assicurare il diritto alla buona qualità della cura oncologic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V   Intensificare la prevenzione del cancr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VI  Rendere prioritari lo screening e l’identificazione preco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VII  Rafforzare la posizione del paziente oncologi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1" i="1" lang="en-US" sz="2300" spc="-1" strike="noStrike">
                <a:solidFill>
                  <a:srgbClr val="ff3300"/>
                </a:solidFill>
                <a:latin typeface="Arial"/>
              </a:rPr>
              <a:t>Migliorare la qualità della vi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IX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ostenere ogni strategia loca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viluppare alleanze</a:t>
            </a:r>
            <a:r>
              <a:rPr b="1" i="1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0000" y="6540480"/>
            <a:ext cx="37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World Summit Against Cancer (WSAC);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812000" y="5445000"/>
            <a:ext cx="8985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4440" y="981000"/>
            <a:ext cx="6956640" cy="1429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ome si valuta la qualità della vi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87280" y="2924280"/>
            <a:ext cx="684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uestionari per la misurazione della Q.o.L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re Specifico di domini comuni a differenti neoplas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duli specifici per patolo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812000" y="5445000"/>
            <a:ext cx="89856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BIET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o scopo dello studio è stato di valutare l’impatto della disuria sulla QoL in un gruppo di nostri pazienti con carcinoma della prostata sottoposti a 3DC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812000" y="5445000"/>
            <a:ext cx="898560" cy="1224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1280" y="3789360"/>
            <a:ext cx="3529080" cy="2865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627280" y="3860640"/>
            <a:ext cx="43200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643280" y="4076640"/>
            <a:ext cx="2870280" cy="2222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372360" y="4148280"/>
            <a:ext cx="431640" cy="1443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TERIALI E MET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iodo Giugno 2006 – April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70 pazi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tà media 68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ose media 72Gy ( 68-74 Gy) con 3DC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158320" y="5661000"/>
            <a:ext cx="792000" cy="1081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3933720"/>
            <a:ext cx="3097080" cy="2514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443640" y="3573360"/>
            <a:ext cx="2521080" cy="1949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492360" y="3573360"/>
            <a:ext cx="2843280" cy="2202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124000" y="4005360"/>
            <a:ext cx="432000" cy="1443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5080" y="3573360"/>
            <a:ext cx="432000" cy="1447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645000"/>
            <a:ext cx="431640" cy="1443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6:10:22Z</dcterms:created>
  <dc:creator>Utente</dc:creator>
  <dc:description/>
  <dc:language>en-US</dc:language>
  <cp:lastModifiedBy>TC</cp:lastModifiedBy>
  <dcterms:modified xsi:type="dcterms:W3CDTF">2007-11-11T08:02:32Z</dcterms:modified>
  <cp:revision>133</cp:revision>
  <dc:subject/>
  <dc:title>Diapositiva 1</dc:title>
</cp:coreProperties>
</file>