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488880"/>
            <a:ext cx="876312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3276720" y="57150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stituto Europeo di Oncolo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596160"/>
            <a:ext cx="80769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146196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2840" y="142920"/>
          <a:ext cx="9144000" cy="105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0" y="142920"/>
                    <a:ext cx="914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1280" y="1628640"/>
            <a:ext cx="7921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’impatto dell’et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lla tossicità e sulla sopravviv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i tumori della prostata localizz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645000"/>
            <a:ext cx="8064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00"/>
                </a:solidFill>
                <a:latin typeface="Arial"/>
              </a:rPr>
              <a:t>D. Borrelli</a:t>
            </a:r>
            <a:r>
              <a:rPr b="0" i="1" lang="it-IT" sz="1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, M. Gaetano</a:t>
            </a: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, A. Ferro</a:t>
            </a: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, V. Ravo</a:t>
            </a: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, G. Panelli</a:t>
            </a: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, P. Muto</a:t>
            </a: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 U.O.C. di Radioterapia Presidio Ospedaliero C. Ascalesi  - Napol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 U.O. di Radioterapia Clinica Mediterranea - Napol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 Dipartimento Assistenziale di Radioterapia - Seconda Università degli Studi di Napol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24000" y="5950080"/>
            <a:ext cx="641520" cy="72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5867280" y="5950080"/>
            <a:ext cx="849600" cy="752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rcRect l="0" t="0" r="86134" b="37793"/>
          <a:stretch/>
        </p:blipFill>
        <p:spPr>
          <a:xfrm>
            <a:off x="4067280" y="5950080"/>
            <a:ext cx="82692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ala di Tossicità RTO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95280" y="1427040"/>
          <a:ext cx="8424720" cy="18730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865440"/>
                <a:gridCol w="1295280"/>
                <a:gridCol w="1368360"/>
                <a:gridCol w="1224000"/>
                <a:gridCol w="1655640"/>
              </a:tblGrid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ado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a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a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ado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ado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- intestin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iarrh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crease of 2-3 stools per day over pre-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crease of 4-6 stools/day, or nocturnal stools, or moderate cramp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crease of 7-9 stools/day or incontinence or severe cramp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crease of &gt;=10 stools/day or grossly bloody diarrhea, or need for parenteral sup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>
                      <a:noFill/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5280" y="3298680"/>
          <a:ext cx="8424720" cy="2217600"/>
        </p:xfrm>
        <a:graphic>
          <a:graphicData uri="http://schemas.openxmlformats.org/drawingml/2006/table">
            <a:tbl>
              <a:tblPr/>
              <a:tblGrid>
                <a:gridCol w="1015920"/>
                <a:gridCol w="1017720"/>
                <a:gridCol w="847800"/>
                <a:gridCol w="1295280"/>
                <a:gridCol w="1368360"/>
                <a:gridCol w="1224000"/>
                <a:gridCol w="1655640"/>
              </a:tblGrid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Kidney/ blad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Hematur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gativeMicro onlyGross/no clotsGross + clotsRequires transfu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gativeMicro onlyGross/no clotsGross + clotsRequires transfu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gativeMicro onlyGross/no clotsGross + clotsRequires transfu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gativeMicro onlyGross/no clotsGross + clotsRequires transfu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gativeMicro onlyGross/no clotsGross + clotsRequires transfu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>
                      <a:noFill/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24000" y="1052640"/>
            <a:ext cx="8569080" cy="480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ala di Tossicità EORT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645000"/>
            <a:ext cx="792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8642160" cy="6040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9280" y="1413000"/>
            <a:ext cx="792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3716280"/>
            <a:ext cx="1297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4000" y="318960"/>
            <a:ext cx="8496000" cy="622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3933720"/>
            <a:ext cx="129708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360" y="4365720"/>
            <a:ext cx="154800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968560" cy="5370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48000" y="813960"/>
            <a:ext cx="5635800" cy="54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Indice Internazionale della Funzione Erettile (IIE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aziente: …………………………………… Nato il …./…./……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ata valutazione: …./…./…….. Iniziale  (   )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Controllo  (  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Terapia ormonale: Sì (   )  No (   )Tipo: ……………..dal … al ..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Radioterapia esterna: Sì (   )  No (   ) Dose: ……Gy dal … al 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Note:………………………………………………………………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unteggio totale: ………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Queste domande riguardo gli effetti che i Suoi problemi di erezione hanno avuto nella Sua vita sessuale nelle ultime 4 settimane. Per favore risponda alle seguenti domande il più onestamente e chiaramente possibile, tracciando un segno ( X ) su una delle caselle. Se è incerto su come rispondere, La preghiamo di barrare la risposta che ritiene miglio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Inoltre tenga sempre presente le seguenti definizion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0" i="1" lang="it-IT" sz="1400" spc="-1" strike="noStrike">
                <a:solidFill>
                  <a:srgbClr val="292929"/>
                </a:solidFill>
                <a:latin typeface="Arial"/>
              </a:rPr>
              <a:t>rapporto sessuale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: definito come penetrazione (introduzione del pene) vaginale della partne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**</a:t>
            </a:r>
            <a:r>
              <a:rPr b="0" i="1" lang="it-IT" sz="1400" spc="-1" strike="noStrike">
                <a:solidFill>
                  <a:srgbClr val="292929"/>
                </a:solidFill>
                <a:latin typeface="Arial"/>
              </a:rPr>
              <a:t>attività sessuale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: comprende il coito, le carezze, i preliminari e la masturbazion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***</a:t>
            </a:r>
            <a:r>
              <a:rPr b="0" i="1" lang="it-IT" sz="1400" spc="-1" strike="noStrike">
                <a:solidFill>
                  <a:srgbClr val="292929"/>
                </a:solidFill>
                <a:latin typeface="Arial"/>
              </a:rPr>
              <a:t>eiaculazione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: fuoriuscita del seme dal pene (o la sensazione di questo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****</a:t>
            </a:r>
            <a:r>
              <a:rPr b="0" i="1" lang="it-IT" sz="1400" spc="-1" strike="noStrike">
                <a:solidFill>
                  <a:srgbClr val="292929"/>
                </a:solidFill>
                <a:latin typeface="Arial"/>
              </a:rPr>
              <a:t>stimolazione sessuale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: include le situazioni come i preliminari con la partner, vedere figure erotiche, e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1627200"/>
            <a:ext cx="1450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1c-T2a </a:t>
            </a:r>
            <a:r>
              <a:rPr b="1" i="1" lang="en-US" sz="13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.S. </a:t>
            </a:r>
            <a:r>
              <a:rPr b="1" lang="en-US" sz="13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6 (7=3+4) </a:t>
            </a:r>
            <a:r>
              <a:rPr b="1" i="1" lang="en-US" sz="13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SAi </a:t>
            </a:r>
            <a:r>
              <a:rPr b="1" lang="en-US" sz="13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10 ng/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38440" y="1627200"/>
            <a:ext cx="1944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 T2a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.S. &gt; 6 (7=4+3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SAi &gt; 10 ng/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3083040"/>
            <a:ext cx="24386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fatto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CH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3067200"/>
            <a:ext cx="22096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fatto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CH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79280" y="3068640"/>
            <a:ext cx="1871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CH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4800" y="2473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1560" y="2701800"/>
            <a:ext cx="128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7160" y="2706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34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880" y="2709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80" y="404280"/>
            <a:ext cx="4114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lassi di risch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20960" y="83520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American Brachytherapy Socie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240" y="1195560"/>
            <a:ext cx="373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European Society for Therapeutic Radiology and Oncolog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3427560"/>
            <a:ext cx="0" cy="1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2800" y="2706840"/>
            <a:ext cx="0" cy="1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67280" y="1268280"/>
          <a:ext cx="4859280" cy="4329360"/>
        </p:xfrm>
        <a:graphic>
          <a:graphicData uri="http://schemas.openxmlformats.org/drawingml/2006/table">
            <a:tbl>
              <a:tblPr/>
              <a:tblGrid>
                <a:gridCol w="1214280"/>
                <a:gridCol w="1216080"/>
                <a:gridCol w="1530360"/>
                <a:gridCol w="89856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Risch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GT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T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PT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s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 + V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⅓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ssimal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0.5 – 1 c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ed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lt; 15% + L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ed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gt; 15% + L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 + V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V + 0.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o (T1 – T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 + V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V + 0.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o (T3 – T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ata + V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stata + VS</a:t>
                      </a: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i="1" lang="it-IT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fonodi pelvici</a:t>
                      </a:r>
                      <a:r>
                        <a:rPr b="1" lang="it-IT" sz="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V + 0.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79280" y="333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STRAINTS TO O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133720"/>
            <a:ext cx="7705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et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0% del volum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65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5% del volum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 40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sc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5% del volum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65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50% del volum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 40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8160" y="62611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Sec. Per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316320" y="1773360"/>
            <a:ext cx="26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203880" y="3541680"/>
            <a:ext cx="2832120" cy="2192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2695320" cy="2189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06560" y="260280"/>
            <a:ext cx="360360" cy="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00680" y="1844640"/>
            <a:ext cx="360360" cy="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32600" y="3614760"/>
            <a:ext cx="360360" cy="7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920" y="1131840"/>
          <a:ext cx="6473880" cy="517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131840"/>
                    <a:ext cx="64738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ultati - 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1484280"/>
            <a:ext cx="3745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22 pazienti con età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feriore ai 65 ann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nno presenta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ssicità acu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ondo la scala RTOG e EORT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41%) Grado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32%) Grad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23%) Grad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4%)   Grado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0%)   Grado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4920" y="1131840"/>
          <a:ext cx="6473880" cy="517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131840"/>
                    <a:ext cx="64738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ultati - 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1484280"/>
            <a:ext cx="3745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46 pazienti con età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periore ai 65 ann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nno presenta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ssicità acu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ondo la scala RTOG e EORT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41%) Grado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33%) Grad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24%) Grad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2%)     Grado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0%)     Grado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24000" y="907920"/>
            <a:ext cx="864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3800" indent="-1638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X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Il tumore primitivo non può essere defini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0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Non segni del tumore primitiv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1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umore clinicamente non apprezzabile, non palpabile né visibile con la diagnostica per immagin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1a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scoperto casualmente nel 5% o meno del tessuto asportato</a:t>
            </a:r>
            <a:br>
              <a:rPr sz="1700"/>
            </a:b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1b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scoperto casualmente in più del 5% del tessuto asportato</a:t>
            </a:r>
            <a:br>
              <a:rPr sz="1700"/>
            </a:b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1c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diagnosticato mediante agobiopsia (ad esempio, a causa del PSA elevato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2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umore limitato alla prostata*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2a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che interessa la metà o meno di un lobo</a:t>
            </a:r>
            <a:br>
              <a:rPr sz="1700"/>
            </a:b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2b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che interessa più della metà di un lobo ma non entrambi i lobi</a:t>
            </a:r>
            <a:br>
              <a:rPr sz="1700"/>
            </a:b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2c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che interessa entrambi i lobi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3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umore che si estende attraverso la capsula prostatica**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3a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Estensione extraprostatica (mono- o bilaterale)</a:t>
            </a:r>
            <a:br>
              <a:rPr sz="1700"/>
            </a:b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3b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Tumore che invade la/e vescichetta/e seminale/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Arial"/>
              </a:rPr>
              <a:t>T4 Tumore fisso che invade strutture adiacenti oltre alle vescichette seminali: collo della vescica, sfintere esterno, retto, muscoli elevatori e/o parete pelvica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* un tumore scoperto in uno o entrambi i lobi mediante agobiopsia, ma non palpabile o visibile mediante la diagnostica per immagini, è classificato come T1c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3800" indent="-1638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** l'invasione dell'apice prostatico o della capsula prostatica (ma non oltre) non è classificata come T3 ma come 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umore primitivo (T)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-468360" y="981000"/>
          <a:ext cx="9144000" cy="58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46836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ultati - 3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ultati - 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628640"/>
            <a:ext cx="8713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86920" indent="-286920" algn="just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 maggior parte dei pazienti ha presentato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ssicità tard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i grado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6920" indent="-286920" algn="just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6920" indent="-286920" algn="just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azienti (4%) di età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uperiore ai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5 anni hanno presentato tossicità rettale di grado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6920" indent="-2869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6920" indent="-286920" algn="just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aziente (2%) con età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uperiore ai 65 ann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a presentato tossicità urinaria di grado 3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 valutazione basata sui questionari ha rilevato che l’elevata dose media al retto è associata ad un più alto rischio di sanguinamento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’irradiazione di volumi ampi è associata con aumento della frequenza urinaria, tenesmo, incontinenza e sanguinamento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ultati – 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 sopravvivenza assoluta è stata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l 91% (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aziente è morto per progressione di malattia 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azienti sono morti per altre cause) nei pazienti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opra i 65 anni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l 91% (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aziente è morto per progressione di malattia 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azienti è morto per altre cause) nei pazienti al di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otto dei 65 anni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ultati - 6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68360" y="105264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 nostra esperienza dimostra che la dose media al retto ed alla vescica è correlata alla tossicità acuta urinaria e rettale nei pazienti con 3D-CRT e che l’età non influenza né la sopravvivenza né la tossicità nei pazienti con carcinoma della prostata localizzat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oltre riguardo l’efficacia terapeutica, i nostri dati sono in accordo con i dati pubblicati in letteratur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clusion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Grazie per l’attenzio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alattia localizzata: T1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53960"/>
            <a:ext cx="8686800" cy="45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gile attesa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6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 aspettativa vi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&lt; 10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 aspettativa vi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&gt; 10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peter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S + biop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ostatectomia radicale (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n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i giovan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unga aspettativa vi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GS &gt;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dioterapia (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n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i giovan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unga aspettativa vi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GS &gt;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monoterapia (OT) /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rapia combina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42040" y="6515280"/>
            <a:ext cx="3693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uropean Association of Urology Aus et al, 200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alattia localizzata: T1b – T2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618920"/>
            <a:ext cx="7543800" cy="40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6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 aspettativa vi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&lt; 10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ndard per aspettativa vita &gt; 10 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pettativa vita &gt; 10 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roindicazioni alla chirur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ociata a OT 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S &gt;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6515280"/>
            <a:ext cx="3693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uropean Association of Urology Aus et al, 200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alattia localizzata: T1b – T2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18920"/>
            <a:ext cx="86868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3240"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pazienti non candidabili ad al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zione terapeuti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T neoadiuvante (NOT) + CH: nessun vantagg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 + 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iglior controllo rispetto alla sola RT se GS&gt;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42040" y="6515280"/>
            <a:ext cx="3693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uropean Association of Urology Aus et al, 200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OSTRA ESPERIENZ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709040" y="5869080"/>
            <a:ext cx="143496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55640" y="83664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’aumento della longevità e il rapido incremento dell’età della popolazione hanno fatto in modo che l’età sia un fattore importante nella ricerca clinica potendo influenzare le scelte terapeutich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scopo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del nostro lavoro è di analizzare l’età come possibile indicatore di tossicità e valutare la sopravvivenza nei pazienti al di sotto e al di sopra dei 65 anni con tumore della prostata intracapsul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zienti e metodi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Da Gennaio 1999 a Dicembre 2003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68 pazienti con tumore intracapsulare della prosta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Trattati con radioterapia conformazionale a fasci   esterni (dal 2001 con impiego di MLC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Dosi di 61.2 – 79.2 Gy con frazioni giornaliere d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1.8 – 2 G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Con/senza terapia ormonal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ffffff"/>
                </a:solidFill>
                <a:latin typeface="Arial"/>
              </a:rPr>
              <a:t>15% dei pazienti sono stati trattati con  prostatectomia (R+) e 3D-CRT adiuvant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29292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96080" y="5869080"/>
            <a:ext cx="14353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79280" y="5862600"/>
          <a:ext cx="93672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62600"/>
                    <a:ext cx="93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zienti e metodi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’età mediana dei pazienti è di 72 anni (range 55-86)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2 pazienti (32%) di età inferiore a 65 anni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6 (68%) di età superiore ai 65 anni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mediana di follow-up è stata di 48 mesi (range 18-72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tossicità è stata stimata utilizzand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scala RTOG e EOR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8720" indent="-28584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ando i cambiamenti (prima e dopo la terapia) degli score tramite dei questionari compilati dai pazienti stessi sulla tossicità rettale ed urinaria. Riguardo i questionari sono state considerate solo le complicanze moderate e seve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9:54:37Z</dcterms:created>
  <dc:creator>Andrea Vavassori</dc:creator>
  <dc:description/>
  <dc:language>en-US</dc:language>
  <cp:lastModifiedBy>TC</cp:lastModifiedBy>
  <dcterms:modified xsi:type="dcterms:W3CDTF">2007-11-11T07:28:27Z</dcterms:modified>
  <cp:revision>1602</cp:revision>
  <dc:subject/>
  <dc:title>TITOLO INTERVENTO</dc:title>
</cp:coreProperties>
</file>